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963525" cy="864076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7F0-BE40-470B-8766-E33C5D25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12D-53DA-4429-9B3D-B84F63A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775-7AA2-4743-8749-D62A96E4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632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180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632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F2C-22FC-47BB-8B10-8FF789DE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33D-6F09-4B0C-AFA3-8D060D2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1E0-EEDA-455C-804C-34FD810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1BA-220A-40C7-8D78-EF5029A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F2E-3579-4387-8FAF-8087DCB3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45960"/>
            <a:ext cx="116665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507-DB2E-4321-A0E8-CAB2FA7C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3E6-D9B6-4F21-B461-5253C4E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CE4-7755-462B-A642-C47089F6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032-24FB-4DAC-8A65-3C0F80B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marL="441360" indent="-441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36828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2937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2062080" indent="-29376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7868880"/>
            <a:ext cx="302436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8720" y="7868880"/>
            <a:ext cx="410364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0160" y="7868880"/>
            <a:ext cx="302400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fld id="{6F3C1231-4C2C-41F7-B4B8-B2F1FC6B75FD}" type="slidenum">
              <a:rPr b="0" lang="zh-TW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56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116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16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027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27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43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32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59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59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75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90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908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10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322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22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38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38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54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4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70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70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86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65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40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618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18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34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341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9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65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65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8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1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69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978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91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13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129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9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4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5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56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61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777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7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9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93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20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090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424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24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640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85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6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907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72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288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88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50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04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72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203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9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152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52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36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368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8000" y="287280"/>
            <a:ext cx="8496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Start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58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8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80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144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018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8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1234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34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14523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5232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1667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667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35280" y="2016000"/>
            <a:ext cx="9289440" cy="450720"/>
            <a:chOff x="2735280" y="2016000"/>
            <a:chExt cx="9289440" cy="450720"/>
          </a:xfrm>
        </p:grpSpPr>
        <p:sp>
          <p:nvSpPr>
            <p:cNvPr id="128" name=""/>
            <p:cNvSpPr/>
            <p:nvPr/>
          </p:nvSpPr>
          <p:spPr>
            <a:xfrm>
              <a:off x="28080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0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16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3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52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72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89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09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625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942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6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78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98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14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534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851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171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487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35280" y="2016000"/>
              <a:ext cx="9289440" cy="450720"/>
              <a:chOff x="2735280" y="2016000"/>
              <a:chExt cx="9289440" cy="450720"/>
            </a:xfrm>
          </p:grpSpPr>
          <p:sp>
            <p:nvSpPr>
              <p:cNvPr id="147" name=""/>
              <p:cNvSpPr/>
              <p:nvPr/>
            </p:nvSpPr>
            <p:spPr>
              <a:xfrm>
                <a:off x="2735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70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054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406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75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111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463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1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168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520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7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22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578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926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28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63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987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138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578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018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4584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0582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15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490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08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3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69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72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8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3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0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5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62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8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6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30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5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89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94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26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31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8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85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89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16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21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48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534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80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2851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12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71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644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487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076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807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076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24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9393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444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3713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8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35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66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8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03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0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70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687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96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007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27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2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592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64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91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6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2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8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54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9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86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916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185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32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50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8549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782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2869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2138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85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454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0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77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582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509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014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41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45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372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8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3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6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72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98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03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0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37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64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8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96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27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32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59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658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927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978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47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94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6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614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88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93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0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24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52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856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83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288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215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20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647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152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78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584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510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015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942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505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774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35280" y="3527280"/>
            <a:ext cx="90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396072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03640" y="3744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03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19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356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51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67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32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8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14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30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69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62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8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94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105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6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42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82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3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89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05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218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637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853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694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285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1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7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331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148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364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580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7967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012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28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444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6600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3564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35640" y="4753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672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67280" y="496872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700360" y="4970520"/>
            <a:ext cx="18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512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930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93080" y="4753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42472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424720" y="49687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09080" y="475452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23280" y="49705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144908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490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88072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665080" y="47563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5040" y="432108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08320" y="4105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08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24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40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563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71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87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039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9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35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1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676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83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99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152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30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46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62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7788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94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10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26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425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858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74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2901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05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21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37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1538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369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585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014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017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233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9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650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4608360"/>
            <a:ext cx="48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2880" y="43923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628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88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94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10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426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4252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58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74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9016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505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21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937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15380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369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585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144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017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233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9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6650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51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51280" y="5110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3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3280" y="532620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700000" y="5327640"/>
            <a:ext cx="205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6728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2090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09080" y="511020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64072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40720" y="5326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2472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39280" y="532764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1665080" y="511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65080" y="5111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96728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6728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3989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8920" y="56833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00000" y="5689440"/>
            <a:ext cx="22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83280" y="54687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424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2472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856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56720" y="5683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640720" y="54687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854920" y="56847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8328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83280" y="5832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6149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14920" y="604836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700000" y="604836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989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640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640720" y="5832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072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72720" y="60483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567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9070920" y="6048360"/>
            <a:ext cx="2773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18328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4836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48360" y="6407280"/>
            <a:ext cx="259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00000" y="640728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4072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502920" y="6407280"/>
            <a:ext cx="234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4720" y="6192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9504360" y="6192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640720" y="61959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74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32360" y="655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00360" y="6769080"/>
            <a:ext cx="31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32360" y="6553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4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48360" y="676908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28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288360" y="6554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9504360" y="6554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9504360" y="676908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30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286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151128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798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14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798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163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014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130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014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32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230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346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30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48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446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62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4466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662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778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662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878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94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78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95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094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210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4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11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309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425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309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27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25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641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25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41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857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741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957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073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579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75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173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89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73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912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389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05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389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06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605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21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605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2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8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37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821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8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37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53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37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54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253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369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253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0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46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8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6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8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684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800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684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0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900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01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900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18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11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23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11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234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33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448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3328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5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48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64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548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6662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76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88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76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81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98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09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98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9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196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8312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196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1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8412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52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8412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529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62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74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62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745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84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9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88441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96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9059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9175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9059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77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27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939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927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393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949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960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949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609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9823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9707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82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9923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0039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9923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040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013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25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013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256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035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047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035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47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0571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0686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0571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68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0787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090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787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904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100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111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100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120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121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1334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12190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33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1434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1550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1434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15524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165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76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65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1768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03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03640" y="7342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535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700360" y="755964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1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35640" y="755964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559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5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991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1015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01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1447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231640" y="73468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920000" y="7543800"/>
            <a:ext cx="4022640" cy="576360"/>
            <a:chOff x="7920000" y="7543800"/>
            <a:chExt cx="4022640" cy="576360"/>
          </a:xfrm>
        </p:grpSpPr>
        <p:sp>
          <p:nvSpPr>
            <p:cNvPr id="655" name=""/>
            <p:cNvSpPr/>
            <p:nvPr/>
          </p:nvSpPr>
          <p:spPr>
            <a:xfrm flipH="1">
              <a:off x="7991640" y="75456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11447640" y="7543800"/>
              <a:ext cx="396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3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20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2652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344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5816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8508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9016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1708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72180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4872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5380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08072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8544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51236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01744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94436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49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376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19280" y="7704000"/>
            <a:ext cx="547380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48000" y="8280360"/>
            <a:ext cx="20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540320" y="8064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403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563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7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039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19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35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51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76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483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99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152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30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346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2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7788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94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10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426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6425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858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074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2901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505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721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9937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1538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369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585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014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017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233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449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6650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80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096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31640" y="1251000"/>
            <a:ext cx="232740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3236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164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128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164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1280" y="3017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1640" y="33782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1640" y="37386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1280" y="409896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32360" y="44593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2360" y="4819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1640" y="518004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1640" y="55404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1640" y="590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3080" y="62611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3800" y="6621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32360" y="69786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1280" y="7334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1640" y="7626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2360" y="7913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236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844360" y="1251000"/>
            <a:ext cx="973080" cy="71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08360" y="1150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7200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0364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564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6728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892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30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62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69456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26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55820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89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42184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853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9285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717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0148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058076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012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144440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36720" y="3456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451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516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667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676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883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83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8099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099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31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3152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8531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531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8747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7472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8962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9629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178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1789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394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3949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9610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10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9826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8265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0042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042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0258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2585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0474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474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0690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902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0906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906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1122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11222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1339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1339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155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555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77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773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198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988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2206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206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242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422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8734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850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734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8520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8950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9066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8950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067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9166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9282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9166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283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9381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9497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9381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499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9597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9713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9597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7156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9813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9929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9813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31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0029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0145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0029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47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0245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0361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10245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363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0461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0577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0461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578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0677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793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0677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94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0893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1009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08936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010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1109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1225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1109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2269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1325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1441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1325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1442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1541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1657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1541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1658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1756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1872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1756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1874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1972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2088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1972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2090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2188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2304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2188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306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2404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25204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24048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522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701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861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70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91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17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133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3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3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3498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56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56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78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1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997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97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1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13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42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29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645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45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861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61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07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076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29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92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50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08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72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24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594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940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156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56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372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36720" y="277920"/>
            <a:ext cx="84963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End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745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53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766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669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88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868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8102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102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8319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3199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8535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535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2669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989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305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6220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994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4258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578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2894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7214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531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851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0167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147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496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844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1936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016000"/>
            <a:ext cx="565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9092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26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61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6959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3080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6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07400" y="2016000"/>
            <a:ext cx="564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469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886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3264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450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8836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3170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66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9384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9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62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68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95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586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513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018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945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450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37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881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08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3138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240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95640" y="310212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4360" y="3535200"/>
            <a:ext cx="1166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829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6989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14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130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465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62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78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94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2102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5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41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85784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073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89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05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2148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37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153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369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5851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00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2327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448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664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880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0964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8312040" y="3965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528040" y="39654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35280" y="504504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6108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861080" y="48229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29272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076720" y="482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292720" y="5040360"/>
            <a:ext cx="777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57440" y="4103640"/>
            <a:ext cx="576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1280" y="4464000"/>
            <a:ext cx="81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050920" y="54021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076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76720" y="51865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508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292720" y="51879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66920" y="575928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29272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292720" y="5543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72436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724360" y="57592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08720" y="554508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42160" y="5761080"/>
            <a:ext cx="712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82920" y="612468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550872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08720" y="5908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94036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940360" y="6124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24360" y="59101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938920" y="6119640"/>
            <a:ext cx="6554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91636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2916360" y="6482880"/>
            <a:ext cx="2592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50872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73800" y="6480000"/>
            <a:ext cx="612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052720" y="62690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372360" y="62690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08720" y="6272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2700360" y="66276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41080" y="68454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700360" y="6629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91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16360" y="684540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615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56360" y="6630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372360" y="6630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372000" y="6840360"/>
            <a:ext cx="604980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98920" y="7061040"/>
            <a:ext cx="3455640" cy="216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54560" y="7061040"/>
            <a:ext cx="2162520" cy="216000"/>
          </a:xfrm>
          <a:prstGeom prst="hexagon">
            <a:avLst>
              <a:gd name="adj" fmla="val 18401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90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68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0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68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0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905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021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905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2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23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1212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238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33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45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333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4545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55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668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552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67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68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884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768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98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10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398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102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420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31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420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31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416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532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416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3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632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74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6324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749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84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96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4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9658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06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180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064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8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280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396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5280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97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49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61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49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613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571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82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71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829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927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043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927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4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6143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2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143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261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35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47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35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115640" y="7632720"/>
            <a:ext cx="3313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42764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427640" y="74199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85928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43280" y="7421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88364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883640" y="74214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831528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99280" y="7423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858920" y="762156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317080" y="7637400"/>
            <a:ext cx="47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21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948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54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381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886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813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18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245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750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677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9182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9109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961380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54072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004580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997272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0477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0404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4876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59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37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9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07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023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3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45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670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886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810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318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8534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75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896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182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398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613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9829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0458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0261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0477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0693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68360" y="1251000"/>
            <a:ext cx="216072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44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8908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836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908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88720" y="30243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88720" y="33847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89080" y="3745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88360" y="410544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89440" y="44658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89800" y="4896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89080" y="5256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89080" y="56167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9080" y="5977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90160" y="6337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91240" y="66978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89440" y="704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88360" y="741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89080" y="770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89800" y="79898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8944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698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130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56220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994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42584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57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8948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21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153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585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016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44840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880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31204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157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084720" y="773892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89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516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7061040"/>
            <a:ext cx="4248000" cy="216000"/>
          </a:xfrm>
          <a:prstGeom prst="hexagon">
            <a:avLst>
              <a:gd name="adj" fmla="val 3614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788920" y="7761240"/>
            <a:ext cx="129672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910880" y="777096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0837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1342520" y="777096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1269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091088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1126880" y="81392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1342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1558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65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492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998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92580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430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357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862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789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294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21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26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653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99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21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430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646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86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078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294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51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2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942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701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2908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33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060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1338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0607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5654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4923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9974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243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4290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3560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8610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880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2927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219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243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651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156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83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588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51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20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46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451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378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883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810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3152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2422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74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67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17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10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610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953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042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9969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0474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040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906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833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1337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1264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1769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1696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22014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21284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613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868824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91933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1202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962496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955188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00569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9983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04886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0415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9202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0847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3522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1279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17838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1711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1774520" y="814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1773080" y="8354880"/>
            <a:ext cx="129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22158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21428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8718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991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303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30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735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62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167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094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11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638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143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700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5751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5020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0068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9337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290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35600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8750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8677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186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9113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623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550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0059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998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0496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0423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0933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0860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1369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1296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1806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1733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2242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169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588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1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020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946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451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378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883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810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315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24220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8736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8006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305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232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37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664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168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095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712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639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144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071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5766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5035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0086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9355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308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3578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751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678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188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9115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624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9551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0061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9988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497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0425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0934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861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1371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1298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1808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1734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244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2171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317080" y="4319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532720" y="4319640"/>
            <a:ext cx="411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750160" y="4678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8966160" y="46782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508720" y="5400720"/>
            <a:ext cx="727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2349080" y="863640"/>
            <a:ext cx="865440" cy="76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74404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917568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960768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003932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047132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090296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133460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176660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219824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43200" y="345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5:31:42Z</dcterms:created>
  <dc:creator>steel</dc:creator>
  <dc:description/>
  <dc:language>en-US</dc:language>
  <cp:lastModifiedBy>steel</cp:lastModifiedBy>
  <dcterms:modified xsi:type="dcterms:W3CDTF">2005-08-25T17:08:04Z</dcterms:modified>
  <cp:revision>15</cp:revision>
  <dc:subject/>
  <dc:title>投影片 1</dc:title>
</cp:coreProperties>
</file>