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313-245A-424B-B73F-98E1640A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A3C-4912-4DCB-AC7C-5EE23151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E8F-13D9-4B12-A3B0-F695E8DC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6A8-FB52-486E-A21F-FF8DBDF1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A7A-D5AB-4E1F-BC23-4F80E2CB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CE1-687C-4B8C-AAC4-8B802475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753-174B-4CD8-8C20-D4B5A91C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613-EBEB-4C73-8F39-AECB2C5A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BA5-8D41-498A-A615-845D38CA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9A0-4DFD-4A63-A69B-D582E48E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E80-974B-4132-8673-57239D55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E64-DBC8-43FE-B316-1EE48C7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8B99-709D-48A8-B008-79C95684F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038480"/>
            <a:ext cx="838080" cy="8384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1981080"/>
            <a:ext cx="3045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438280"/>
            <a:ext cx="1219320" cy="12193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048120"/>
            <a:ext cx="1219320" cy="6094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447920"/>
            <a:ext cx="121932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1981080"/>
            <a:ext cx="9144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3809880"/>
            <a:ext cx="129528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516564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9370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ga_clk_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25909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4382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590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048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nk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27432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2895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3200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3352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311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4159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4464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43117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4616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44640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4267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O       32-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114800"/>
            <a:ext cx="99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 Width Converter 32b-16b or 24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4403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o_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4022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438280" y="3641760"/>
            <a:ext cx="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4038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952880" y="470844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952880" y="47847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733920" y="47847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733560" y="47084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37920" y="419112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37782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7273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GA Seque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029200" y="41752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31082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lon Read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2209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066320" y="35654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33368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066320" y="31082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879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066320" y="3336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108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175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019920" y="3657600"/>
            <a:ext cx="0" cy="51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066320" y="478476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556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c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808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GA Controller With 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47847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lon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66680" y="516564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49370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ga_clk_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15000" y="3657240"/>
            <a:ext cx="0" cy="1127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0415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76920" y="2346120"/>
            <a:ext cx="759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876560" y="22701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2346120"/>
            <a:ext cx="759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419360" y="22701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2096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43400" y="25750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43400" y="2346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2346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00600" y="234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343400" y="234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5750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uble registers for meta-stability pre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48520" y="47847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248160" y="47084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28840" y="478476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124080"/>
            <a:ext cx="761760" cy="365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10824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reshold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34894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33684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12264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ay to re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47760" y="3336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12264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ay to wr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257800" y="25750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257800" y="2576520"/>
            <a:ext cx="0" cy="137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257800" y="3946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219320"/>
            <a:ext cx="81532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2701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66320" y="2514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828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600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6002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371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9810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rol Regi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438280"/>
            <a:ext cx="0" cy="59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073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8288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1981080"/>
            <a:ext cx="3045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7432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8954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0481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200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352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3505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2:44:44Z</dcterms:created>
  <dc:creator>user</dc:creator>
  <dc:description/>
  <dc:language>en-US</dc:language>
  <cp:lastModifiedBy>nknight</cp:lastModifiedBy>
  <dcterms:modified xsi:type="dcterms:W3CDTF">2006-12-14T23:26:40Z</dcterms:modified>
  <cp:revision>159</cp:revision>
  <dc:subject/>
  <dc:title>Slide 1</dc:title>
</cp:coreProperties>
</file>