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AE1-7106-41ED-80E1-641F494F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844-2C87-4055-9653-0A140204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D99-AE52-4AFE-80F8-9A18386F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F81-2FFF-485E-84D5-8A7C9FC0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829-269B-4CBD-B878-DF7B15FB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BAA-AB8D-44E9-B818-90B1D755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06A-6FE7-43D0-8EC8-F5F631F8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5D7-CE43-4EEC-B956-9A49D984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9B1-4699-4A2B-BF4A-7A19E1E3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F43-9A29-4939-A35A-0037114F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158-83FA-4DF7-82B4-2984C5F9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711-E890-463D-8FA1-87277576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0BDE-45B1-4845-BE85-D2A5CBC6B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4038480"/>
            <a:ext cx="838080" cy="83844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1981080"/>
            <a:ext cx="3045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2438280"/>
            <a:ext cx="1219320" cy="12193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048120"/>
            <a:ext cx="1219320" cy="60948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447920"/>
            <a:ext cx="1219320" cy="11430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1981080"/>
            <a:ext cx="914400" cy="457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3809880"/>
            <a:ext cx="129528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5165640"/>
            <a:ext cx="2438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49370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ga_clk_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25909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4382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25909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96080" y="3048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nk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27432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6080" y="28954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96080" y="32004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sy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96080" y="33526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sy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311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4159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4464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96080" y="43117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4616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44640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4267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O       32-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4114800"/>
            <a:ext cx="99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ta Width Converter 32b-16b or 24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4403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4022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o_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40226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438280" y="3641760"/>
            <a:ext cx="0" cy="54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44038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952880" y="470844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952880" y="478476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733920" y="47847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733560" y="47084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437920" y="419112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37782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27273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GA Sequen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029200" y="41752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31082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alon Read 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2209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066320" y="35654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33368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066320" y="31082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879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066320" y="3336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108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286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175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019920" y="3657600"/>
            <a:ext cx="0" cy="51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066320" y="478476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556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c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3808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GA Controller With D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257800" y="478476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alon Sl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066680" y="5165640"/>
            <a:ext cx="4191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49370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ga_clk_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15000" y="3657240"/>
            <a:ext cx="0" cy="1127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0415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876920" y="2346120"/>
            <a:ext cx="759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876560" y="22701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2346120"/>
            <a:ext cx="759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4419360" y="22701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220968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343400" y="25750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43400" y="2346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00600" y="2346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00600" y="234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343400" y="234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25750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uble registers for meta-stability preven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48520" y="47847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248160" y="47084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028840" y="478476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124080"/>
            <a:ext cx="761760" cy="365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310824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reshold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348948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333684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12264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ay to re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047760" y="333684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312264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ay to wr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257800" y="257508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257800" y="2576520"/>
            <a:ext cx="0" cy="1370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257800" y="39466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219320"/>
            <a:ext cx="81532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2701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066320" y="2514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1828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1600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16002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3716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19810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trol Regi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2438280"/>
            <a:ext cx="0" cy="59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2073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8288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1981080"/>
            <a:ext cx="3045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27432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8954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0481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200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3526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35053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2:44:44Z</dcterms:created>
  <dc:creator>user</dc:creator>
  <dc:description/>
  <dc:language>en-US</dc:language>
  <cp:lastModifiedBy>nknight</cp:lastModifiedBy>
  <dcterms:modified xsi:type="dcterms:W3CDTF">2006-12-14T23:26:40Z</dcterms:modified>
  <cp:revision>159</cp:revision>
  <dc:subject/>
  <dc:title>Slide 1</dc:title>
</cp:coreProperties>
</file>