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B6C-7B96-4CC8-87D8-8B31622B11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A96F-CB42-4B33-A830-8CDF9DCCFE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9048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ing card companies: pre and post-paid using VoIP gateways or buying minutes from other VoIP wholesa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iP ops: retail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lcos: mainly international/ LD ops using gateways on selective routes for point to point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D55-2245-4E38-9014-16DD822E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69F-1847-4F93-92A5-73713F1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47B-EB98-4665-A829-F87F774E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890-EC26-4D52-A077-CF428FB4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50EE-6B11-412B-BFFB-22C94F63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C0FB-82BC-4DD3-94C9-7C3EBAC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99D-BBF1-45EE-A798-B73BA56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F9BA-7BB7-4A8E-8BF4-C65BD27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D17-2DC9-4D20-A4A9-670BADFB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451E-3864-4364-9D53-C3C24E88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302-FD07-41D2-A724-8DF0317A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113-17AD-47FF-B135-56A20C4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EF71-181D-446C-A808-39BE484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D6D-D710-4286-AACB-8EC773D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50BE-19B9-45B8-BBC2-6B955522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3491-F8EA-4632-918C-F8376577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DA2D-0098-4D5A-A70B-F21FA575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4AF-37A3-4761-B273-6E62CB4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D94-F6A4-4465-9EA5-F7476294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8EF-8698-448A-A857-23B04D56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1D2-258D-45AD-95ED-9D5B19F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0B1-D91E-4925-91DA-BB1BF55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A93-2163-4FC3-870A-0BDC9A8D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9F8-CEA8-46BB-AB90-23AB971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876240"/>
            <a:ext cx="1784160" cy="2324160"/>
            <a:chOff x="414360" y="87624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97380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8794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8762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8F1A-133E-44D8-99D5-364FAB8738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3160" y="19692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09480" y="79812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674280" y="675360"/>
            <a:ext cx="24696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160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74F0-CCAA-4DEE-984D-4CAB4A01E3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2590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ocus on New Servic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nry Sinnrei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ld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banner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3124080" cy="64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5638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oston, July 18, 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095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* The views expressed in this presentation may or may not represent the views of my compan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523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l Ses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1165320"/>
            <a:ext cx="32954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e true Internet hos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ser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P applian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mplementa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Com 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is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lumbia Univers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C WorldCom (1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diatrix 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rtel 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mens 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8" name="graphic_palmiiix" descr=""/>
          <p:cNvPicPr/>
          <p:nvPr/>
        </p:nvPicPr>
        <p:blipFill>
          <a:blip r:embed="rId1"/>
          <a:stretch/>
        </p:blipFill>
        <p:spPr>
          <a:xfrm>
            <a:off x="7620120" y="3048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Etherset" descr=""/>
          <p:cNvPicPr/>
          <p:nvPr/>
        </p:nvPicPr>
        <p:blipFill>
          <a:blip r:embed="rId2"/>
          <a:stretch/>
        </p:blipFill>
        <p:spPr>
          <a:xfrm>
            <a:off x="3048120" y="4379760"/>
            <a:ext cx="3200400" cy="2097360"/>
          </a:xfrm>
          <a:prstGeom prst="rect">
            <a:avLst/>
          </a:prstGeom>
          <a:ln w="0">
            <a:noFill/>
          </a:ln>
        </p:spPr>
      </p:pic>
      <p:pic>
        <p:nvPicPr>
          <p:cNvPr id="340" name="apa_data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2666880" cy="1431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P SIP Phones and Adaptor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2SIPphones" descr=""/>
          <p:cNvPicPr/>
          <p:nvPr/>
        </p:nvPicPr>
        <p:blipFill>
          <a:blip r:embed="rId4"/>
          <a:stretch/>
        </p:blipFill>
        <p:spPr>
          <a:xfrm>
            <a:off x="3981600" y="2590920"/>
            <a:ext cx="3760560" cy="2009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791320" y="914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800" y="2778120"/>
            <a:ext cx="3956040" cy="1295280"/>
            <a:chOff x="2593800" y="2778120"/>
            <a:chExt cx="3956040" cy="1295280"/>
          </a:xfrm>
        </p:grpSpPr>
        <p:sp>
          <p:nvSpPr>
            <p:cNvPr id="346" name=""/>
            <p:cNvSpPr/>
            <p:nvPr/>
          </p:nvSpPr>
          <p:spPr>
            <a:xfrm>
              <a:off x="2593800" y="2778120"/>
              <a:ext cx="3956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800" y="2778120"/>
              <a:ext cx="3956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79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486400" y="2133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og phone adap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3990960"/>
            <a:ext cx="99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l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3916440" y="914400"/>
            <a:ext cx="14176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6315120" y="4648320"/>
          <a:ext cx="199080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15120" y="4648320"/>
                    <a:ext cx="1990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5053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1DE-B891-4323-8892-3FF928E1EC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aying Goodbye to the Dumb Pho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90720" y="1447920"/>
            <a:ext cx="4017960" cy="3962160"/>
            <a:chOff x="1890720" y="1447920"/>
            <a:chExt cx="4017960" cy="3962160"/>
          </a:xfrm>
        </p:grpSpPr>
        <p:sp>
          <p:nvSpPr>
            <p:cNvPr id="358" name=""/>
            <p:cNvSpPr/>
            <p:nvPr/>
          </p:nvSpPr>
          <p:spPr>
            <a:xfrm>
              <a:off x="1890720" y="1447920"/>
              <a:ext cx="401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90720" y="1447920"/>
              <a:ext cx="40179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en-US" sz="230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60" name="phone1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543800" cy="536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533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intelligen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phone connects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nywhe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n the Intern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EC2-D363-4B15-950A-742BE23F23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76200"/>
            <a:ext cx="77724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ternet Phones are no dumb terminal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lephony Switching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switches: PBX, CO, Softswitch, etc.  are the equivalent of mainframes with dumb termin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prietary, non-extensible, expensive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witches will stagnate the same way as mainframes do (exchange your laptop with a dumb terminal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stile environment to innov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00600" y="10663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itho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ue IP SIP phones have open access to the whol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r choice o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ser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applicatio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P/SDP/RTP/SMIL, mail, web, IM interoper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hone-PC-palmtop integ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w services via th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ones not yet invent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867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8040" y="5740560"/>
            <a:ext cx="570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Home network devices will not be controlled by the telecom “Residential Gateway/Call Agen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1F5-4E8F-48A3-B2B3-37BA92D1E453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Communications for e-Commer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1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hance web purchasing with interactive communic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oid abandoned shopping c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 cost of customer service cen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xt chat based on instant messaging with web page sha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chat using click and connect: Phone or PC (less desirabl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Commerce requires QoS, Reliability, zero configu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rly implementations were unsatisfactory and propriet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INT: Click-to-Connect is IETF RFC 284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4EB-E130-49E2-B1D8-91F4E0F007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voice circuit switch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ACD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IVR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PC-SIP Phone operator pos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and connect conferen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mail routing and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novative customer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43000" y="5486400"/>
            <a:ext cx="6924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gger business potential than VoIP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029200" y="1981080"/>
            <a:ext cx="3276720" cy="762120"/>
            <a:chOff x="5029200" y="1981080"/>
            <a:chExt cx="3276720" cy="762120"/>
          </a:xfrm>
        </p:grpSpPr>
        <p:sp>
          <p:nvSpPr>
            <p:cNvPr id="373" name=""/>
            <p:cNvSpPr/>
            <p:nvPr/>
          </p:nvSpPr>
          <p:spPr>
            <a:xfrm>
              <a:off x="5029200" y="1981080"/>
              <a:ext cx="3276720" cy="7621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3680" y="2133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Use SIP, CPL, 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D9F-583E-4E34-8A42-50DA0B2B81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 rot="19933200">
            <a:off x="380880" y="2742840"/>
            <a:ext cx="827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w Revenue comes only from New Servic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78240" y="4965840"/>
            <a:ext cx="4673520" cy="965160"/>
            <a:chOff x="3378240" y="4965840"/>
            <a:chExt cx="4673520" cy="965160"/>
          </a:xfrm>
        </p:grpSpPr>
        <p:sp>
          <p:nvSpPr>
            <p:cNvPr id="378" name=""/>
            <p:cNvSpPr/>
            <p:nvPr/>
          </p:nvSpPr>
          <p:spPr>
            <a:xfrm>
              <a:off x="3378240" y="4965840"/>
              <a:ext cx="4673520" cy="96516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41600" y="5037120"/>
              <a:ext cx="454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on-profit applications like SIP for the hearing impaire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35B-71ED-44D7-B8ED-57DA97D131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arly Misste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lieving cheaper VoIP is a busin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ISDN to H.323 to Internet vo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the PC as a ph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missteps?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7B9-4D11-4AA4-BD8F-79017FEB32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8320" y="765000"/>
          <a:ext cx="685944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765000"/>
                    <a:ext cx="685944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Retail VoIP Market Share 1999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1760" y="1081080"/>
            <a:ext cx="6701760" cy="4575240"/>
            <a:chOff x="221760" y="1081080"/>
            <a:chExt cx="6701760" cy="4575240"/>
          </a:xfrm>
        </p:grpSpPr>
        <p:graphicFrame>
          <p:nvGraphicFramePr>
            <p:cNvPr id="223" name=""/>
            <p:cNvGraphicFramePr/>
            <p:nvPr/>
          </p:nvGraphicFramePr>
          <p:xfrm>
            <a:off x="434880" y="1339560"/>
            <a:ext cx="6135840" cy="424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880" y="1339560"/>
                      <a:ext cx="6135840" cy="42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3247920" y="1081080"/>
              <a:ext cx="1447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Net2Pho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9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1400" y="14191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Bas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19303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Delta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2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67080" y="2465280"/>
              <a:ext cx="9655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TX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3800" y="3893760"/>
              <a:ext cx="16588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CC Companies 47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1760" y="186660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Other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3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760" y="5257440"/>
              <a:ext cx="670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</a:rPr>
                <a:t>Worldwide Retail VOIP Revenue in 1999 = $444 Mill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60520" y="2651040"/>
              <a:ext cx="260280" cy="61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51000" y="2219040"/>
              <a:ext cx="235080" cy="172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65520" y="1860480"/>
              <a:ext cx="162000" cy="245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22200" y="1612800"/>
              <a:ext cx="49320" cy="1854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291960" y="56260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erence: John Lilley/GartnerGroup/Dataquest – VON Europe 200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184880" y="3319560"/>
            <a:ext cx="1656000" cy="2724120"/>
            <a:chOff x="7184880" y="3319560"/>
            <a:chExt cx="1656000" cy="2724120"/>
          </a:xfrm>
        </p:grpSpPr>
        <p:pic>
          <p:nvPicPr>
            <p:cNvPr id="238" name="j0326228" descr=""/>
            <p:cNvPicPr/>
            <p:nvPr/>
          </p:nvPicPr>
          <p:blipFill>
            <a:blip r:embed="rId5"/>
            <a:stretch/>
          </p:blipFill>
          <p:spPr>
            <a:xfrm>
              <a:off x="7184880" y="3319560"/>
              <a:ext cx="165600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358040" y="5219640"/>
              <a:ext cx="130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Still only 0.05% of telecoms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095880" y="914400"/>
            <a:ext cx="2590920" cy="2396520"/>
            <a:chOff x="6095880" y="914400"/>
            <a:chExt cx="2590920" cy="2396520"/>
          </a:xfrm>
        </p:grpSpPr>
        <p:sp>
          <p:nvSpPr>
            <p:cNvPr id="241" name=""/>
            <p:cNvSpPr/>
            <p:nvPr/>
          </p:nvSpPr>
          <p:spPr>
            <a:xfrm>
              <a:off x="6095880" y="914400"/>
              <a:ext cx="2590920" cy="21337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0360" y="1022400"/>
              <a:ext cx="2362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here is hardly a business case for IP voice as a stand alone servic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86F-4E88-4D1B-AFC4-26EFF5720D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PVSTELECOMS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6989760" cy="5006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and Telecom Value Dynamic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39880" y="1054080"/>
            <a:ext cx="7023240" cy="1313640"/>
            <a:chOff x="1739880" y="1054080"/>
            <a:chExt cx="7023240" cy="1313640"/>
          </a:xfrm>
        </p:grpSpPr>
        <p:sp>
          <p:nvSpPr>
            <p:cNvPr id="246" name=""/>
            <p:cNvSpPr/>
            <p:nvPr/>
          </p:nvSpPr>
          <p:spPr>
            <a:xfrm>
              <a:off x="1739880" y="1079280"/>
              <a:ext cx="6896160" cy="128268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90640" y="1054080"/>
              <a:ext cx="697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netpressure.com </a:t>
              </a: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predicts the present telco model will disappear by 2003,</a:t>
              </a:r>
              <a:br>
                <a:rPr sz="2000"/>
              </a:b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bandwidth demand to reach US$1.85 trillion by 2005 due to content evolution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49160" y="5956200"/>
            <a:ext cx="515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Reference: M. Sessions, The Phillips Group, VON Europe 2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2C8-3AE3-41E4-A4AA-84796A4893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Value of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1109520"/>
          <a:ext cx="716292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09520"/>
                    <a:ext cx="716292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684440"/>
            <a:ext cx="3047760" cy="1554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ntegration of all Internet services is the killer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304812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867280" y="236196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752480"/>
            <a:ext cx="1447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mmercial quality voi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263600"/>
            <a:ext cx="5029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IP mobility, location manager, caller preferences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62920" y="990720"/>
            <a:ext cx="45720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EDD-75B9-4E21-B57D-39C0BCEFBC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lable Complexit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7080" y="41385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7080" y="364968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1687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7080" y="26859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7080" y="220500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7080" y="17161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7080" y="12333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7080" y="46213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29708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44476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81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729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867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015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15184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870200" y="4429080"/>
            <a:ext cx="1137960" cy="9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08160" y="4230360"/>
            <a:ext cx="114804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56200" y="3847680"/>
            <a:ext cx="1136520" cy="38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92720" y="3068280"/>
            <a:ext cx="1147680" cy="77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449568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6480" y="44053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24160" y="420516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0"/>
                </a:moveTo>
                <a:lnTo>
                  <a:pt x="39" y="16"/>
                </a:lnTo>
                <a:lnTo>
                  <a:pt x="20" y="32"/>
                </a:lnTo>
                <a:lnTo>
                  <a:pt x="0" y="16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62480" y="382428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19" y="0"/>
                </a:moveTo>
                <a:lnTo>
                  <a:pt x="39" y="15"/>
                </a:lnTo>
                <a:lnTo>
                  <a:pt x="19" y="31"/>
                </a:lnTo>
                <a:lnTo>
                  <a:pt x="0" y="15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0160" y="3043080"/>
            <a:ext cx="61920" cy="5112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040" y="15001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05120" y="3885840"/>
            <a:ext cx="6095880" cy="609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147960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lexity of vertically integrated syste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479600"/>
            <a:ext cx="259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 of commun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411480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IETF feat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40400" y="1523520"/>
            <a:ext cx="1138320" cy="154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-761040" y="-1143360"/>
            <a:ext cx="533304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281952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2819520"/>
            <a:ext cx="0" cy="12189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550-FFA9-48E4-A23E-932EBBC52D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w: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integration with the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Messaging (ex: sip message wait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nt messaging using any/all me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ller and called party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ty call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xed Internet-PSTN servi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also emulate all PSTN IN/PBX features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7EE-D511-47E3-AD73-AC90C82CE3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Presence, Instant Messaging and Voic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9120" y="990720"/>
            <a:ext cx="1334880" cy="2361960"/>
          </a:xfrm>
          <a:prstGeom prst="rect">
            <a:avLst/>
          </a:prstGeom>
          <a:ln w="0">
            <a:noFill/>
          </a:ln>
        </p:spPr>
      </p:pic>
      <p:pic>
        <p:nvPicPr>
          <p:cNvPr id="327" name="invitations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817640" cy="2044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62120" y="6094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esence in proprietary commercial systems got the interest of the IETF IMMP W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9" name="chatcontrol" descr="HearMe VoicePresence screenshot"/>
          <p:cNvPicPr/>
          <p:nvPr/>
        </p:nvPicPr>
        <p:blipFill>
          <a:blip r:embed="rId3"/>
          <a:stretch/>
        </p:blipFill>
        <p:spPr>
          <a:xfrm>
            <a:off x="1011240" y="320040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5013360" y="990720"/>
            <a:ext cx="1523880" cy="2361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3824280" y="2209680"/>
            <a:ext cx="4405320" cy="3667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ttp://www.ietf.org/internet-drafts/draft-ietf-impp-model-03.tx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2D8-EFB8-4C65-87E8-CA3580BFAA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resence and Instant Communication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n be provided by SIP: 7 new I-Ds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cation: office, home, travel,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state: ready, on another call (ID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llingness: available, in meeting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ferred medium: text, voice, video, e-ma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er prefere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p-on to an existing call – instant confer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phone state: online, with camp-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cation based screening: home/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com telephony: between trading de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for any type of communications: S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not be provided by PSTN, H.323 or MEGACO/H.24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7C6-90C9-4AEA-A0D6-66464538DC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2:23:20Z</dcterms:created>
  <dc:creator>Henry Sinnreich</dc:creator>
  <dc:description/>
  <dc:language>en-US</dc:language>
  <cp:lastModifiedBy>Henry Sinnreich</cp:lastModifiedBy>
  <dcterms:modified xsi:type="dcterms:W3CDTF">2000-07-17T21:32:07Z</dcterms:modified>
  <cp:revision>15</cp:revision>
  <dc:subject/>
  <dc:title>Services and Call Flows for IP Telephony</dc:title>
</cp:coreProperties>
</file>