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963525" cy="864076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B98-9472-41E8-B2E8-46BDDE44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7280" y="499536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031-095A-4F72-B777-1E39222D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2544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882-A741-4DC0-9B05-AF3A6CC8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36320" y="201600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728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180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36320" y="4995360"/>
            <a:ext cx="37562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FD6-2AF1-43F2-9076-5048DEA7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BD7F-A065-4037-A07C-9C4CCEF6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D2F-D5C6-4985-AD27-EB4C266C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4243-F9E0-48C3-A19A-6488297D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D9D-6BEA-43FF-B0AA-2746B856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45960"/>
            <a:ext cx="11666520" cy="66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81AA-4EC5-4DE4-8433-18441E40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126-716C-4005-AD0F-436B3E5E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25440" y="499536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B20-8028-48AD-BE5F-8BDCEBE2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728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25440" y="2016000"/>
            <a:ext cx="569304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7280" y="4995360"/>
            <a:ext cx="11666520" cy="27205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B591-0FA5-4C4E-A0D8-E0EF85A4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7280" y="345960"/>
            <a:ext cx="11666520" cy="144000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ctr">
            <a:noAutofit/>
          </a:bodyPr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7280" y="2016000"/>
            <a:ext cx="11666520" cy="570384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rmAutofit/>
          </a:bodyPr>
          <a:p>
            <a:pPr marL="441360" indent="-4413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957240" indent="-36828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2" marL="1471680" indent="-2937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3" marL="2062080" indent="-29376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4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5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6" marL="2651040" indent="-293760">
              <a:spcBef>
                <a:spcPts val="1026"/>
              </a:spcBef>
              <a:buClr>
                <a:srgbClr val="000000"/>
              </a:buClr>
              <a:buFont typeface="Arial"/>
              <a:buChar char="»"/>
              <a:tabLst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280" y="7868880"/>
            <a:ext cx="302436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8720" y="7868880"/>
            <a:ext cx="410364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0" lang="zh-TW" sz="1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90160" y="7868880"/>
            <a:ext cx="3024000" cy="6001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59040" bIns="59040" anchor="t">
            <a:noAutofit/>
          </a:bodyPr>
          <a:lstStyle>
            <a:lvl1pPr indent="0" algn="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  <a:defRPr b="0" lang="zh-TW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fld id="{CC4C58AD-BDD1-46AD-8E3C-B65F6DCD954D}" type="slidenum">
              <a:rPr b="0" lang="zh-TW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56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28116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160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027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272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243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32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459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592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6752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90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908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106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068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322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228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38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385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754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545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970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705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186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65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402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618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181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834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3416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049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49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265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65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6481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1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697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9780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913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13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129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9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4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45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56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61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777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777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99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930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820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090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8424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424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8640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40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8856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56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9072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727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9288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288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9504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5043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9720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2036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99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36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152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152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036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368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48000" y="287280"/>
            <a:ext cx="849636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Book Antiqua"/>
              </a:rPr>
              <a:t>Start-of-Line Det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058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585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80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80144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1018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0188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1234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23488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14523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5232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1667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6679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735280" y="2016000"/>
            <a:ext cx="9289440" cy="450720"/>
            <a:chOff x="2735280" y="2016000"/>
            <a:chExt cx="9289440" cy="450720"/>
          </a:xfrm>
        </p:grpSpPr>
        <p:sp>
          <p:nvSpPr>
            <p:cNvPr id="128" name=""/>
            <p:cNvSpPr/>
            <p:nvPr/>
          </p:nvSpPr>
          <p:spPr>
            <a:xfrm>
              <a:off x="280800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400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164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036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3528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72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892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3092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6256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9420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262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5784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898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148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534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285120" y="2043000"/>
              <a:ext cx="43200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71712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4876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735280" y="2016000"/>
              <a:ext cx="9289440" cy="450720"/>
              <a:chOff x="2735280" y="2016000"/>
              <a:chExt cx="9289440" cy="450720"/>
            </a:xfrm>
          </p:grpSpPr>
          <p:sp>
            <p:nvSpPr>
              <p:cNvPr id="147" name=""/>
              <p:cNvSpPr/>
              <p:nvPr/>
            </p:nvSpPr>
            <p:spPr>
              <a:xfrm>
                <a:off x="27352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1701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05400" y="2016000"/>
                <a:ext cx="56664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406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758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9111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463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816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168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6520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0873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522200" y="2016000"/>
                <a:ext cx="56664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578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926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282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2631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69876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013832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4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057860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101888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1458440" y="2016000"/>
                <a:ext cx="566280" cy="45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1058220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01564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49080" y="2043000"/>
              <a:ext cx="431640" cy="21600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8083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35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669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720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89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036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05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356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625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89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26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30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57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625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89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945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1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262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531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582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4851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898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167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218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487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8534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7804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2851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2124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71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6440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01487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0760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5807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5076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0124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93932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4444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3713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8083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352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669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720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989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1036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05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370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640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687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960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007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276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323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7592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643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912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960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6229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280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549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96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4865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9164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185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4232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502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8549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7822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2869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2138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85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6454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1505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077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582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5091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014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41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45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3727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083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35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669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72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98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03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30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370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64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687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96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4007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3276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323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592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658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927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978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47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294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0563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614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883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930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920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4247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520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8567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836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2883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2152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7203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647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152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0789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584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510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015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942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505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3774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35280" y="3527280"/>
            <a:ext cx="90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00360" y="396072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4103640" y="3744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1036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3196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3564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512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672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18328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98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14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309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4692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62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78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6945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1056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1262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422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820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773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989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058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42184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6374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85348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06948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285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1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1712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93312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0148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364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58076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79676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0124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22840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44400" y="3745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660040" y="3745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53564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535640" y="47530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6728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67280" y="496872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700360" y="4970520"/>
            <a:ext cx="183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51280" y="47545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99308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993080" y="47530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8424720" y="47527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424720" y="49687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209080" y="475452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423280" y="497052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1449080" y="4754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449080" y="47545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880720" y="47545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665080" y="47563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05040" y="432108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108320" y="41050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08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24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5403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5632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9719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879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0396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619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35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516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6760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832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992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1524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130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46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5628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77888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94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10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42652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64252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8581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7416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29016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505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21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93780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015380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3694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58544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80144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017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233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449080" y="410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665080" y="41054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700360" y="4608360"/>
            <a:ext cx="4862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7562880" y="43923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5628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888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94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210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42652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64252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85816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07416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9016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505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721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93780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15380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036944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58544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080144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017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233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449080" y="43927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665080" y="43927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7512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51280" y="5110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1832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183280" y="532620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700000" y="5327640"/>
            <a:ext cx="2050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67280" y="5111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820908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209080" y="511020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640720" y="5110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40720" y="5326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424720" y="5111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639280" y="532764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11665080" y="5111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1665080" y="5111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96728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67280" y="5467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3989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398920" y="568332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700000" y="5689440"/>
            <a:ext cx="226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83280" y="54687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84247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424720" y="5467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8856720" y="54673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8856720" y="56833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640720" y="54687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854920" y="568476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18328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183280" y="5832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6149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14920" y="604836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2700000" y="6048360"/>
            <a:ext cx="248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98920" y="58341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86407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640720" y="5832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072720" y="5832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072720" y="604836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856720" y="58341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9070920" y="6048360"/>
            <a:ext cx="2773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518328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04836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6048360" y="6407280"/>
            <a:ext cx="2592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700000" y="6407280"/>
            <a:ext cx="2482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8640720" y="61894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502920" y="6407280"/>
            <a:ext cx="234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184720" y="619272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9504360" y="619272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640720" y="619596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374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32360" y="6551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700360" y="6769080"/>
            <a:ext cx="3132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32360" y="65530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6048360" y="6553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048360" y="676908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9288360" y="65530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9288360" y="655488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9504360" y="655452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9504360" y="6769080"/>
            <a:ext cx="23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830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286920" y="6985080"/>
            <a:ext cx="3456000" cy="216000"/>
          </a:xfrm>
          <a:prstGeom prst="hexagon">
            <a:avLst>
              <a:gd name="adj" fmla="val 29407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700360" y="151128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798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914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798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163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014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130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014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32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230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3465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306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48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4466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62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4466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5640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662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778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662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800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878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994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78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995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0942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2102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0942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11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309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425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4309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276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4525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4641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525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3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4741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8578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7419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59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49579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5073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95792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752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173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5289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173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2912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5389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505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389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06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6055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7214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6055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722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5821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937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821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38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037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6153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6037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54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6253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6369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253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370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469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585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469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586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684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800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684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02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900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7016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900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018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7116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7232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7116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234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7332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448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3328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450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48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64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548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6662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7764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7880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7764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881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7980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8096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7980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8097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8196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8312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8196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313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8412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8528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8412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529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8628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8744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8628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745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8844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8959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884412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961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9059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9175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9059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1774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9275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9391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9275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9393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9491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9607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9491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609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97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9823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9707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825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9923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0039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9923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040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10139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255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10139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0256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1035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1047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1035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047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10571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10686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0571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068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0787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090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787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904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100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111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1100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1120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1121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11334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1121904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133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1434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11550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11434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155240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1165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1176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1165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1768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4103640" y="7342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03640" y="7342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535640" y="73422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2700360" y="7559640"/>
            <a:ext cx="14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319640" y="7343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4535640" y="7559640"/>
            <a:ext cx="302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7559640" y="7343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559640" y="7343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991640" y="7343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75640" y="734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11015640" y="73454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1015640" y="73454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1447640" y="73454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231640" y="734688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7920000" y="7543800"/>
            <a:ext cx="4022640" cy="576360"/>
            <a:chOff x="7920000" y="7543800"/>
            <a:chExt cx="4022640" cy="576360"/>
          </a:xfrm>
        </p:grpSpPr>
        <p:sp>
          <p:nvSpPr>
            <p:cNvPr id="655" name=""/>
            <p:cNvSpPr/>
            <p:nvPr/>
          </p:nvSpPr>
          <p:spPr>
            <a:xfrm flipH="1">
              <a:off x="7991640" y="7545600"/>
              <a:ext cx="30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11447640" y="7543800"/>
              <a:ext cx="39672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308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92000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42652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5344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85816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78508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29016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921708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72180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64872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015380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08072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585440" y="7696440"/>
              <a:ext cx="43200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512360" y="7669440"/>
              <a:ext cx="5670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01744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94436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49080" y="7696440"/>
              <a:ext cx="431640" cy="215640"/>
            </a:xfrm>
            <a:prstGeom prst="roundRect">
              <a:avLst>
                <a:gd name="adj" fmla="val 36764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1376000" y="7669440"/>
              <a:ext cx="5666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519280" y="7704000"/>
            <a:ext cx="5473800" cy="216000"/>
          </a:xfrm>
          <a:prstGeom prst="roundRect">
            <a:avLst>
              <a:gd name="adj" fmla="val 36764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448000" y="8280360"/>
            <a:ext cx="209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540320" y="8064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5403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5632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9719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879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540396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619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835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516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760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4832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992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91524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130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346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5628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77888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994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8210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84265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864252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8581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907416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929016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9505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721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993780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015380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3694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58544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080144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1017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1233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144908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1665080" y="806436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18807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2096720" y="806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31640" y="1251000"/>
            <a:ext cx="232740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32360" y="157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Pixel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31640" y="1944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31280" y="229716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31640" y="26575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VidBuf_count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1280" y="301788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31640" y="33782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1640" y="373860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31280" y="409896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Load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32360" y="445932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32360" y="4819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Ena_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31640" y="518004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1640" y="55404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31640" y="59007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33080" y="62611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33800" y="66214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2Vid_xfe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32360" y="697860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31280" y="733428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LoadN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31640" y="7626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32360" y="7913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Blan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32360" y="12891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OPB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1844360" y="1251000"/>
            <a:ext cx="973080" cy="71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808360" y="1150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240000" y="1152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72000" y="1154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103640" y="1155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35640" y="11574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967280" y="11588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98920" y="11606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3092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26256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69456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126200" y="11667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558200" y="11685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89840" y="11700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421840" y="117144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853480" y="11732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9285120" y="117468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9717120" y="11764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0148760" y="1177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0580760" y="1179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1012400" y="1181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1444400" y="1182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736720" y="34560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63723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658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588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04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804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7020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20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72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60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451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74516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667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6676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7883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8836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8099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099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8315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3152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8531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531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8747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7472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8962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9629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178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91789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93949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3949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9610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105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9826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98265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10042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00425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102585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02585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10474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04742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10690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06902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10906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09062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111222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11222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13396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13396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15552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15552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1177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17730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11988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1988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12206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22061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124221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24221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477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57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669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V="1">
            <a:off x="657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9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6791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6907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6791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90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70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712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flipV="1">
            <a:off x="70074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7124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722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V="1">
            <a:off x="733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722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3407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743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7554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439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55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7655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7770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7655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772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787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98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787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988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8086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8202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8086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204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8302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8418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8302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420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8518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8634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85186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636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8734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8850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8734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85204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8950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9066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8950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9067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91663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9282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91663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9283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9381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9497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9381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4996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9597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9713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9597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97156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9813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9929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9813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9931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100299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101458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00299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0147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10245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0361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10245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03633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10461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10577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0461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578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10677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107935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106776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0794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108936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11009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108936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10109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11109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11225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1109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12269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1325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11441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11325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1442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15412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16571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15412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1658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11756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11872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11756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18746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11972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12088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11972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2090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2188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123048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21888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306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24048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125204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124048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25222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701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4861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2701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2917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9178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133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1338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3498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3498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3565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56544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3781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78144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997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997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4213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213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42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2908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645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645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4861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8610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076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0767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292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9272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55087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50872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724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724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5940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9403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6156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1563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63723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37236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6588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588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6804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0400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7020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02000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723600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236000" y="1871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736720" y="277920"/>
            <a:ext cx="849636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Book Antiqua"/>
              </a:rPr>
              <a:t>End-of-Line Deta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745344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45344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V="1">
            <a:off x="76690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66908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788688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86880" y="165564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810252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10252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8319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319960" y="165564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8535960" y="1655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8535960" y="1871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2669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6989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305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56220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9942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42584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8578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28948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57214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1531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5851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0167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22147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64960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0844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51936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016000"/>
            <a:ext cx="5652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9092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826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2610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6959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13080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5660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007400" y="2016000"/>
            <a:ext cx="564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4469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8868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83264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4502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8836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3170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26692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19384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698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625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2683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1956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5865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513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018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9454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450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7377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881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80876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831384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2407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195640" y="310212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84360" y="3535200"/>
            <a:ext cx="11666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4829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69892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9145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1305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34656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562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778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9942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421020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42584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64184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85784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073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289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50548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72148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937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153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36912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58512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8007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01676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23276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448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664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880400" y="3751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8096400" y="37512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8312040" y="39654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8528040" y="3965400"/>
            <a:ext cx="411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35280" y="504504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861080" y="48225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861080" y="482292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292720" y="48225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076720" y="482436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292720" y="5040360"/>
            <a:ext cx="777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557440" y="4103640"/>
            <a:ext cx="5761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11280" y="4464000"/>
            <a:ext cx="81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050920" y="540216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5076720" y="51861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76720" y="518652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5508720" y="518616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5292720" y="518796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266920" y="5759280"/>
            <a:ext cx="3025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5292720" y="55432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292720" y="55436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5724360" y="554328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724360" y="575928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508720" y="554508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942160" y="5761080"/>
            <a:ext cx="712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482920" y="6124680"/>
            <a:ext cx="3025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5508720" y="5908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508720" y="5908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940360" y="5908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940360" y="6124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24360" y="591012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938920" y="6119640"/>
            <a:ext cx="65548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2916360" y="626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V="1">
            <a:off x="2916360" y="6482880"/>
            <a:ext cx="2592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5508720" y="62658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373800" y="6480000"/>
            <a:ext cx="612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052720" y="626904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6372360" y="62690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508720" y="627228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2700360" y="662760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H="1">
            <a:off x="541080" y="6845400"/>
            <a:ext cx="18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700360" y="662940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2916360" y="6629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16360" y="6845400"/>
            <a:ext cx="324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V="1">
            <a:off x="6156360" y="6629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6156360" y="663084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6372360" y="66308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6372000" y="6840360"/>
            <a:ext cx="604980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98920" y="7061040"/>
            <a:ext cx="3455640" cy="216000"/>
          </a:xfrm>
          <a:prstGeom prst="hexagon">
            <a:avLst>
              <a:gd name="adj" fmla="val 29404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 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154560" y="7061040"/>
            <a:ext cx="2162520" cy="216000"/>
          </a:xfrm>
          <a:prstGeom prst="hexagon">
            <a:avLst>
              <a:gd name="adj" fmla="val 18401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d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5909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2689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2805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2689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806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 flipV="1">
            <a:off x="2905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0211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29052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022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1212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3236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31212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2385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3336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3452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3336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34545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3552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3668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3552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3670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37688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8847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 flipV="1">
            <a:off x="37688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886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3984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100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3984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1022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4200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4316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4200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317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416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45324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44164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533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46324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4748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46324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7498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4848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4964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4848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496584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5064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5180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 flipV="1">
            <a:off x="5064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181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528012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 flipV="1">
            <a:off x="53960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528012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397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5495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5611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5495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61348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5711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827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5711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82948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927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6043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927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045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614376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625968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14376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6261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359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475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359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47712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6575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6691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575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692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6791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690732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679140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908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700740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122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0740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12476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7223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7338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223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340760" y="1508040"/>
            <a:ext cx="10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7439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554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7439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556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765504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V="1">
            <a:off x="777096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765504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7772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7870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V="1">
            <a:off x="7986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7870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98840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8086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8202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8086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204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8302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841860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8302680" y="130032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8420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8518680" y="13017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8634240" y="12952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8518680" y="1300320"/>
            <a:ext cx="115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8636040" y="1508040"/>
            <a:ext cx="1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1115640" y="7632720"/>
            <a:ext cx="33130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427640" y="74199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427640" y="741996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859280" y="74199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643280" y="74214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883640" y="742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883640" y="7421400"/>
            <a:ext cx="215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8315280" y="742140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099280" y="742320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4858920" y="7621560"/>
            <a:ext cx="302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8317080" y="7637400"/>
            <a:ext cx="475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7021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948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45488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7381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88688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7813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1852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8245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875016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677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918216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910908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961380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954072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004580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997272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0477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0404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4876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703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919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13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335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567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3782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159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37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59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807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7023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7238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7454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7670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788688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8102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8318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853452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8750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8966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9182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939816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96138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982980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00458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0261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0477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06934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68360" y="1251000"/>
            <a:ext cx="2160720" cy="71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89440" y="157788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Pixel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89080" y="19447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88360" y="229716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89080" y="2657520"/>
            <a:ext cx="20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VidBuf_countx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88720" y="302436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88720" y="338472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89080" y="3745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VidBuf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88360" y="4105440"/>
            <a:ext cx="22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Load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89440" y="4465800"/>
            <a:ext cx="21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_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89800" y="48960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Ena_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289080" y="525636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89080" y="561672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89080" y="59770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Buf_En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90160" y="63374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2Emc_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91240" y="669780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2Vid_xfe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89440" y="7048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VidBuf_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88360" y="74106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LoadN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89080" y="770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89800" y="798984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HBlank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89440" y="12891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OPB_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69892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313056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56220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994200" y="11667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425840" y="11685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4857840" y="11700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289480" y="117144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721480" y="11732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6153120" y="117468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6585120" y="11764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7016760" y="11779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7448400" y="1179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7880400" y="1181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8312040" y="1182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157800" y="776592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084720" y="773892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89800" y="776592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651672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317080" y="7061040"/>
            <a:ext cx="4248000" cy="216000"/>
          </a:xfrm>
          <a:prstGeom prst="hexagon">
            <a:avLst>
              <a:gd name="adj" fmla="val 36147"/>
              <a:gd name="vf" fmla="val 115470"/>
            </a:avLst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1788920" y="7761240"/>
            <a:ext cx="1296720" cy="216000"/>
          </a:xfrm>
          <a:prstGeom prst="roundRect">
            <a:avLst>
              <a:gd name="adj" fmla="val 36764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0910880" y="7770960"/>
            <a:ext cx="43164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0837800" y="774396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1342520" y="7770960"/>
            <a:ext cx="432000" cy="21564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1269800" y="774396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091088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1126880" y="81392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134252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1558520" y="813924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56544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349236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399888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925800" y="774540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443088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35780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486252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789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294160" y="77724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22144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26160" y="77724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653080" y="774540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70360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919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135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35124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56724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782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3998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21488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43088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4646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486252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507852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5294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510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26160" y="8140680"/>
            <a:ext cx="2160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5942160" y="814068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701800" y="776592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62908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133800" y="776592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060720" y="773892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31338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0607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5654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4923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39974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9243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4290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3560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8610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7880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2927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52196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57243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56516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1563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6083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65880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65152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70200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69469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4516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73785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78836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78105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83152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82422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874728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867420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917892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9105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61056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953784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04256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9969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1047420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040148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090620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083312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1133784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126476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1769840" y="238428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1696760" y="235728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2201480" y="238428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2128400" y="235728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876132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868824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919332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12024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962496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9551880" y="201600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005696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998388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048860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104155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1092024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084752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1135224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1279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11783880" y="204300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1171116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V="1">
            <a:off x="11774520" y="814068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1773080" y="8354880"/>
            <a:ext cx="1296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8317080" y="3751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8317080" y="3751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2215880" y="204300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12142800" y="201600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87188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7991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3038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5230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735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566244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167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094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2711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638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31431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07008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57516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50208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0068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9337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442908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435600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875016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8677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9186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911376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962352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955044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005984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9987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0496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042344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1093320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086012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136952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1296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1806200" y="2744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1733120" y="2717640"/>
            <a:ext cx="567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2242880" y="2744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2169800" y="2717640"/>
            <a:ext cx="5666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5880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5152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020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946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7451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378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78836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810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831528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824220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8736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8006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53053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52322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57373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5664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168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095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2712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2639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1449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0718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357660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50352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0086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9355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43088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35780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875196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867888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918828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9115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9624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955188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1006164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998856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1049796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0425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093464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086156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137132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129824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1808000" y="3122640"/>
            <a:ext cx="43164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1734920" y="3095640"/>
            <a:ext cx="5666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2244320" y="3122640"/>
            <a:ext cx="432000" cy="216000"/>
          </a:xfrm>
          <a:prstGeom prst="roundRect">
            <a:avLst>
              <a:gd name="adj" fmla="val 3676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12171240" y="3095640"/>
            <a:ext cx="567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8317080" y="4319640"/>
            <a:ext cx="215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8532720" y="4319640"/>
            <a:ext cx="4110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8321760" y="4105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8321760" y="41054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8750160" y="4678200"/>
            <a:ext cx="2160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8966160" y="4678200"/>
            <a:ext cx="41101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8755200" y="4464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8755200" y="4464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5508720" y="5400720"/>
            <a:ext cx="727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2349080" y="863640"/>
            <a:ext cx="865440" cy="763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8744040" y="115236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9175680" y="115416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9607680" y="115560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10039320" y="115740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10471320" y="11588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0902960" y="116064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1334600" y="116208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1766600" y="1163520"/>
            <a:ext cx="0" cy="727416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12198240" y="1165320"/>
            <a:ext cx="0" cy="7273800"/>
          </a:xfrm>
          <a:prstGeom prst="line">
            <a:avLst/>
          </a:prstGeom>
          <a:ln w="9360">
            <a:solidFill>
              <a:srgbClr val="5f5f5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743200" y="3456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77920"/>
                <a:tab algn="l" pos="2355840"/>
                <a:tab algn="l" pos="3533760"/>
                <a:tab algn="l" pos="4711680"/>
                <a:tab algn="l" pos="5889600"/>
                <a:tab algn="l" pos="7067520"/>
                <a:tab algn="l" pos="8245440"/>
                <a:tab algn="l" pos="9423360"/>
                <a:tab algn="l" pos="10601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5T15:31:42Z</dcterms:created>
  <dc:creator>steel</dc:creator>
  <dc:description/>
  <dc:language>en-US</dc:language>
  <cp:lastModifiedBy>steel</cp:lastModifiedBy>
  <dcterms:modified xsi:type="dcterms:W3CDTF">2005-08-25T17:08:04Z</dcterms:modified>
  <cp:revision>15</cp:revision>
  <dc:subject/>
  <dc:title>投影片 1</dc:title>
</cp:coreProperties>
</file>