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6B6-1099-466C-B5DB-C718836A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CDC-CBD6-43A6-BD98-AF3CBB8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281-97B3-4B6A-B8DC-5F1E4830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CA9-C120-4704-976F-E6921A75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EA5-A053-4005-B223-A578FB4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079-0811-4A8E-AD4C-D9601206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561-F023-4DE2-9D29-03D5D72E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C49-1FCE-470B-8C7E-8E3B7A9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FB6-C91F-446A-A733-97023199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5C9-F734-4595-A3D0-11545FB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343-C11F-48F8-9CE3-04FEC0A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BC5-D490-48C8-80A4-1ADF704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1EEC-F19D-4D35-9962-A421C277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038480"/>
            <a:ext cx="838080" cy="838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438280"/>
            <a:ext cx="1219320" cy="121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048120"/>
            <a:ext cx="1219320" cy="6094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21932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981080"/>
            <a:ext cx="9144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3809880"/>
            <a:ext cx="129528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6564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25909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438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590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048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nk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2743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895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200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311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4159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4464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4311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4616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44640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O       32-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11480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Width Converter 32b-16b or 24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4403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o_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022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3641760"/>
            <a:ext cx="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4038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2880" y="47084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952880" y="47847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7339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335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7920" y="419112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778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7273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GA Seque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029200" y="4175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31082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Read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2209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066320" y="35654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3368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66320" y="31082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879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66320" y="3336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108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175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19920" y="3657600"/>
            <a:ext cx="0" cy="51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66320" y="478476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556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c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80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GA Controller With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47847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680" y="516564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15000" y="3657240"/>
            <a:ext cx="0" cy="1127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41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769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8765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4193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209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2575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006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3434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575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 registers for meta-stability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485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481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28840" y="478476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124080"/>
            <a:ext cx="761760" cy="365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10824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reshold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34894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3368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r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7760" y="3336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wr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257800" y="25750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257800" y="2576520"/>
            <a:ext cx="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57800" y="3946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1532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70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66320" y="2514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828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6002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9810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 Regi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438280"/>
            <a:ext cx="0" cy="59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073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82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743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95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0481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200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2:44:44Z</dcterms:created>
  <dc:creator>user</dc:creator>
  <dc:description/>
  <dc:language>en-US</dc:language>
  <cp:lastModifiedBy>nknight</cp:lastModifiedBy>
  <dcterms:modified xsi:type="dcterms:W3CDTF">2006-12-14T23:26:40Z</dcterms:modified>
  <cp:revision>159</cp:revision>
  <dc:subject/>
  <dc:title>Slide 1</dc:title>
</cp:coreProperties>
</file>