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32FE-1B21-4FD0-ACE9-FF0F43471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BE4A-D651-4285-B7EC-EA35C9EB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FC50-2CBD-49D8-9D97-F610F4D0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332A-AD6A-4BDD-8F13-5736596AC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A83D-7CE7-4B4B-AD18-0C9E0418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1954-25FF-4266-935F-254146B8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6835-BEE1-4036-A970-54DB09A4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AD2D-2E46-49FF-B419-82FED2A0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A1A6-8A7C-4566-8221-CE0B49EC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151C-C704-43F0-92DF-81FA9241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6651-1F78-455B-B36E-81D27555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2FEC-6210-47F4-80C8-188F7C9D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51A4-E985-47FF-938C-E104AC7A1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-ToB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nnifer J. Vend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ation by James Ris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l %L and %w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cur at the beginning of utterance or post-pausal medial phr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%wL used when phrase begins with an accented mora or a long syl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36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%w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276720" y="304920"/>
            <a:ext cx="536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603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l H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429000" y="533520"/>
            <a:ext cx="5016600" cy="5668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828800" y="243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35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biguous H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80960" y="1600200"/>
            <a:ext cx="399096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68840" y="1600200"/>
            <a:ext cx="399744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85800" y="571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4876920" y="571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263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223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l HL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278240" y="1295280"/>
            <a:ext cx="4451400" cy="5029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82880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3505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ent Uncertainty (*?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281480" y="1295280"/>
            <a:ext cx="4425840" cy="5029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9051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603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 degrees of break ind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  very small disjun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consecutive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  medium disjun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  strong disjuncture between adjacent words or between a word and si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  mism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  uncerta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  disfl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lity 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curs on break index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lity related phenomena: final F0 lowering, segmental lengthening, creaky voice, amplitude lowering, long pauses, stylized “finality” cont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400536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38080" y="563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829040" y="1600200"/>
            <a:ext cx="398160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5105520" y="571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2415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2566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panese ToB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use with Tokyo Japan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istent with design principles of English ToB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y one accent 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us on location of tones, and phrase bound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ve tiers: tones, words, break indices, finality, miscellane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d 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708660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*+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5038560" cy="5715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2880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1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*+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panese has lexical ac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a word is accented, place H*+L on the accented syl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the accent is early or late, place &gt; on the early accent or &lt; on the late accent, and mark H*+L where it should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20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te Acc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794040" y="609480"/>
            <a:ext cx="4872240" cy="5516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9051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73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rasal H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5163840" cy="5867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9051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603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undary 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l L% and wL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l %L and %w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l H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l L% and wL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cur at end of accentual phr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L% used when following phrase (without pause) is initially accented or begins with a long syll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L% indicates that the L% was not able to be fully realized and is undersh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17:17:56Z</dcterms:created>
  <dc:creator>Jimmy</dc:creator>
  <dc:description/>
  <dc:language>en-US</dc:language>
  <cp:lastModifiedBy>Jimmy</cp:lastModifiedBy>
  <dcterms:modified xsi:type="dcterms:W3CDTF">2005-03-31T01:56:16Z</dcterms:modified>
  <cp:revision>10</cp:revision>
  <dc:subject/>
  <dc:title>J-ToBi</dc:title>
</cp:coreProperties>
</file>