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6AA-CBF1-4F10-8F3A-FDBE6BA7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B8C-D36D-432E-B7FA-EDDF80DA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5F0-D1B6-437A-953E-25385F5B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483-522C-4DDA-964F-8E62E3A1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429-58A5-41A4-B33A-A6DA8FEC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43B-8504-4807-99D2-C47E4C6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FE0-0ECB-4809-8FB2-1B181D2A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643-69BF-4FE0-94C2-9097781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B6D-1F33-4A9C-BEA4-9CDE3CD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2E2-E5A5-4669-BB60-2B25B4F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24E-7405-4DEA-A644-856DECF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F61-7ABA-4797-864D-1D3CB40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83F3-F9CF-4D92-B18A-7CD7980B38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D55-F687-40E8-B8AE-4ACEF893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low/dates/stories/september/7/newsid_2502000/2502781.stm" TargetMode="External"/><Relationship Id="rId2" Type="http://schemas.openxmlformats.org/officeDocument/2006/relationships/hyperlink" Target="http://www.margaretthatcher.org/" TargetMode="External"/><Relationship Id="rId3" Type="http://schemas.openxmlformats.org/officeDocument/2006/relationships/hyperlink" Target="http://newswww.bbc.net.uk/1/hi/uk_politics/4385581.s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bbcfour/audiointerviews/profilepages/thatcherm1.shtml" TargetMode="External"/><Relationship Id="rId2" Type="http://schemas.openxmlformats.org/officeDocument/2006/relationships/hyperlink" Target="http://www.bbc.co.uk/bbcfour/audiointerviews/profilepages/thatcherm1.s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1.cs.columbia.edu/~julia/papers/limsi04.pdf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-Taking, Grounding and Speaker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E74-2741-423D-B69B-C3C63F58D69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EB6F5-0121-48D7-8EB0-5EC3DDB7D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ere is the intent? 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FC5-C7DE-4A82-AACA-2C427008BD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22423-6E7B-4AD5-A6B8-B7C8A8B685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ing Approaches to Conversation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 is a joint process through which S and H are constantly negotiat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on gr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lnaker ’78, Clark ’96 inter 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tu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rinciple of 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gents performing an action require evidence that they have succeeded (Norman ’88)…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k &amp; Schaeffer ’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S)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H)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attention, relevant next contribution, acknowledgement/assessment, demonstration,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674-3747-4D45-A2C1-C8EEB7C742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C2B49-F2C3-4768-B9F5-267F58EAE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John Stewart is my favorit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{continued attent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Daily Show is not to mi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rel next contri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hm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acknowledgem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e’s the funniest person you kn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demonst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our favorite comedi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displa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E33-F426-4765-AD15-0364407E92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595F0-DF4D-4FFF-8A0C-800D70C2B2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in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models and theories of grounding of considerable potential use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User likely to say next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 sure what the User has said and its relationship to what s/he believes to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response does s/he expect the system to make?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for practica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ues signal when it is appropriate to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negotiate a common system/user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2C3-F4BA-41DB-A597-C9870A9D50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2446-4CEA-44B5-93E9-EC750E0229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It Appropriate to Speak? (Beattie ’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 25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vised intervie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1979 British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garet Thatc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Tory leader): the Iron 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m Callag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Prime Minister):  Sunny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lligent, highly neurotic, extro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interrup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may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soci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ance of ‘joint enthusiasm’, heightened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D1-4EBA-47FF-800B-2FC723806D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E93BA-E752-4D58-B585-55D92057B4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ttie’s classification sch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pkr 2 attempts to take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mooth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simultaneous speech, spkr 1’s utterance complet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mple interru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doesn’t complete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completes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utting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 but no change of turn, spkr 1 keeps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lent interru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kr 1’s utterance incomplete, no simultaneous speech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912-B315-4715-9506-25498C2186D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D1EA9-D44E-4703-B391-322AECB64E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coustic/prosodic and gestu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-yield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ing rate s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l at end of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in pitch or lou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syntactic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8F7-57F5-423D-B1B9-176677D48D6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5F698-5AB9-4FAF-B456-6621890F9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at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rupted almost twice as often as she interrupts interviewer (19/10)– unlike Callaghan (14/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cher: Starts slow and gets faster, few FP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ghan: starts fast and gets slower, many FPs 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:  Thatcher is domineering in interviews and Callaghan is a ‘nice gu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cher does not 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atc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come at end of syntactic clause when drawl on stressed syllable in clause and falling int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610-0043-4392-B22A-9090162E6B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283D3-F8E4-4169-A0A6-0BDE03D8F1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she do th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training before 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he still perceived as domine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terrupted she doesn’t cede the floor despite lengthy stretches of simul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136-628C-4837-AE6D-0864C177044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82125-B8D5-48BB-B8A7-C10C596204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aker Identification/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Segmentation of audio corpor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roadcast Ne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etings, telephone conversations) into speaker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clustering based on acoust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of-the-art: 8.47%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326-75CA-432B-A764-4B35C0CBEB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9EDD0-6B3B-4DF8-AD67-6937494ADB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/individual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ing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E5C-7A9E-4ED5-BD84-F04776E101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197F9-A2A4-4FD1-98F1-E79FB2ABEC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00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MISCELLANEOUS TEXT (automatic initial)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00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0:34.7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34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34.7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 northern kentucky are forcing 3,000 people in two states to fle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started early this morning at the cargill company plan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aysville near the ohio r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have been going door-to-door advising people in kentuck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hio to take shelter in area high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is in a building where several fertilizers and chemical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t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300-73FE-49BA-B0AE-CCB7F89CA6F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120ED-58F7-415A-A10C-B1CC85B7E5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say all they can do is let the fire burn itself out, be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praying water on the flames would be too danger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t the current time, our only way of getting it under control is to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way fro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we've backed everyone off from the fire by about a mile and a quarte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evacuated homes in that radius and the chief threat at this point is a 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mall risk of a very large explosion caused by 400 tons of ammonia ni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tored in the buil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ir people have been taken to hospit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ne firefighter was injured and treated on the sc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31.00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91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31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in brooklyn, new york, say an explosion at a tire company 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554-990B-4B1F-91CF-1AA94A62C6D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15FBA-9CCE-4062-A25E-D3DA2C1F6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aused at least three buildings to colla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t set off a four-alarm fire, which has been conta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tell cnn one person was inj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vestigators have not determined the cause of the in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48.1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108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48.1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expected weather conditions are the rule across much of the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is week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ngela astore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NNOTATION&gt; Reporter:  &lt;/ANNOT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nice day to play along the beach -- spend a few hours fishing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or get in a game of golf -- not uncommon -- unless it's january in chic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cord high temperatures were set yesterday from minnesota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assachuset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warm air drawn northward from the gulf of mexico was behind the rise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c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77F-BEBF-43B4-99BD-525AC5A4535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F706-8A71-4D43-BF21-603A39E3F6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different scene in the northwest, where snow is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ut the winter weather didn't stop this man from getting in some wa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urs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nd he wasn't bothered by the fact that he couldn't see where his go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alls la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it's not really where it's going to land that's important at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hile you are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once you've learned, then it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e'll worry about that when the snow cl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right now, it's probably better that i don't see where they 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6ED-F513-4352-B327-C1D3508BC76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C66B7-58B8-4046-BBFF-3B78463B0F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guistic inform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identify speaker types and speaker names (LIMSI ’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(“&lt;name&gt; has this report from &lt;location&gt;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10.9% error on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10% of segments contain releva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25% error on broadcast news if segmentation and clustering is done to id all of each speaker’s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0B8-CE1C-4DA1-8C8A-D03BD3172E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253F1-A18C-4DAC-B8EA-9E8380878B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Turn Identification for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-to-tal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c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g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‘natural’ turn-tak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re users ready to be 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they want to keep the flo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they expect the system t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ck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indicate when the system has finished its tu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5C9-7702-4E2C-8F61-1B1F348BBB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1A5A1-86A2-494D-8CB9-8E9D33DD52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models and theories of grounding of considerable potential use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User likely to say next and 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 sure what the User has said and its relationship to what s/he believes to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response does s/he expect the system to make?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for practica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at cues signal when it is appropriate to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negotiate a common system/user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ED4-3F9D-4FDC-913B-F71D332CBB3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824BE-B2A4-4B49-ADAE-EF1CFB96A2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a few things we need to accomplish and a bit about the difficulti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ols do we have to use in tackling the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S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peech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-to-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s:  J&amp;M 2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7D8-D79D-4641-9887-65A778E81F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F7B33-8F3D-4945-AA69-A6C175BA44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-tak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peakers know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ppropriate to contribute to a convers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al Analysis Theory:  Conversational partn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ain patterns of behavior in norm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got an A?  That’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h, I’m really smart 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s just lucky I happened to read the chapter on dialogue systems right before the test.  Otherwise I never would have squeaked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atterns in ordinary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4B6-3DD9-494B-9F05-9EE009F6D6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30553-72C1-4F56-BFB9-7AB5918B4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learn turn taking within first 2 years (Stern ’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ir peers are more skilled (Black &amp; Hazen ’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y people pause longer and speak less and less often (Pilkonis ’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zophrenics, neurotics, depressed people less skilled in turn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AB2-A7FA-4277-B2D6-4FF46AE33E6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F2771-0F0C-46F6-B2C5-B2C3C0CAF7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of What to Say Depend on Task a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el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Hi, Pat.  It’s Ch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6-tu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Well, I just wanted to see how you we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Thanks for calling. We'll have to have lunch som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I'd lik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Yeah,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C58-36BA-45B2-8407-F46A151D88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5B638-3E08-4E58-A190-1E3715F1B9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Hi, can we switch lunch to 12:30?  I’m running l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“Sure.  12:30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Great.  See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erk:  Good morning.  Is there something I can help you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.  Yeah.  I wonder if you could show m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 Today I want to focus on next year’s goal statements.  Chris, could you report pleas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Pat, now let’s hear from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broa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chor: …Chris Smith reports from Rome now on the upcoming conclave.  Ch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orter:  Thanks, Pat…..  And now back to Pat Jones in New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F0D-77FD-4D8E-8766-F49968666B8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F7E7E-790C-46A5-BD78-BC048A095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Analysis (Sacks et al ’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haracterize expectations of ‘what to say’ more gener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’ of t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, during this turn the current speaker has selected A as the next speaker, then A must spea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speaker does not select the next speaker, any other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one else takes the next turn, the current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pply at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ansition Releva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Ps)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speaker change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9C7-7359-41EB-8FC3-C84568B1AD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D9B37-F8E5-4816-A8F8-25478A336F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Speaker Shif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djacency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uestion/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reeting/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liment/down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’ to a simple request without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topic abruptly withou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for Spoken Dialogu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656-27B4-4919-998E-5061393892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A5E09-A64A-4806-B1ED-3615CFB81D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Differences in Turn-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telephone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 (Zhu ’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rin vs.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callees ask the 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Sun ’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female-female teleph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initiated through matter-of-fact statement of intention to end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ized thanking occurs except in mother/daughter closings – not the standard Englis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ish business calls (Halmari ’93) vs.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s get right to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s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CA5-2052-459B-81E3-1C97B3CFC3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BAA39-D88D-4980-8413-8FC1CBA66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10T15:50:51Z</dcterms:modified>
  <cp:revision>472</cp:revision>
  <dc:subject/>
  <dc:title>No Slide Title</dc:title>
</cp:coreProperties>
</file>