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94F-981C-4277-AF91-41090F9A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D76-ADB1-4DE4-AAD4-25C82C65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CA8-5663-4DED-9698-96F1B4C4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123-B069-48F5-BD38-3CA691C3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0FA-15DA-49A3-B3DB-A3EC5F30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5BF-0C9A-4C88-B557-0096E23E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E45-72E5-44F3-A71A-AE91F8E2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067-88BD-4F81-9344-E295A99C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EEB-3614-474B-8712-5C6DDB61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18DB-E525-45D8-A5BF-BEF951F6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A75-9729-4FB2-B528-4B5DEE59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E15-8573-4ED0-B101-7F02752C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501E-2766-475C-ACC9-BD4EAADF3D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FAC1-F629-4DFD-9F58-BA477BF9A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ing and Evaluating S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irsch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A07 3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7FA-4F6C-4DDD-877A-FB7E555F2ED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BEEC1-6ABF-4970-B237-9C8B8DEAE9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r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: Users tend to use the vocabulary and syntax the system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x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rain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ark &amp; Brennan ’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use of system prompt vocabulary/synta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ease tell me where you would like to leave/depart f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would like to leave/depart from Bost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KTH data collections i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DF6-D132-4350-B61F-BFF7A83817F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D3555-8FE2-49F0-9B52-148580ACFA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1720" y="599760"/>
            <a:ext cx="862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User Responses to Vaxhol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57400" y="1405080"/>
            <a:ext cx="683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165240" indent="0">
              <a:spcBef>
                <a:spcPts val="601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swers to the ques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0">
              <a:spcBef>
                <a:spcPts val="601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weekday do you want to go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0">
              <a:spcBef>
                <a:spcPts val="601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Vilken veckodag vill du </a:t>
            </a:r>
            <a:r>
              <a:rPr b="0" lang="en-GB" sz="2400" spc="-1" strike="noStrike">
                <a:solidFill>
                  <a:srgbClr val="c94e35"/>
                </a:solidFill>
                <a:latin typeface="Arial"/>
              </a:rPr>
              <a:t>åk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0">
              <a:spcBef>
                <a:spcPts val="300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i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fre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want to go on Fri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jag vill </a:t>
            </a:r>
            <a:r>
              <a:rPr b="0" lang="en-GB" sz="2000" spc="-1" strike="noStrike">
                <a:solidFill>
                  <a:srgbClr val="c94e35"/>
                </a:solidFill>
                <a:latin typeface="Arial"/>
              </a:rPr>
              <a:t>åk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å fre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%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want to go to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jag vill </a:t>
            </a:r>
            <a:r>
              <a:rPr b="0" lang="en-GB" sz="2000" spc="-1" strike="noStrike">
                <a:solidFill>
                  <a:srgbClr val="c94e35"/>
                </a:solidFill>
                <a:latin typeface="Arial"/>
              </a:rPr>
              <a:t>åk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Fri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å fre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want to go a Fri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jag vill </a:t>
            </a:r>
            <a:r>
              <a:rPr b="0" lang="en-GB" sz="2000" spc="-1" strike="noStrike">
                <a:solidFill>
                  <a:srgbClr val="c94e35"/>
                </a:solidFill>
                <a:latin typeface="Arial"/>
              </a:rPr>
              <a:t>åk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fredag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e there any hotels in Vaxholm?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finns det några hotell i Vaxhol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A14-5A21-4E50-BBFD-70221CC21B7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32DDB-EEA6-4F4F-B903-A9F3DCA94AB2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5257800"/>
            <a:ext cx="1185840" cy="11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680" y="1860480"/>
            <a:ext cx="380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Hur ofta 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u utomlands på semester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2263680"/>
            <a:ext cx="439272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en gång om året kansk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ganska sällan utomlands på sem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nästan alltid utomlands under min semest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ngefär 2 gånger per år utomlands på semest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nästan varje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på semestern varje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ungefär en gång om å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är nästan aldrig utomlands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eller två gånger om året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gång per semest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kanske en gång per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gefär en gång per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åtminståne en gång om året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ästan aldrig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82360" y="1860480"/>
            <a:ext cx="386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Hur ofta 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u utomlands på semester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02280" y="2254320"/>
            <a:ext cx="4941720" cy="34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en gång om året utomlands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inte ofta utomlands på semester det blir mera i arbetet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på semestern vartannat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en gång per semest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på semester ungefär en gång per å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brukar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a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på semestern åtminståne en gång i året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gång per år kansk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gång vart annat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arje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art tredje år ungefä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u för tiden inte så ofta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arje år brukar 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a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6320" y="554040"/>
            <a:ext cx="84376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 Priming: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often do you go abroad on hol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3E8-5914-4FA6-B2DB-78C072D0C3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A1E4C-4CC6-44B3-9657-1AE2A0EBA8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00400" y="5367240"/>
            <a:ext cx="3784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1080" y="2448000"/>
            <a:ext cx="3834360" cy="383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25" y="101"/>
                </a:moveTo>
                <a:arcTo wR="10800" hR="10800" stAng="-5870907" swAng="1368992"/>
                <a:lnTo>
                  <a:pt x="10800" y="10800"/>
                </a:lnTo>
                <a:close/>
              </a:path>
              <a:path fill="none" w="21600" h="21600">
                <a:moveTo>
                  <a:pt x="9325" y="101"/>
                </a:moveTo>
                <a:arcTo wR="10800" hR="10800" stAng="-5870907" swAng="1368992"/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13080" y="2456280"/>
            <a:ext cx="3835080" cy="383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9" y="366"/>
                </a:moveTo>
                <a:arcTo wR="10800" hR="10800" stAng="-4501915" swAng="11110628"/>
                <a:lnTo>
                  <a:pt x="10800" y="10800"/>
                </a:lnTo>
                <a:close/>
              </a:path>
              <a:path fill="none" w="21600" h="21600">
                <a:moveTo>
                  <a:pt x="13589" y="366"/>
                </a:moveTo>
                <a:arcTo wR="10800" hR="10800" stAng="-4501915" swAng="11110628"/>
              </a:path>
            </a:pathLst>
          </a:custGeom>
          <a:solidFill>
            <a:srgbClr val="fdd7a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15600" y="2455920"/>
            <a:ext cx="3836520" cy="383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70" y="20935"/>
                </a:moveTo>
                <a:arcTo wR="10800" hR="10800" stAng="6612367" swAng="3894254"/>
                <a:lnTo>
                  <a:pt x="10800" y="10800"/>
                </a:lnTo>
                <a:close/>
              </a:path>
              <a:path fill="none" w="21600" h="21600">
                <a:moveTo>
                  <a:pt x="7070" y="20935"/>
                </a:moveTo>
                <a:arcTo wR="10800" hR="10800" stAng="6612367" swAng="3894254"/>
              </a:path>
            </a:pathLst>
          </a:custGeom>
          <a:solidFill>
            <a:srgbClr val="fbb35b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16320" y="2455920"/>
            <a:ext cx="3835080" cy="383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" y="11721"/>
                </a:moveTo>
                <a:arcTo wR="10800" hR="10800" stAng="10506621" swAng="5268348"/>
                <a:lnTo>
                  <a:pt x="10800" y="10800"/>
                </a:lnTo>
                <a:close/>
              </a:path>
              <a:path fill="none" w="21600" h="21600">
                <a:moveTo>
                  <a:pt x="39" y="11721"/>
                </a:moveTo>
                <a:arcTo wR="10800" hR="10800" stAng="10506621" swAng="5268348"/>
              </a:path>
            </a:pathLst>
          </a:custGeom>
          <a:solidFill>
            <a:srgbClr val="ac6004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13800" y="2459520"/>
            <a:ext cx="3833640" cy="383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10" y="106"/>
                </a:moveTo>
                <a:arcTo wR="10800" hR="10800" stAng="-4917824" swAng="451098"/>
                <a:lnTo>
                  <a:pt x="10800" y="10800"/>
                </a:lnTo>
                <a:close/>
              </a:path>
              <a:path fill="none" w="21600" h="21600">
                <a:moveTo>
                  <a:pt x="12310" y="106"/>
                </a:moveTo>
                <a:arcTo wR="10800" hR="10800" stAng="-4917824" swAng="451098"/>
              </a:path>
            </a:pathLst>
          </a:custGeom>
          <a:solidFill>
            <a:srgbClr val="800080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18240" y="1598760"/>
            <a:ext cx="79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83040" y="2095560"/>
            <a:ext cx="50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70480" y="4124160"/>
            <a:ext cx="8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6480" y="4432320"/>
            <a:ext cx="6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7320" y="5689440"/>
            <a:ext cx="87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84760" y="5351400"/>
            <a:ext cx="6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29480" y="2527200"/>
            <a:ext cx="77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45680" y="2809800"/>
            <a:ext cx="6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89520" y="1755720"/>
            <a:ext cx="968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92520" y="2170080"/>
            <a:ext cx="50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292-CCCB-436F-8CEB-FB45B9D3759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80B3C-E033-4708-B159-BA1912006F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  Training and S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licit training ‘better’ than explic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easier to train the user than to retrain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1FF-1E26-4DE4-9694-D2B0195A775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091D1-F948-4420-91B4-A780A3226F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Dialogu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DISE framework (Walker et al ’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of a dialogue system is affected both by </a:t>
            </a:r>
            <a:r>
              <a:rPr b="0" i="1" lang="en-US" sz="2800" spc="-1" strike="noStrike">
                <a:solidFill>
                  <a:srgbClr val="990099"/>
                </a:solidFill>
                <a:latin typeface="Arial"/>
              </a:rPr>
              <a:t>what</a:t>
            </a:r>
            <a:r>
              <a:rPr b="0" i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 accomplished by the user and the dialogue agent and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how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ets accomp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3760" y="3962520"/>
            <a:ext cx="27396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Comic Sans MS"/>
              </a:rPr>
              <a:t>Maxim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Task Success</a:t>
            </a:r>
            <a:r>
              <a:rPr b="1" i="1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65360" y="3962520"/>
            <a:ext cx="203076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Comic Sans MS"/>
              </a:rPr>
              <a:t>Minim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4960" y="5257800"/>
            <a:ext cx="20354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12320" y="5257800"/>
            <a:ext cx="23371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Quali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09720" y="50292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502920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066-71A1-42C9-A662-07CCBCA7EDD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EE1D1-0C62-45F6-ABF7-701F3C40ED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0600" y="3124080"/>
            <a:ext cx="641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ttribut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Selection Criterio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Kim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10:30 a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lac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2D5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733920"/>
            <a:ext cx="65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352680"/>
            <a:ext cx="655308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33526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1932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goa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en as Attribute-Valu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LVIS e-mail retrieval task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(Walker et al ‘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“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Find the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time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place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 of your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meeting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 with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Kim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8240" y="5105520"/>
            <a:ext cx="900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uc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fined by match between AVM values at end of  with “true” values for A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13E8-7B56-4743-A6B2-61848476BC4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D49F5-E44A-453F-97E6-089A3F8D6E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9600" y="1527120"/>
            <a:ext cx="763740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Interaction:User Turns, System Turns, Elaps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Qua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Interaction: ASR rejections, Time Out Prompts, Help Requests, Barge-Ins, Mean Recognition Score (concept accuracy), Cancell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u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rceived completion, information ext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D87A-24E3-42E8-B0EB-9DC6B31F870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52C7D-7293-4063-A8B9-AFBC586F6C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s given specifie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ken dialogues reco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factors, states, dialog acts automatically logged; ASR accuracy,barge-in hand-labe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specify task solution via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omplet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ser Satisfactio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ultiple linear reg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odel User Satisfaction as a function of Task Success and Costs; test for significant predictiv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9FE-1B0F-49F3-B6BF-FFE3F3950D9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D4FEB-52E2-4800-9BB7-BE39E4060B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User </a:t>
            </a: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Sum of Many 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172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Annie  easy to understand in this conversation? 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TS Perform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onversation, did  Annie  understand what you said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SR Perform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onversation, was it easy to find the message you wanted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ask 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the pace of interaction with Annie appropriate in this conversation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eraction 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onversation, did you know what you could say at each point of the dialog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294920"/>
            <a:ext cx="404172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User Expert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often was Annie sluggish and slow to reply to you in this conversation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ystem Respon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Annie work the way you expected her  to in this conversation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xpected Behav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your current experience with using Annie to get your email, do you think you'd  use Annie regularly to access your mail when you are away from your desk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uture 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1AD-7BFF-4604-BE6F-94A67EE8EEA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B6524-8CE8-40EC-9076-66DF973860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Language Understanding (NLU) in S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ng S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69B-ACC9-4497-8353-369AF7085D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72AAC-89AB-47FB-9D67-2FE65920D4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Functions from Thre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VIS User Sat.= .21* COMP + .47 * MRS - .15 * 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T User Sat.= .35* COMP + .45* MRS - .14*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IE User Sat.= .33*COMP + .25* MRS +.33*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: User perception of  task completion (task suc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: Mean recognition accuracy  (c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:  Elapsed time (c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: Help requests (c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90E-D8BE-48A8-9DF9-75C5548790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7845C-2A65-47A1-9A2C-252377AA0B78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c6600"/>
                </a:solidFill>
                <a:latin typeface="Arial"/>
              </a:rPr>
              <a:t>Performance Mod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ceived task comple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an recognition sc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sistently significant predictors of Us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model useful for system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ictions about system mod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ing ‘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dialogues from ‘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di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n we also tell on-line when a dialogue is ‘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oing wro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FFF-60D6-421F-A36A-00FDCAB5E7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57F19-BFD2-493E-93BA-FA55B05C1C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&amp;M 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rafsky et al ’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set &amp; Lamel ‘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DD1-B990-47F9-BD06-79139228803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81CDB-F1F0-46D3-BB5B-4C2B513023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LU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s of meanings do we want to cap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ies, actions, events, tim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n airline travel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ights, airlines, 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ok up, reserve,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rs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rst, next, la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: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partures, arr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s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es,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represent these in our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n SDS need from a meaning repres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BEC-E8C8-4584-BF11-D44C447EC2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5E8A5-B7E6-4DEE-8D05-3CD42664F2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en does the first flight from Boston to Philadelphia leave on July 7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s there a flight from Boston to Philadelph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i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s there a connecting flight to Denver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71E-457C-4C71-B95E-3B6BC0D0BA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56634-DEB4-4128-B578-C5C6CC01B2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DS use Semantic Gram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obust par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formation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grammars specifically in terms of the semantic information we want to ex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specific rules correspond to items in th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want to go from Boston to Baltimore on Thursday, September 24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Reque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eeting Need-specification travel-verb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ty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ty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tin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-specific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I want|I ne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57E-02AA-4BAA-A0DC-550FFE2FED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A07A8-1266-4F2E-848F-2BB05CDD66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elements can be mapped directly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lo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emantic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2649600"/>
          <a:ext cx="6019560" cy="155880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  <a:gridCol w="150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-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-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o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lti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/24/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4E7-88C8-4879-B974-7622CC21E9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45AE3-58B5-4568-8ED6-02CC51FFED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 of Semantic Gram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gene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one for each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ostly in developmen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very large, depending on how much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want them to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sers go outside grammar, things may break disastr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 want to leave from my house at 10 a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 want to talk to a per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88D8-6C2E-408B-BE69-ECF21E9E0C4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94261-283E-4E08-B5AA-6BA018D3C0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HM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sequential model on labeled corpora to identify semantic slots from user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w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eed spe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o g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Travel verb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to Bost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To-cit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on Thursd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Dat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es on training corpus to pro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y sequences of semantic s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y words associated with those s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fill slots in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o directly generate a response while processing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687-5324-49CD-88DC-54AC163E709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525F8-C91F-49CD-A72B-0AE2BE889D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User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y heavily on knowledge of task and constraints on user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fairly sophisticated pheno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want to go to Boston next Thurs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want to leave from there on Friday for Balti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Reque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ed-spec travel-verb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ty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logue postul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impl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course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e reference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ior probabilities based on training corpus to resolve ambiguities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ston Baltimore on July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E1B-5767-4F6B-8515-56E825069C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CA6DD-5049-492F-984F-05B81A3FF6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7:52:10Z</dcterms:created>
  <dc:creator>Julia Hirschberg</dc:creator>
  <dc:description/>
  <dc:language>en-US</dc:language>
  <cp:lastModifiedBy>Julia Hirschberg</cp:lastModifiedBy>
  <cp:lastPrinted>1999-05-22T22:06:30Z</cp:lastPrinted>
  <dcterms:modified xsi:type="dcterms:W3CDTF">2007-07-08T23:11:46Z</dcterms:modified>
  <cp:revision>471</cp:revision>
  <dc:subject/>
  <dc:title>No Slide Title</dc:title>
</cp:coreProperties>
</file>