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3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6DA-9720-497B-9B71-7173E5C4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BFD-15B8-44EF-829F-116E63AA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960-DC95-4622-9C34-3106DA36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F89-FA11-4217-A722-9A18AF0B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2E3D-097E-45BB-8510-D5C9E869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2FDD-EFD4-47FF-8CFF-EAE95DBE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F0AD-D2A9-4076-99BC-3E849B46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D76E-8077-4F38-B902-A59E580C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3E8E-598D-4F8B-A075-205E96B2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3581-AB08-4208-9510-6EB7D7A1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AF4C-9F1F-4AD5-865B-93A6D6E3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D4C-514E-4C17-B050-238E26B8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8E8A-A310-4C4E-AD03-4AC244C5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B714-5F64-4684-9C8F-396C855E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ABBE-0438-48BF-954C-1DAF9A5B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3956-D5C2-440F-9281-498386D3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90C9-361B-4276-A15A-0079C0D0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089-F9A4-4CF7-9E13-709BD059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17A-6455-4428-A95D-67CCBE97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E4B-FAE0-4E03-BFBC-9E43C634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DC4-DE5F-46F5-8122-B1793FA4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6A8-8E52-4FD1-AA0E-79E4F5E7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5F2-1A6C-4676-B3EC-8069FAC2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1EA-F179-4F31-B481-A97CCAFA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9343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24852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4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6220-6967-40A6-8660-C1825A59CC31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22B1-36C6-4783-B3F4-652B570534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8.png"/><Relationship Id="rId5" Type="http://schemas.openxmlformats.org/officeDocument/2006/relationships/image" Target="../media/image15.gi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01560"/>
            <a:ext cx="6629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Games Corpu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624816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implementation and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886200"/>
            <a:ext cx="556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ustín Grav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us@cs.columbia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ken Language Process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bi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bj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ing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umbia’s webpage for temporary job ad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ig’s 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www.craigslist.or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tegory: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Gigs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Event gi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re unrel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50% did not show up, or cancelled with short not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0CD-B8C2-4585-BF40-F2964073DB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bj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ible solu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precise instructions to e-ma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d inf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me, native speaker?, hearing impairments?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k for a phone numb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l them and explain why it is so important for us that they show up (or cancel with adecuate notic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the pay after each ses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ple: $5, $10, $15 instead of $10, $10, $1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E70-00E2-4D48-A0E4-5CEDBB13E8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r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nd-proof bo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subjects + 1 or 2 confeder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d-mounted m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Audio Tape (DAT): one channel per speak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v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ono file per speak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rate: 48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wnsampled to 16000 (but kept original files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20 hours of speech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2.8 GB (16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E80-78C3-4BD7-A099-0AF9E564F6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 everything the subjects do to a text f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:03:55:23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GIN_EXECU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:04:04:86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:04:31:83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UL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7 points awa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:04:38:42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:05:03:87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UL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2 points awa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r, this may be used (e.g.) to divide each session into smaller tasks or convers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91E-1726-48EE-AF3D-1B2A54B4E6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Games Corp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850"/>
              </a:spcBef>
              <a:buClr>
                <a:srgbClr val="808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Design and Imple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85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2362320"/>
            <a:ext cx="6124320" cy="533160"/>
          </a:xfrm>
          <a:prstGeom prst="roundRect">
            <a:avLst>
              <a:gd name="adj" fmla="val 16667"/>
            </a:avLst>
          </a:prstGeom>
          <a:solidFill>
            <a:srgbClr val="00800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57F-460E-4998-A583-C5B01DE114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eech Processing To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praat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eSur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peech.kth.se/wavesur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cri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trans.sourceforge.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BBA-47D0-4320-93FD-09472D0C8B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thographic Tier - Method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85720" y="1523880"/>
            <a:ext cx="7381800" cy="461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5F7-3D11-4304-9D0E-549EF76EE8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thographic Tier - Method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str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consu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parate transcription from align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3C4-3F3A-4EC4-A33D-5340934C06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1219320" y="2236680"/>
            <a:ext cx="7010280" cy="3935520"/>
            <a:chOff x="1219320" y="2236680"/>
            <a:chExt cx="7010280" cy="393552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rcRect l="0" t="0" r="0" b="22652"/>
            <a:stretch/>
          </p:blipFill>
          <p:spPr>
            <a:xfrm>
              <a:off x="1219320" y="2236680"/>
              <a:ext cx="7010280" cy="3935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7" name=""/>
            <p:cNvSpPr/>
            <p:nvPr/>
          </p:nvSpPr>
          <p:spPr>
            <a:xfrm>
              <a:off x="2590920" y="4191120"/>
              <a:ext cx="4267080" cy="81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thographic Tier - Method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cribe chunks using a web interf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470480" y="434340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333440" y="5013360"/>
            <a:ext cx="3984840" cy="2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7D7-7B01-418B-81DF-226AB93966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4644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thographic Tier - Method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cribe chunks using a web interf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 each chunk automatic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atenate all chun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ct the alignment by hand using Praat, Wavesurfer or simil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E70-D894-4289-8B95-65C97098C7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Games Corp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85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85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991-DB23-4E2F-9B43-782697E20A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thographic Tier - Method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cription task is very comfort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of the alignment task is done automatically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fine-grain hand corrections are nee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head: chunking, automatic alignment, conc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ror prone! Easy for humans to overlook errors in the automatic align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B2F-1EC8-4096-A655-5FC6D5B26C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thographic Tier - Method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cribe the whole file, us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egular audio player (e.g., Windows Media Player),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egular plain-text editor (e.g., Notep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Wavesurfer to align the wo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text labels”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ou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pectrogram sett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ustomizable shortcu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DC9-8E1D-4467-9AF0-20D8E97433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thographic Ti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cription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 le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brev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flu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mhm, uhhuh, gotcha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ment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cs.columbia.edu/~agus/ga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name/password = speech/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866-D7EE-415D-950F-F3E18C99CB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o many cook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urrency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e locking webp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otators lock a file before working on it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release it when d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A5D-CE13-40B6-81BC-56E9EDDF5A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notation: Cue Wor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kay, mmhm, uhhuh, right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knowledgment, Backchannel, Segment Beginning, Segment End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d an ad-hoc application in Jav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d idea!!! Too long development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ead, use Praat (or other general-purpose too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simple, specific tasks, Praat is not difficult to lear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a file with empty points at the middle point of the words that need to be label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otators only label those words, safely ignoring the r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BA7-7825-40B4-A526-6F2B27C755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ther Annot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rn swit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ooth switches, interruptions, backchannel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beler received a Praat file with empty tur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so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BI Labeling Conventions: Tones and Break Ind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tion, form and fun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347-5144-41BF-9590-4309AF0A05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uidelines for Guideli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based (password protect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light recent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 long lists: categorize, tr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83F-0803-44FC-B059-C42964F55B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719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mes/data/session_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N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N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GA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719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= 01..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719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GAME = {cards, objects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719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P = 0..3 if GAME=cards, 0..1 if GAME=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719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Y = {A, B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719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ext = {wav, words, tones, breaks, misc, turns, …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F27-C15E-449D-A5E9-751C2E2E27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mes/data/session_08/s08.cards.3.B.w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08.cards.3.B.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08.cards.3.B.mis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08.objects.1.A.w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08.objects.1.A.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08.objects.1.A.mis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mes/data/session_11/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056-7AF4-4AE6-A6CD-0540025992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s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files (except *.wav) are saved as plain text, with the WaveSurfer form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art  End  Val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for interval ti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ime  Val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for point ti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-read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easy to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BAF-1BA7-4DED-BB1A-9539C74E03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28760" y="1768320"/>
            <a:ext cx="6124320" cy="533520"/>
          </a:xfrm>
          <a:prstGeom prst="roundRect">
            <a:avLst>
              <a:gd name="adj" fmla="val 16667"/>
            </a:avLst>
          </a:prstGeom>
          <a:solidFill>
            <a:srgbClr val="00800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Games Corp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85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850"/>
              </a:spcBef>
              <a:buClr>
                <a:srgbClr val="808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Anno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675-55F2-49C9-AB07-7F74E00603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s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forma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l-purpose mark-up langua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&lt;TAG  attribute=“value”&gt; … &lt;/TAG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lves problems like consistency and round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 human-readable, harder to proc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 human-readable, hard to proc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so has the consistency proble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0B4-7548-4503-9F1D-AAE6082EA3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rip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far, we have needed dozens of Perl scrip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 between Praat and WaveSurfer forma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a Praat file with empty CW labels, turn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typos, missing labels, and other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fy notation (e.g., “mm-hmm”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“mmhm”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consistency of fi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4D9B-079C-4110-A6D9-F8EECEEDFE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ck-up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-up wav files only once (too heavy) in different places (DVD, 3+ computer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-up everything else (plain text: light) periodically, and automatic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e “cron” to make a backup copy every 8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6AD-936A-4BA3-B957-B36EB571E95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me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thographic tier firs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28600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819520"/>
            <a:ext cx="1371600" cy="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3352680"/>
            <a:ext cx="3733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19520" y="4419720"/>
            <a:ext cx="3657600" cy="0"/>
          </a:xfrm>
          <a:prstGeom prst="line">
            <a:avLst/>
          </a:prstGeom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3886200"/>
            <a:ext cx="6248520" cy="0"/>
          </a:xfrm>
          <a:prstGeom prst="line">
            <a:avLst/>
          </a:prstGeom>
          <a:ln w="5724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850520" y="18288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1520" y="2438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+imp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14200" y="29718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thographic 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98360" y="4052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97680" y="35053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ody (ToB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9720" y="4952880"/>
            <a:ext cx="266688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21880" y="45864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932-5AD7-455E-B355-9C12567272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01560"/>
            <a:ext cx="6629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Games Corpu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624816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implementation and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3886200"/>
            <a:ext cx="556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ustín Grav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us@cs.columbia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ken Language Process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bi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periment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 Study the relation between the down-stepped contour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tactic 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ourse 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ntaneous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monologue and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7E4-A9C7-4FEA-B682-90354D2C1F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periment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computer ga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players, each on a different compu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collaborate to perform a common tas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ly unrestricted spee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4114800" cy="15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CCF-93AA-485E-92EA-F88F82BDAC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4876920" y="76320"/>
            <a:ext cx="4190760" cy="2865240"/>
            <a:chOff x="4876920" y="76320"/>
            <a:chExt cx="4190760" cy="28652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4876920" y="76320"/>
              <a:ext cx="4190760" cy="28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365800" y="156852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876920" y="3276720"/>
            <a:ext cx="4186080" cy="2860560"/>
            <a:chOff x="4876920" y="3276720"/>
            <a:chExt cx="4186080" cy="286056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4876920" y="3276720"/>
              <a:ext cx="4186080" cy="28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200640" y="478476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189840" y="4102200"/>
            <a:ext cx="1228680" cy="1228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219720" y="413244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876920" y="76320"/>
            <a:ext cx="4186080" cy="207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4876920" y="3276720"/>
            <a:ext cx="4186080" cy="207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09480" y="3598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 2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arc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951200"/>
            <a:ext cx="36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 1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cri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ds Game #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279360" y="20318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191120" y="1905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50292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Short monolo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Vary frequency and order of occurrence of objects on the c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D31-BDD0-4D14-8BFD-544437E9D3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6674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5106960" y="3200400"/>
            <a:ext cx="3959280" cy="2970360"/>
            <a:chOff x="5106960" y="3200400"/>
            <a:chExt cx="3959280" cy="2970360"/>
          </a:xfrm>
        </p:grpSpPr>
        <p:grpSp>
          <p:nvGrpSpPr>
            <p:cNvPr id="180" name=""/>
            <p:cNvGrpSpPr/>
            <p:nvPr/>
          </p:nvGrpSpPr>
          <p:grpSpPr>
            <a:xfrm>
              <a:off x="5106960" y="3200400"/>
              <a:ext cx="3959280" cy="2970360"/>
              <a:chOff x="5106960" y="3200400"/>
              <a:chExt cx="3959280" cy="2970360"/>
            </a:xfrm>
          </p:grpSpPr>
          <p:pic>
            <p:nvPicPr>
              <p:cNvPr id="1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06960" y="3200400"/>
                <a:ext cx="3959280" cy="29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2"/>
              <a:srcRect l="77448" t="6678" r="2805" b="66668"/>
              <a:stretch/>
            </p:blipFill>
            <p:spPr>
              <a:xfrm>
                <a:off x="7404120" y="3397320"/>
                <a:ext cx="782640" cy="79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3" name="" descr=""/>
            <p:cNvPicPr/>
            <p:nvPr/>
          </p:nvPicPr>
          <p:blipFill>
            <a:blip r:embed="rId3"/>
            <a:srcRect l="0" t="10584" r="4088" b="19118"/>
            <a:stretch/>
          </p:blipFill>
          <p:spPr>
            <a:xfrm>
              <a:off x="7467480" y="3848040"/>
              <a:ext cx="67176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5105520" y="76320"/>
            <a:ext cx="3962160" cy="2971800"/>
            <a:chOff x="5105520" y="76320"/>
            <a:chExt cx="3962160" cy="2971800"/>
          </a:xfrm>
        </p:grpSpPr>
        <p:pic>
          <p:nvPicPr>
            <p:cNvPr id="185" name="" descr=""/>
            <p:cNvPicPr/>
            <p:nvPr/>
          </p:nvPicPr>
          <p:blipFill>
            <a:blip r:embed="rId4"/>
            <a:stretch/>
          </p:blipFill>
          <p:spPr>
            <a:xfrm>
              <a:off x="5105520" y="76320"/>
              <a:ext cx="396216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5"/>
            <a:srcRect l="58100" t="6575" r="21891" b="67293"/>
            <a:stretch/>
          </p:blipFill>
          <p:spPr>
            <a:xfrm>
              <a:off x="8175600" y="266760"/>
              <a:ext cx="79236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ds Game #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279360" y="20318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5105520" y="763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8205840" y="276120"/>
            <a:ext cx="762120" cy="758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9"/>
          <a:stretch/>
        </p:blipFill>
        <p:spPr>
          <a:xfrm>
            <a:off x="5105520" y="320040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0"/>
          <a:stretch/>
        </p:blipFill>
        <p:spPr>
          <a:xfrm>
            <a:off x="7440480" y="3400560"/>
            <a:ext cx="762120" cy="758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09480" y="3598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 2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arc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1951200"/>
            <a:ext cx="36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 1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cri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1905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50292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Di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Vary frequency and order of occurrence of objects on the c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563-58C9-43AB-B5AB-DE6EBD3540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218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952880" y="321480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952880" y="763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877160" y="5334120"/>
            <a:ext cx="453960" cy="4712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952880" y="76320"/>
            <a:ext cx="4122720" cy="3090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952880" y="3200400"/>
            <a:ext cx="4122720" cy="3090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s Ga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279360" y="20318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09480" y="3598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 2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arc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951200"/>
            <a:ext cx="36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 1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cri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1905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029200"/>
            <a:ext cx="44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Di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Vary target and surrounding objects (subject and object posi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0E0-CAD8-4DE1-8596-CF9DA41E1E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-0.03334 -0.11111 E">
                                      <p:cBhvr>
                                        <p:cTn id="58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20136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ames Ses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at 3 tim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ds Game #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ds Game #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 break (opt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at 3 tim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s G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subject participated in 2 ses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2 se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609480" cy="415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191120" y="2141640"/>
            <a:ext cx="609480" cy="417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549600" y="25909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222800" y="25909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3505320" y="38862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191120" y="388944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E39-9AA6-4D22-8106-2C815FDCBC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3:21:37Z</dcterms:created>
  <dc:creator> </dc:creator>
  <dc:description/>
  <dc:language>en-US</dc:language>
  <cp:lastModifiedBy>Agustin Gravano</cp:lastModifiedBy>
  <dcterms:modified xsi:type="dcterms:W3CDTF">2006-09-07T17:41:09Z</dcterms:modified>
  <cp:revision>201</cp:revision>
  <dc:subject/>
  <dc:title>Slide 1</dc:title>
</cp:coreProperties>
</file>