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97-4B42-4397-BC07-05099B6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636-9F3C-471E-A521-1A45801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F86-E999-4A3A-868A-B90498FF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679-F3FD-4755-9224-857FC148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18B-52C5-4070-8C20-B0671A20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A78-B588-482B-BC28-BF5FB469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F7E-135A-4F8C-914D-B13114C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731-8331-4D07-BDD5-035BC3B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467-6132-4781-BBD5-553B1697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0F2-5DC1-4233-AB4C-D51CC34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8BD-6A78-4889-9727-AB4C186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914-9CC2-4BC8-8256-C10FEF3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0C1F-E0BA-4E9E-8D3D-5E2F346705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A96-BA4D-4D7D-9219-C5627708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owland-files.lancs.ac.uk/staff/greg/talk.htm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low/dates/stories/september/7/newsid_2502000/2502781.stm" TargetMode="External"/><Relationship Id="rId2" Type="http://schemas.openxmlformats.org/officeDocument/2006/relationships/hyperlink" Target="http://www.margaretthatcher.org/media/" TargetMode="External"/><Relationship Id="rId3" Type="http://schemas.openxmlformats.org/officeDocument/2006/relationships/hyperlink" Target="http://newswww.bbc.net.uk/1/hi/uk_politics/4385581.stm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bbc.co.uk/bbcfour/audiointerviews/profilepages/thatcherm1.shtml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1.cs.columbia.edu/~julia/papers/limsi04.pdf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-Taking, Grounding and D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97-05FB-473A-8303-5B97FF8789D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DDCBD-1167-4D36-ACD9-90AEF2BC64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Allocation Techniques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Next Speaker (con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peat parts of prior utterance with a question intonation or one word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otta –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i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ird A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014-C3E6-4E1B-BD43-94BD15A926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A5A25-460D-4651-A455-B3DDD8990A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Allocation Techniques: Select Next Speaker (con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?  Don’t you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troduce social ident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uples speaking.  An invitation is made by a speaker to go to the movies.  The next speaker should be a member of the other cou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DC1-1735-4C5E-9670-71EB30F859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D266A-0907-4925-9498-0C2019EF31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llocation Techniques:  Self-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rting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“Second Starter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 Hey::, the place look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 Yeah::h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  Ya have to see all ou[r new-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[It does?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 Oh y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6DB-A1DE-4BEE-A44A-623F721078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3106A-AF73-4712-9F36-588A4FDF2E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listening to all utterances in a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if you are the next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speak, make sure no one else was selected to s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speaker is selected, the speaker has to perform the second part of the adjacency pai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he understood the prior turn’s talk as the fir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EEE-A47D-4FF9-BAD8-4112C32539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19F5-1ED1-461B-A181-F8BF4C9874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421-6B7B-405C-8AA2-080C0FF5B8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9F597-EB75-449A-A753-273B864E6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-tak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ue characterized by 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peakers kn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al partn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ain patterns of behavior in norm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got an A?  That’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h, I’m really smart 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s just lucky I happened to read the chapter on dialogue systems right before the test.  Otherwise I never would have squeaked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atterns in ordinary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B01-FF13-4D8C-85D3-232691AFDC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9A95-8B51-405A-90DC-0B817A09D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learn turn taking within first 2 years (Stern ’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y people pause longer and speak less and less often (Pilkonis ’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zophrenics, neurotics, depressed people less skilled in turn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698-6467-4B18-8CE3-119BD48A737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B9190-F445-451F-B39B-0CBDD3D2B8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of What to Say May Depend on Task a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el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Hi, Pat.  It’s Ch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6-tu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Well, I just wanted to see how you we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Thanks for calling. We'll have to have lunch som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I'd lik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Yeah,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953-5D43-4243-8E40-810C193DF9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463C5-D2BF-4D00-927E-19A01D5DE9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Hi, can we switch lunch to 12:30?  I’m running l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“Sure.  12:30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Great.  See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erk:  Good morning.  Is there something I can help you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.  Yeah.  I wonder if you could show m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 Today I want to focus on next year’s goal statements.  Chris, could you report pleas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Pat, now let’s hear from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broa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chor: …Chris Smith reports from Rome now on the upcoming conclave.  Ch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orter:  Thanks, Pat…..  And now back to Pat Jones in New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218-F922-4B7E-9363-4614F910DF9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24427-457A-4CF9-92C0-2B23C1C74B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821-FBB8-4C07-A95B-780C372E8F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2EB9B-FBDD-4F98-A7E1-F6296FCC1E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Govern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 any turn, at a transition-relevant 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urrent speaker selects next” then the person selected is obligated to take the next 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self-selection may be instit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the current speaker may continue unless someone self-sel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f 1c occurs, then rules a-c reapply at the next transition-relevan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3F8-DBAB-4460-89A9-397AE3BC3E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A84E2-1C89-4CC7-8727-5CA62A8B0C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versational Analy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Sacks et al ’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haracterize expectations of ‘what to say’ more gener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’ of t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, during this turn the current speaker has selected A as the next speaker, then A must spea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speaker does not select the next speaker, any other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one else takes the next turn, the current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pply at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ansition Releva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Ps)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speaker change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2D3-37FE-4A5B-B873-97AE558474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239E0-303D-4E7E-BEE9-8599C76D4A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Speaker Shif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djacency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uestion/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reeting/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liment/down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’ to a simple request without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topic abruptly withou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for Spoken Dialogu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61D-BAD2-4C66-BAAF-A5C96C56FE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531B5-85D9-48A3-A7E3-F81F15269A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236-06FA-4CE4-A718-3EA4E285C1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A5D99-409E-4F38-ADB9-BEC9102F7F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Differences in Turn-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telephone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 (Zhu ’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rin vs.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callees ask the 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Sun ’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female-female teleph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initiated through matter-of-fact statement of intention to end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ized thanking occurs except in mother/daughter closings – not the standard Englis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ish business calls (Halmari ’93) vs.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s get right to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s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33B-2D6D-4CA6-8C2D-BC92E73C45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F6557-0C1C-4257-921C-2BD58EE047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ADF-79E2-4A6B-AA49-D1E80E2707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EB887-2E75-4363-948A-52DA5CA44A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ifferences:  British Politicians (Beattie ’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 25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vised intervie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1979 British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garet Thatc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Tory leader): the Iron 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m Callag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Prime Minister):  Sunny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lligent, highly neurotic, extro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interrup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may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soci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ance of ‘joint enthusiasm’, heightened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F8A-DA29-43E8-BFE3-01E6F642D8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C3726-B3D0-4275-B711-839FD6A1E6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pkr 2 attempts to take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mooth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simultaneous speech, spkr 1’s utterance complet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mple interru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doesn’t complete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completes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utting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 but no change of turn, spkr 1 keeps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lent interru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kr 1’s utterance incomplete, no simultaneous speech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33E-CE96-4809-AD61-6CE244B3B4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E963-9EE7-4DE4-8B85-4C1A38F558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coustic/prosodic and gestu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-yield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ing rate s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l at end of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in pitch or lou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syntactic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1A7-4D79-408B-9A5F-1BF1C2D388A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F70CD-52E3-4627-8007-16B9AEDAE9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Thatcher interrupted almost twice as often as she interrupts interviewer (19/10)– unlike Callaghan (14/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cher: Starts slow and gets faster, few FP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ghan: starts fast and gets slower, many FPs 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:  Thatcher is domineering in interviews and Callaghan is a ‘nice gu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cher does not 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atc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come at end of syntactic clause when drawl on stressed syllable in clause and falling int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672-FC90-4704-B730-657BE65F84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37B72-12C0-40FC-9D18-5B37900A27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she do th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training before 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he still perceived as domine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terrupted she doesn’t cede the floor despite lengthy stretches of simul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684-619B-458F-99B2-D3EB39543EF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BB17D-7A5C-45C8-99CD-48D6DA5C0B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count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rty talking majority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currences of more than one speaker at a time are common but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970-612E-4372-B8BD-20C9784514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42B0A-75CE-4D88-A868-92A9BCE2F5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458-9800-40A0-9426-7A2D17856A6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5F9AA-97DB-497E-A927-6233215FD0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zation:  Automatic Speaker Identification/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audio corpor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roadcast Ne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etings, telephone conversations) into speaker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segmentation (Diar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clustering based on acoust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of-the-art: 8.47%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C57-97C2-420F-B1B6-5FE3F92C15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A539B-609A-44B7-AECE-1CA8802170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guistic inform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identify speaker types and speaker names (LIMSI ’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(“&lt;name&gt; has this report from &lt;location&gt;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10.9% error on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10% of segments contain releva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25% error on broadcast news if segmentation and clustering is done to id all of each speaker’s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91F-0536-4F5A-8B49-CCA6622EF3B0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7DA55-21EB-4155-ACE7-C293D6367F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00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MISCELLANEOUS TEXT (automatic initial)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00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0:34.7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34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34.7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 northern kentucky are forcing 3,000 people in two states to fle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started early this morning at the cargill company plan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aysville near the ohio r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have been going door-to-door advising people in kentuck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hio to take shelter in area high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is in a building where several fertilizers and chemical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t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85E-B6B5-4E51-BC46-3CD29851F06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856C-B0E7-4500-BE72-A8C8F92378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say all they can do is let the fire burn itself out, be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praying water on the flames would be too danger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t the current time, our only way of getting it under control is to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way fro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we've backed everyone off from the fire by about a mile and a quarte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evacuated homes in that radius and the chief threat at this point is a 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mall risk of a very large explosion caused by 400 tons of ammonia ni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tored in the buil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ir people have been taken to hospit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ne firefighter was injured and treated on the sc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31.00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91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31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in brooklyn, new york, say an explosion at a tire company 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2FB-A863-47BF-8FAA-469A54DA0AC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17DA4-B875-400E-9277-FBB9E06353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aused at least three buildings to colla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t set off a four-alarm fire, which has been conta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tell cnn one person was inj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vestigators have not determined the cause of the in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48.1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108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48.1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expected weather conditions are the rule across much of the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is week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ngela astore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NNOTATION&gt; Reporter:  &lt;/ANNOT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nice day to play along the beach -- spend a few hours fishing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or get in a game of golf -- not uncommon -- unless it's january in chic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cord high temperatures were set yesterday from minnesota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assachuset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warm air drawn northward from the gulf of mexico was behind the rise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c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0E8-571F-4F2C-B8CE-24926C8D18C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00429-2A3C-4268-9195-05D130C208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different scene in the northwest, where snow is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ut the winter weather didn't stop this man from getting in some wa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urs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nd he wasn't bothered by the fact that he couldn't see where his go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alls la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it's not really where it's going to land that's important at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hile you are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once you've learned, then it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e'll worry about that when the snow cl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right now, it's probably better that i don't see where they 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BA8-E728-4DAE-940A-63779E5F4189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8713-F232-4B28-91DC-91428AD7AB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S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peech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-to-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302-E719-414D-8CF5-A4B3116D2B6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5143F-E97C-4D35-8A13-84B4247A29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ed for by rule 1b (self-selection): Competing for next tur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ha’s lost,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, ab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een 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ora: Oh[::no::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[Twelve pounds I thin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n’t i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sy:  [Can you b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e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nds on the W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er’s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9E1-0B08-44CF-804C-1B6C8168CA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618BF-5AF1-400F-B768-06303CCABD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Overlap (co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ou know how the speaker will fin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Well if you knew my argument why did you bother to a:[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[Because I’d like to defe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aker added optional elements that can go after comple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en down here befo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aven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Ye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D33-B268-43D0-B5A0-C8287F921A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F831C-9F6A-4E5C-B7C1-430967530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rder/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xed yet it’s no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  Speaker before the current speaker is selected as the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unit types (single-word turns, single phrase tur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rule 1C (current speaker can continue) the speaker can produce more than one uni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45F-2C4A-454D-8CC5-04E841906B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786C3-B54F-4AF2-A488-045CBEC0BE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and content of conversations are not specified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the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arties can va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4 you can have multiple conver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s begin at “possible completion poi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s exist for err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m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use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A92-1508-4E7D-9137-7ECF4CB601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CFBE-34C5-47B9-AEFF-41AA188A32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or Dis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can be continuous or dis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= minimum gap or overl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tinuous = a current speaker has stopped and no speaker starts, and non-talk is a lap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Oh I could drive if you want me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Well no I’ll drive (I don’ m//in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hh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I meant to off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6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Those shoes look nice when you keep on putting stuff on ‘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Yeah I ‘ave to get another can cuz cuz it ran ou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7E8-6029-4426-A06E-ECAC10BE1C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16EED-ADA3-49CD-AAEF-5867C3277A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Allocation Techniques:  Select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Type of Sequence” parts.  (Adjacency pair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t/de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:  Hey yuh took my chair by the way 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think that was ver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n’  take yer chair, it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ment/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glad I have you for a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because you don’t have 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23A-2460-4B14-AEC6-5AC721A68A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FAF4F-35E0-4703-B7CB-19FFA137F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04T17:32:02Z</dcterms:modified>
  <cp:revision>417</cp:revision>
  <dc:subject/>
  <dc:title>No Slide Title</dc:title>
</cp:coreProperties>
</file>