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674-B742-47E7-AD38-AB95B23E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5D9-113D-4B83-B57A-0D40F0A7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5D9F-B7FF-481E-A0C3-01C2F8BD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249-0807-415F-B4BA-87101BEB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A6D-2489-4036-B265-84357354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D351-FD4E-4AA1-9227-4B887511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FAB-563C-41B1-8D38-F6B4EDEE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ACE1-7E2B-45BF-8BA8-240AF409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6BA-72B7-4056-9E3B-89D2FBFD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D495-80FB-45B0-9E26-C12A1D81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13B-47D6-44C6-B7D4-5B4B8BDE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484D-384C-4386-BFAF-C2FC4E65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6EB3-ADF8-49B2-A84B-3F88152DDE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07B0-1268-4BCD-9241-6C98DB18B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s.columbia.edu/~julia/papers/syrdal&amp;jilka04.pdf" TargetMode="External"/><Relationship Id="rId2" Type="http://schemas.openxmlformats.org/officeDocument/2006/relationships/hyperlink" Target="http://www.cs.columbia.edu/~julia/papers/syrdal&amp;jilka04.pdf" TargetMode="External"/><Relationship Id="rId3" Type="http://schemas.openxmlformats.org/officeDocument/2006/relationships/hyperlink" Target="http://www.cs.columbia.edu/~julia/papers/syrdal&amp;jilka04.pdf" TargetMode="External"/><Relationship Id="rId4" Type="http://schemas.openxmlformats.org/officeDocument/2006/relationships/hyperlink" Target="http://www.cs.columbia.edu/~julia/papers/syrdal&amp;jilka04.pdf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s.columbia.edu/~julia/papers/dohertyetal04.pdf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hstar.wav" TargetMode="External"/><Relationship Id="rId2" Type="http://schemas.microsoft.com/office/2007/relationships/media" Target="file:///tmp/home/.config/libreoffice/4/user/gallery/hstar.wav" TargetMode="External"/><Relationship Id="rId3" Type="http://schemas.openxmlformats.org/officeDocument/2006/relationships/image" Target="../media/image1.png"/><Relationship Id="rId4" Type="http://schemas.openxmlformats.org/officeDocument/2006/relationships/audio" Target="file:///tmp/home/.config/libreoffice/4/user/gallery/lstar.wav" TargetMode="External"/><Relationship Id="rId5" Type="http://schemas.microsoft.com/office/2007/relationships/media" Target="file:///tmp/home/.config/libreoffice/4/user/gallery/lstar.wav" TargetMode="External"/><Relationship Id="rId6" Type="http://schemas.openxmlformats.org/officeDocument/2006/relationships/image" Target="../media/image1.png"/><Relationship Id="rId7" Type="http://schemas.openxmlformats.org/officeDocument/2006/relationships/audio" Target="file:///tmp/home/.config/libreoffice/4/user/gallery/lplush.wav" TargetMode="External"/><Relationship Id="rId8" Type="http://schemas.microsoft.com/office/2007/relationships/media" Target="file:///tmp/home/.config/libreoffice/4/user/gallery/lplush.wav" TargetMode="External"/><Relationship Id="rId9" Type="http://schemas.openxmlformats.org/officeDocument/2006/relationships/image" Target="../media/image1.png"/><Relationship Id="rId10" Type="http://schemas.openxmlformats.org/officeDocument/2006/relationships/audio" Target="file:///tmp/home/.config/libreoffice/4/user/gallery/hplush.wav" TargetMode="External"/><Relationship Id="rId11" Type="http://schemas.microsoft.com/office/2007/relationships/media" Target="file:///tmp/home/.config/libreoffice/4/user/gallery/hplush.wav" TargetMode="External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dstep.wav" TargetMode="External"/><Relationship Id="rId2" Type="http://schemas.microsoft.com/office/2007/relationships/media" Target="file:///tmp/home/.config/libreoffice/4/user/gallery/dstep.wav" TargetMode="External"/><Relationship Id="rId3" Type="http://schemas.openxmlformats.org/officeDocument/2006/relationships/image" Target="../media/image1.png"/><Relationship Id="rId4" Type="http://schemas.openxmlformats.org/officeDocument/2006/relationships/audio" Target="file:///tmp/home/.config/libreoffice/4/user/gallery/lovely.wav" TargetMode="External"/><Relationship Id="rId5" Type="http://schemas.microsoft.com/office/2007/relationships/media" Target="file:///tmp/home/.config/libreoffice/4/user/gallery/lovely.wav" TargetMode="External"/><Relationship Id="rId6" Type="http://schemas.openxmlformats.org/officeDocument/2006/relationships/image" Target="../media/image1.png"/><Relationship Id="rId7" Type="http://schemas.openxmlformats.org/officeDocument/2006/relationships/audio" Target="file:///tmp/home/.config/libreoffice/4/user/gallery/flap.wav" TargetMode="External"/><Relationship Id="rId8" Type="http://schemas.microsoft.com/office/2007/relationships/media" Target="file:///tmp/home/.config/libreoffice/4/user/gallery/flap.wav" TargetMode="External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intermh.wav" TargetMode="External"/><Relationship Id="rId2" Type="http://schemas.microsoft.com/office/2007/relationships/media" Target="file:///tmp/home/.config/libreoffice/4/user/gallery/intermh.wav" TargetMode="External"/><Relationship Id="rId3" Type="http://schemas.openxmlformats.org/officeDocument/2006/relationships/image" Target="../media/image1.png"/><Relationship Id="rId4" Type="http://schemas.openxmlformats.org/officeDocument/2006/relationships/audio" Target="file:///tmp/home/.config/libreoffice/4/user/gallery/lll.wav" TargetMode="External"/><Relationship Id="rId5" Type="http://schemas.microsoft.com/office/2007/relationships/media" Target="file:///tmp/home/.config/libreoffice/4/user/gallery/lll.wav" TargetMode="External"/><Relationship Id="rId6" Type="http://schemas.openxmlformats.org/officeDocument/2006/relationships/image" Target="../media/image1.png"/><Relationship Id="rId7" Type="http://schemas.openxmlformats.org/officeDocument/2006/relationships/audio" Target="file:///tmp/home/.config/libreoffice/4/user/gallery/hhh.wav" TargetMode="External"/><Relationship Id="rId8" Type="http://schemas.microsoft.com/office/2007/relationships/media" Target="file:///tmp/home/.config/libreoffice/4/user/gallery/hhh.wav" TargetMode="External"/><Relationship Id="rId9" Type="http://schemas.openxmlformats.org/officeDocument/2006/relationships/image" Target="../media/image1.png"/><Relationship Id="rId10" Type="http://schemas.openxmlformats.org/officeDocument/2006/relationships/audio" Target="file:///tmp/home/.config/libreoffice/4/user/gallery/interml.wav" TargetMode="External"/><Relationship Id="rId11" Type="http://schemas.microsoft.com/office/2007/relationships/media" Target="file:///tmp/home/.config/libreoffice/4/user/gallery/interml.wav" TargetMode="External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amelia3.wav" TargetMode="External"/><Relationship Id="rId2" Type="http://schemas.microsoft.com/office/2007/relationships/media" Target="file:///tmp/home/.config/libreoffice/4/user/gallery/amelia3.wav" TargetMode="External"/><Relationship Id="rId3" Type="http://schemas.openxmlformats.org/officeDocument/2006/relationships/image" Target="../media/image1.png"/><Relationship Id="rId4" Type="http://schemas.openxmlformats.org/officeDocument/2006/relationships/audio" Target="file:///tmp/home/.config/libreoffice/4/user/gallery/amelia4.wav" TargetMode="External"/><Relationship Id="rId5" Type="http://schemas.microsoft.com/office/2007/relationships/media" Target="file:///tmp/home/.config/libreoffice/4/user/gallery/amelia4.wav" TargetMode="External"/><Relationship Id="rId6" Type="http://schemas.openxmlformats.org/officeDocument/2006/relationships/image" Target="../media/image1.png"/><Relationship Id="rId7" Type="http://schemas.openxmlformats.org/officeDocument/2006/relationships/audio" Target="file:///tmp/home/.config/libreoffice/4/user/gallery/amelia5.wav" TargetMode="External"/><Relationship Id="rId8" Type="http://schemas.microsoft.com/office/2007/relationships/media" Target="file:///tmp/home/.config/libreoffice/4/user/gallery/amelia5.wav" TargetMode="External"/><Relationship Id="rId9" Type="http://schemas.openxmlformats.org/officeDocument/2006/relationships/image" Target="../media/image1.png"/><Relationship Id="rId10" Type="http://schemas.openxmlformats.org/officeDocument/2006/relationships/audio" Target="file:///tmp/home/.config/libreoffice/4/user/gallery/amelia6.wav" TargetMode="External"/><Relationship Id="rId11" Type="http://schemas.microsoft.com/office/2007/relationships/media" Target="file:///tmp/home/.config/libreoffice/4/user/gallery/amelia6.wav" TargetMode="External"/><Relationship Id="rId12" Type="http://schemas.openxmlformats.org/officeDocument/2006/relationships/image" Target="../media/image1.png"/><Relationship Id="rId13" Type="http://schemas.openxmlformats.org/officeDocument/2006/relationships/audio" Target="file:///tmp/home/.config/libreoffice/4/user/gallery/amelia8.wav" TargetMode="External"/><Relationship Id="rId14" Type="http://schemas.microsoft.com/office/2007/relationships/media" Target="file:///tmp/home/.config/libreoffice/4/user/gallery/amelia8.wav" TargetMode="External"/><Relationship Id="rId15" Type="http://schemas.openxmlformats.org/officeDocument/2006/relationships/image" Target="../media/image1.png"/><Relationship Id="rId16" Type="http://schemas.openxmlformats.org/officeDocument/2006/relationships/audio" Target="file:///tmp/home/.config/libreoffice/4/user/gallery/amelia9.wav" TargetMode="External"/><Relationship Id="rId17" Type="http://schemas.microsoft.com/office/2007/relationships/media" Target="file:///tmp/home/.config/libreoffice/4/user/gallery/amelia9.wav" TargetMode="External"/><Relationship Id="rId18" Type="http://schemas.openxmlformats.org/officeDocument/2006/relationships/image" Target="../media/image1.png"/><Relationship Id="rId19" Type="http://schemas.openxmlformats.org/officeDocument/2006/relationships/audio" Target="file:///tmp/home/.config/libreoffice/4/user/gallery/amelia10.wav" TargetMode="External"/><Relationship Id="rId20" Type="http://schemas.microsoft.com/office/2007/relationships/media" Target="file:///tmp/home/.config/libreoffice/4/user/gallery/amelia10.wav" TargetMode="External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amelia13.wav" TargetMode="External"/><Relationship Id="rId2" Type="http://schemas.microsoft.com/office/2007/relationships/media" Target="file:///tmp/home/.config/libreoffice/4/user/gallery/amelia13.wav" TargetMode="External"/><Relationship Id="rId3" Type="http://schemas.openxmlformats.org/officeDocument/2006/relationships/image" Target="../media/image1.png"/><Relationship Id="rId4" Type="http://schemas.openxmlformats.org/officeDocument/2006/relationships/audio" Target="file:///tmp/home/.config/libreoffice/4/user/gallery/amelia14.wav" TargetMode="External"/><Relationship Id="rId5" Type="http://schemas.microsoft.com/office/2007/relationships/media" Target="file:///tmp/home/.config/libreoffice/4/user/gallery/amelia14.wav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artleby.com/68/45/33945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s.columbia.edu/~julia/papers/hedberg-sosa02.pdf" TargetMode="External"/><Relationship Id="rId2" Type="http://schemas.openxmlformats.org/officeDocument/2006/relationships/hyperlink" Target="http://www.cs.columbia.edu/~julia/papers/hedberg-sosa02.pdf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ing In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a Hirsch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 47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0E1A-549B-44F4-ACDB-2F12E90FFCF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43534-789A-4F8C-AE5D-3972BF3411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yrda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&amp;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ilk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re whq’s and ynq’s produced most naturally (for TT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hypothesis:  whq’s fall and ynq’s rise in American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approach:  production and perception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(professional) speakers (5F, 3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ranscripts of actual di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BD72-22FE-42D3-97AD-8037DE28722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856A9-929D-4D96-A7BB-4F30D4EB20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national (ToBI) labeling from pitch tracks of extract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nq’s rose in 83% of cases for females and 53% for 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-q’s always fell for females and fell 79% of time for male spe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:  acceptability 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choice, 12 liste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i: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B292-A595-40CF-8C20-6CDDC6E952B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073D1-F35B-4C44-BA5B-A9B605CA02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s of ynq and whq’s with same voice/different int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natural (9 ynq’s, 8 whq’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synthes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subjects (6 and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g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nq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speech:  people preferred standard rise (L* H- H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tic speech: no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q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speech:  people preferred falling contours (L- L%) to rising (H-H%) and slightly to ‘continuation rise’ (L- H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tic: no p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05A7-6BE8-46FC-8738-99CA82DFB00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6E9C6-0D39-4819-979B-B925BDE9B4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questions were pro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professional speakers a good cho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vs. spontaneous speech?  For T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no results for synthetic spee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C70-1BBA-493D-BD07-3AC37F531D8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55B3E-4EB8-446F-ABC1-64E26EF343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herty et al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people process intonation, e.g., in rising questions vs. falling statements vs. falling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:  brain imaging (fM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‘prosody’ portion of the br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ther sectors is it ‘close’ to and what is their fun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particular contours have particular lo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586E-C147-4888-9CB9-8C62EAE2CD7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FF914-3857-415E-B66E-DE2444EB88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subjects (4M, 7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 triples, of which each subjects heard only 1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as talking to her fa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she talking to her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as talking to her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: Monitoring: Is this a question or a stat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:  Increase in activation when subjects made judgments about tokens w/ rising intonation but not fa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D9A-BB04-4199-881B-36F3CC372F7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6058A-AC39-4F88-BA43-8338175C02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antic processing?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ustic processing? May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ing the rising contour as a ques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lesion studies to see if people with damage in these areas can interpret rising contou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568-49C9-4312-AE0D-CE118D7EF4C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EAE23-DF50-4EB3-A9E9-D53509005E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ising inverted questions?  “Was she talking to her father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0B33-6C33-4AD4-8A28-B23A94B4C76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F29F4-4FE0-44DC-A476-46507F7952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errehumbert &amp; Hirschberg ’90/’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ositional account of intonational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:  intuition and 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ours conve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current, prior, and following utter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propositional content and mutual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our meanings are composites of the meanings of their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itch acc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rase acc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undary 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48C2-AAE9-45E8-AC0A-7D167F4A0DB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DA2FD-E1B6-41FF-87DE-7304634A3D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ch Accent/Prominence in Pierrehumbert 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tems are made intonationally prominent and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nt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hi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clarativ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nq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*+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oped, late rise (uncertainty/ incredu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+H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rise to st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rastive focu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+L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onto stress (implied familia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*+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from a high stress (common downstepped contour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520" y="2895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53352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533520" y="3962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533520" y="5029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835-045F-4FA7-BD1A-6C3472990AD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15CE2-1736-4390-8D2F-7600F90F96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68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3"/>
                </p:tgtEl>
              </p:cMediaNode>
            </p:audio>
            <p:seq>
              <p:cTn id="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27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4"/>
                </p:tgtEl>
              </p:cMediaNode>
            </p:audio>
            <p:seq>
              <p:cTn id="1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5"/>
                </p:tgtEl>
              </p:cMediaNode>
            </p:audio>
            <p:seq>
              <p:cTn id="1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91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es to studying contour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people 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es contour X convey a different meaning from contour 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contour X used more often in context Z than contour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spite what people say/think, not all phenomena X are uttered with contour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evidence could we g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u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boratory experiments:  production, p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rpus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2DF-4916-4DC7-A2C2-03C2BE9844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7194A-C32B-4CE4-9B98-5366CC1092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1676520"/>
            <a:ext cx="792468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Downstepped acc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H*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L+H*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L*+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Degree of promin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a phrase:  HiF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ross phr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0720" y="2362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9144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91440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4418-88CB-4228-8D23-D23BFB7BA099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A78F4-D36C-475B-9EA4-5B9CCCFD06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793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8"/>
                </p:tgtEl>
              </p:cMediaNode>
            </p:audio>
            <p:seq>
              <p:cTn id="2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657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9"/>
                </p:tgtEl>
              </p:cMediaNode>
            </p:audio>
            <p:seq>
              <p:cTn id="3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653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0"/>
                </p:tgtEl>
              </p:cMediaNode>
            </p:audio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6933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odic Phrasing in Pierrehumbert 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s’ of phra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te phrase: one or more pitch accents plus a phrase accent (H-      or L-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national phrase: 1 or more intermediate phrases + boundary tone (H%     or L%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78168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7696080" y="3733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6248520" y="3733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8077320" y="2286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F21-939F-4D84-B189-DA2CBBB4E65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B6058-4865-4388-814C-68C45368B9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82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3"/>
                </p:tgtEl>
              </p:cMediaNode>
            </p:audio>
            <p:seq>
              <p:cTn id="4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43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4"/>
                </p:tgtEl>
              </p:cMediaNode>
            </p:audio>
            <p:seq>
              <p:cTn id="4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62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5"/>
                </p:tgtEl>
              </p:cMediaNode>
            </p:audio>
            <p:seq>
              <p:cTn id="5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746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6"/>
                </p:tgtEl>
              </p:cMediaNode>
            </p:audio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80880" y="457200"/>
            <a:ext cx="8458200" cy="5715000"/>
            <a:chOff x="380880" y="457200"/>
            <a:chExt cx="8458200" cy="5715000"/>
          </a:xfrm>
        </p:grpSpPr>
        <p:sp>
          <p:nvSpPr>
            <p:cNvPr id="88" name=""/>
            <p:cNvSpPr/>
            <p:nvPr/>
          </p:nvSpPr>
          <p:spPr>
            <a:xfrm>
              <a:off x="7010280" y="4495680"/>
              <a:ext cx="182880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05520" y="4495680"/>
              <a:ext cx="19047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76720" y="4495680"/>
              <a:ext cx="182880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23880" y="4495680"/>
              <a:ext cx="17528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0880" y="4495680"/>
              <a:ext cx="114300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*+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10280" y="2743200"/>
              <a:ext cx="1828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05520" y="2743200"/>
              <a:ext cx="190476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76720" y="2743200"/>
              <a:ext cx="1828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23880" y="2743200"/>
              <a:ext cx="175284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743200"/>
              <a:ext cx="1143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10280" y="1219320"/>
              <a:ext cx="18288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05520" y="1219320"/>
              <a:ext cx="190476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76720" y="1219320"/>
              <a:ext cx="18288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3880" y="1219320"/>
              <a:ext cx="175284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880" y="1219320"/>
              <a:ext cx="11430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10280" y="457200"/>
              <a:ext cx="1828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-H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05520" y="457200"/>
              <a:ext cx="1904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-L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76720" y="457200"/>
              <a:ext cx="1828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-H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3880" y="457200"/>
              <a:ext cx="175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-L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880" y="457200"/>
              <a:ext cx="1143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880" y="457200"/>
              <a:ext cx="8458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0880" y="121932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880" y="274320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0880" y="44956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0880" y="6172200"/>
              <a:ext cx="8458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880" y="457200"/>
              <a:ext cx="0" cy="5715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23880" y="457200"/>
              <a:ext cx="0" cy="571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457200"/>
              <a:ext cx="0" cy="571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05520" y="457200"/>
              <a:ext cx="0" cy="571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10280" y="457200"/>
              <a:ext cx="0" cy="571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839080" y="457200"/>
              <a:ext cx="0" cy="5715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76520" y="1676520"/>
            <a:ext cx="1371600" cy="914400"/>
            <a:chOff x="1676520" y="1676520"/>
            <a:chExt cx="1371600" cy="914400"/>
          </a:xfrm>
        </p:grpSpPr>
        <p:sp>
          <p:nvSpPr>
            <p:cNvPr id="120" name=""/>
            <p:cNvSpPr/>
            <p:nvPr/>
          </p:nvSpPr>
          <p:spPr>
            <a:xfrm>
              <a:off x="1676520" y="1676520"/>
              <a:ext cx="381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57760" y="1676520"/>
              <a:ext cx="228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360" y="2590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42900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167652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2590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419720" y="2133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257800" y="1676520"/>
            <a:ext cx="1371600" cy="0"/>
            <a:chOff x="5257800" y="1676520"/>
            <a:chExt cx="1371600" cy="0"/>
          </a:xfrm>
        </p:grpSpPr>
        <p:sp>
          <p:nvSpPr>
            <p:cNvPr id="129" name=""/>
            <p:cNvSpPr/>
            <p:nvPr/>
          </p:nvSpPr>
          <p:spPr>
            <a:xfrm>
              <a:off x="5257800" y="16765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15000" y="1676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238880" y="1676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96080" y="16002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153280" y="129492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05920" y="1295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42670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42670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495680" y="3809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42670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2670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715000" y="3429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620120" y="35053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4872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229600" y="3048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600200" y="5029200"/>
            <a:ext cx="1447920" cy="838080"/>
            <a:chOff x="1600200" y="5029200"/>
            <a:chExt cx="1447920" cy="838080"/>
          </a:xfrm>
        </p:grpSpPr>
        <p:sp>
          <p:nvSpPr>
            <p:cNvPr id="150" name=""/>
            <p:cNvSpPr/>
            <p:nvPr/>
          </p:nvSpPr>
          <p:spPr>
            <a:xfrm>
              <a:off x="1600200" y="586728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981080" y="5029200"/>
              <a:ext cx="152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33720" y="5029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62320" y="5029200"/>
              <a:ext cx="1522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146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352680" y="5029200"/>
            <a:ext cx="914400" cy="838080"/>
            <a:chOff x="3352680" y="5029200"/>
            <a:chExt cx="914400" cy="838080"/>
          </a:xfrm>
        </p:grpSpPr>
        <p:sp>
          <p:nvSpPr>
            <p:cNvPr id="156" name=""/>
            <p:cNvSpPr/>
            <p:nvPr/>
          </p:nvSpPr>
          <p:spPr>
            <a:xfrm>
              <a:off x="3352680" y="586728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733560" y="5029200"/>
              <a:ext cx="152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86200" y="5029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14800" y="5029200"/>
              <a:ext cx="1522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257800" y="586728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638680" y="502920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502920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2920" y="586728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543800" y="502920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24680" y="50292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572000" y="54864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0100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305920" y="518112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188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791320" y="2057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7543800" y="2057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2362320" y="312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3962520" y="312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723888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2743200" y="4648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" action="ppaction://media"/>
          </p:cNvPr>
          <p:cNvPicPr/>
          <p:nvPr>
            <a:audi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45720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4F22-C220-494B-A318-DADA465D161D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27022-1BFF-42D2-93EF-AAD84760F8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708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5"/>
                </p:tgtEl>
              </p:cMediaNode>
            </p:audio>
            <p:seq>
              <p:cTn id="6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624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6"/>
                </p:tgtEl>
              </p:cMediaNode>
            </p:audio>
            <p:seq>
              <p:cTn id="7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543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7"/>
                </p:tgtEl>
              </p:cMediaNode>
            </p:audio>
            <p:seq>
              <p:cTn id="7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674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8"/>
                </p:tgtEl>
              </p:cMediaNode>
            </p:audio>
            <p:seq>
              <p:cTn id="8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637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9"/>
                </p:tgtEl>
              </p:cMediaNode>
            </p:audio>
            <p:seq>
              <p:cTn id="8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653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0"/>
                </p:tgtEl>
              </p:cMediaNode>
            </p:audio>
            <p:seq>
              <p:cTn id="9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078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1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304920" y="457200"/>
            <a:ext cx="8458200" cy="5715000"/>
            <a:chOff x="304920" y="457200"/>
            <a:chExt cx="8458200" cy="5715000"/>
          </a:xfrm>
        </p:grpSpPr>
        <p:sp>
          <p:nvSpPr>
            <p:cNvPr id="183" name=""/>
            <p:cNvSpPr/>
            <p:nvPr/>
          </p:nvSpPr>
          <p:spPr>
            <a:xfrm>
              <a:off x="6858000" y="4495680"/>
              <a:ext cx="190512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05520" y="4495680"/>
              <a:ext cx="17524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52680" y="4495680"/>
              <a:ext cx="17528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00200" y="4495680"/>
              <a:ext cx="17524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4920" y="4495680"/>
              <a:ext cx="1295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*+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2743200"/>
              <a:ext cx="190512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05520" y="2743200"/>
              <a:ext cx="1752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52680" y="2743200"/>
              <a:ext cx="175284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00200" y="2743200"/>
              <a:ext cx="1752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920" y="2743200"/>
              <a:ext cx="12952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+L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58000" y="1219320"/>
              <a:ext cx="190512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05520" y="1219320"/>
              <a:ext cx="17524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2680" y="1219320"/>
              <a:ext cx="175284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00200" y="1219320"/>
              <a:ext cx="17524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4920" y="1219320"/>
              <a:ext cx="12952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+H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0" y="457200"/>
              <a:ext cx="1905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-H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05520" y="457200"/>
              <a:ext cx="1752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-L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52680" y="457200"/>
              <a:ext cx="175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-H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00200" y="457200"/>
              <a:ext cx="1752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-L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4920" y="457200"/>
              <a:ext cx="1295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4920" y="457200"/>
              <a:ext cx="8458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4920" y="121932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920" y="274320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4920" y="44956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4920" y="6172200"/>
              <a:ext cx="8458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4920" y="457200"/>
              <a:ext cx="0" cy="5715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00200" y="457200"/>
              <a:ext cx="0" cy="571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52680" y="457200"/>
              <a:ext cx="0" cy="571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05520" y="457200"/>
              <a:ext cx="0" cy="571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0" y="457200"/>
              <a:ext cx="0" cy="571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763120" y="457200"/>
              <a:ext cx="0" cy="5715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65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905120" y="160020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16002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160020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2438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290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657600" y="160020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160020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160020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160020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16002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16002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343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162920" y="160020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15200" y="16002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96080" y="16002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572000" y="19810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242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77240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8077320" y="175212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153280" y="1752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52480" y="3124080"/>
            <a:ext cx="1371600" cy="1143000"/>
            <a:chOff x="1752480" y="3124080"/>
            <a:chExt cx="1371600" cy="1143000"/>
          </a:xfrm>
        </p:grpSpPr>
        <p:sp>
          <p:nvSpPr>
            <p:cNvPr id="239" name=""/>
            <p:cNvSpPr/>
            <p:nvPr/>
          </p:nvSpPr>
          <p:spPr>
            <a:xfrm>
              <a:off x="175248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81080" y="312408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33360" y="365760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38280" y="365760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66880" y="4267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429000" y="3124080"/>
            <a:ext cx="1523880" cy="1143000"/>
            <a:chOff x="3429000" y="3124080"/>
            <a:chExt cx="1523880" cy="1143000"/>
          </a:xfrm>
        </p:grpSpPr>
        <p:sp>
          <p:nvSpPr>
            <p:cNvPr id="245" name=""/>
            <p:cNvSpPr/>
            <p:nvPr/>
          </p:nvSpPr>
          <p:spPr>
            <a:xfrm>
              <a:off x="342900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57600" y="312408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09880" y="365760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14800" y="365760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43400" y="4267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4648320" y="3657240"/>
              <a:ext cx="152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00600" y="3657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181480" y="3124080"/>
            <a:ext cx="1447920" cy="533520"/>
            <a:chOff x="5181480" y="3124080"/>
            <a:chExt cx="1447920" cy="533520"/>
          </a:xfrm>
        </p:grpSpPr>
        <p:sp>
          <p:nvSpPr>
            <p:cNvPr id="253" name=""/>
            <p:cNvSpPr/>
            <p:nvPr/>
          </p:nvSpPr>
          <p:spPr>
            <a:xfrm>
              <a:off x="518148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10080" y="3124080"/>
              <a:ext cx="152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62720" y="365760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67280" y="36576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934320" y="3124080"/>
            <a:ext cx="1676160" cy="533520"/>
            <a:chOff x="6934320" y="3124080"/>
            <a:chExt cx="1676160" cy="533520"/>
          </a:xfrm>
        </p:grpSpPr>
        <p:sp>
          <p:nvSpPr>
            <p:cNvPr id="258" name=""/>
            <p:cNvSpPr/>
            <p:nvPr/>
          </p:nvSpPr>
          <p:spPr>
            <a:xfrm>
              <a:off x="693432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62920" y="312408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15200" y="365760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20120" y="3657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8001000" y="320040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53280" y="320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752480" y="46483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464832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9680" y="5181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4600" y="5181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9000" y="46483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3920" y="464832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5181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5181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791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4280" y="5181480"/>
            <a:ext cx="1526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5181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47242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472428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52578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4360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934320" y="4724280"/>
            <a:ext cx="1752480" cy="533520"/>
            <a:chOff x="6934320" y="4724280"/>
            <a:chExt cx="1752480" cy="533520"/>
          </a:xfrm>
        </p:grpSpPr>
        <p:sp>
          <p:nvSpPr>
            <p:cNvPr id="281" name=""/>
            <p:cNvSpPr/>
            <p:nvPr/>
          </p:nvSpPr>
          <p:spPr>
            <a:xfrm>
              <a:off x="7239240" y="472428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91520" y="525780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34320" y="47242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96440" y="5257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8077320" y="480060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229600" y="4800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819520" y="1600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572000" y="1523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38D9-E543-4D63-9072-60CC45F26F8C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55527-02AD-4547-BA93-774FB029EF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606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87"/>
                </p:tgtEl>
              </p:cMediaNode>
            </p:audio>
            <p:seq>
              <p:cTn id="101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912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88"/>
                </p:tgtEl>
              </p:cMediaNode>
            </p:audio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contours that share prosodic phenomena convey similar meanings, and how those that differ in phenomena, differ in meaning -- based on their intonational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* L- L% vs. H* -H L% vs. H* H- H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’m from Muskoge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* H- H% vs. H* H- H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332-C414-42D1-B4F1-A91A3C85F4D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DFC9B-C6E9-4C09-BDFD-602F81E400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tch Acc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y information status about discourse references, modifiers, predicates and their relationship to S and H’s mutual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*: X is new and pred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My name is H* Mark H* Liberman H-H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*: X is salient but not part of the speaker’s pred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L* Stalin was L* right H-H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*+L: X is inferable from S and H’s mutual beliefs and part of the pred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H*+L Don’t H*+L forget to H*+L take your H* lunch L-L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371-43FB-45C5-99DA-0AEF03EF9A1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341CC-B4A2-40E4-B62C-EC5D20350E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+L* (H+!H*): X is inferable from S and H’s mutual beliefs but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not part of pr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he’s H+L* teething L-L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*+H: X is part of a scale but not part of the pr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 fed the L*+H goldfish L-H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+H*: X is part of a scale and in S and H’s mutual beliefs (narrow foc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 don’t L+H* want L+H* shrimp L-H% I want L+H* lobster L-L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B75B-8E72-4DB6-9504-B4ACF8A5831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460B2-552F-4306-9D63-215EF01EB3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rase Acc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y relationships among intermediate phrases, such as which form part of larger interpretive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-: X L- Y means X and Y are interpreted separately from one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 you want a sandwich L- or would you like a so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-: X H- Y means X and Y should be interprete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 you want apple juice H- or orange ju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B3E-665A-4AEB-BD50-D76BF1D2890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31808-B59C-4748-9021-33814CC297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ndary 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the directionality of interpretation of intonational 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%: X H% Y means interpret X wrt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You made seven errors L-H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What a shame L-L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We don’t have time to continue to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%: X L% Y means no directionality of interpretation sugg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You made seven errors L-L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What a shame L-H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We don’t have time to continue to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9369-727C-44BB-9728-8BAB28F4592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FEAB5-0B78-49C6-921E-BB467088EC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resolv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 meanings of pitch accents in a single phrase comb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L* blackboard’s painted H* orange L-L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distinguish the meaning of a phrase accent from that of a boundary tone – especially in intonational phrases with a single intermediate phr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H* H-L% (plateau) vs. H* H-H% (high-rise question) vs. H* L-L% (declar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framework useful for investigating contour meaning?  E.g. downstepped contours, H+L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DC3-1F53-4FC6-813C-99218FFB37A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F57B0-259C-4B8C-B922-FE986FF440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features can we look at and how do we obtain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onation labeling by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oustic/prosodic analysis by automatic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itch tracking, pause detection, intensity, duration, speaking rate ex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mputational linguistic techniques to extract transcript-based (text)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-of-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ntence length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echniques do we use for analy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tistical methods (Splus, Matl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chine learning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1879-4DB4-4C1E-822B-01B5E6741A8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F40A1-88F9-4F90-809E-68B04F2634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evid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might we get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EE8-8A9C-4EE3-A420-D0EC5F083F8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8A147-790B-4E22-AD30-8CBCFD7C03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bout Text-to-Speech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EE0E-CA15-4C7E-8208-8A974B6A1BB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CDE3D-2F4B-4500-B79B-0A3E13CF54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ample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Corpus: Hedberg &amp; Sosa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spective, observational: Wilson 1993, Pierrehumbert &amp; Hirschberg 1990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-- Production/Perception: Syrdal &amp; Jilka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– Brain Imaging (e.g. fMRI): Doherty et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1B4E-3837-4084-BD01-EB42A2EB3CD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C3B35-1122-4DE9-9D56-7FC6680E76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escrip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s fall and questions rise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lson 199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0B13-5672-4ABF-AEEF-8213B48B815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E4C4A-3CA7-4F5C-A28D-0D78822DAE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dberg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&amp; Sosa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o saw John?/Who didn’t see Joh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d John leave?/Didn’t John le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re yes-no and wh-questions uttered and how might we explain dif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nuclear str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semantic ‘focus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‘question words’ accented or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whq’s and 38 ynq’s from the McLaughlin Group and Washington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21C2-525A-4075-9430-CAB0CBB260C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DD01F-380D-473B-8836-09F3D6088B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national labeling (ToBI) from pitch t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/focus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distributions of features with question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-words (60%) and neg aux in negative ynq’s (89%) most often uttered with L+H* accent (‘contrastive’ accent) --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x in positive ynq’s often deaccented (41%) or realized with L* (17%) accent –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B634-D007-41A2-B35B-C1ED2494685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88097-DB21-462C-A09E-E178B43D1F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nq’s generally uttered w/ falling or level intonation, not rising (69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-q’s most often uttered with falling (8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us of interrogation is accented in wh-q’s and in negative ynq’s to “signal interrogative status of sentence” – but not in positive ynq’s “due to need to highlight a following ele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ynq’s and wh-q’s sometimes rise and sometimes f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607F-A234-47E5-A313-399DFF1EEBC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C66EC-7CCF-4615-B635-7E4EDC24B1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q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a good corpus for this investig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 speak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0BC-21B2-4935-90AB-75646F42534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49F35-3E77-48D3-BFA1-D3D4645FF0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7:52:10Z</dcterms:created>
  <dc:creator>Julia Hirschberg</dc:creator>
  <dc:description/>
  <dc:language>en-US</dc:language>
  <cp:lastModifiedBy>Julia Hirschberg</cp:lastModifiedBy>
  <cp:lastPrinted>1999-05-22T22:06:30Z</cp:lastPrinted>
  <dcterms:modified xsi:type="dcterms:W3CDTF">2006-02-12T20:36:08Z</dcterms:modified>
  <cp:revision>360</cp:revision>
  <dc:subject/>
  <dc:title>No Slide Title</dc:title>
</cp:coreProperties>
</file>