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320" y="685800"/>
            <a:ext cx="4567320" cy="342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96DD18-F242-40AF-B560-E3D63D42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udix tree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w pause worked better than norm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er id/change hand marked appa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0 reset measured before and after potential boundary, range is defined over preceding word and compared to speaker-specific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4267080"/>
            <a:ext cx="5022720" cy="4191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N sentence boundaries vs 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90720" y="4648320"/>
            <a:ext cx="2438280" cy="1430280"/>
            <a:chOff x="990720" y="4648320"/>
            <a:chExt cx="2438280" cy="1430280"/>
          </a:xfrm>
        </p:grpSpPr>
        <p:sp>
          <p:nvSpPr>
            <p:cNvPr id="102" name=""/>
            <p:cNvSpPr/>
            <p:nvPr/>
          </p:nvSpPr>
          <p:spPr>
            <a:xfrm>
              <a:off x="2887560" y="4648320"/>
              <a:ext cx="541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8680" y="4648320"/>
              <a:ext cx="758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464832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87560" y="5797440"/>
              <a:ext cx="5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28680" y="5797440"/>
              <a:ext cx="758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5797440"/>
              <a:ext cx="1137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ce(non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87560" y="551484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8680" y="551484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0720" y="551484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 H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87560" y="5234040"/>
              <a:ext cx="541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8680" y="5234040"/>
              <a:ext cx="758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0720" y="5234040"/>
              <a:ext cx="1137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M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87560" y="495144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28680" y="495144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0720" y="495144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s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464832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52340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55148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57974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607860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90720" y="464832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8680" y="464832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87560" y="464832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464832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0720" y="49514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733920" y="47242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809880" y="4648320"/>
            <a:ext cx="2438280" cy="1430280"/>
            <a:chOff x="3809880" y="4648320"/>
            <a:chExt cx="2438280" cy="1430280"/>
          </a:xfrm>
        </p:grpSpPr>
        <p:sp>
          <p:nvSpPr>
            <p:cNvPr id="129" name=""/>
            <p:cNvSpPr/>
            <p:nvPr/>
          </p:nvSpPr>
          <p:spPr>
            <a:xfrm>
              <a:off x="5706720" y="4648320"/>
              <a:ext cx="541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7840" y="4648320"/>
              <a:ext cx="758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464832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06720" y="5797440"/>
              <a:ext cx="5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5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47840" y="5797440"/>
              <a:ext cx="758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5797440"/>
              <a:ext cx="1137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ce(non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06720" y="551484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7840" y="551484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551484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 H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06720" y="5234040"/>
              <a:ext cx="541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7840" y="5234040"/>
              <a:ext cx="758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5234040"/>
              <a:ext cx="1137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M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06720" y="495144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7840" y="495144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9880" y="495144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s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464832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52340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55148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57974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607860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64832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7840" y="464832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06720" y="464832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160" y="464832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9880" y="49514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90720" y="65530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6858000"/>
            <a:ext cx="2438280" cy="1430280"/>
            <a:chOff x="990720" y="6858000"/>
            <a:chExt cx="2438280" cy="1430280"/>
          </a:xfrm>
        </p:grpSpPr>
        <p:sp>
          <p:nvSpPr>
            <p:cNvPr id="156" name=""/>
            <p:cNvSpPr/>
            <p:nvPr/>
          </p:nvSpPr>
          <p:spPr>
            <a:xfrm>
              <a:off x="2887560" y="6858000"/>
              <a:ext cx="541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28680" y="6858000"/>
              <a:ext cx="758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685800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7560" y="8007120"/>
              <a:ext cx="5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28680" y="8007120"/>
              <a:ext cx="758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0720" y="8007120"/>
              <a:ext cx="1137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ce(non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87560" y="772452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4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28680" y="772452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3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90720" y="772452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 H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87560" y="7443720"/>
              <a:ext cx="541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8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8680" y="7443720"/>
              <a:ext cx="758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8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90720" y="7443720"/>
              <a:ext cx="1137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M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716112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7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28680" y="716112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6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0720" y="716112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s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685800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0720" y="74437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0720" y="77245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90720" y="80071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90720" y="828828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90720" y="685800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28680" y="685800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7560" y="685800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9000" y="685800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71611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962520" y="685800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86200" y="6781680"/>
            <a:ext cx="2438280" cy="1430280"/>
            <a:chOff x="3886200" y="6781680"/>
            <a:chExt cx="2438280" cy="1430280"/>
          </a:xfrm>
        </p:grpSpPr>
        <p:sp>
          <p:nvSpPr>
            <p:cNvPr id="183" name=""/>
            <p:cNvSpPr/>
            <p:nvPr/>
          </p:nvSpPr>
          <p:spPr>
            <a:xfrm>
              <a:off x="5783040" y="6781680"/>
              <a:ext cx="541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24160" y="6781680"/>
              <a:ext cx="758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678168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3040" y="7930800"/>
              <a:ext cx="5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4160" y="7930800"/>
              <a:ext cx="758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6200" y="7930800"/>
              <a:ext cx="1137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ce(non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3040" y="764820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24160" y="764820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764820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 H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83040" y="7367400"/>
              <a:ext cx="541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4160" y="7367400"/>
              <a:ext cx="758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86200" y="7367400"/>
              <a:ext cx="1137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M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83040" y="708480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4160" y="708480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86200" y="708480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s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86200" y="678168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73674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6200" y="76482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6200" y="79308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6200" y="821196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86200" y="678168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4160" y="678168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83040" y="678168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24480" y="678168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70848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914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N topic vs 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58C-BD9D-4A2C-BABB-E3D82005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140-9FB3-4A32-8C9A-5A3B5DA5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6F9-08D5-4EB3-AB6E-613B4230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C2A-CAFE-4F12-ADCB-4B5D83E9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4AA-CE42-4A67-8847-6CC91A91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E56-D14B-4C38-9CD7-06F36355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E12-1958-4D37-A508-188B95D3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10B-66C6-4292-9DFA-D66FB4FA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D45-6FF2-417A-B421-FADC316A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E7D-85F3-4AC9-889F-70A863C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9F9-D2D8-4760-B722-AA35E57C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7B3-3B9B-4D89-B44A-C5510D90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79F5-072C-4588-9634-3FA114E1E2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AEB-CBB6-4A25-B671-1EA9207D2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gnizing Structure:  Sentence, Speaker, andTopic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4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FF1-3B6D-40D1-8CD4-95B309029F3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95B51-F93D-425C-85FD-9CC895A360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iling Algorithm (Hearst ’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Plot algorithms (Reynar ’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er (Kan et al ’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 ’00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ine similarity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: 1; no overlap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6520" y="3809880"/>
                <a:ext cx="403848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×</m:t>
                            </m:r>
                            <m:r>
                              <m:t xml:space="preserve">f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FDF-5B9F-43E2-AA26-DF70DD4A63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5EFCD-B7AF-499E-9D90-BA0D6585EC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matri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k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effect of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ikely is this sentence to be a boundary, compared to other sente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ve clustering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um of rank values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segment n/ inside area of segment n (j-i+1) – for i,j the sentences at the beginning and end of segment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dividing the corp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ws littl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’s algorithm has best performance (9-12%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2F8-2DE5-46EC-A53D-790982DF23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8311B-E235-49A4-8880-EFDA08FA23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yama &amp; Isahara ’02: What if we have no labeled data for our dom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714-DD45-49F7-97C4-334FD4D01B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934B2-9FD0-4273-B6BD-38D8CB003B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894-323B-4084-85E9-6B01456968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6E627-8BAA-46E4-9991-6F81151A43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iscourse Structure in Spoken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/utterance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809-C24B-4881-AADE-C0ADEE5319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ED8C2-26DB-4A0D-AE80-2063C21BC6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E1F-F6A6-43C9-8E01-81286F3990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F72D5-1B40-46A9-BDF7-6928B5E908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ken Cues to Discours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c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histe ’75, Brown et al ’83, Silverman ’86, Avesani &amp; Vayra ’88, Ayers ’92, Swerts et al ’92, Grosz &amp; Hirschberg’92, Swerts &amp; Ostendorf ’95, Hirschberg &amp; Nakatani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ing p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histe ’79, Chafe ’80, Brown et al ’83, Silverman ’86, Woodbury ’87, Avesani &amp; Vayra ’88, Grosz &amp; Hirschberg’92, Passoneau &amp; Litman ’93, Hirschberg &amp; Nakatani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D7A-4613-4CAE-8230-9A09B03EBA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C61EE-9C9D-4326-9EF8-C287A02CA2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worth ’75, Lehiste ’80, Grosz &amp; Hirschberg’92, Hirschberg &amp; Nakatani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et al ’83, Grosz &amp; Hirschberg’92, Hirschberg &amp; Nakatani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et al ’83, Woodbury ’87, Swerts et al ‘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3EA-B0C1-4EC7-8A2D-1564BA2F100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4BDA1-085C-40A2-899F-4890330A87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Sentence and Topic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, Machine Learning approaches with large segmented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AS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/prosodic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speaker 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D7B-1DC7-40BC-933D-E3D15BBA76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6F3AD-520F-4409-9DBD-5F1D1D5AED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iberg et al ’00: Prosodic C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y cues perform as well or better than text-based cues at sentence and topic segmentation -- and generalize bett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identify sentence and topic boundaries at ASR-defined word bound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 decision trees provided boundary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 combined these with lexical boundary predictions from 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6C1-61CB-4BAB-B5E2-833BACB010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C3972-0E2D-4868-8977-3943C27BE8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765-FA69-449F-8B61-CCEB19FF3D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F850F-F274-4D24-8AC9-14585D69AB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otential boundary 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t boundary (raw and normalized by spe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t word before boundary (is this a new ‘turn’ or part of continuous speech segmen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and rhyme duration (normalized by inherent duration) (phrase-final lengthen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0 (smoothed and stylized): reset, range (topline, baseline), slope and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92A-FE93-4CA0-A414-9BB2205874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54718-1D5F-434C-AA9C-3A9B40DFD3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quality (halving/doubling estimates as correlates of creak or glott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change, time from start of turn, # turns in conversation and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/tested on Switchboard and Broadcast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3B0-8F20-4A4E-9D04-1A59565A3A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41CF6-28E9-4245-8206-15308B9B9A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tence segment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od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LM for B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 (on transcription) and same for ASR transcript on 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etter than ch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eatures for B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t boundary ,turn/no turn, f0 diff across boundary, rhyme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eatures for S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/rhyme duration before boundary, pause at boundary, turn/no turn, pause at preceding word boundary, time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90D-A017-4D6C-A303-7BE09D7365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F84D1-40BE-4600-A2D3-3849042B88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 segmentation results (BN onl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t boundary, f0 range, turn/no turn, gender, time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y alone better than 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model improves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EFC-3708-4834-BD6F-D4B1AB1A458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EC157-EF3A-4A40-9EB6-7578406E01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Speech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of J&amp;M is a beta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keep a diary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y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assages you think are hard to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3a due by class (2:40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DF7-12B9-4F2A-9938-3F9D5BDB67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2967B-0F5B-4650-B532-905CB27A15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799-F80C-4D2E-A94D-2548EE0494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A2B21-A833-422F-8E00-9D7F938138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Discourse Structure for Speech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tical accounts (e.g. Grosz &amp; Sidner ’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vs.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ey help in recogn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to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ustic/prosodic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EDE-2A75-47EE-8ACE-60AB8DC5CA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5B477-9257-494D-BC75-11DAE8AD2D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D42-2313-4393-9A87-504F52F713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BB41C-7B85-408E-8711-173284E004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 of Structure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phrases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w, well,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omin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graphy and formatting --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information (Hearst ‘94, Reynar ’98, Beeferman et al ‘9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39E-9B51-49A4-83F9-62BE0EB127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76B52-C4C4-4AA1-91BE-A2A9C8696C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of Text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cohesion methods vs. multip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similarity indicates topic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on from Halliday &amp; Hasan ’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simi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B00-CD42-486D-8979-CDB9E4ACC7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756D6-643C-4970-BA18-D99D187D61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cal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lexical cohesion with other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 ph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(e.g. pronou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ctic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Learning from labeled cor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4E2-3F2B-4915-9624-E930F338E43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83C46-0C0E-4FE5-8425-8DCFC0E065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 2000:  Text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s leading methods and compares new algorithm to them on corpus of 700 concatenated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algorith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# of random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# of random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524-9CF0-41C8-9B0B-3183E41538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94502-FFAE-404A-900D-BCE6C62BA4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2003-04-02T14:27:17Z</cp:lastPrinted>
  <dcterms:modified xsi:type="dcterms:W3CDTF">2005-03-23T13:36:11Z</dcterms:modified>
  <cp:revision>521</cp:revision>
  <dc:subject/>
  <dc:title>No Slide Title</dc:title>
</cp:coreProperties>
</file>