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1800" y="-144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144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7320" y="685800"/>
            <a:ext cx="4567320" cy="342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7640" y="4343400"/>
            <a:ext cx="5022720" cy="4114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180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7D4EAB0-AE69-4AAB-B413-A28585FF2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88584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E3C5365-DE5B-4D95-8DFB-2767D4B7F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-180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-1800" y="-144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885840" y="-144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88584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1EC4302-AE69-4A7B-AF56-87BE7E458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-180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-1800" y="-144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85840" y="-144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88584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7D03D84-F254-4DB9-B7CF-8F3D6C413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180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-1800" y="-144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885840" y="-144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88584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007B78D-FA9E-4917-BF13-83673044C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180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-1800" y="-144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885840" y="-144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88584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7DA0DB9-1A83-4F2B-921F-4BCEA3924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180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-1800" y="-144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885840" y="-144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88584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2B3C806-4E60-4A32-8F68-4A98F0B3C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180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-1800" y="-144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885840" y="-144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388584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63B28A5-24D2-44D3-AE19-58B06D305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180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-1800" y="-144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885840" y="-144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88584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48ED485-5DCD-416D-984A-54AA16BA3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180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-1800" y="-144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885840" y="-144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388584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BBC4FB5-F6E3-4958-8B59-F257D45EA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180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-1800" y="-144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885840" y="-144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88584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4AD7121-FB0B-4079-AB44-6DFF2E817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180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-1800" y="-144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885840" y="-144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arson’s r for % of subjects choosing this interpretation w/feature (ttests to determine signi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88584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0E9E0F0-B765-4790-A804-5CD302F2E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180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-1800" y="-144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885840" y="-144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4F4A-147F-4B17-8BD4-A4F86DAB1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DBFC-8A66-49A0-9CFB-E5CB7D137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E9B0-16B7-4B61-8E76-090452F99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56B8-3535-422C-8DC5-9AE6D6B75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9011-ECA0-4250-9D7C-8C52CC0DB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0245-4AE9-43BD-BD8F-8AB0190C5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E895-07D6-4B2C-A5AA-F8A286347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ADEE-B28D-48C7-A5CD-89810F8DF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B9FB-5D20-43CC-8A28-450886505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CF34-6DC0-4005-8525-7EA5069E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E36D-44A6-433E-A969-9BA18F3D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A2C6-1EF5-4695-BEBA-333705C4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33EDA-4189-4F31-B822-5E3078A1B45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A0824-89E1-4714-ADCD-B38C147E95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lk.uvt.nl/timbl/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s.rochester.edu/research/cisd/resources/damsl/RevisedManual/RevisedManual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logue A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lia Hirschbe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A07 35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1D7D-A741-475A-A4D2-B5DBA69318E1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FD82A5-ED2F-41EF-8489-F74DE3CB084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ion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jects read ambiguous questions in disambiguating contex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for given/new and contrastiv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te/neutral/impolite rea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BI-style lab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s imbalanced; littl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re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distr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speaker reads both contex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erception che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0387-7E22-4515-B39D-1E21EFCE140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0AD92A-A401-4117-BD1A-5D2C32B1924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rect requests (e.g. for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a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L%, more likely (73%) to be indi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H%,46% were indirect: differences in height of boundary t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eness: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ffers in impolite (higher rise) vs. neutral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aker var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production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utility in production of indirect 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ware too steep a r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20D4-6493-4E64-958E-5820C23CEE1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80A698-9646-4B14-940A-5A2FD30E93B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Studies: Jurafsky et al ‘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we distinguish different DA functions for affirmative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xical, acoustic/prosodic/syntactic differentiators for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yeah, ok, uhuh, mhmm, u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categories to distingu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Continu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hm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not taking flo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Assess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hm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as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Agre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hm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 agre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Yes answ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hm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hat’s rig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Incipient speakershi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hm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taking flo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91F5-C589-4A6D-9F7C-0EB1FEB4DBD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0923E5-A333-4290-8CCA-72BE3ADE8DE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se terms important cues to dialogue struc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sod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ariation help to disambiguate th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re any difference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ntactic real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certain DAs, compared to oth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4E5E-9BEA-4BD1-BEE0-8BCCC31DB16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52F4E5-9985-4F05-88E1-8E5F5D3D6F0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itchBoard telephone conversation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 segmented and labeled with DA information (initially from text) using the SWBD-DAMSL dialogue tags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60 labels that could be combined in different dim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4% inter-labeler agreement on ta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set reduced to 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 CU-Boulder linguistics grad students labeling switchboard conversations of human-to-human inte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5522-689A-44E3-9CD8-DC355F2D4DF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B0005A-1EB4-4BFA-8089-0E9061DFDD9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beling from speech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ly 2% changed labels (114/575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3/987 continuers --&gt; agre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er duration, lower F0, lower energy, longer preceding pa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 analyze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al re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0 and intensity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act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CCC9-48D5-4ABB-A0F1-951A32B3815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B22A31-67B0-4F5B-822F-CCE740DC6ED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: Lexical Dif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e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ea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36%)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igh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11%),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uhu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45%)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ea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27%)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ipient spea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ea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59%)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uhu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17%)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igh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7%)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s-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ea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56%)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17%)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uhu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14%),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E1EE-83EA-475C-BE74-5426CB9D164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22E1A6-2CDD-4EB7-8F42-433A99D983D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odic  and Lexico/Syntactic C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 all DA’s, duration best differentia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ly correlated with DA length in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ment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 Term + Copula + (Intensifier) + Assessment Ad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at’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 (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ood, great, f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6F41-AA1A-4ED7-ACCE-D6B6CA97DB6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89FB82-68AD-4C93-9E81-5ABBCE37C08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bser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ea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nd variations) ambiguo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eement at 36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ipient speaker at 5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s-answer at 8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Uh-hu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with its variations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ntinuer at 45% (vs.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ea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27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ntinu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compared to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greem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er in d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intonationally `marked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ceded by longer pa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BD58-9FA8-4771-BBB8-58D8295E51B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B4E14F-B3E1-42F9-961B-F9E3ACA7386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odic information may be particularly helpful in distinguishing DAs with less lexical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FDEB-6E76-49A7-9905-3F08E3EFDD1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3A80BE-77A5-42E5-9F84-E0D23CCA3D3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structural information: Dialogue Acts vs. Discourse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ch Act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alogue 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ing schemes (DAMS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al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ing 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and indirect DAs: experimental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pus studies of DA disambig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ic DA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corpus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A185-757A-494D-8420-AF7F27D4896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27735E-3AD9-40B6-96B1-1395A58D3E1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matic DA De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sset &amp; Lamel ’04: 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an we detect DAs automatically w/ minimal reliance on lexical cont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xicons are domain-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R output is error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pora (3912 utts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nt/client dialogues in a French bank call center, in a French web-based stock exchange customer service center, in an English bank call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4D54-AC49-4AAE-9BEC-F0DFEFFCCF3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A20F3B-4023-4E25-A2A3-E35CBD4BED4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 tags (44) similar to DAMS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tional (openings, closin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level (items related to the semantic content of the ta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 Looking Fun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ment (e.g. assert, commit, explan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l on Hearer (e.g. confirmation, offer, reque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ward Looking Func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reement (e.g. accept, reje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ing (e.g. backchannel, corre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ve Status (e.g. self-talk, change-mind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B: each utt could receive a tag for each class, so utts represented as v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…only 197 combinations observ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48C1-F68A-4DCF-B2BF-D913B3DBC98B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F8C536-B9E6-408A-9163-CC1CE327B40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:  Memory-based learning (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IMB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all examples for clas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for spars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aker ide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2 words of each 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utts in 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iously proposed DA tags for utts in 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rue utt boundari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83% accuracy on test data from same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75% accuracy on test data from different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CDDB-782E-4C01-8328-A53989136AD0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21A868-F275-4BE9-92EE-19DDA32A851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15328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automatically identified utt units: 3.3% ins, 6.6% del, 13.5% s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DAs are easiest/hardest to det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209680" y="2133720"/>
          <a:ext cx="5639040" cy="3644640"/>
        </p:xfrm>
        <a:graphic>
          <a:graphicData uri="http://schemas.openxmlformats.org/drawingml/2006/table">
            <a:tbl>
              <a:tblPr/>
              <a:tblGrid>
                <a:gridCol w="1752840"/>
                <a:gridCol w="1295280"/>
                <a:gridCol w="1295280"/>
                <a:gridCol w="12956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.f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.f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.e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-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.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ck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5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2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9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41.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26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30.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.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res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.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-mg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.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.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5.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1.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8.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A9D7-22C5-47A0-80D7-FA871E000D27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8CBD39-A3F3-4C82-9F51-89B563D0F95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 ‘grammar’ of DAs in Spoken Dialogue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ew initial words perform as well as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A855-E4C0-48F6-8CB6-708922751A78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CE4217-B961-4519-9920-F76DE882F7A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netic, Prosodic, and Lexical Context Cues to DA Disambig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Hypothe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Prosodic information may be important for disambiguating shorter 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bserv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ASR errors suggest it would be useful to limit the role of lexical content in DA disambiguation as much as possible …and that this is fea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xperi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people distinguish one (short) DA from another purely from phonetic/acoustic/prosodic cu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y better with lexical contex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B8BC-41E9-4F6D-8353-40FED37543E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14D918-3F6F-42BC-BDC7-1E19CA29BF1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lumbia Games Corp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 spontaneous task-oriented dyadic conversations in Standard American Engli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subjects playing a computer game, no eye conta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0" t="0" r="705" b="2810"/>
          <a:stretch/>
        </p:blipFill>
        <p:spPr>
          <a:xfrm>
            <a:off x="990720" y="3562200"/>
            <a:ext cx="3555720" cy="261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1972800" y="30891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Gothic"/>
              </a:rPr>
              <a:t>Descri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21920" y="308772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Gothic"/>
              </a:rPr>
              <a:t>Follow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800600" y="3562200"/>
            <a:ext cx="3556080" cy="2610000"/>
            <a:chOff x="4800600" y="3562200"/>
            <a:chExt cx="3556080" cy="2610000"/>
          </a:xfrm>
        </p:grpSpPr>
        <p:pic>
          <p:nvPicPr>
            <p:cNvPr id="100" name="" descr=""/>
            <p:cNvPicPr/>
            <p:nvPr/>
          </p:nvPicPr>
          <p:blipFill>
            <a:blip r:embed="rId2"/>
            <a:srcRect l="0" t="0" r="705" b="2810"/>
            <a:stretch/>
          </p:blipFill>
          <p:spPr>
            <a:xfrm>
              <a:off x="4800600" y="3562200"/>
              <a:ext cx="3556080" cy="2610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01" name="" descr=""/>
            <p:cNvPicPr/>
            <p:nvPr/>
          </p:nvPicPr>
          <p:blipFill>
            <a:blip r:embed="rId3"/>
            <a:stretch/>
          </p:blipFill>
          <p:spPr>
            <a:xfrm>
              <a:off x="6867360" y="5432400"/>
              <a:ext cx="371520" cy="371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03CB-D8BA-41FA-93AD-7C3F04D5181B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FB1195-FA09-44D7-83E9-3CD6BBC29AF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09480" y="1752480"/>
            <a:ext cx="1905120" cy="426744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14800" y="1752480"/>
            <a:ext cx="4572000" cy="48006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31920" y="3581280"/>
            <a:ext cx="609480" cy="304920"/>
          </a:xfrm>
          <a:prstGeom prst="roundRect">
            <a:avLst>
              <a:gd name="adj" fmla="val 16667"/>
            </a:avLst>
          </a:prstGeom>
          <a:solidFill>
            <a:srgbClr val="ff80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lumbia Games Corpu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firmative Cue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64680" y="1767960"/>
            <a:ext cx="213372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e Wor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4776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ri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4776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gotch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4776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u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4776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mm-h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4776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kay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4776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4776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uh-hu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4776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ea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4776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e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4776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4776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981080" y="2513160"/>
            <a:ext cx="2361960" cy="3125520"/>
            <a:chOff x="1981080" y="2513160"/>
            <a:chExt cx="2361960" cy="3125520"/>
          </a:xfrm>
        </p:grpSpPr>
        <p:sp>
          <p:nvSpPr>
            <p:cNvPr id="108" name=""/>
            <p:cNvSpPr/>
            <p:nvPr/>
          </p:nvSpPr>
          <p:spPr>
            <a:xfrm flipV="1">
              <a:off x="1982880" y="2514240"/>
              <a:ext cx="2360160" cy="1219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1981080" y="2513160"/>
              <a:ext cx="2360160" cy="1218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1981080" y="2513160"/>
              <a:ext cx="2360160" cy="1218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1981080" y="2513160"/>
              <a:ext cx="2360160" cy="1218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981080" y="3732120"/>
              <a:ext cx="2361960" cy="190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981080" y="3732120"/>
              <a:ext cx="2361960" cy="152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981080" y="3732120"/>
              <a:ext cx="2361960" cy="122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81080" y="3732120"/>
              <a:ext cx="2361960" cy="839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981080" y="3732120"/>
              <a:ext cx="2361960" cy="45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81080" y="3732120"/>
              <a:ext cx="2361960" cy="154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1981080" y="3505320"/>
              <a:ext cx="2361960" cy="226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1981080" y="3123720"/>
              <a:ext cx="2361960" cy="608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1981080" y="2819160"/>
              <a:ext cx="2361960" cy="912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4572000" y="2238480"/>
            <a:ext cx="3990960" cy="1084320"/>
            <a:chOff x="4572000" y="2238480"/>
            <a:chExt cx="3990960" cy="1084320"/>
          </a:xfrm>
        </p:grpSpPr>
        <p:sp>
          <p:nvSpPr>
            <p:cNvPr id="122" name=""/>
            <p:cNvSpPr/>
            <p:nvPr/>
          </p:nvSpPr>
          <p:spPr>
            <a:xfrm>
              <a:off x="4572000" y="2238480"/>
              <a:ext cx="3533760" cy="333360"/>
            </a:xfrm>
            <a:prstGeom prst="roundRect">
              <a:avLst>
                <a:gd name="adj" fmla="val 16667"/>
              </a:avLst>
            </a:prstGeom>
            <a:solidFill>
              <a:srgbClr val="ff8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72000" y="2608560"/>
              <a:ext cx="1552320" cy="333360"/>
            </a:xfrm>
            <a:prstGeom prst="roundRect">
              <a:avLst>
                <a:gd name="adj" fmla="val 16667"/>
              </a:avLst>
            </a:prstGeom>
            <a:solidFill>
              <a:srgbClr val="ff8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72000" y="2989440"/>
              <a:ext cx="3990960" cy="333360"/>
            </a:xfrm>
            <a:prstGeom prst="roundRect">
              <a:avLst>
                <a:gd name="adj" fmla="val 16667"/>
              </a:avLst>
            </a:prstGeom>
            <a:solidFill>
              <a:srgbClr val="ff8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3809880" y="1784520"/>
            <a:ext cx="5105520" cy="46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55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knowledgment / Agre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55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ckchann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55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e beginning discourse seg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55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e ending discourse seg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55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eck with the interlocu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55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ll / Fill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55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ck from a tas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55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teral modifi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55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ivot begin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55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ivot en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09680" y="3809880"/>
            <a:ext cx="2057400" cy="2057400"/>
          </a:xfrm>
          <a:prstGeom prst="wedgeRectCallout">
            <a:avLst>
              <a:gd name="adj1" fmla="val -67361"/>
              <a:gd name="adj2" fmla="val -54939"/>
            </a:avLst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30040" indent="-66600">
              <a:lnSpc>
                <a:spcPct val="100000"/>
              </a:lnSpc>
              <a:tabLst>
                <a:tab algn="l" pos="0"/>
                <a:tab algn="r" pos="16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Gothic"/>
              </a:rPr>
              <a:t>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666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r" pos="16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MS Gothic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MS Gothic"/>
              </a:rPr>
              <a:t>t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Gothic"/>
              </a:rPr>
              <a:t>45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666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r" pos="16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MS Gothic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MS Gothic"/>
              </a:rPr>
              <a:t>o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Gothic"/>
              </a:rPr>
              <a:t>153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666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r" pos="16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MS Gothic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MS Gothic"/>
              </a:rPr>
              <a:t>ok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Gothic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Gothic"/>
              </a:rPr>
              <a:t>115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666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r" pos="16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MS Gothic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MS Gothic"/>
              </a:rPr>
              <a:t>a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Gothic"/>
              </a:rPr>
              <a:t>88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666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r" pos="16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MS Gothic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MS Gothic"/>
              </a:rPr>
              <a:t>lik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Gothic"/>
              </a:rPr>
              <a:t>75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66600">
              <a:lnSpc>
                <a:spcPct val="100000"/>
              </a:lnSpc>
              <a:tabLst>
                <a:tab algn="l" pos="0"/>
                <a:tab algn="r" pos="16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Gothic"/>
              </a:rPr>
              <a:t>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2424-DFA7-4F75-85D8-E653AEFC8E3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6B26E7-7D29-4A6F-A9CA-9B88C6AC4A4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ception Stud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ion of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65040" y="3505320"/>
            <a:ext cx="2133720" cy="441360"/>
            <a:chOff x="365040" y="3505320"/>
            <a:chExt cx="2133720" cy="441360"/>
          </a:xfrm>
        </p:grpSpPr>
        <p:sp>
          <p:nvSpPr>
            <p:cNvPr id="130" name=""/>
            <p:cNvSpPr/>
            <p:nvPr/>
          </p:nvSpPr>
          <p:spPr>
            <a:xfrm>
              <a:off x="365040" y="3505320"/>
              <a:ext cx="213372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804960" indent="-347760">
                <a:lnSpc>
                  <a:spcPct val="100000"/>
                </a:lnSpc>
                <a:spcBef>
                  <a:spcPts val="275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okay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231920" y="3581280"/>
              <a:ext cx="609480" cy="304920"/>
            </a:xfrm>
            <a:prstGeom prst="roundRect">
              <a:avLst>
                <a:gd name="adj" fmla="val 16667"/>
              </a:avLst>
            </a:prstGeom>
            <a:solidFill>
              <a:srgbClr val="ff8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286000" y="3581280"/>
            <a:ext cx="640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Speaker 1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  but it's gonna be below the on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Speaker 2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  </a:t>
            </a:r>
            <a:r>
              <a:rPr b="0" lang="en-US" sz="2000" spc="-1" strike="noStrike" u="sng">
                <a:solidFill>
                  <a:srgbClr val="1b24d3"/>
                </a:solidFill>
                <a:uFillTx/>
                <a:latin typeface="Arial"/>
                <a:ea typeface="MS Gothic"/>
              </a:rPr>
              <a:t>ok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3797280" y="1784520"/>
            <a:ext cx="5041800" cy="1796760"/>
            <a:chOff x="3797280" y="1784520"/>
            <a:chExt cx="5041800" cy="1796760"/>
          </a:xfrm>
        </p:grpSpPr>
        <p:sp>
          <p:nvSpPr>
            <p:cNvPr id="134" name=""/>
            <p:cNvSpPr/>
            <p:nvPr/>
          </p:nvSpPr>
          <p:spPr>
            <a:xfrm>
              <a:off x="3797280" y="1784520"/>
              <a:ext cx="5041800" cy="179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5000"/>
            </a:bodyPr>
            <a:p>
              <a:pPr marL="325800" indent="-32580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7307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05600" indent="-271440">
                <a:lnSpc>
                  <a:spcPct val="100000"/>
                </a:lnSpc>
                <a:spcBef>
                  <a:spcPts val="550"/>
                </a:spcBef>
                <a:buClr>
                  <a:srgbClr val="bbe0e3"/>
                </a:buClr>
                <a:buFont typeface="Arial"/>
                <a:buChar char="–"/>
                <a:tabLst>
                  <a:tab algn="l" pos="47307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05600" indent="-271440">
                <a:lnSpc>
                  <a:spcPct val="100000"/>
                </a:lnSpc>
                <a:spcBef>
                  <a:spcPts val="550"/>
                </a:spcBef>
                <a:buClr>
                  <a:srgbClr val="bbe0e3"/>
                </a:buClr>
                <a:buFont typeface="Arial"/>
                <a:buChar char="–"/>
                <a:tabLst>
                  <a:tab algn="l" pos="47307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05600" indent="-271440">
                <a:lnSpc>
                  <a:spcPct val="100000"/>
                </a:lnSpc>
                <a:spcBef>
                  <a:spcPts val="550"/>
                </a:spcBef>
                <a:buClr>
                  <a:srgbClr val="bbe0e3"/>
                </a:buClr>
                <a:buFont typeface="Arial"/>
                <a:buChar char="–"/>
                <a:tabLst>
                  <a:tab algn="l" pos="47307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ue beginning discourse segmen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65520" y="2989440"/>
              <a:ext cx="3990960" cy="333360"/>
            </a:xfrm>
            <a:prstGeom prst="roundRect">
              <a:avLst>
                <a:gd name="adj" fmla="val 16667"/>
              </a:avLst>
            </a:prstGeom>
            <a:solidFill>
              <a:srgbClr val="ff8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3809880" y="1784520"/>
            <a:ext cx="4953240" cy="1796760"/>
            <a:chOff x="3809880" y="1784520"/>
            <a:chExt cx="4953240" cy="1796760"/>
          </a:xfrm>
        </p:grpSpPr>
        <p:sp>
          <p:nvSpPr>
            <p:cNvPr id="137" name=""/>
            <p:cNvSpPr/>
            <p:nvPr/>
          </p:nvSpPr>
          <p:spPr>
            <a:xfrm>
              <a:off x="3809880" y="1784520"/>
              <a:ext cx="4953240" cy="179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7307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550"/>
                </a:spcBef>
                <a:buClr>
                  <a:srgbClr val="bbe0e3"/>
                </a:buClr>
                <a:buFont typeface="Arial"/>
                <a:buChar char="–"/>
                <a:tabLst>
                  <a:tab algn="l" pos="47307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550"/>
                </a:spcBef>
                <a:buClr>
                  <a:srgbClr val="bbe0e3"/>
                </a:buClr>
                <a:buFont typeface="Arial"/>
                <a:buChar char="–"/>
                <a:tabLst>
                  <a:tab algn="l" pos="47307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Backchanne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65520" y="2608200"/>
              <a:ext cx="1552680" cy="333360"/>
            </a:xfrm>
            <a:prstGeom prst="roundRect">
              <a:avLst>
                <a:gd name="adj" fmla="val 16667"/>
              </a:avLst>
            </a:prstGeom>
            <a:solidFill>
              <a:srgbClr val="ff8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3809880" y="1784520"/>
            <a:ext cx="4876920" cy="1796760"/>
            <a:chOff x="3809880" y="1784520"/>
            <a:chExt cx="4876920" cy="1796760"/>
          </a:xfrm>
        </p:grpSpPr>
        <p:sp>
          <p:nvSpPr>
            <p:cNvPr id="140" name=""/>
            <p:cNvSpPr/>
            <p:nvPr/>
          </p:nvSpPr>
          <p:spPr>
            <a:xfrm>
              <a:off x="3809880" y="1784520"/>
              <a:ext cx="4876920" cy="179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7307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550"/>
                </a:spcBef>
                <a:buClr>
                  <a:srgbClr val="bbe0e3"/>
                </a:buClr>
                <a:buFont typeface="Arial"/>
                <a:buChar char="–"/>
                <a:tabLst>
                  <a:tab algn="l" pos="47307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cknowledgment / Agreemen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65520" y="2238480"/>
              <a:ext cx="3533760" cy="333360"/>
            </a:xfrm>
            <a:prstGeom prst="roundRect">
              <a:avLst>
                <a:gd name="adj" fmla="val 16667"/>
              </a:avLst>
            </a:prstGeom>
            <a:solidFill>
              <a:srgbClr val="ff8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286000" y="4876920"/>
            <a:ext cx="640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Speaker 1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  okay  alright  I'll try it  ok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Speaker 2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  </a:t>
            </a:r>
            <a:r>
              <a:rPr b="0" lang="en-US" sz="2000" spc="-1" strike="noStrike" u="sng">
                <a:solidFill>
                  <a:srgbClr val="1b24d3"/>
                </a:solidFill>
                <a:uFillTx/>
                <a:latin typeface="Arial"/>
                <a:ea typeface="MS Gothic"/>
              </a:rPr>
              <a:t>ok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 the owl is blin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0" y="2209680"/>
            <a:ext cx="678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Speaker 1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  yeah um there's like there's some space there'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Speaker 2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  </a:t>
            </a:r>
            <a:r>
              <a:rPr b="0" lang="en-US" sz="2000" spc="-1" strike="noStrike" u="sng">
                <a:solidFill>
                  <a:srgbClr val="1b24d3"/>
                </a:solidFill>
                <a:uFillTx/>
                <a:latin typeface="Arial"/>
                <a:ea typeface="MS Gothic"/>
              </a:rPr>
              <a:t>ok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   I think I got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0120" y="525780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7620120" y="266688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7620120" y="388620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8EBF-2A4D-4919-95B5-12816C5C0FF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F5B288-86F2-4400-9A71-39859148640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73494E-006 L -0.23333 -0.05793 E">
                                      <p:cBhvr>
                                        <p:cTn id="32" dur="1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3.73494E-006 L -0.23073 0.08619 E">
                                      <p:cBhvr>
                                        <p:cTn id="34" dur="1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3.73494E-006 L -0.23264 0.23123 E">
                                      <p:cBhvr>
                                        <p:cTn id="36" dur="1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5647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2179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6134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6134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5647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2179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4065120" y="5153040"/>
            <a:ext cx="2283840" cy="868320"/>
            <a:chOff x="4065120" y="5153040"/>
            <a:chExt cx="2283840" cy="868320"/>
          </a:xfrm>
        </p:grpSpPr>
        <p:sp>
          <p:nvSpPr>
            <p:cNvPr id="148" name=""/>
            <p:cNvSpPr/>
            <p:nvPr/>
          </p:nvSpPr>
          <p:spPr>
            <a:xfrm>
              <a:off x="4178520" y="5153040"/>
              <a:ext cx="1904760" cy="5335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065120" y="5653080"/>
              <a:ext cx="228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contextualized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‘okay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ption Stud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4 instances of ‘okay’ (18 for each functio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tokens for each ‘okay’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lated condition: Only the word ‘okay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xtualized condition: 2 full speaker tur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urn containing the target ‘okay’;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evious turn by the other speak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054080" y="5216400"/>
            <a:ext cx="7556040" cy="420840"/>
            <a:chOff x="1054080" y="5216400"/>
            <a:chExt cx="7556040" cy="420840"/>
          </a:xfrm>
        </p:grpSpPr>
        <p:sp>
          <p:nvSpPr>
            <p:cNvPr id="153" name=""/>
            <p:cNvSpPr/>
            <p:nvPr/>
          </p:nvSpPr>
          <p:spPr>
            <a:xfrm>
              <a:off x="2577960" y="5267160"/>
              <a:ext cx="5895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77960" y="5572080"/>
              <a:ext cx="60321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577960" y="5537160"/>
              <a:ext cx="9140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101840" y="5537160"/>
              <a:ext cx="76176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111120" y="5229360"/>
              <a:ext cx="1066680" cy="7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016240" y="5229360"/>
              <a:ext cx="1447560" cy="7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082920" y="5537160"/>
              <a:ext cx="144756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15120" y="5232240"/>
              <a:ext cx="469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054080" y="5216400"/>
              <a:ext cx="114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speak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2171520" y="5267160"/>
              <a:ext cx="3045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171520" y="5419800"/>
              <a:ext cx="3045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941720" y="5268960"/>
              <a:ext cx="70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b24d3"/>
                  </a:solidFill>
                  <a:latin typeface="Arial"/>
                  <a:ea typeface="MS Gothic"/>
                </a:rPr>
                <a:t>ok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7592-70A5-4975-BBA6-36E27F3D1AC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5C6C5E-AB6C-4106-9075-DFF4B11CFAC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ech 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tgenstein ’53, Austin ’62 and Searle ’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ions to dialogue are actions performed by speak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I promise to make you very very sorry for th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Performative ver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99"/>
                </a:solidFill>
                <a:latin typeface="Arial"/>
              </a:rPr>
              <a:t>Locutionary ac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: the act of conveying the ‘meaning’ of the sentence uttered (e.g. committing the Speaker to making the hearer sor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99"/>
                </a:solidFill>
                <a:latin typeface="Arial"/>
              </a:rPr>
              <a:t>Ilocutionary ac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: the act associated with the verb uttered (e.g. promis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99"/>
                </a:solidFill>
                <a:latin typeface="Arial"/>
              </a:rPr>
              <a:t>Perlocutionary ac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: the act of producing an effect on the Hearer (e.g. threaten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0313-29EB-46FA-9DBD-C4183BBCB14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7CA36B-5B7A-4224-B586-41A376A0496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ption Stud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condi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1:  54 isolated tok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2:  54 contextualized tok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jects asked to classify each token of ‘okay’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knowledgment / Agreement,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channel, 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e beginning discourse seg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23D9-4F49-46F4-A260-6AFE808FFAA2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88D10E-43AB-4AB4-B41C-A0B00515795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ception Stud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s Given to the Su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knowledge/Agree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unction of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ok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indicates “I believe what you said” and/or “I agree with what you say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chan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unction of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ok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response to another speaker's utterance that indicates only “I’m still here” or “I hear you and please continue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e beginning discourse se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unction of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ok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marks a new segment of a discourse or a new topic. This use of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ok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uld be replaced by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no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CEC0-2041-4079-9423-2520C6DA093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407734-711A-458B-A587-0BF004EEDB6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ception Stud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jects and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je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 paid subjects (10 female, 10 mal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s between 20 and 6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ve speakers of Engli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hearing probl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I on a laboratory workstation with headph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C0B1-4EB7-4E20-8DF5-4C4F5AC1A8D4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628D57-655B-41B0-A994-904D6BDEA8D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-Subject Agre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ppa measure of agreement with respect to chance (Fleiss ’7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609480" y="2895480"/>
          <a:ext cx="8001000" cy="1976400"/>
        </p:xfrm>
        <a:graphic>
          <a:graphicData uri="http://schemas.openxmlformats.org/drawingml/2006/table">
            <a:tbl>
              <a:tblPr/>
              <a:tblGrid>
                <a:gridCol w="3029040"/>
                <a:gridCol w="2228760"/>
                <a:gridCol w="2743200"/>
              </a:tblGrid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olated Condi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extualized Condi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2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k / Agree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s. O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2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ckchannel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s. O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1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1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e beginning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s. O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1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4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"/>
          <p:cNvSpPr/>
          <p:nvPr/>
        </p:nvSpPr>
        <p:spPr>
          <a:xfrm>
            <a:off x="5880240" y="2743200"/>
            <a:ext cx="312408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A073-B078-465A-A287-ACFEB4E7E206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D83298-0374-45E5-A914-EEC375AC98C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es to Interpre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0024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netic transcription of oka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d 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24"/>
              </a:spcBef>
              <a:buNone/>
              <a:tabLst>
                <a:tab algn="l" pos="0"/>
                <a:tab algn="l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trong correlation for realization of </a:t>
            </a:r>
            <a:r>
              <a:rPr b="0" lang="en-US" sz="2500" spc="-1" strike="noStrike">
                <a:solidFill>
                  <a:srgbClr val="000000"/>
                </a:solidFill>
                <a:latin typeface="Ipa-samd Uclphon1 SILDoulosL"/>
                <a:ea typeface="Ipa-samd Uclphon1 SILDoulosL"/>
              </a:rPr>
              <a:t>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itial vow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k/Agree, Cue Begi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xtualized 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24"/>
              </a:spcBef>
              <a:buNone/>
              <a:tabLst>
                <a:tab algn="l" pos="0"/>
                <a:tab algn="l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o strong correlations found for phonetic variant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410080" y="1403280"/>
            <a:ext cx="1752840" cy="4618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7315200" y="152388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1278000" y="3351240"/>
            <a:ext cx="2274840" cy="6890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2895480" y="3124080"/>
            <a:ext cx="567000" cy="35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A2BF-D6EA-4F47-B439-D61CA9065BEE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DFA2DC-A00B-4296-B04A-DDBF7D3AF90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3524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3524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es to Interpre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57200" y="1295280"/>
          <a:ext cx="8229600" cy="4415040"/>
        </p:xfrm>
        <a:graphic>
          <a:graphicData uri="http://schemas.openxmlformats.org/drawingml/2006/table">
            <a:tbl>
              <a:tblPr/>
              <a:tblGrid>
                <a:gridCol w="1909800"/>
                <a:gridCol w="2792520"/>
                <a:gridCol w="3527280"/>
              </a:tblGrid>
              <a:tr h="48348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olated Cond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extualized Cond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11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k / Agr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er /k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039e4"/>
                          </a:solidFill>
                          <a:latin typeface="Arial"/>
                        </a:rPr>
                        <a:t>Shorter latency between tur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039e4"/>
                          </a:solidFill>
                          <a:latin typeface="Arial"/>
                        </a:rPr>
                        <a:t>Shorter pause before </a:t>
                      </a:r>
                      <a:r>
                        <a:rPr b="0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k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792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ckchann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Higher final pitch slo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ger 2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yll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er intens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Higher final pitch slo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039e4"/>
                          </a:solidFill>
                          <a:latin typeface="Arial"/>
                        </a:rPr>
                        <a:t>More words by S2 before </a:t>
                      </a:r>
                      <a:r>
                        <a:rPr b="0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k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039e4"/>
                          </a:solidFill>
                          <a:latin typeface="Arial"/>
                        </a:rPr>
                        <a:t>Fewer words by S1 after </a:t>
                      </a:r>
                      <a:r>
                        <a:rPr b="0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k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248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e begin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Lower final pitch slo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er overall pitch slo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Lower final pitch slo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039e4"/>
                          </a:solidFill>
                          <a:latin typeface="Arial"/>
                        </a:rPr>
                        <a:t>Longer latency between tur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039e4"/>
                          </a:solidFill>
                          <a:latin typeface="Arial"/>
                        </a:rPr>
                        <a:t>More words by S1 after </a:t>
                      </a:r>
                      <a:r>
                        <a:rPr b="0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k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>
            <a:off x="838080" y="5867280"/>
            <a:ext cx="777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47640" y="58672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Gothic"/>
              </a:rPr>
              <a:t>S1 = Utterer of the target ‘okay’.   S2 = The other speak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85800" y="1295280"/>
            <a:ext cx="8077320" cy="4876920"/>
            <a:chOff x="685800" y="1295280"/>
            <a:chExt cx="8077320" cy="4876920"/>
          </a:xfrm>
        </p:grpSpPr>
        <p:sp>
          <p:nvSpPr>
            <p:cNvPr id="186" name=""/>
            <p:cNvSpPr/>
            <p:nvPr/>
          </p:nvSpPr>
          <p:spPr>
            <a:xfrm>
              <a:off x="5105520" y="1295280"/>
              <a:ext cx="3657600" cy="441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85800" y="5867280"/>
              <a:ext cx="7848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B428-9E53-497F-BEB2-CF3373D7B249}" type="slidenum">
              <a:t>3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F853A0-2232-4811-8BF6-8CB0154F1A7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ee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ility of context improves inter-subject agre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e beginnings easier to disambiguate than the other two fun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es to interpret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xtual features override word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ption: Final pitch slope of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ok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both condi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ide to gener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EE19-CA1D-4535-BDD0-3268230BAC70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08688A-C0CA-4A14-AD9D-4448BE51246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: Dialogue Act Modeling for S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s potentially feasible, even when transcription is error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odic and lexical cues use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ptive results may be more useful for generation than for recognition, iron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ice of DA realization, lexical and prosod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3689-7FAE-4F18-BB60-BF3CFAB73E71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CB49F4-6AFF-4924-BBE4-488AE2249FB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&amp;M 22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schberg et al ’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ldberg et al ’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ahmer et al ‘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C637-C0D1-407D-BE32-F879D5850A4F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CD049F-924D-4D07-B7B8-48C25BE1C6E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rle’s Classification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rtives:  commit S to the truth of X (e.g.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The world is fl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ives:  attempt by S to get H to do X (e.g.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Open the window ple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issives: commit S to do X (e.g.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I’ll do it tomorro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ressives: S’s description of his/her own feelings about X (e.g.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I’m sorry I scream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s: S brings about a change in the world by virtue of uttering X (e.g.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I divorce you, I resig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701E-B5F6-4624-977C-70E10B0A607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250A13-CBFC-4898-9740-9D9027506AF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logue 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ghly correspond to Illocutionary 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vation: Modeling Spoken Dialo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coding schemes (e.g.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MSL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-to-many mapping between DAs and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Agreement</a:t>
            </a:r>
            <a:r>
              <a:rPr b="0" lang="en-US" sz="2000" spc="-1" strike="noStrike">
                <a:solidFill>
                  <a:srgbClr val="990099"/>
                </a:solidFill>
                <a:latin typeface="Arial"/>
              </a:rPr>
              <a:t> DA can realized by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Okay, Um, Right, Yeah</a:t>
            </a:r>
            <a:r>
              <a:rPr b="0" lang="en-US" sz="2000" spc="-1" strike="noStrike">
                <a:solidFill>
                  <a:srgbClr val="990099"/>
                </a:solidFill>
                <a:latin typeface="Arial"/>
              </a:rPr>
              <a:t>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Arial"/>
              </a:rPr>
              <a:t>But each of these can express multiple DAs, e.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: You should take the 10pm fl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: Ok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i="1" lang="en-US" sz="2400" spc="-1" strike="noStrike">
                <a:solidFill>
                  <a:srgbClr val="5eb54b"/>
                </a:solidFill>
                <a:latin typeface="Arial"/>
              </a:rPr>
              <a:t>that sounds perf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eb54b"/>
                </a:solidFill>
                <a:latin typeface="Arial"/>
              </a:rPr>
              <a:t>…</a:t>
            </a:r>
            <a:r>
              <a:rPr b="0" i="1" lang="en-US" sz="2400" spc="-1" strike="noStrike">
                <a:solidFill>
                  <a:srgbClr val="5eb54b"/>
                </a:solidFill>
                <a:latin typeface="Arial"/>
              </a:rPr>
              <a:t>but I’d prefer an earlier fl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eb54b"/>
                </a:solidFill>
                <a:latin typeface="Arial"/>
              </a:rPr>
              <a:t>…</a:t>
            </a:r>
            <a:r>
              <a:rPr b="0" i="1" lang="en-US" sz="2400" spc="-1" strike="noStrike">
                <a:solidFill>
                  <a:srgbClr val="5eb54b"/>
                </a:solidFill>
                <a:latin typeface="Arial"/>
              </a:rPr>
              <a:t>(I’m listen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DF24-9031-49B1-8993-79A4C4DBAED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D340E4-D330-42FD-A631-70638442323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ossible Coding Scheme for ‘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itualist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osing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ou're welco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ther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o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rd-Turn-Receip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es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o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Ritualistic==No, code all of these as we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ask Manage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'm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'm not done y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687E-534E-4A44-9ED5-B95A1948C48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6EA45C-F76E-4C5A-8F9A-5F516D68636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6840" y="304920"/>
            <a:ext cx="817884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opic Manage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arting new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nished old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ivot: finishing and sta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urn Manage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ill your turn (=traditional backchann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ill my turn (=stalling for time)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'm done, it is now your turn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one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lief Manage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 accept your proposition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 entertain your pro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 reject your pro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o you accept my proposition?  (=yn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EBFD-1A43-4A9B-BDC3-52BEFA8AB677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82479C-A866-4A01-85B6-122A9D0D419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al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poken Dialogue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Disambigu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urrent 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 user input cor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d appropria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Predi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ext 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 Language Models for A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 states in semantic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Produ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 for next system turn appropri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0862-AC63-47E6-94E9-F526D7EBA52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5CF1BF-3F02-43BD-8C8E-C5069A67856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ambiguating Ambiguous DAs Intonatio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al (Can/would/would..willing)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an you move the pian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ould you move the pian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ould you be willing to move the pian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kerson &amp; Chu-Carroll ’99:  Can info-requests be disambiguated reliably from action-reque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prosodic inform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 of polit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2AC6-72B0-42A4-A942-3E56261A5CE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280FD0-FDA1-41F8-ACB9-0E3C51D4993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17T17:52:10Z</dcterms:created>
  <dc:creator>Julia Hirschberg</dc:creator>
  <dc:description/>
  <dc:language>en-US</dc:language>
  <cp:lastModifiedBy>Julia Hirschberg</cp:lastModifiedBy>
  <cp:lastPrinted>2003-04-02T14:27:17Z</cp:lastPrinted>
  <dcterms:modified xsi:type="dcterms:W3CDTF">2007-07-20T05:46:17Z</dcterms:modified>
  <cp:revision>581</cp:revision>
  <dc:subject/>
  <dc:title>No Slide Title</dc:title>
</cp:coreProperties>
</file>