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80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7320" y="685800"/>
            <a:ext cx="4567320" cy="342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764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80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9534B86-E41F-4B55-84B6-F1F4B37CA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7640" y="4343400"/>
            <a:ext cx="502272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ling whether information is grounded or not (Clark &amp; Wilkes-Gibbs ‘86, Clark &amp; Schaeffer ‘89): presentation/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0 dialogue for Dutch train info; one version uses explicit verification and oneimplicit; 20 users given 3 tasks;  analyzed 443 verification q/a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ed that responses to correct verifications would be shorter, with unmarked word order, not repeating or correcting information but presenting new information (positive cues) -- principle of least eff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ings:  where problems, subjects use more words (or say nothing), use marked word order (especially after implicit verifs), contain  more disconfirmations (duh), with more repeated and corrected in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L experiments (memory based learning) show 97% correct prediction from these features (&gt;8 words or marked word order or corrects info -&gt; 92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ahmer et al ‘99b predicted additional prosodic cues for neg signals: high boundary tone, high pitch range, long duration of ‘nee’ and entire utterance, long pause after ‘nee’, long delay before ‘no’, from 109 negative answers to ynqs of 7 speakers; hy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88584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BD8C407-C6CA-453A-B7CA-0E9AC93FA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180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180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88584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341A-2E26-4B19-9253-CBA08C145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EB70-F35F-4A44-90B9-99416859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2451-F9BF-4DEB-90A0-2E23D7FCC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A1AF-907F-479A-9265-BB915C3DB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DEDB-FD09-4D1E-B516-8E6BD40A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2054-3FE7-404D-B2D4-8888B769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C135-4D32-427B-9A99-9094874F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3E97-C6AA-4D73-B20D-1CCC4810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A1F2-63F2-4A61-936F-D85096D4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9557-048C-4B88-81F3-20D1F68F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32D8-01C4-4D53-B70F-6673E974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E251-69CE-4F6A-BAA9-1FF0FC89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E882-D391-4E54-9D08-AD87FC0D1EE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EE3B-4669-4295-97AC-A6C79CB43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peech.kth.se/multimodal" TargetMode="External"/><Relationship Id="rId3" Type="http://schemas.openxmlformats.org/officeDocument/2006/relationships/hyperlink" Target="http://www.speech.kth.se/multimodal" TargetMode="External"/><Relationship Id="rId4" Type="http://schemas.openxmlformats.org/officeDocument/2006/relationships/hyperlink" Target="http://www.speech.kth.se/multimodal" TargetMode="External"/><Relationship Id="rId5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oken Dialogu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ia Hirschbe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A07 3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A4D2-20CB-4FE0-A15F-77575120524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5AF8B6-F899-4B7B-A1F4-C2B1B3D0FE5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wedish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ling the dialogue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pre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Controlling lexical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from human-human dialo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899F-8194-4D2C-9B08-11250849173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519185-A162-470A-9816-12DF16150C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61720" y="599760"/>
            <a:ext cx="862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Arial"/>
              </a:rPr>
              <a:t>User answers to question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57400" y="1405080"/>
            <a:ext cx="683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165240" indent="0">
              <a:spcBef>
                <a:spcPts val="601"/>
              </a:spcBef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nswers to the question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5240" indent="0">
              <a:spcBef>
                <a:spcPts val="601"/>
              </a:spcBef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weekday do you want to go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5240" indent="0">
              <a:spcBef>
                <a:spcPts val="601"/>
              </a:spcBef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Vilken veckodag vill du </a:t>
            </a:r>
            <a:r>
              <a:rPr b="0" lang="en-GB" sz="2400" spc="-1" strike="noStrike">
                <a:solidFill>
                  <a:srgbClr val="c94e35"/>
                </a:solidFill>
                <a:latin typeface="Arial"/>
              </a:rPr>
              <a:t>åk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?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5240" indent="0">
              <a:spcBef>
                <a:spcPts val="300"/>
              </a:spcBef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2%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ida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fred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1%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 want to go on Frida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jag vill </a:t>
            </a:r>
            <a:r>
              <a:rPr b="0" lang="en-GB" sz="2000" spc="-1" strike="noStrike">
                <a:solidFill>
                  <a:srgbClr val="c94e35"/>
                </a:solidFill>
                <a:latin typeface="Arial"/>
              </a:rPr>
              <a:t>åk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å fred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1%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 want to go toda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jag vill </a:t>
            </a:r>
            <a:r>
              <a:rPr b="0" lang="en-GB" sz="2000" spc="-1" strike="noStrike">
                <a:solidFill>
                  <a:srgbClr val="c94e35"/>
                </a:solidFill>
                <a:latin typeface="Arial"/>
              </a:rPr>
              <a:t>åk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d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%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 Frida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på fred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%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 want to go a Frida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jag vill </a:t>
            </a:r>
            <a:r>
              <a:rPr b="0" lang="en-GB" sz="2000" spc="-1" strike="noStrike">
                <a:solidFill>
                  <a:srgbClr val="c94e35"/>
                </a:solidFill>
                <a:latin typeface="Arial"/>
              </a:rPr>
              <a:t>åk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n fredag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re there any hotels in Vaxholm?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finns det några hotell i Vaxhol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3A33-1D29-48F2-AD27-F917ABCC354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BD7A71-D017-49A4-B8C3-EB6288FEE66F}" type="datetime1">
              <a:rPr lang="en-US"/>
              <a:t>07/31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5257800"/>
            <a:ext cx="1185840" cy="11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1680" y="1860480"/>
            <a:ext cx="380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Hur ofta </a:t>
            </a:r>
            <a:r>
              <a:rPr b="1" lang="en-US" sz="1400" spc="-1" strike="noStrike">
                <a:solidFill>
                  <a:srgbClr val="ff3300"/>
                </a:solidFill>
                <a:latin typeface="Arial Black"/>
              </a:rPr>
              <a:t>åker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du utomlands på semester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2263680"/>
            <a:ext cx="439272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åk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en gång om året kanske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åk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ganska sällan utomlands på sem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åk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nästan alltid utomlands under min semest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åk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ungefär 2 gånger per år utomlands på semest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åk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utomlands nästan varje å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åk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utomlands på semestern varje å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åk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utomlands ungefär en gång om å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är nästan aldrig utomlands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en eller två gånger om året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en gång per semest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kanske en gång per å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gefär en gång per å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åtminståne en gång om året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nästan aldrig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82360" y="1860480"/>
            <a:ext cx="3860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Hur ofta </a:t>
            </a:r>
            <a:r>
              <a:rPr b="1" lang="en-US" sz="1400" spc="-1" strike="noStrike">
                <a:solidFill>
                  <a:srgbClr val="ff3300"/>
                </a:solidFill>
                <a:latin typeface="Arial Black"/>
              </a:rPr>
              <a:t>reser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du utomlands på semester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02280" y="2254320"/>
            <a:ext cx="4941720" cy="34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res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en gång om året utomlands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res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inte ofta utomlands på semester det blir mera i arbetet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reser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res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utomlands på semestern vartannat å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res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utomlands en gång per semest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res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utomlands på semester ungefär en gång per å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brukar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resa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utomlands på semestern åtminståne en gång i året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en gång per år kanske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en gång vart annat å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varje å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vart tredje år ungefä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nu för tiden inte så ofta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varje år brukar 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åka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utomlands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6320" y="554040"/>
            <a:ext cx="84376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3de8"/>
                </a:solidFill>
                <a:latin typeface="Arial Black"/>
              </a:rPr>
              <a:t>Examples of questions</a:t>
            </a:r>
            <a:br>
              <a:rPr sz="4400"/>
            </a:br>
            <a:r>
              <a:rPr b="0" lang="en-US" sz="4400" spc="-1" strike="noStrike">
                <a:solidFill>
                  <a:srgbClr val="063de8"/>
                </a:solidFill>
                <a:latin typeface="Arial Black"/>
              </a:rPr>
              <a:t>and ans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277A-C3A2-40C6-82DE-D986DBCFE257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2E894C-4BE0-44C2-861F-0E3856B55A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00400" y="5367240"/>
            <a:ext cx="37843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31080" y="2448000"/>
            <a:ext cx="3834360" cy="3835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25" y="101"/>
                </a:moveTo>
                <a:arcTo wR="10800" hR="10800" stAng="-5870907" swAng="1368992"/>
                <a:lnTo>
                  <a:pt x="10800" y="10800"/>
                </a:lnTo>
                <a:close/>
              </a:path>
              <a:path fill="none" w="21600" h="21600">
                <a:moveTo>
                  <a:pt x="9325" y="101"/>
                </a:moveTo>
                <a:arcTo wR="10800" hR="10800" stAng="-5870907" swAng="1368992"/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13080" y="2456280"/>
            <a:ext cx="3835080" cy="3834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9" y="366"/>
                </a:moveTo>
                <a:arcTo wR="10800" hR="10800" stAng="-4501915" swAng="11110628"/>
                <a:lnTo>
                  <a:pt x="10800" y="10800"/>
                </a:lnTo>
                <a:close/>
              </a:path>
              <a:path fill="none" w="21600" h="21600">
                <a:moveTo>
                  <a:pt x="13589" y="366"/>
                </a:moveTo>
                <a:arcTo wR="10800" hR="10800" stAng="-4501915" swAng="11110628"/>
              </a:path>
            </a:pathLst>
          </a:custGeom>
          <a:solidFill>
            <a:srgbClr val="fdd7a9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15600" y="2455920"/>
            <a:ext cx="3836520" cy="3835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70" y="20935"/>
                </a:moveTo>
                <a:arcTo wR="10800" hR="10800" stAng="6612367" swAng="3894254"/>
                <a:lnTo>
                  <a:pt x="10800" y="10800"/>
                </a:lnTo>
                <a:close/>
              </a:path>
              <a:path fill="none" w="21600" h="21600">
                <a:moveTo>
                  <a:pt x="7070" y="20935"/>
                </a:moveTo>
                <a:arcTo wR="10800" hR="10800" stAng="6612367" swAng="3894254"/>
              </a:path>
            </a:pathLst>
          </a:custGeom>
          <a:solidFill>
            <a:srgbClr val="fbb35b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16320" y="2455920"/>
            <a:ext cx="3835080" cy="3835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9" y="11721"/>
                </a:moveTo>
                <a:arcTo wR="10800" hR="10800" stAng="10506621" swAng="5268348"/>
                <a:lnTo>
                  <a:pt x="10800" y="10800"/>
                </a:lnTo>
                <a:close/>
              </a:path>
              <a:path fill="none" w="21600" h="21600">
                <a:moveTo>
                  <a:pt x="39" y="11721"/>
                </a:moveTo>
                <a:arcTo wR="10800" hR="10800" stAng="10506621" swAng="5268348"/>
              </a:path>
            </a:pathLst>
          </a:custGeom>
          <a:solidFill>
            <a:srgbClr val="ac6004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13800" y="2459520"/>
            <a:ext cx="3833640" cy="383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310" y="106"/>
                </a:moveTo>
                <a:arcTo wR="10800" hR="10800" stAng="-4917824" swAng="451098"/>
                <a:lnTo>
                  <a:pt x="10800" y="10800"/>
                </a:lnTo>
                <a:close/>
              </a:path>
              <a:path fill="none" w="21600" h="21600">
                <a:moveTo>
                  <a:pt x="12310" y="106"/>
                </a:moveTo>
                <a:arcTo wR="10800" hR="10800" stAng="-4917824" swAng="451098"/>
              </a:path>
            </a:pathLst>
          </a:custGeom>
          <a:solidFill>
            <a:srgbClr val="800080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18240" y="1598760"/>
            <a:ext cx="79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83040" y="2095560"/>
            <a:ext cx="50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270480" y="4124160"/>
            <a:ext cx="84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eu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06480" y="4432320"/>
            <a:ext cx="63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37320" y="5689440"/>
            <a:ext cx="87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84760" y="5351400"/>
            <a:ext cx="63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29480" y="2527200"/>
            <a:ext cx="77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45680" y="2809800"/>
            <a:ext cx="63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89520" y="1755720"/>
            <a:ext cx="968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92520" y="2170080"/>
            <a:ext cx="50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93D5-A3E6-412C-8557-6A94E4EEDCE8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E05384-3D73-45EF-9E7A-255D625163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wedish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ling the dialogue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pre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ling lexical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Learning from human-human dialo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15A8-FB5A-4A05-92DC-39EBF7F451D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22E66B-199F-4C3E-B62A-963DEEB3D7E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015280" y="250920"/>
            <a:ext cx="500400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b2b2b2"/>
                </a:solidFill>
                <a:latin typeface="Arial Black"/>
              </a:rPr>
              <a:t>The August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660680" y="1103400"/>
            <a:ext cx="5781600" cy="4599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881360" y="5910120"/>
            <a:ext cx="5294160" cy="73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is your na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08000" y="5911920"/>
            <a:ext cx="5283360" cy="94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 call myself Strindberg, but 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n’t really have a sur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8000" y="5910120"/>
            <a:ext cx="5270760" cy="73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n were you bor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86040" y="5910120"/>
            <a:ext cx="5302080" cy="73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rindberg was born in 18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5910120"/>
            <a:ext cx="5283000" cy="73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do you do for a liv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8000" y="5911920"/>
            <a:ext cx="5280120" cy="94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 can answer questions abo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rindberg, KTH and Stockho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17720" y="5911920"/>
            <a:ext cx="5264280" cy="94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ow many people live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ockhol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5911920"/>
            <a:ext cx="5225760" cy="94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ver a million people l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the Stockholm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17720" y="5910120"/>
            <a:ext cx="5245200" cy="73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 you like it 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24200" y="5911920"/>
            <a:ext cx="5238720" cy="94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eople who live in glass ho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not throw st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43280" y="5911920"/>
            <a:ext cx="5213160" cy="94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es,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ha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as a smart th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o sa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36800" y="5911920"/>
            <a:ext cx="5200560" cy="94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 come from the depa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f Speech, Music and Hea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68480" y="5911920"/>
            <a:ext cx="5162400" cy="94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Royal Institute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echnolog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36800" y="5911920"/>
            <a:ext cx="5162400" cy="94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information is sh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n the 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43280" y="5910120"/>
            <a:ext cx="5217840" cy="73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ank you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68480" y="5910120"/>
            <a:ext cx="5180040" cy="73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u are welcom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43280" y="5910120"/>
            <a:ext cx="5217840" cy="73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ood by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94040" y="5911920"/>
            <a:ext cx="5162400" cy="94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erhaps we will me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on agai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66960" y="5910120"/>
            <a:ext cx="5167080" cy="73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es, it might be that we wil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835280" y="5911920"/>
            <a:ext cx="5314680" cy="94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rindberg was marri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ree tim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47880" y="5911920"/>
            <a:ext cx="5315040" cy="94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rindberg was marri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ree tim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FCC5-B4BF-48EE-AC18-957F438EE4A4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79163D-38EE-462F-B048-DF9FA84B42A9}" type="datetime1">
              <a:rPr lang="en-US"/>
              <a:t>07/31/26</a:t>
            </a:fld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delay="6000"/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1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500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7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500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5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7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2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5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5000"/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1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4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8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9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9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3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4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9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2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5" dur="1" fill="hold">
                                    <p:stCondLst>
                                      <p:cond delay="5000"/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8" dur="1" fill="hold"/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3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from Human Perform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provide explicit positive and negative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pus-based vs. laboratory experiments – do these tell us different thin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819520" y="1905120"/>
          <a:ext cx="304560" cy="30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905120"/>
                    <a:ext cx="30456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5F27-36F4-4328-B681-2A577457A02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416B27-294A-4975-8ED1-1569061831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apt – demonstration</a:t>
            </a:r>
            <a:br>
              <a:rPr sz="3200"/>
            </a:b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of ”complete”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824120" y="2062080"/>
            <a:ext cx="5630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AC4C-B2E1-4C01-8336-EBA97B0E5D1E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6B6DC5-EB58-45DF-B6E7-A16FFFD2309C}" type="datetime1">
              <a:rPr lang="en-US"/>
              <a:t>07/31/26</a:t>
            </a:fld>
          </a:p>
        </p:txBody>
      </p:sp>
    </p:spTree>
  </p:cSld>
  <p:timing>
    <p:tnLst>
      <p:par>
        <p:cTn id="184" dur="indefinite" restart="never" nodeType="tmRoot">
          <p:childTnLst>
            <p:seq>
              <p:cTn id="185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9" dur="1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back and ‘Grounding’: Bell &amp; Gustafson ’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and 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 corpora: Augus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% of users gave pos or neg feedback in subcor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sh-to-ta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us: Adap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dialogues, 33 subjects, 1845 utter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back utterances labeled w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or neg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icit or implic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ention/Atti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% of utterances contained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4% of users 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ED16-16BF-4498-A9BE-6EB79143F1E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073F86-D4C1-4864-BEB7-A2CF853235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5% positive, 2/3 explicit, equal amounts of attention vs. at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ubjects provided at almost every 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never 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ty of stud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ositive feedback to model the user better (prefere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egative feedback in error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BDE6-4B5A-4C7D-AC61-56D65A119EE7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99CF05-3AC5-4B13-889A-BDE769808C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from human-human dialo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 in S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8698-FF4B-4462-A291-BC61AFB7670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A1058B-C66F-47BB-9AF3-36C1B24701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rcRect l="0" t="0" r="0" b="627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IGGINS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0600" indent="-390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imary domain of HIGGINS is city navigation for pedestria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arily, HIGGINS is intended to provide simple information about the immediate surround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0600" indent="0">
              <a:spcBef>
                <a:spcPts val="45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0920" y="1773360"/>
            <a:ext cx="1873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This is a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3D test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E717-97A9-4C67-B7EA-820D5C4324E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B66B54-5C62-4ED3-B939-12124D18B2B0}" type="datetime1">
              <a:rPr lang="en-US"/>
              <a:t>07/31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experi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udies on human-human conver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iggins domain (similar to Map Tas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ASR in one direction to elicit error handling 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611280" y="4005360"/>
            <a:ext cx="7560000" cy="1653120"/>
            <a:chOff x="611280" y="4005360"/>
            <a:chExt cx="7560000" cy="1653120"/>
          </a:xfrm>
        </p:grpSpPr>
        <p:graphicFrame>
          <p:nvGraphicFramePr>
            <p:cNvPr id="222" name=""/>
            <p:cNvGraphicFramePr/>
            <p:nvPr/>
          </p:nvGraphicFramePr>
          <p:xfrm>
            <a:off x="633600" y="4138200"/>
            <a:ext cx="1108440" cy="121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3600" y="4138200"/>
                      <a:ext cx="1108440" cy="121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4" name=""/>
            <p:cNvGraphicFramePr/>
            <p:nvPr/>
          </p:nvGraphicFramePr>
          <p:xfrm>
            <a:off x="6955560" y="4005360"/>
            <a:ext cx="1215720" cy="1361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55560" y="4005360"/>
                      <a:ext cx="1215720" cy="136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6" name=""/>
            <p:cNvSpPr/>
            <p:nvPr/>
          </p:nvSpPr>
          <p:spPr>
            <a:xfrm>
              <a:off x="1827000" y="4360680"/>
              <a:ext cx="495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1827000" y="5050440"/>
              <a:ext cx="495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80880" y="4819320"/>
              <a:ext cx="1275120" cy="45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97000"/>
                  <a:tab algn="l" pos="2394000"/>
                  <a:tab algn="l" pos="3591000"/>
                  <a:tab algn="l" pos="4788000"/>
                  <a:tab algn="l" pos="5985000"/>
                  <a:tab algn="l" pos="7182000"/>
                  <a:tab algn="l" pos="8379000"/>
                  <a:tab algn="l" pos="9575640"/>
                  <a:tab algn="l" pos="1077264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 Black"/>
                </a:rPr>
                <a:t>Voco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11280" y="5311800"/>
              <a:ext cx="1131120" cy="30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97000"/>
                  <a:tab algn="l" pos="2394000"/>
                  <a:tab algn="l" pos="3591000"/>
                  <a:tab algn="l" pos="4788000"/>
                  <a:tab algn="l" pos="5985000"/>
                  <a:tab algn="l" pos="7182000"/>
                  <a:tab algn="l" pos="8379000"/>
                  <a:tab algn="l" pos="9575640"/>
                  <a:tab algn="l" pos="1077264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 Black"/>
                </a:rPr>
                <a:t>Us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65560" y="5427360"/>
              <a:ext cx="129240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97000"/>
                  <a:tab algn="l" pos="2394000"/>
                  <a:tab algn="l" pos="3591000"/>
                  <a:tab algn="l" pos="4788000"/>
                  <a:tab algn="l" pos="5985000"/>
                  <a:tab algn="l" pos="7182000"/>
                  <a:tab algn="l" pos="8379000"/>
                  <a:tab algn="l" pos="9575640"/>
                  <a:tab algn="l" pos="1077264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 Black"/>
                </a:rPr>
                <a:t>Ope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571120" y="4947480"/>
              <a:ext cx="86004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97000"/>
                  <a:tab algn="l" pos="2394000"/>
                  <a:tab algn="l" pos="3591000"/>
                  <a:tab algn="l" pos="4788000"/>
                  <a:tab algn="l" pos="5985000"/>
                  <a:tab algn="l" pos="7182000"/>
                  <a:tab algn="l" pos="8379000"/>
                  <a:tab algn="l" pos="9575640"/>
                  <a:tab algn="l" pos="10772640"/>
                </a:tabLst>
              </a:pPr>
              <a:r>
                <a:rPr b="0" i="1" lang="sv-SE" sz="1400" spc="-1" strike="noStrike">
                  <a:solidFill>
                    <a:srgbClr val="000000"/>
                  </a:solidFill>
                  <a:latin typeface="Arial Black"/>
                </a:rPr>
                <a:t>Liste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90440" y="4909680"/>
              <a:ext cx="86004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97000"/>
                  <a:tab algn="l" pos="2394000"/>
                  <a:tab algn="l" pos="3591000"/>
                  <a:tab algn="l" pos="4788000"/>
                  <a:tab algn="l" pos="5985000"/>
                  <a:tab algn="l" pos="7182000"/>
                  <a:tab algn="l" pos="8379000"/>
                  <a:tab algn="l" pos="9575640"/>
                  <a:tab algn="l" pos="10772640"/>
                </a:tabLst>
              </a:pPr>
              <a:r>
                <a:rPr b="0" i="1" lang="sv-SE" sz="1400" spc="-1" strike="noStrike">
                  <a:solidFill>
                    <a:srgbClr val="000000"/>
                  </a:solidFill>
                  <a:latin typeface="Arial Black"/>
                </a:rPr>
                <a:t>Speak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491440" y="4227840"/>
              <a:ext cx="860040" cy="23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97000"/>
                  <a:tab algn="l" pos="2394000"/>
                  <a:tab algn="l" pos="3591000"/>
                  <a:tab algn="l" pos="4788000"/>
                  <a:tab algn="l" pos="5985000"/>
                  <a:tab algn="l" pos="7182000"/>
                  <a:tab algn="l" pos="8379000"/>
                  <a:tab algn="l" pos="9575640"/>
                  <a:tab algn="l" pos="10772640"/>
                </a:tabLst>
              </a:pPr>
              <a:r>
                <a:rPr b="0" i="1" lang="sv-SE" sz="1400" spc="-1" strike="noStrike">
                  <a:solidFill>
                    <a:srgbClr val="000000"/>
                  </a:solidFill>
                  <a:latin typeface="Arial Black"/>
                </a:rPr>
                <a:t>Rea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75080" y="4219920"/>
              <a:ext cx="861120" cy="22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97000"/>
                  <a:tab algn="l" pos="2394000"/>
                  <a:tab algn="l" pos="3591000"/>
                  <a:tab algn="l" pos="4788000"/>
                  <a:tab algn="l" pos="5985000"/>
                  <a:tab algn="l" pos="7182000"/>
                  <a:tab algn="l" pos="8379000"/>
                  <a:tab algn="l" pos="9575640"/>
                  <a:tab algn="l" pos="10772640"/>
                </a:tabLst>
              </a:pPr>
              <a:r>
                <a:rPr b="0" i="1" lang="sv-SE" sz="1400" spc="-1" strike="noStrike">
                  <a:solidFill>
                    <a:srgbClr val="000000"/>
                  </a:solidFill>
                  <a:latin typeface="Arial Black"/>
                </a:rPr>
                <a:t>Speak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54600" y="4120920"/>
              <a:ext cx="1275120" cy="45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97000"/>
                  <a:tab algn="l" pos="2394000"/>
                  <a:tab algn="l" pos="3591000"/>
                  <a:tab algn="l" pos="4788000"/>
                  <a:tab algn="l" pos="5985000"/>
                  <a:tab algn="l" pos="7182000"/>
                  <a:tab algn="l" pos="8379000"/>
                  <a:tab algn="l" pos="9575640"/>
                  <a:tab algn="l" pos="1077264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 Black"/>
                </a:rPr>
                <a:t>AS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5DB4-B595-489E-8655-323EF4EA318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DF4B14-5714-4B80-83B7-0D36D9AA471F}" type="datetime1">
              <a:rPr lang="en-US"/>
              <a:t>07/31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-Understanding Error Recovery (Skantze ’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umans tend not to signal non-understan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O: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Do you see a wooden house in front of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U: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ASR: YES CROSSING ADDRESS NOW </a:t>
            </a:r>
            <a:br>
              <a:rPr sz="2800"/>
            </a:b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(I pass the wooden house n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O: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Can you see a restaurant sig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leads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reased experience of task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ster recovery from non-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6FDE-95D8-47C9-95F0-AD517A65249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BBAB57-761B-4A5F-9601-7DAC56D4D022}" type="datetime1">
              <a:rPr lang="en-US"/>
              <a:t>07/31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wedish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ling the dialogue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pre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ling lexical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from human-human dialo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Evaluat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92A2-C4A2-45F1-B4CB-484693E1316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1D9CBD-7698-42BA-8DAF-DB2572317E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Dialogu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DISE framework (Walker et al ’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erform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of a dialogue system is affected both by </a:t>
            </a:r>
            <a:r>
              <a:rPr b="0" i="1" lang="en-US" sz="2800" spc="-1" strike="noStrike">
                <a:solidFill>
                  <a:srgbClr val="990099"/>
                </a:solidFill>
                <a:latin typeface="Arial"/>
              </a:rPr>
              <a:t>what</a:t>
            </a:r>
            <a:r>
              <a:rPr b="0" i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s accomplished by the user and the dialogue agent and </a:t>
            </a: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how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gets accomp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43760" y="3962520"/>
            <a:ext cx="273960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Comic Sans MS"/>
              </a:rPr>
              <a:t>Maxim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99"/>
                </a:solidFill>
                <a:latin typeface="Comic Sans MS"/>
              </a:rPr>
              <a:t>Task Success</a:t>
            </a:r>
            <a:r>
              <a:rPr b="1" i="1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65360" y="3962520"/>
            <a:ext cx="203076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Comic Sans MS"/>
              </a:rPr>
              <a:t>Minimiz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Comic Sans MS"/>
              </a:rPr>
              <a:t>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54960" y="5257800"/>
            <a:ext cx="203544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Comic Sans MS"/>
              </a:rPr>
              <a:t>Mea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12320" y="5257800"/>
            <a:ext cx="233712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Comic Sans MS"/>
              </a:rPr>
              <a:t>Quali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Comic Sans MS"/>
              </a:rPr>
              <a:t>Mea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409720" y="50292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0" y="502920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6078-F4EC-4BE2-990A-A599900A7B2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471372-AA85-4267-9750-536C6AB47E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470600" y="3124080"/>
            <a:ext cx="641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Attribute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Selection Criterion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ff3300"/>
                </a:solidFill>
                <a:latin typeface="Comic Sans MS"/>
              </a:rPr>
              <a:t>Kim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1" i="1" lang="en-US" sz="2800" spc="-1" strike="noStrike">
                <a:solidFill>
                  <a:srgbClr val="ff3300"/>
                </a:solidFill>
                <a:latin typeface="Comic Sans MS"/>
              </a:rPr>
              <a:t>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Time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ff3300"/>
                </a:solidFill>
                <a:latin typeface="Comic Sans MS"/>
              </a:rPr>
              <a:t>10:30 a.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Place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ff3300"/>
                </a:solidFill>
                <a:latin typeface="Comic Sans MS"/>
              </a:rPr>
              <a:t>2D5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47920" y="3733920"/>
            <a:ext cx="65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47920" y="3352680"/>
            <a:ext cx="655308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029200" y="33526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1219320"/>
            <a:ext cx="86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goal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een as Attribute-Value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ELVIS e-mail retrieval task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(Walker et al ‘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Comic Sans MS"/>
              </a:rPr>
              <a:t>“</a:t>
            </a:r>
            <a:r>
              <a:rPr b="1" i="1" lang="en-US" sz="2800" spc="-1" strike="noStrike">
                <a:solidFill>
                  <a:srgbClr val="009999"/>
                </a:solidFill>
                <a:latin typeface="Comic Sans MS"/>
              </a:rPr>
              <a:t>Find the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time</a:t>
            </a:r>
            <a:r>
              <a:rPr b="1" i="1" lang="en-US" sz="2800" spc="-1" strike="noStrike">
                <a:solidFill>
                  <a:srgbClr val="009999"/>
                </a:solidFill>
                <a:latin typeface="Comic Sans MS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place</a:t>
            </a:r>
            <a:r>
              <a:rPr b="1" i="1" lang="en-US" sz="2800" spc="-1" strike="noStrike">
                <a:solidFill>
                  <a:srgbClr val="009999"/>
                </a:solidFill>
                <a:latin typeface="Comic Sans MS"/>
              </a:rPr>
              <a:t> of your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meeting</a:t>
            </a:r>
            <a:r>
              <a:rPr b="1" i="1" lang="en-US" sz="2800" spc="-1" strike="noStrike">
                <a:solidFill>
                  <a:srgbClr val="009999"/>
                </a:solidFill>
                <a:latin typeface="Comic Sans MS"/>
              </a:rPr>
              <a:t> with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Kim</a:t>
            </a:r>
            <a:r>
              <a:rPr b="1" i="1" lang="en-US" sz="2800" spc="-1" strike="noStrike">
                <a:solidFill>
                  <a:srgbClr val="009999"/>
                </a:solidFill>
                <a:latin typeface="Comic Sans MS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8240" y="5105520"/>
            <a:ext cx="900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succes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efined by match between AVM values at end of  with “true” values for AV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258E-8B92-47FE-9013-CF09BB708F28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668272-1F99-40CC-AAEC-542236536A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39600" y="1527120"/>
            <a:ext cx="7637400" cy="429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ffici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Interaction:User Turns, System Turns, Elapse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Qual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Interaction: ASR rejections, Time Out Prompts, Help Requests, Barge-Ins, Mean Recognition Score (concept accuracy), Cancellation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atisf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uc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erceived completion, information extr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42F1-5152-446D-A831-5CA25653625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CEBB5C-2D06-44C8-BFFD-9856A5F6BB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jects given specified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ken dialogues recor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factors, states, dialog acts automatically logged; ASR accuracy,barge-in hand-labe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specify task solution via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complet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User Satisfaction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ultiple linear regre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model User Satisfaction as a function of Task Success and Costs; test for significant predictive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499D-8AD7-4D09-BB65-9B9AE82531A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9CB109-4E07-48E6-B2E4-3ACD4CB7FF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User </a:t>
            </a:r>
            <a:r>
              <a:rPr b="0" lang="en-US" sz="3600" spc="-1" strike="noStrike">
                <a:solidFill>
                  <a:srgbClr val="cc6600"/>
                </a:solidFill>
                <a:latin typeface="Arial"/>
              </a:rPr>
              <a:t>Satisfaction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:</a:t>
            </a:r>
            <a:br>
              <a:rPr sz="3200"/>
            </a:br>
            <a:r>
              <a:rPr b="0" lang="en-US" sz="3600" spc="-1" strike="noStrike">
                <a:solidFill>
                  <a:srgbClr val="cc6600"/>
                </a:solidFill>
                <a:latin typeface="Arial"/>
              </a:rPr>
              <a:t>Sum of Many Mea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04172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Annie  easy to understand in this conversation? 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TS Perform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onversation, did  Annie  understand what you said?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SR Perform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onversation, was it easy to find the message you wanted?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ask 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the pace of interaction with Annie appropriate in this conversation?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teraction P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onversation, did you know what you could say at each point of the dialog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44720" y="1294920"/>
            <a:ext cx="404172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User Experti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often was Annie sluggish and slow to reply to you in this conversation?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ystem Respon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Annie work the way you expected her  to in this conversation?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Expected Behavi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your current experience with using Annie to get your email, do you think you'd  use Annie regularly to access your mail when you are away from your desk?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uture 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31C8-B8DD-4FC3-98D2-57A9D3EB466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EF5BF1-1242-4DA7-9B67-50D981C955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Functions from Thre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472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VIS User Sat.= .21* COMP + .47 * MRS - .15 * 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T User Sat.= .35* COMP + .45* MRS - .14*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IE User Sat.= .33*COMP + .25* MRS +.33*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: User perception of  task completion (task suc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S: Mean recognition accuracy  (c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:  Elapsed time (c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: Help requests (c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E628-B0C1-48F4-A825-29696171496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282113-CB55-4F47-A0BE-9F0D57CFD363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93360" y="329760"/>
            <a:ext cx="775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a8081b"/>
                </a:solidFill>
                <a:latin typeface="Arial"/>
              </a:rPr>
              <a:t>The Waxholm Project at K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74760" y="3095640"/>
            <a:ext cx="2367000" cy="1776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156120" y="1339920"/>
            <a:ext cx="568296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urist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tockholm archipel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ime-tables, hotels, hostels, camping and dining possibilit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ixed initiative dialo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peech recog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ultimodal synth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raphic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ictures, maps, charts and time-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mos at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www.speech.kth.se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/multimod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FD91-B492-4159-BC7F-3AC2B1B84E0D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A7EF84-0DFB-44AD-A1F8-A1DC6BF87C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c6600"/>
                </a:solidFill>
                <a:latin typeface="Arial"/>
              </a:rPr>
              <a:t>Performance Mod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erceived task comple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ean recognition sc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onsistently significant predictors of Us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model useful for system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edictions about system mod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guishing ‘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o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 dialogues from ‘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 dialo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can we also tell on-line when a dialogue is ‘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oing wro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7C4C-8138-448F-8AB7-C0B5F9E4642C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B1D38D-FD14-46EC-BD4F-155EC77D2A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-taking (J&amp;M, Link to conversational analysis description, Beattie on Margaret Thatch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F0D1-D917-4CCE-AE01-8F8B2C57810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6545EC-DEF6-40F4-8ECE-AEBF6409B0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95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Waxholm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98600" y="787320"/>
            <a:ext cx="6321240" cy="5029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60560" y="5911920"/>
            <a:ext cx="7080120" cy="73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Where can I find hotels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85760" y="5911920"/>
            <a:ext cx="7080480" cy="73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Information about hotels is shown in this tab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11320" y="5911920"/>
            <a:ext cx="7080120" cy="73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Which hotels are in Waxholm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73160" y="5911920"/>
            <a:ext cx="7080120" cy="73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Information about the hotels in Waxholm is </a:t>
            </a:r>
            <a:br>
              <a:rPr sz="2100"/>
            </a:b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shown in this tab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23920" y="5911920"/>
            <a:ext cx="7080120" cy="73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Where is Waxholm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73160" y="5911920"/>
            <a:ext cx="7080120" cy="73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Waxholm is shown on this ma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09800" y="5911920"/>
            <a:ext cx="7219800" cy="73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I think I want to go to Waxhol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47600" y="5911920"/>
            <a:ext cx="7220160" cy="73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I am looking for boats to Waxhol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From where do you want to g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22400" y="5911920"/>
            <a:ext cx="7219800" cy="73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The ci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5911920"/>
            <a:ext cx="7220160" cy="73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Which day of the week do you want to go?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35000" y="5911920"/>
            <a:ext cx="7220160" cy="73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I want to go tomorrow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35000" y="5911920"/>
            <a:ext cx="7220160" cy="73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There are lots of boats from Stockholm to Waxholm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on a Friday, At what time do you want to go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22400" y="5911920"/>
            <a:ext cx="7219800" cy="73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When do the evening boats depart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22400" y="5911920"/>
            <a:ext cx="7219800" cy="73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This is a table of the boats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09800" y="5911920"/>
            <a:ext cx="7219800" cy="73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Is it possible to eat in Waxholm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22400" y="5911920"/>
            <a:ext cx="7219800" cy="73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Information about the restaurants in Waxhol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is shown in this tab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0560" y="5911920"/>
            <a:ext cx="7219800" cy="73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Thank yo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0560" y="5911920"/>
            <a:ext cx="7219800" cy="73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Thank you to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C61D-4C4F-4A19-A032-D60E40DE53C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A1C813-C9AB-49DD-BE0F-5CEC525FE5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" dur="1" fill="hold">
                                    <p:stCondLst>
                                      <p:cond delay="500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500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1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" dur="1" fill="hold">
                                    <p:stCondLst>
                                      <p:cond delay="500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500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2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" dur="1" fill="hold">
                                    <p:stCondLst>
                                      <p:cond delay="500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8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500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3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500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9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700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6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500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2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5000"/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7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delay="500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30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800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1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900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91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96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delay="500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1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9" dur="1" fill="hold"/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4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wedish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Controlling the dialogue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pre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ling lexical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from human-human dialo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FA2D-527B-4C05-B1C5-FD2EBE7A02B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AC1A79-A759-4286-8318-77A370918E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334440"/>
            <a:ext cx="690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Arial"/>
              </a:rPr>
              <a:t>Dialogue control - </a:t>
            </a:r>
            <a:br>
              <a:rPr sz="2800"/>
            </a:br>
            <a:r>
              <a:rPr b="1" lang="en-GB" sz="2800" spc="-1" strike="noStrike">
                <a:solidFill>
                  <a:srgbClr val="a50021"/>
                </a:solidFill>
                <a:latin typeface="Arial"/>
              </a:rPr>
              <a:t>state pre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71520" y="1579680"/>
            <a:ext cx="8772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alog grammar specified by a number of </a:t>
            </a:r>
            <a:r>
              <a:rPr b="0" lang="en-GB" sz="2800" spc="-1" strike="noStrike">
                <a:solidFill>
                  <a:srgbClr val="c94e35"/>
                </a:solidFill>
                <a:latin typeface="Arial"/>
              </a:rPr>
              <a:t>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state associated with an </a:t>
            </a:r>
            <a:r>
              <a:rPr b="0" lang="en-GB" sz="2800" spc="-1" strike="noStrike">
                <a:solidFill>
                  <a:srgbClr val="c94e35"/>
                </a:solidFill>
                <a:latin typeface="Arial"/>
              </a:rPr>
              <a:t>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base search, system question…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able state determined from </a:t>
            </a:r>
            <a:r>
              <a:rPr b="0" lang="en-GB" sz="2800" spc="-1" strike="noStrike">
                <a:solidFill>
                  <a:srgbClr val="c94e35"/>
                </a:solidFill>
                <a:latin typeface="Arial"/>
              </a:rPr>
              <a:t>semantic featur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ition </a:t>
            </a:r>
            <a:r>
              <a:rPr b="0" lang="en-GB" sz="2800" spc="-1" strike="noStrike">
                <a:solidFill>
                  <a:srgbClr val="c94e35"/>
                </a:solidFill>
                <a:latin typeface="Arial"/>
              </a:rPr>
              <a:t>probabili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rom one state to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alog control </a:t>
            </a:r>
            <a:r>
              <a:rPr b="0" lang="en-GB" sz="2800" spc="-1" strike="noStrike">
                <a:solidFill>
                  <a:srgbClr val="c94e35"/>
                </a:solidFill>
                <a:latin typeface="Arial"/>
              </a:rPr>
              <a:t>design too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ith a graphic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FE1C-F7F2-4A8B-B3DF-4CDA3C46C95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01DB4A-0AAD-4E04-9260-E09B2AB3B243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xholm T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6040" y="1590840"/>
            <a:ext cx="8325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94e35"/>
                </a:solidFill>
                <a:latin typeface="Arial"/>
              </a:rPr>
              <a:t>TIME_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ask: get a time-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När går båten? (When does the boat leave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94e35"/>
                </a:solidFill>
                <a:latin typeface="Arial"/>
              </a:rPr>
              <a:t>SHOW_MAP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: get a chart or a map display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Var ligger Vaxholm? (Where is Vaxholm located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94e35"/>
                </a:solidFill>
                <a:latin typeface="Arial"/>
              </a:rPr>
              <a:t>EX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ask : display lodging and dining possi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Var finns det vandrarhem? (Where are there hostels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94e35"/>
                </a:solidFill>
                <a:latin typeface="Arial"/>
              </a:rPr>
              <a:t>OUT_OF_DOMA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ask :  the subject is out of the dom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Kan jag boka rum. (Can I book a room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94e35"/>
                </a:solidFill>
                <a:latin typeface="Arial"/>
              </a:rPr>
              <a:t>NO_UNDERSTAND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sk : no understanding of user inten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Jag heter Olle. (My name is Ol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94e35"/>
                </a:solidFill>
                <a:latin typeface="Arial"/>
              </a:rPr>
              <a:t>END_SCENAR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ask : end a dialo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Tack. (Thank you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4932-D3DD-4280-8A15-29A2B74EEBA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3F7E60-E1FA-4CEC-A56E-B7BFB9611603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85560" y="276120"/>
            <a:ext cx="6451560" cy="40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46480" y="1849320"/>
            <a:ext cx="7391880" cy="36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lvl="2" marL="228600">
              <a:lnSpc>
                <a:spcPct val="90000"/>
              </a:lnSpc>
              <a:tabLst>
                <a:tab algn="l" pos="0"/>
                <a:tab algn="ctr" pos="411120"/>
                <a:tab algn="ctr" pos="1714680"/>
                <a:tab algn="ctr" pos="2571840"/>
                <a:tab algn="ctr" pos="3427560"/>
                <a:tab algn="ctr" pos="4371840"/>
                <a:tab algn="ctr" pos="5313240"/>
                <a:tab algn="ctr" pos="6170760"/>
                <a:tab algn="l" pos="634212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TIME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SHOW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FACILITY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NO UNDER-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OUT OF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END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ctr" pos="411120"/>
                <a:tab algn="ctr" pos="1714680"/>
                <a:tab algn="ctr" pos="2571840"/>
                <a:tab algn="ctr" pos="3427560"/>
                <a:tab algn="ctr" pos="4371840"/>
                <a:tab algn="ctr" pos="5313240"/>
                <a:tab algn="ctr" pos="6170760"/>
                <a:tab algn="l" pos="634212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TABLE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MAP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STANDING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DOMAIN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ctr" pos="411120"/>
                <a:tab algn="ctr" pos="1714680"/>
                <a:tab algn="ctr" pos="2571840"/>
                <a:tab algn="ctr" pos="3427560"/>
                <a:tab algn="ctr" pos="4371840"/>
                <a:tab algn="ctr" pos="5313240"/>
                <a:tab algn="ctr" pos="6170760"/>
                <a:tab algn="l" pos="634212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ctr" pos="411120"/>
                <a:tab algn="ctr" pos="1714680"/>
                <a:tab algn="ctr" pos="2571840"/>
                <a:tab algn="ctr" pos="3427560"/>
                <a:tab algn="ctr" pos="4371840"/>
                <a:tab algn="ctr" pos="5313240"/>
                <a:tab algn="ctr" pos="6170760"/>
                <a:tab algn="l" pos="634212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ctr" pos="411120"/>
                <a:tab algn="ctr" pos="1714680"/>
                <a:tab algn="ctr" pos="2571840"/>
                <a:tab algn="ctr" pos="3427560"/>
                <a:tab algn="ctr" pos="4371840"/>
                <a:tab algn="ctr" pos="5313240"/>
                <a:tab algn="ctr" pos="6170760"/>
                <a:tab algn="l" pos="634212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OBJECT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62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312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73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67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ctr" pos="411120"/>
                <a:tab algn="ctr" pos="1714680"/>
                <a:tab algn="ctr" pos="2571840"/>
                <a:tab algn="ctr" pos="3427560"/>
                <a:tab algn="ctr" pos="4371840"/>
                <a:tab algn="ctr" pos="5313240"/>
                <a:tab algn="ctr" pos="6170760"/>
                <a:tab algn="l" pos="634212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QUEST-WHEN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188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31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24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67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ctr" pos="411120"/>
                <a:tab algn="ctr" pos="1714680"/>
                <a:tab algn="ctr" pos="2571840"/>
                <a:tab algn="ctr" pos="3427560"/>
                <a:tab algn="ctr" pos="4371840"/>
                <a:tab algn="ctr" pos="5313240"/>
                <a:tab algn="ctr" pos="6170760"/>
                <a:tab algn="l" pos="634212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QUEST-WHERE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 .062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688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390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67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ctr" pos="411120"/>
                <a:tab algn="ctr" pos="1714680"/>
                <a:tab algn="ctr" pos="2571840"/>
                <a:tab algn="ctr" pos="3427560"/>
                <a:tab algn="ctr" pos="4371840"/>
                <a:tab algn="ctr" pos="5313240"/>
                <a:tab algn="ctr" pos="6170760"/>
                <a:tab algn="l" pos="634212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FROM-PLACE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 .250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31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24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67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ctr" pos="411120"/>
                <a:tab algn="ctr" pos="1714680"/>
                <a:tab algn="ctr" pos="2571840"/>
                <a:tab algn="ctr" pos="3427560"/>
                <a:tab algn="ctr" pos="4371840"/>
                <a:tab algn="ctr" pos="5313240"/>
                <a:tab algn="ctr" pos="6170760"/>
                <a:tab algn="l" pos="634212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AT-PLACE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 .062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219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293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67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ctr" pos="411120"/>
                <a:tab algn="ctr" pos="1714680"/>
                <a:tab algn="ctr" pos="2571840"/>
                <a:tab algn="ctr" pos="3427560"/>
                <a:tab algn="ctr" pos="4371840"/>
                <a:tab algn="ctr" pos="5313240"/>
                <a:tab algn="ctr" pos="6170760"/>
                <a:tab algn="l" pos="634212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ctr" pos="411120"/>
                <a:tab algn="ctr" pos="1714680"/>
                <a:tab algn="ctr" pos="2571840"/>
                <a:tab algn="ctr" pos="3427560"/>
                <a:tab algn="ctr" pos="4371840"/>
                <a:tab algn="ctr" pos="5313240"/>
                <a:tab algn="ctr" pos="6170760"/>
                <a:tab algn="l" pos="634212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TIME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312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31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24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67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ctr" pos="411120"/>
                <a:tab algn="ctr" pos="1714680"/>
                <a:tab algn="ctr" pos="2571840"/>
                <a:tab algn="ctr" pos="3427560"/>
                <a:tab algn="ctr" pos="4371840"/>
                <a:tab algn="ctr" pos="5313240"/>
                <a:tab algn="ctr" pos="6170760"/>
                <a:tab algn="l" pos="634212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PLACE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200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500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67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ctr" pos="411120"/>
                <a:tab algn="ctr" pos="1714680"/>
                <a:tab algn="ctr" pos="2571840"/>
                <a:tab algn="ctr" pos="3427560"/>
                <a:tab algn="ctr" pos="4371840"/>
                <a:tab algn="ctr" pos="5313240"/>
                <a:tab algn="ctr" pos="6170760"/>
                <a:tab algn="l" pos="634212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OOD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62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31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122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933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ctr" pos="411120"/>
                <a:tab algn="ctr" pos="1714680"/>
                <a:tab algn="ctr" pos="2571840"/>
                <a:tab algn="ctr" pos="3427560"/>
                <a:tab algn="ctr" pos="4371840"/>
                <a:tab algn="ctr" pos="5313240"/>
                <a:tab algn="ctr" pos="6170760"/>
                <a:tab algn="l" pos="634212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END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62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31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24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67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90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ctr" pos="411120"/>
                <a:tab algn="ctr" pos="1714680"/>
                <a:tab algn="ctr" pos="2571840"/>
                <a:tab algn="ctr" pos="3427560"/>
                <a:tab algn="ctr" pos="4371840"/>
                <a:tab algn="ctr" pos="5313240"/>
                <a:tab algn="ctr" pos="6170760"/>
                <a:tab algn="l" pos="634212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HOTEL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62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31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488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67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ctr" pos="411120"/>
                <a:tab algn="ctr" pos="1714680"/>
                <a:tab algn="ctr" pos="2571840"/>
                <a:tab algn="ctr" pos="3427560"/>
                <a:tab algn="ctr" pos="4371840"/>
                <a:tab algn="ctr" pos="5313240"/>
                <a:tab algn="ctr" pos="6170760"/>
                <a:tab algn="l" pos="634212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HOSTEL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62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31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122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67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ctr" pos="411120"/>
                <a:tab algn="ctr" pos="1714680"/>
                <a:tab algn="ctr" pos="2571840"/>
                <a:tab algn="ctr" pos="3427560"/>
                <a:tab algn="ctr" pos="4371840"/>
                <a:tab algn="ctr" pos="5313240"/>
                <a:tab algn="ctr" pos="6170760"/>
                <a:tab algn="l" pos="634212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ISLAND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333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556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62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67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ctr" pos="411120"/>
                <a:tab algn="ctr" pos="1714680"/>
                <a:tab algn="ctr" pos="2571840"/>
                <a:tab algn="ctr" pos="3427560"/>
                <a:tab algn="ctr" pos="4371840"/>
                <a:tab algn="ctr" pos="5313240"/>
                <a:tab algn="ctr" pos="6170760"/>
                <a:tab algn="l" pos="634212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PORT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125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750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244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67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ctr" pos="411120"/>
                <a:tab algn="ctr" pos="1714680"/>
                <a:tab algn="ctr" pos="2571840"/>
                <a:tab algn="ctr" pos="3427560"/>
                <a:tab algn="ctr" pos="4371840"/>
                <a:tab algn="ctr" pos="5313240"/>
                <a:tab algn="ctr" pos="6170760"/>
                <a:tab algn="l" pos="634212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MOVE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875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31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8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67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ctr" pos="411120"/>
                <a:tab algn="ctr" pos="1714680"/>
                <a:tab algn="ctr" pos="2571840"/>
                <a:tab algn="ctr" pos="3427560"/>
                <a:tab algn="ctr" pos="4371840"/>
                <a:tab algn="ctr" pos="5313240"/>
                <a:tab algn="ctr" pos="6170760"/>
                <a:tab algn="l" pos="634212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52920" y="5840280"/>
            <a:ext cx="1243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argma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11120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63080" y="5769000"/>
            <a:ext cx="227016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{ p(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| F )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16400" y="5734080"/>
            <a:ext cx="344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9680" y="2459160"/>
            <a:ext cx="699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71120" y="1380960"/>
            <a:ext cx="24256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OPIC EXAM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1743120"/>
            <a:ext cx="1373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57400" y="1380960"/>
            <a:ext cx="14853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EAT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08160" y="1743120"/>
            <a:ext cx="1168200" cy="3365280"/>
          </a:xfrm>
          <a:custGeom>
            <a:avLst/>
            <a:gdLst/>
            <a:ahLst/>
            <a:rect l="l" t="t" r="r" b="b"/>
            <a:pathLst>
              <a:path w="736" h="2120">
                <a:moveTo>
                  <a:pt x="735" y="0"/>
                </a:moveTo>
                <a:lnTo>
                  <a:pt x="0" y="0"/>
                </a:lnTo>
                <a:lnTo>
                  <a:pt x="0" y="211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05040" y="1828800"/>
            <a:ext cx="0" cy="357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32240" y="1828800"/>
            <a:ext cx="0" cy="357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76800" y="1828800"/>
            <a:ext cx="0" cy="357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86520" y="1828800"/>
            <a:ext cx="0" cy="357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46720" y="1828800"/>
            <a:ext cx="0" cy="357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75520" y="1828800"/>
            <a:ext cx="0" cy="357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C477-D7B3-4D30-8A95-FE8B8246B2A2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BB1E46-8220-4A5C-97AF-7354FDD103CE}" type="datetime1">
              <a:rPr lang="en-US"/>
              <a:t>07/31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8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 prediction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46520" y="2428920"/>
            <a:ext cx="3124080" cy="2170080"/>
          </a:xfrm>
          <a:custGeom>
            <a:avLst/>
            <a:gdLst/>
            <a:ahLst/>
            <a:rect l="l" t="t" r="r" b="b"/>
            <a:pathLst>
              <a:path w="1968" h="1367">
                <a:moveTo>
                  <a:pt x="0" y="0"/>
                </a:moveTo>
                <a:lnTo>
                  <a:pt x="1967" y="0"/>
                </a:lnTo>
                <a:lnTo>
                  <a:pt x="1967" y="1366"/>
                </a:lnTo>
                <a:lnTo>
                  <a:pt x="0" y="1366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46520" y="3881520"/>
            <a:ext cx="313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46520" y="3156120"/>
            <a:ext cx="313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46520" y="2428920"/>
            <a:ext cx="313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46520" y="2428920"/>
            <a:ext cx="3133440" cy="2179440"/>
          </a:xfrm>
          <a:custGeom>
            <a:avLst/>
            <a:gdLst/>
            <a:ahLst/>
            <a:rect l="l" t="t" r="r" b="b"/>
            <a:pathLst>
              <a:path w="1974" h="1373">
                <a:moveTo>
                  <a:pt x="0" y="0"/>
                </a:moveTo>
                <a:lnTo>
                  <a:pt x="1973" y="0"/>
                </a:lnTo>
                <a:lnTo>
                  <a:pt x="1973" y="1372"/>
                </a:lnTo>
                <a:lnTo>
                  <a:pt x="0" y="137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46520" y="2428920"/>
            <a:ext cx="0" cy="217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22400" y="460692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22400" y="44625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22400" y="43164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22400" y="417204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22400" y="402732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22400" y="388152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22400" y="37353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22400" y="35910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22400" y="344484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22400" y="330048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22400" y="315612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22400" y="30081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22400" y="28638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22400" y="271944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22400" y="257328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22400" y="242892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16280" y="46069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16280" y="38815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16280" y="31561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6280" y="24289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46520" y="4606920"/>
            <a:ext cx="313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846520" y="4576680"/>
            <a:ext cx="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73840" y="4486320"/>
            <a:ext cx="30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73840" y="3759120"/>
            <a:ext cx="30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14440" y="3033720"/>
            <a:ext cx="416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14440" y="2306520"/>
            <a:ext cx="416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72200" y="3011400"/>
            <a:ext cx="235080" cy="265320"/>
          </a:xfrm>
          <a:prstGeom prst="rect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54440" y="2963880"/>
            <a:ext cx="41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72200" y="3614760"/>
            <a:ext cx="22068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3400" y="3467160"/>
            <a:ext cx="2041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no understanding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xclu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21840" y="2438280"/>
            <a:ext cx="5875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2,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9360" y="2436840"/>
            <a:ext cx="5875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2,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55280" y="2968560"/>
            <a:ext cx="47160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,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00000" y="3013200"/>
            <a:ext cx="47160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02840" y="4784760"/>
            <a:ext cx="1035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no ex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lingu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ou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66200" y="4784760"/>
            <a:ext cx="611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r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81320" y="2730600"/>
            <a:ext cx="300240" cy="1874880"/>
          </a:xfrm>
          <a:custGeom>
            <a:avLst/>
            <a:gdLst/>
            <a:ahLst/>
            <a:rect l="l" t="t" r="r" b="b"/>
            <a:pathLst>
              <a:path w="189" h="1181">
                <a:moveTo>
                  <a:pt x="0" y="0"/>
                </a:moveTo>
                <a:lnTo>
                  <a:pt x="188" y="0"/>
                </a:lnTo>
                <a:lnTo>
                  <a:pt x="188" y="1180"/>
                </a:lnTo>
                <a:lnTo>
                  <a:pt x="0" y="1180"/>
                </a:lnTo>
                <a:lnTo>
                  <a:pt x="0" y="0"/>
                </a:lnTo>
              </a:path>
            </a:pathLst>
          </a:custGeom>
          <a:solidFill>
            <a:srgbClr val="808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24600" y="2759040"/>
            <a:ext cx="299880" cy="1846440"/>
          </a:xfrm>
          <a:custGeom>
            <a:avLst/>
            <a:gdLst/>
            <a:ahLst/>
            <a:rect l="l" t="t" r="r" b="b"/>
            <a:pathLst>
              <a:path w="189" h="1163">
                <a:moveTo>
                  <a:pt x="0" y="0"/>
                </a:moveTo>
                <a:lnTo>
                  <a:pt x="188" y="0"/>
                </a:lnTo>
                <a:lnTo>
                  <a:pt x="188" y="1162"/>
                </a:lnTo>
                <a:lnTo>
                  <a:pt x="0" y="1162"/>
                </a:lnTo>
                <a:lnTo>
                  <a:pt x="0" y="0"/>
                </a:lnTo>
              </a:path>
            </a:pathLst>
          </a:custGeom>
          <a:solidFill>
            <a:srgbClr val="808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79760" y="3325680"/>
            <a:ext cx="298440" cy="1279800"/>
          </a:xfrm>
          <a:custGeom>
            <a:avLst/>
            <a:gdLst/>
            <a:ahLst/>
            <a:rect l="l" t="t" r="r" b="b"/>
            <a:pathLst>
              <a:path w="188" h="806">
                <a:moveTo>
                  <a:pt x="0" y="0"/>
                </a:moveTo>
                <a:lnTo>
                  <a:pt x="187" y="0"/>
                </a:lnTo>
                <a:lnTo>
                  <a:pt x="187" y="805"/>
                </a:lnTo>
                <a:lnTo>
                  <a:pt x="0" y="805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23040" y="3370320"/>
            <a:ext cx="299880" cy="1235160"/>
          </a:xfrm>
          <a:custGeom>
            <a:avLst/>
            <a:gdLst/>
            <a:ahLst/>
            <a:rect l="l" t="t" r="r" b="b"/>
            <a:pathLst>
              <a:path w="189" h="778">
                <a:moveTo>
                  <a:pt x="0" y="0"/>
                </a:moveTo>
                <a:lnTo>
                  <a:pt x="188" y="0"/>
                </a:lnTo>
                <a:lnTo>
                  <a:pt x="188" y="777"/>
                </a:lnTo>
                <a:lnTo>
                  <a:pt x="0" y="777"/>
                </a:lnTo>
                <a:lnTo>
                  <a:pt x="0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21760" y="3794040"/>
            <a:ext cx="47160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90040" y="3828960"/>
            <a:ext cx="47160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,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90000" y="4788000"/>
            <a:ext cx="1072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a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16080" y="4156200"/>
            <a:ext cx="300240" cy="452160"/>
          </a:xfrm>
          <a:custGeom>
            <a:avLst/>
            <a:gdLst/>
            <a:ahLst/>
            <a:rect l="l" t="t" r="r" b="b"/>
            <a:pathLst>
              <a:path w="189" h="285">
                <a:moveTo>
                  <a:pt x="0" y="0"/>
                </a:moveTo>
                <a:lnTo>
                  <a:pt x="188" y="0"/>
                </a:lnTo>
                <a:lnTo>
                  <a:pt x="188" y="284"/>
                </a:lnTo>
                <a:lnTo>
                  <a:pt x="0" y="284"/>
                </a:lnTo>
                <a:lnTo>
                  <a:pt x="0" y="0"/>
                </a:lnTo>
              </a:path>
            </a:pathLst>
          </a:custGeom>
          <a:solidFill>
            <a:srgbClr val="808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14880" y="4187880"/>
            <a:ext cx="298440" cy="420480"/>
          </a:xfrm>
          <a:custGeom>
            <a:avLst/>
            <a:gdLst/>
            <a:ahLst/>
            <a:rect l="l" t="t" r="r" b="b"/>
            <a:pathLst>
              <a:path w="188" h="265">
                <a:moveTo>
                  <a:pt x="0" y="0"/>
                </a:moveTo>
                <a:lnTo>
                  <a:pt x="187" y="0"/>
                </a:lnTo>
                <a:lnTo>
                  <a:pt x="187" y="264"/>
                </a:lnTo>
                <a:lnTo>
                  <a:pt x="0" y="264"/>
                </a:lnTo>
                <a:lnTo>
                  <a:pt x="0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1625040" y="3379680"/>
            <a:ext cx="99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% Err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BFC5-EA16-443D-83FE-5CDEB0084738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E0BB82-7887-46DF-BD60-AB55FD90954A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17T17:52:10Z</dcterms:created>
  <dc:creator>Julia Hirschberg</dc:creator>
  <dc:description/>
  <dc:language>en-US</dc:language>
  <cp:lastModifiedBy>Julia Hirschberg</cp:lastModifiedBy>
  <cp:lastPrinted>1999-05-22T22:06:30Z</cp:lastPrinted>
  <dcterms:modified xsi:type="dcterms:W3CDTF">2007-05-01T17:29:06Z</dcterms:modified>
  <cp:revision>411</cp:revision>
  <dc:subject/>
  <dc:title>No Slide Title</dc:title>
</cp:coreProperties>
</file>