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320-C516-4DA1-ADE2-5D8DE6A4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‘.’ corresponds to 0.25 sec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8FF-83E2-4DBC-A092-14AE649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12F-B665-4424-9587-6A6728BB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F21-CC60-4EDB-9308-32CD3228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042-F166-4547-8454-D1AD4F57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D8C-CF7B-4763-96A2-C0BFB7A8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1F6-7407-49FE-BDC7-C7DBD779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AB4-CE2B-46FB-A246-BE075CE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290-F836-495C-AFF3-0266BFE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BCE-1A89-459D-B9F5-78386E1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31F-E793-4880-83D8-A2EB7AC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E6D-FCED-4D54-9EC9-23FD52E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4E2-BCF9-45B9-A49A-2D41E88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7C08-5CB1-47E6-A1F7-96759E39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mosamples.syntheticspeech.de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dc.upenn.edu/Catalog/LDC2002S28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1.cs.columbia.edu/nlp/emotio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 (thanks to Jackson Liscombe and Lauren Wilcox for some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 Inter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76520"/>
          <a:ext cx="8229600" cy="4091040"/>
        </p:xfrm>
        <a:graphic>
          <a:graphicData uri="http://schemas.openxmlformats.org/drawingml/2006/table">
            <a:tbl>
              <a:tblPr/>
              <a:tblGrid>
                <a:gridCol w="1290600"/>
                <a:gridCol w="484200"/>
                <a:gridCol w="727200"/>
                <a:gridCol w="725400"/>
                <a:gridCol w="646200"/>
                <a:gridCol w="725400"/>
                <a:gridCol w="725400"/>
                <a:gridCol w="727200"/>
                <a:gridCol w="725400"/>
                <a:gridCol w="646200"/>
                <a:gridCol w="806400"/>
              </a:tblGrid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932640" y="5715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 &lt; 0.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52E-2436-4E81-94B7-DA328F4FEE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 are heavily c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with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with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 are non-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y be clustered empi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D53-8681-48F0-AA07-88293A5A1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itch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06440" y="1531800"/>
            <a:ext cx="6529320" cy="456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91120" y="5105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33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609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ence/Ac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15E-210F-4DC4-BF59-58F9F20DDE7D}" type="slidenum">
              <a:t>1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6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9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ence/Same Ac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06440" y="1531800"/>
            <a:ext cx="6529320" cy="4562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57880" y="5105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3BB-84AF-44D6-A92C-EE47EB9270D7}" type="slidenum">
              <a:t>1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coustic-proso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Davitz, 1964] [Huttar, 196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charact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Cont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Mozziconacci &amp; Hermes,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T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Banse &amp; Scherer, 1996] [Ang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20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C6B-5A46-4F1A-9D19-07C313CD4A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Learning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PPER 90/10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classification for each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average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average accurac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-prosodic features for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H-L%/ for negative; /L-L%/ f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tilt for va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BC2-7A2A-419F-BB3C-24CE1CB2BE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Distinguishing One Emotion from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94000" y="1754280"/>
          <a:ext cx="4356000" cy="4379760"/>
        </p:xfrm>
        <a:graphic>
          <a:graphicData uri="http://schemas.openxmlformats.org/drawingml/2006/table">
            <a:tbl>
              <a:tblPr/>
              <a:tblGrid>
                <a:gridCol w="1936800"/>
                <a:gridCol w="1209600"/>
                <a:gridCol w="12096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439-F433-4F05-9BDB-9CEA786F6C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Cent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’s “How May I Help You?”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oft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g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4D3-2F74-412E-A870-A1EF6F0845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66960"/>
            <a:ext cx="7238880" cy="4824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IH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5240" y="2093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ru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480" y="469260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mewhat Fru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07B-2A3F-41FB-B70C-3F6D7FF7D0F2}" type="slidenum">
              <a:t>18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, Energy an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28600" y="1413000"/>
          <a:ext cx="929628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13000"/>
                    <a:ext cx="92962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D94-070E-4A94-A6EB-9E5B296500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tudy emotional spe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modeling emotional speech so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and percep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Quality features:  the holy g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095-A4DE-463C-B0B4-5F18E3577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coustic-pros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Cauldwell, 20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Schröder, 2003] [Brennan, 199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Ang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2002] [Lee &amp; Narayanan, 20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9A7-9057-4294-BB67-6D11CD6EB7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. Improv.  over 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y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+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+lex+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B4B-E343-48F6-9450-2836BF542C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 Systems Should Respond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 [Pon-Barry et al. 20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ing vs. 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improvement by responding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F80-A42F-4172-88D9-473FC4E83F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uncertainty sound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6640" y="2933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2240" y="499896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2C1-495F-44B7-9655-BCFDE2FC6B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839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9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8229600" cy="56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65360" y="39369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581280" y="3936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16320" y="441972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[pr01_sess00_prob5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F11-578C-41F7-AB8D-177D6CED112A}" type="slidenum">
              <a:t>24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775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257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56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ITSp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17600" y="5500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[71-67-1:92-11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&lt;sigh&gt; I don’t even think I have an idea her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 isn’t weigh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 i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 that an object takes up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at 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67C-3D7E-414D-90E2-361F7FE07DCF}" type="slidenum">
              <a:t>25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54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pok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Human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Boost(C4.5) 90/10 split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Uncer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r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8120" y="3665520"/>
          <a:ext cx="4419360" cy="2643120"/>
        </p:xfrm>
        <a:graphic>
          <a:graphicData uri="http://schemas.openxmlformats.org/drawingml/2006/table">
            <a:tbl>
              <a:tblPr/>
              <a:tblGrid>
                <a:gridCol w="2438280"/>
                <a:gridCol w="19810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-proso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contex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reath-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8FC-6EDA-4ACE-BF57-32F3C203582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pok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676520"/>
          <a:ext cx="6096240" cy="2192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-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23880" y="3733920"/>
          <a:ext cx="6096240" cy="2047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 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072-7E05-4EBE-A0E7-140F7D583E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 Quality and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ual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 variety of laryngeal and supralarynge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, creaky, whispered, harsh, breath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es with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er ‘80, Scherer ‘86, 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Murray&amp; Arnott ’93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kkanen ’96, Johnstone &amp; Scherer ’99, Gobl &amp; Chasaide, ‘03, Fernandez ‘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48040" y="342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1508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8176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81360" y="3429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AC4-B022-40AC-9017-078DFF9776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ation Ges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83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ive tension: interarytenoid muscles adduct the arytenoi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ompression: adductive force on vocal processes- adjustment of ligamental 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pressure: tension of vocal f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419720" cy="39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242-4A8F-43F2-8043-786FDE00DD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tudy emotional spee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-car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agents (Wildf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‘emotional speech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tle understood, so hard to produce: 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voice that sounds friendly, sympathetic, authoritativ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T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CE0-C1C2-4958-AAFC-251D81A198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”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adjustments mode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 of vocal folds periodic, full closing of glottis, no audible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vibration and loudness in low to mid range for conversational spee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90A-26F9-4720-89CC-096D318079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00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trong tension of vocal folds, very high tension in voc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98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The image “file:///c:/Documents%20and%20Settings/Lauren%20Wilcox/Desktop/Harsh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076640" y="2057400"/>
            <a:ext cx="5067360" cy="449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322-786F-4FC6-A3D0-3D20FDE260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1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sper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038480" cy="498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38680" y="1295280"/>
            <a:ext cx="335304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ow adductive 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ompression moderate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tension moderate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or no vocal fol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 generated by friction of air in and above laryn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The image “file:///c:/Documents%20and%20Settings/Lauren%20Wilcox/Desktop/Whisp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0" y="1219320"/>
            <a:ext cx="5524560" cy="489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12A-D5CF-4B8B-8F32-AD6EB1BF1C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59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ky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l fold vibration at low frequency, ir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ension (only ligamental part of glottis vib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cal folds strongly ad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tension w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ly high medi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5280" y="3786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81640" cy="3971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95880" y="5335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1F3-5D91-4980-8634-5D441DA831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98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8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y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adductive 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medial com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longitudinal vocal fold t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l folds do not come together completely, leading to f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2149560"/>
            <a:ext cx="4038480" cy="357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8A2-810D-4693-8671-9BB353950E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097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ng Voic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wrt controlled neutr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ow do we know the control is truly “neutral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ust match the natural laryngeal behavior to laboratory “neut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knowledge of models of vocal fold movements may be inadequate for describing real ph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relationships between acoustic signal and voice source ar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an observe behavior of voicing indirectly so prone to err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ource data obtained by invasive techniques which may interfere with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AA7-B375-4AE8-982C-FDF4E43C92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p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B78-68E2-4969-8223-7DEA9990EE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 in Spoken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liner, Huber, Fischer, Spilker,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mobil (Wizard of Oz scen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, Dhillon, Krupski, Shriberg, Stolc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PA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combe, Guicciardi, Tur, Gokken-Tur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y I Help You?” cal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, Narayan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works call-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combe, Hirschberg, Venditti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poke Tutoring System (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25A-A02B-419B-8F4B-3359ECB05E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emotional speech so hard to mode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oquial definitions of speakers and liste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terances may convey multiple emotio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consensu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get reliable train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5F3-81BA-4544-8256-1C0E006CA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ampbell, 2003] [Roach, 2000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wie et al.,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Vidrascu &amp; Devillers, 2005] [Ang et al., 20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Litman and Forbes-Riley, 2004] [Batliner et al., 20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Lee &amp; Narayanan, 20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Wrede and Shriberg, 20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040" y="19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833-C64F-4149-9C4C-71868FFF16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784160"/>
            <a:ext cx="2984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57760" y="838080"/>
            <a:ext cx="370044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83800" y="4319640"/>
            <a:ext cx="243936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ed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76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5146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BC3-3475-4130-B796-6F1BED3EE881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8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1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5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DC Emotional Prosody and Transcript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ally neutral (dates and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e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6E0-7A34-41C3-8848-8A1D89D0A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motions Mutually Ex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tudy to classify tokens from LDC Emotional Prosody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emotions on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: confident, encouraging, friendly, happy,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: angry, anxious, bored, frustrated, 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5A9-F337-4989-B7D9-387B0E9A6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1:42:24Z</dcterms:created>
  <dc:creator/>
  <dc:description/>
  <dc:language>en-US</dc:language>
  <cp:lastModifiedBy>julia hirschberg</cp:lastModifiedBy>
  <dcterms:modified xsi:type="dcterms:W3CDTF">2006-04-16T21:42:10Z</dcterms:modified>
  <cp:revision>170</cp:revision>
  <dc:subject/>
  <dc:title>Emotional Speech</dc:title>
</cp:coreProperties>
</file>