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599-19CB-45EE-BA5F-08EC4BD4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87A-E02E-4353-853F-09BD8A94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B7F7-5C72-4DD3-9648-A2427F44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05D-8422-4B9B-A311-9883FCC1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B635-D490-4411-B4AF-D0708218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ECE-800A-4EFF-A352-9BBA3DD2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829-6CA2-40BF-82B7-78874374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B39-C17A-4F85-BE73-A1552876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87A-F946-492E-ABBA-07AAE3A2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016-7E62-4271-998B-F756D71E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C8C-92C8-42CB-81B7-CC3BF409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F86-4B79-413C-B658-9C1AB10A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7A41-1AE2-40E6-9CBA-C255726BD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-ToB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nnifer J. Vend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 by James Ris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 %L and %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ur at the beginning of utterance or post-pausal medial 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%wL used when phrase begins with an accented mora or a long syl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%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76720" y="304920"/>
            <a:ext cx="536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03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H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429000" y="533520"/>
            <a:ext cx="5016600" cy="5668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35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biguous H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960" y="1600200"/>
            <a:ext cx="399096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68840" y="1600200"/>
            <a:ext cx="399744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8580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8769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263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22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HL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278240" y="1295280"/>
            <a:ext cx="4451400" cy="5029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82880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50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nt Uncertainty (*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281480" y="1295280"/>
            <a:ext cx="4425840" cy="5029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9051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603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 degrees of break ind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  very small disj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consecutiv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 medium disj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 strong disjuncture between adjacent words or between a word and si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  mis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 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  disfl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ity 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urs on break inde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ity related phenomena: final F0 lowering, segmental lengthening, creaky voice, amplitude lowering, long pauses, stylized “finality” cont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400536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829040" y="1600200"/>
            <a:ext cx="3981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1055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415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256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anese ToB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use with Tokyo Japa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stent with design principles of English To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one accent 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us on location of tones, and phrase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ve tiers: tones, words, break indices, finality, miscellan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d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70866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*+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03856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2880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1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*+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anese has lexical ac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a word is accented, place H*+L on the accented syl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the accent is early or late, place &gt; on the early accent or &lt; on the late accent, and mark H*+L where it should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20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te Acc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94040" y="609480"/>
            <a:ext cx="487224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051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7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rasal H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16384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0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undary 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L% and wL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 %L and %w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H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L% and wL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ur at end of accentual 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L% used when following phrase (without pause) is initially accented or begins with a long syll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L% indicates that the L% was not able to be fully realized and is unders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17:17:56Z</dcterms:created>
  <dc:creator>Jimmy</dc:creator>
  <dc:description/>
  <dc:language>en-US</dc:language>
  <cp:lastModifiedBy>Jimmy</cp:lastModifiedBy>
  <dcterms:modified xsi:type="dcterms:W3CDTF">2005-03-31T01:56:16Z</dcterms:modified>
  <cp:revision>10</cp:revision>
  <dc:subject/>
  <dc:title>J-ToBi</dc:title>
</cp:coreProperties>
</file>