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6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7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8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7374F2F-42A7-4CCC-8DF2-A9630E752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and anger overl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eira used different terminology: Pleasure, power, arou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process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’s come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ditions trigger emotion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of th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generation of e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icit specification of goal structures relating to e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emotion make system be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ace – Descar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u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ain interpretation, help pred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= stand back; smile != punch in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hone: Whether F0 and duration are sufficient to express emotion: is voice quality indispens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, for some speakers and some emo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on parameters as in Forman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B searched for matching sample; if found, no signal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 results are really 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approach: separate DB’s for separate emotions: good recogni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stration is lower than expected for a real life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native speaker data was thrown out b/c hard to judge hyperarticulation; longer call duration implied greater tolerance for frustration, system fail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is not a linear phenomenon. Freudian slip, for ex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philosophical schools of the time eschewed the metaphys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ED7D9-8D7E-497F-A73A-F6B6788652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4551120"/>
            <a:ext cx="7693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4D8E9-3DCB-445A-B2CA-AE400F68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80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9CB45-C659-4DB9-9DC1-C2333950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455112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39080" y="455112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0080" y="455112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671C6-C1C0-4AEA-A5F0-183D46B826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534CE-CF7D-4F5A-8FB7-7F028224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DE443-3682-41C0-8496-97AC4E27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A4837-C92F-4BC4-ABE7-AB6768C4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B98CD-5475-438F-B1B0-A10F300B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FC8A9-F6CD-4B0F-92C7-927C67ED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29440" y="829440"/>
            <a:ext cx="7789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4D0F9-665F-48C4-9F96-131D2C5B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77E60-D54A-463A-BB25-F310A85B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249B9-BEF8-4E00-AE5A-5928F73F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80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96555-26F3-46DD-AA70-390ADE5C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551120"/>
            <a:ext cx="7693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E1F86-C3F2-456B-A7F0-E9797F1B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551120"/>
            <a:ext cx="7693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9C6F2-D44D-4FD2-B7D5-EAFBB170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80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3D2F8-EF1A-4152-BEDA-9DDC5E04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55112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39080" y="455112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0080" y="455112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51CF3-4CBD-4588-8944-53DE3943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816C9-261E-4AEC-9BDC-1BA8E8DC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97401-69EA-4F30-AA7C-4DB740B2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B53F6-67F0-48C2-95B7-8EB80C0F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29440" y="829440"/>
            <a:ext cx="7789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3FD64-76DB-4798-9951-0D41B08B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C36EE-D58F-4DBA-847A-69EB4C3F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80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DF0E9-9F67-4EF0-8317-8B191980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551120"/>
            <a:ext cx="7693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A7940-98AC-46D5-AA25-CA185447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819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819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228600" y="1905120"/>
            <a:ext cx="7391520" cy="318960"/>
            <a:chOff x="228600" y="1905120"/>
            <a:chExt cx="7391520" cy="318960"/>
          </a:xfrm>
        </p:grpSpPr>
        <p:sp>
          <p:nvSpPr>
            <p:cNvPr id="4" name=""/>
            <p:cNvSpPr/>
            <p:nvPr/>
          </p:nvSpPr>
          <p:spPr>
            <a:xfrm>
              <a:off x="609480" y="190512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486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28600" y="1905120"/>
              <a:ext cx="393840" cy="318960"/>
            </a:xfrm>
            <a:prstGeom prst="flowChartDelay">
              <a:avLst/>
            </a:prstGeom>
            <a:solidFill>
              <a:srgbClr val="486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0810-4A13-4976-B7E8-D640398DC63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819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D189-ED62-4338-A590-C061EEECEAC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antipolygraph.org/" TargetMode="External"/><Relationship Id="rId2" Type="http://schemas.openxmlformats.org/officeDocument/2006/relationships/hyperlink" Target="http://www.love-detector.com/" TargetMode="External"/><Relationship Id="rId3" Type="http://schemas.openxmlformats.org/officeDocument/2006/relationships/hyperlink" Target="http://news-info.wustl.edu/news/page/normal/669.html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ceptive Spee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749840" y="4495320"/>
            <a:ext cx="4013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000" spc="-1" strike="noStrike" baseline="3000">
                <a:solidFill>
                  <a:srgbClr val="003366"/>
                </a:solidFill>
                <a:latin typeface="Arial"/>
              </a:rPr>
              <a:t>Frank Enos • April 25, 2005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rank Tells Some Li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I’m buying tickets to Handel’s </a:t>
            </a: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essiah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for me and my friends — would you like to join u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When is it?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December 19t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Uh… the 19th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y two friends from school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e comi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876920" y="3657600"/>
            <a:ext cx="4114800" cy="2895480"/>
            <a:chOff x="4876920" y="3657600"/>
            <a:chExt cx="4114800" cy="2895480"/>
          </a:xfrm>
        </p:grpSpPr>
        <p:grpSp>
          <p:nvGrpSpPr>
            <p:cNvPr id="126" name=""/>
            <p:cNvGrpSpPr/>
            <p:nvPr/>
          </p:nvGrpSpPr>
          <p:grpSpPr>
            <a:xfrm>
              <a:off x="5562720" y="3733920"/>
              <a:ext cx="3429000" cy="2514600"/>
              <a:chOff x="5562720" y="3733920"/>
              <a:chExt cx="3429000" cy="2514600"/>
            </a:xfrm>
          </p:grpSpPr>
          <p:sp>
            <p:nvSpPr>
              <p:cNvPr id="127" name=""/>
              <p:cNvSpPr/>
              <p:nvPr/>
            </p:nvSpPr>
            <p:spPr>
              <a:xfrm>
                <a:off x="5639040" y="3810240"/>
                <a:ext cx="3352680" cy="2438280"/>
              </a:xfrm>
              <a:prstGeom prst="rect">
                <a:avLst/>
              </a:prstGeom>
              <a:solidFill>
                <a:srgbClr val="000000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62720" y="3733920"/>
                <a:ext cx="335268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4876920" y="3657600"/>
              <a:ext cx="36781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noAutofit/>
            </a:bodyPr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Conceal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Falsification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Misdirecting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Telling the truth falsel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Half-conceal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Incorrect inference dodge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838080" y="5778360"/>
            <a:ext cx="495324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31105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a31105"/>
                </a:solidFill>
                <a:latin typeface="Arial"/>
              </a:rPr>
              <a:t> Oh gee, I’m having an </a:t>
            </a:r>
            <a:br>
              <a:rPr sz="2400"/>
            </a:br>
            <a:r>
              <a:rPr b="0" lang="en-US" sz="2400" spc="-1" strike="noStrike">
                <a:solidFill>
                  <a:srgbClr val="a31105"/>
                </a:solidFill>
                <a:latin typeface="Arial"/>
              </a:rPr>
              <a:t>    appendectomy that nigh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Reasons To Lie (Frank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92 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f-preserv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f-pres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G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truistic (social) l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Not To Lie (Ekma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01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t of the truth comes ou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ar shows inconsistent emo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ar says something inconsistent with the l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eption clu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dications that the speaker is deceiv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gain, can be emo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nsistent sto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Not To Lie (Ekma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01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d li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ying well is har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brication means keeping story straigh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alment means remembering what is omit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l this creates cognitive load </a:t>
            </a:r>
            <a:r>
              <a:rPr b="0" lang="en-US" sz="2000" spc="-1" strike="noStrike">
                <a:solidFill>
                  <a:srgbClr val="003366"/>
                </a:solidFill>
                <a:latin typeface="Zapf Dingbats"/>
                <a:ea typeface="Zapf Dingbats"/>
              </a:rPr>
              <a:t>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harder to hide emo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tection apprehension (fea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rget is hard to foo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rget is suspicio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kes are hig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ious rewards and/or punishments are at stak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nishment for being caught is gre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Not To Lie (Ekma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01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209680"/>
            <a:ext cx="7693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eption guilt (vs. sham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kes for the target are hig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ceit is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unauthoriz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ar is not practiced at ly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ar and target are acquain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rget can’t be faulted as mean or gull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ception is unexpected by targ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uping delig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rget poses particular challen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e is a particular challen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thers can appreciate liar’s performa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eatures of Decep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gni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herence, flu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pers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ourse features: DA, turn-taking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Some addressed by Statement Analysi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o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scribing Emotion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mary emo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eptance, anger, anticipation, disgust, joy,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ar, sadness, surpri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e approach: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inuous dim. model (Cowie/Lan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tivation – evaluation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 control/ag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mary E’s differ on at least 2 dimensions of this scale (Pereir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14680" y="119592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blems With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motion and Decep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evant emotions may not differ much on these sc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thello err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ople are afraid of the pol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ople are angry when wrongly accus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ople think pizza is funn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okow haz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ilure to account for individual differen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0th Century Lie Detec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lygrap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 baseline="3000">
                <a:solidFill>
                  <a:srgbClr val="003366"/>
                </a:solidFill>
                <a:uFillTx/>
                <a:latin typeface="Arial"/>
                <a:hlinkClick r:id="rId1"/>
              </a:rPr>
              <a:t>http://antipolygraph.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Polygraph and Lie Detection (N.A.P. 2003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ice Stress Analy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crotremors 8-12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iversal Lie respon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love-detector.com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news-info.wustl.edu/news/page/normal/669.htm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havioral Analysis Intervie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rog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ception Experiments (Frank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92)</a:t>
            </a:r>
            <a:br>
              <a:rPr sz="3600"/>
            </a:b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ddresses lying a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pendent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variabl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e and form of l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al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lsif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sdirect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lling the truth false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lf-conceal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rrect inference dodg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tive for Ly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lf-preserv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lf-pres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a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truistic (social) l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fining Decep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liberate choice to mislead a target  without notification (Ekm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0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ten to gain some advant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lud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f-dece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ater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lsehoods due to ignorance/err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thological behavi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ception Experiments (Frank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92)</a:t>
            </a:r>
            <a:br>
              <a:rPr sz="3600"/>
            </a:b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ddresses lying a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pendent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variabl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enar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*Topic of the lie: opinion; state; ev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kes for lying / stakes for telling the trut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val between event and subject’s accou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personal stru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racteristics of the li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racteristics of the targ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ce or absence of a “coach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ce or absence of oth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Good Old Day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hrabian 1971: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onverbal Betrayal of Fee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29440" y="829440"/>
            <a:ext cx="82465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ulk of extant deception research…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focused on verifying 20th century techni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e by psychologi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iders primarily facial and physical c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ech is hard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ttle focus on automatic detection of dece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odeling Deception in Spee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xic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sodic/Acous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our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ception in Speech (Depaulo ’03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itive Correl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rupted/repeated wo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ferences to “external” ev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rbal/vocal uncertain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cal ten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ception in Speech (Depaulo ’03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gative Correlat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 stays on top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mitted uncertain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rbal/vocal immedia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mitted lack of memo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ontaneous corre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blems, revisited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erences du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n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cial Statu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nguag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lumbia/SRI/Colorado Corpu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 Julia Hirschberg, Stefan Benus,      Sarah Friedman, Sarah Gilman, and colleagues from SRI/ICSI and U. C. Boul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ine feasibility of automatic deception detection using spee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over or verify acoustic/prosodic, lexical,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discourse correlates of dece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l a “non-guilt” scen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 a “clean” cor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lumbia/SRI/Colorado Corpu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flated-performance scen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tivation: financial gain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self-presen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2 Subjects: 16 women, 16 m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tive speakers of Standard American Englis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s told study seeks to identify people who match profile based on “25 Top Entrepreneur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lumbia/SRI/Colorado Corpu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s take test in six categori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active, music, survival, food,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YC geography, civic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estions manipulated </a:t>
            </a:r>
            <a:r>
              <a:rPr b="0" lang="en-US" sz="2400" spc="-1" strike="noStrike">
                <a:solidFill>
                  <a:srgbClr val="003366"/>
                </a:solidFill>
                <a:latin typeface="Zapf Dingbats"/>
                <a:ea typeface="Zapf Dingbats"/>
              </a:rPr>
              <a:t>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 too high; 2 too low; 2 mat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s told study also seeks people who can convince interviewer they match profi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lf-presentation + rewar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s undergo recorded interview in boo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dicate veracity of factual content of each utterance using peda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y study deception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w enforcement / Jurisprud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lligence / Military /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it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ntal health practition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cial situ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it ever good to li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SC Corpus: Dat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5.2 hrs. of interviews; 7 hrs subject spee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xically transcribed &amp; automatically aligned </a:t>
            </a:r>
            <a:r>
              <a:rPr b="0" lang="en-US" sz="2400" spc="-1" strike="noStrike">
                <a:solidFill>
                  <a:srgbClr val="003366"/>
                </a:solidFill>
                <a:latin typeface="Zapf Dingbats"/>
                <a:ea typeface="Zapf Dingbats"/>
              </a:rPr>
              <a:t>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xical/discourse feat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e conditions: Big Lie / Little L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gmentations (LT/LL):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ash units (5709/3782), phrases (11,612/7108)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urns (2230/157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oustic features  (± recognizer outpu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SC Corpus: Result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ssification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Ripper rule induction, randomized 5-fold cv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lash Units / Little Lies — Baseline 39.8% er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xical &amp; acoustic: 37.2 %; + subject dependent: 33.6%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hrases / Little Lies — Baseline 38.2% er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xical &amp; acoustic 34.0%; + subject dependent: 27.9%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finding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sitive emotion words</a:t>
            </a:r>
            <a:r>
              <a:rPr b="0" lang="en-US" sz="2000" spc="-1" strike="noStrike">
                <a:solidFill>
                  <a:srgbClr val="003366"/>
                </a:solidFill>
                <a:latin typeface="Zapf Dingbats"/>
                <a:ea typeface="Zapf Dingbats"/>
              </a:rPr>
              <a:t>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eception (LIW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leasantness </a:t>
            </a:r>
            <a:r>
              <a:rPr b="0" lang="en-US" sz="2000" spc="-1" strike="noStrike">
                <a:solidFill>
                  <a:srgbClr val="003366"/>
                </a:solidFill>
                <a:latin typeface="Zapf Dingbats"/>
                <a:ea typeface="Zapf Dingbats"/>
              </a:rPr>
              <a:t>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eception (DA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lled pauses </a:t>
            </a:r>
            <a:r>
              <a:rPr b="0" lang="en-US" sz="2000" spc="-1" strike="noStrike">
                <a:solidFill>
                  <a:srgbClr val="003366"/>
                </a:solidFill>
                <a:latin typeface="Zapf Dingbats"/>
                <a:ea typeface="Zapf Dingbats"/>
              </a:rPr>
              <a:t>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ru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me pitch correlation — varies with subje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ur Future Work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ividual differ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zards of dece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rk Frank Mock Theft Paradig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w paradig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r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ition of personality t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er stak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y study deception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makes speech “believable”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gnizing deception means recognizing inten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people spot a lia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es this relate to other subjective phenomena in speech? E.g. emotion, charis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29800" y="829440"/>
            <a:ext cx="748440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blems in studying deception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people are terrible at detecting deception — ~50% accuracy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Ekman &amp; O’sullivan 1991, etc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ople use subjective judgments —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otion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gnizing emotion is h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9440" y="829440"/>
            <a:ext cx="771300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blems in studying deception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 to get good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al worl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borato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thical iss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va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ubject righ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aims of succ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t also ethical imperativ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eed for reliable metho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bunking faulty metho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lse confess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rank Tells Some Li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’m buying tickets to Handel’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essia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 me and my friends — would you like to join u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When is i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ecember 19t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Uh… the 19th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y two friends from school are coming, and Robin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’d love to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Lie (Ekma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01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22096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eal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lsifi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sdirec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lling the truth false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lf-conceal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orrect inference dod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rank Tells Some Li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I’m buying tickets to Handel’s </a:t>
            </a: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essiah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for me and my friends — would you like to join u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When is it?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December 19t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Uh… the 19th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My two friends from school</a:t>
            </a:r>
            <a:br>
              <a:rPr sz="2400"/>
            </a:b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are coming, and Robin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’d love to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876920" y="3657600"/>
            <a:ext cx="4114800" cy="2895480"/>
            <a:chOff x="4876920" y="3657600"/>
            <a:chExt cx="4114800" cy="2895480"/>
          </a:xfrm>
        </p:grpSpPr>
        <p:grpSp>
          <p:nvGrpSpPr>
            <p:cNvPr id="119" name=""/>
            <p:cNvGrpSpPr/>
            <p:nvPr/>
          </p:nvGrpSpPr>
          <p:grpSpPr>
            <a:xfrm>
              <a:off x="5562720" y="3733920"/>
              <a:ext cx="3429000" cy="2514600"/>
              <a:chOff x="5562720" y="3733920"/>
              <a:chExt cx="3429000" cy="2514600"/>
            </a:xfrm>
          </p:grpSpPr>
          <p:sp>
            <p:nvSpPr>
              <p:cNvPr id="120" name=""/>
              <p:cNvSpPr/>
              <p:nvPr/>
            </p:nvSpPr>
            <p:spPr>
              <a:xfrm>
                <a:off x="5639040" y="3810240"/>
                <a:ext cx="3352680" cy="2438280"/>
              </a:xfrm>
              <a:prstGeom prst="rect">
                <a:avLst/>
              </a:prstGeom>
              <a:solidFill>
                <a:srgbClr val="000000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562720" y="3733920"/>
                <a:ext cx="335268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4876920" y="3657600"/>
              <a:ext cx="36781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noAutofit/>
            </a:bodyPr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Conceal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Falsification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Misdirecting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Telling the truth falsel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Half-conceal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Incorrect inference dodge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00:21:24Z</dcterms:created>
  <dc:creator>Frank Enos</dc:creator>
  <dc:description/>
  <dc:language>en-US</dc:language>
  <cp:lastModifiedBy>Frank Enos</cp:lastModifiedBy>
  <dcterms:modified xsi:type="dcterms:W3CDTF">2005-04-25T16:19:42Z</dcterms:modified>
  <cp:revision>62</cp:revision>
  <dc:subject/>
  <dc:title>Emotional Speech</dc:title>
</cp:coreProperties>
</file>