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3D0666-930A-4C7E-B8D7-361D7254B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and anger over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eira used different terminology: Pleasure, power, aro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proces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’s come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ditions trigger emotion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generation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specification of goal structures relating to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emotion make system be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– Desca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 interpretation, help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= stand back; smile != punch in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hone: Whether F0 and duration are sufficient to express emotion: is voice quality indispens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speakers and some emo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parameters as in Forman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B searched for matching sample; if found, no signa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results are really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pproach: separate DB’s for separate emotions: good recogni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stration is lower than expected for a real lif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ative speaker data was thrown out b/c hard to judge hyperarticulation; longer call duration implied greater tolerance for frustration, system fai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not a linear phenomenon. Freudian slip, for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philosophical schools of the time eschewed the metaphys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0E8E-56B4-452A-A218-CC735E783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D31A-D3AF-4078-B515-037D0BF8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30FD-E02A-42FA-8479-AFBE01D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AD06-6650-4251-8FB6-5C2B207BE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788EE-3BA8-4BBE-83C4-0BD04EC6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46203-9C3D-4ABE-9895-4343D09C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54A6-D684-419D-BB56-BF2742D0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16627-3B42-4DF4-8922-9F40F2A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4755F-F8A0-4E31-BEF8-5143108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BD76D-2634-4497-93AC-C25E88C5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FE69C-9968-4AF1-B482-77BF82E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9E48-ACB1-4D0D-AC43-709661C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72491-C67E-42D2-AAAB-B0CD398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53004-19B0-461A-AFC7-6A43AFFE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F45A8-348C-4D5E-B7C1-9D663F4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263C3-7470-4032-A693-5FF8C7C2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02B59-33E6-4404-A7C8-C7613B26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3732-9D3D-4314-BF5C-1A380111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C18B-54BF-473F-A495-20E11AF9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2DB3-88CB-4322-854A-F403187E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0CAD-2782-4C02-A7A3-8572F9B7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16CA-F9B5-477C-AE20-54C03E0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3EEF-2DF1-451D-BF4C-18B8D54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3C5D-3220-4DA9-96C0-8BE5C3C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05120"/>
            <a:ext cx="7391520" cy="318960"/>
            <a:chOff x="228600" y="1905120"/>
            <a:chExt cx="7391520" cy="318960"/>
          </a:xfrm>
        </p:grpSpPr>
        <p:sp>
          <p:nvSpPr>
            <p:cNvPr id="4" name=""/>
            <p:cNvSpPr/>
            <p:nvPr/>
          </p:nvSpPr>
          <p:spPr>
            <a:xfrm>
              <a:off x="609480" y="19051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05120"/>
              <a:ext cx="393840" cy="318960"/>
            </a:xfrm>
            <a:prstGeom prst="flowChartDelay">
              <a:avLst/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37B7-255B-482D-AF5A-C00B148876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5E0C-AE1C-4856-B351-890CC36A68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ntipolygraph.org/" TargetMode="External"/><Relationship Id="rId2" Type="http://schemas.openxmlformats.org/officeDocument/2006/relationships/hyperlink" Target="http://www.love-detector.com/" TargetMode="External"/><Relationship Id="rId3" Type="http://schemas.openxmlformats.org/officeDocument/2006/relationships/hyperlink" Target="http://news-info.wustl.edu/news/page/normal/669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ve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49840" y="4495320"/>
            <a:ext cx="4013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000" spc="-1" strike="noStrike" baseline="3000">
                <a:solidFill>
                  <a:srgbClr val="003366"/>
                </a:solidFill>
                <a:latin typeface="Arial"/>
              </a:rPr>
              <a:t>Frank Enos • April 25, 2005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com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26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7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5778360"/>
            <a:ext cx="495324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3110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Oh gee, I’m having an </a:t>
            </a:r>
            <a:br>
              <a:rPr sz="2400"/>
            </a:b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   appendectomy that nigh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asons To Lie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 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t of the truth comes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hows inconsistent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ays something inconsistent with the 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clu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ions that the speaker is deceiv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gain, can b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nsistent s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d 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ing well is h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brication means keeping story stra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 means remembering what is omit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his creates cognitive load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arder to hid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ction apprehension (fe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hard to fo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suspic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ious rewards and/or punishments are at sta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nishment for being caught is gre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guilt (vs. sh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for the target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it i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nauthor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is not practiced at l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and target are acquain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can’t be faulted as mean or gull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ption is unexpected by tar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ping del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poses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e is a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can appreciate liar’s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eatures of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herence,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urse features: DA, turn-taking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ome addressed by Statement Analy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scribing Emo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mo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ance, anger, anticipation, disgust, joy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ar, sadness, su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approach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ous dim. model (Cowie/La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ation – evaluation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 control/ag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’s differ on at least 2 dimensions of this scale (Perei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14680" y="11959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With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motion and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evant emotions may not differ much on these sc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llo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fraid of the pol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ngry when wrongly acc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think pizza is fun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kow haz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ure to account for individual dif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0th Century Lie Dete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ygrap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 baseline="3000">
                <a:solidFill>
                  <a:srgbClr val="003366"/>
                </a:solidFill>
                <a:uFillTx/>
                <a:latin typeface="Arial"/>
                <a:hlinkClick r:id="rId1"/>
              </a:rPr>
              <a:t>http://antipolygraph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olygraph and Lie Detection (N.A.P. 200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ce Stress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tremors 8-12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al Lie respon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love-detector.com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news-info.wustl.edu/news/page/normal/669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havioral Analysis Int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rog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and form of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e for L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fining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iberate choice to mislead a target  without notification (Ek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to gain some advan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lud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ater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lsehoods due to ignorance/e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hological behavi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en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Topic of the lie: opinion; state;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kes for lying / stakes for telling the tru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val between event and subject’s accou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l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tar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a “coach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Good Old Day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hrabian 1971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verbal Betrayal of Fe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9440" y="829440"/>
            <a:ext cx="82465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ulk of extant deception research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focused on verifying 20th century techn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e by psycholog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s primarily facial and physical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ech is hard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tle focus on automatic detection of d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deling Deception in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sodic/Acou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itive Correl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rupted/repeated 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ences to “external” ev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uncertai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cal 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Correlat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 stays on top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uncertain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immedi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lack of mem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ntaneous corr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, revisite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s du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ial Statu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Julia Hirschberg, Stefan Benus,      Sarah Friedman, Sarah Gilman, and colleagues from SRI/ICSI and U. C. Bou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ine feasibility of automatic deception detection using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ver or verify acoustic/prosodic, lexical,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discourse correlate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a “non-guilt”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“clean” cor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ated-performance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: financial gai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self-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2 Subjects: 16 women, 16 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ve speakers of Standard American Engl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seeks to identify people who match profile based on “25 Top Entrepreneu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ake test in six categor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, music, survival, food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YC geography, civ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s manipulat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too high; 2 too low; 2 mat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also seeks people who can convince interviewer they match pro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 + rew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undergo recorded interview in boo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e veracity of factual content of each utterance using ped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w enforcement / Jurispru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ligence / Military /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al health practitio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itu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it ever good to li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5.2 hrs. of interviews; 7 hrs subject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ly transcribed &amp; automatically align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/discourse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e conditions: Big Lie / Little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gmentations (LT/LL)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ash units (5709/3782), phrases (11,612/7108)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rns (2230/15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oustic features  (± recognizer out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Resul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ificatio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Ripper rule induction, randomized 5-fold c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lash Units / Little Lies — Baseline 39.8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: 37.2 %; + subject dependent: 33.6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rases / Little Lies — Baseline 38.2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 34.0%; + subject dependent: 27.9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fi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itive emotion words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LIW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easantnes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D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lled pause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pitch correlation — varies with subj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ur Future Work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dif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zard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Frank Mock Theft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 of personality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stak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speech “believable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deception means recognizing inten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people spot a li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es this relate to other subjective phenomena in speech? E.g. emotion, charis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9800" y="829440"/>
            <a:ext cx="74844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people are terrible at detecting deception — ~50% accuracy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Ekman &amp; O’sullivan 1991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 use subjective judgments —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emotion is h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9440" y="829440"/>
            <a:ext cx="77130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 to get goo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l wor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bor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hica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ri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aims of su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also ethical imperati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 for reliable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bunking faulty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e conf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19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0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0:21:24Z</dcterms:created>
  <dc:creator>Frank Enos</dc:creator>
  <dc:description/>
  <dc:language>en-US</dc:language>
  <cp:lastModifiedBy>Frank Enos</cp:lastModifiedBy>
  <dcterms:modified xsi:type="dcterms:W3CDTF">2005-04-25T16:19:42Z</dcterms:modified>
  <cp:revision>62</cp:revision>
  <dc:subject/>
  <dc:title>Emotional Speech</dc:title>
</cp:coreProperties>
</file>