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6"/>
          </p:nvPr>
        </p:nvSpPr>
        <p:spPr>
          <a:xfrm>
            <a:off x="3970440" y="-36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7"/>
          </p:nvPr>
        </p:nvSpPr>
        <p:spPr>
          <a:xfrm>
            <a:off x="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8"/>
          </p:nvPr>
        </p:nvSpPr>
        <p:spPr>
          <a:xfrm>
            <a:off x="3970440" y="8772120"/>
            <a:ext cx="303840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236CE46-2DB6-4651-B38D-55C684592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 and anger overl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eira used different terminology: Pleasure, power, arou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processes invol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’s come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ditions trigger emotion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or of th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generation of e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icit specification of goal structures relating to e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emotion make system be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ace – Descar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u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ain interpretation, help pred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er = stand back; smile != punch in the 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phone: Whether F0 and duration are sufficient to express emotion: is voice quality indispens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, for some speakers and some emo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on parameters as in Formant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B searched for matching sample; if found, no signal proce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d results are really b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 approach: separate DB’s for separate emotions: good recognition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stration is lower than expected for a real life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native speaker data was thrown out b/c hard to judge hyperarticulation; longer call duration implied greater tolerance for frustration, system fail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is not a linear phenomenon. Freudian slip, for exam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 philosophical schools of the time eschewed the metaphysi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8B7C2-7A61-4815-AC6F-602AAB8070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838080" y="4551120"/>
            <a:ext cx="7693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CCB5E-25B4-499C-8BEB-31D32C65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8080" y="455112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80080" y="455112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B8A4E-47C1-4BD3-8D62-16FEC67E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838080" y="455112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39080" y="455112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0080" y="455112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4C9FD-D80C-4195-80B9-1E3E8370F2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BB3B2-4933-44F3-9784-EA581507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20400-B949-429C-99FE-0A42343C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B295F-9479-41CC-993F-043DE607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39A8F-EBA2-45DE-AD38-6C27C6AA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0B1439-3C4C-4E39-A9AD-98D1844B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29440" y="829440"/>
            <a:ext cx="7789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76F37-63EF-4C5E-897B-3604449B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55112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A3B1F-3061-46E7-9EF8-CE06459E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33A7D-745E-4567-96D4-E31AA623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80080" y="455112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1C4DC-7CA4-43B7-9D0F-1CE50D24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38080" y="4551120"/>
            <a:ext cx="7693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4273EA-6FD2-4AD9-B130-8154D193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38080" y="4551120"/>
            <a:ext cx="7693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A5FF1-F9BB-4B05-B539-248C57C2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455112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80080" y="455112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B8018-194D-475A-8329-4EC16526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38080" y="455112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39080" y="455112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0080" y="4551120"/>
            <a:ext cx="24768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E5DFDF-25D0-406A-B917-CA78C8A9F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933FE-5724-40EE-ACD7-D555AEF5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0E1C5-BEC2-4796-AE59-624F2564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699EA-869F-48DB-A883-B22830E5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29440" y="829440"/>
            <a:ext cx="7789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0BB4F-AA04-4414-9613-E29FD72B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8080" y="455112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8C680-0064-404D-9FDF-42DF9257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80080" y="455112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62582-BD05-4DB3-A9A4-70788C02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551120"/>
            <a:ext cx="7693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DFFF9-4EF9-452A-BE00-C104BBAD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819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57200" y="0"/>
              <a:ext cx="2743200" cy="1166760"/>
            </a:xfrm>
            <a:custGeom>
              <a:avLst/>
              <a:gdLst/>
              <a:ahLst/>
              <a:rect l="l" t="t" r="r" b="b"/>
              <a:pathLst>
                <a:path w="1728" h="735">
                  <a:moveTo>
                    <a:pt x="1728" y="0"/>
                  </a:moveTo>
                  <a:lnTo>
                    <a:pt x="1728" y="480"/>
                  </a:lnTo>
                  <a:lnTo>
                    <a:pt x="380" y="482"/>
                  </a:lnTo>
                  <a:lnTo>
                    <a:pt x="354" y="480"/>
                  </a:lnTo>
                  <a:lnTo>
                    <a:pt x="308" y="489"/>
                  </a:lnTo>
                  <a:cubicBezTo>
                    <a:pt x="290" y="498"/>
                    <a:pt x="263" y="513"/>
                    <a:pt x="246" y="531"/>
                  </a:cubicBezTo>
                  <a:cubicBezTo>
                    <a:pt x="229" y="549"/>
                    <a:pt x="215" y="574"/>
                    <a:pt x="206" y="597"/>
                  </a:cubicBezTo>
                  <a:cubicBezTo>
                    <a:pt x="197" y="620"/>
                    <a:pt x="194" y="643"/>
                    <a:pt x="192" y="666"/>
                  </a:cubicBezTo>
                  <a:lnTo>
                    <a:pt x="192" y="735"/>
                  </a:lnTo>
                  <a:lnTo>
                    <a:pt x="0" y="735"/>
                  </a:lnTo>
                  <a:lnTo>
                    <a:pt x="0" y="480"/>
                  </a:lnTo>
                  <a:lnTo>
                    <a:pt x="0" y="0"/>
                  </a:lnTo>
                  <a:lnTo>
                    <a:pt x="1728" y="0"/>
                  </a:lnTo>
                  <a:close/>
                </a:path>
              </a:pathLst>
            </a:custGeom>
            <a:solidFill>
              <a:srgbClr val="819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228600" y="1905120"/>
            <a:ext cx="7391520" cy="318960"/>
            <a:chOff x="228600" y="1905120"/>
            <a:chExt cx="7391520" cy="318960"/>
          </a:xfrm>
        </p:grpSpPr>
        <p:sp>
          <p:nvSpPr>
            <p:cNvPr id="4" name=""/>
            <p:cNvSpPr/>
            <p:nvPr/>
          </p:nvSpPr>
          <p:spPr>
            <a:xfrm>
              <a:off x="609480" y="190512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486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28600" y="1905120"/>
              <a:ext cx="393840" cy="318960"/>
            </a:xfrm>
            <a:prstGeom prst="flowChartDelay">
              <a:avLst/>
            </a:prstGeom>
            <a:solidFill>
              <a:srgbClr val="4867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31480" indent="-226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584000" indent="-226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36520" indent="-226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36520" indent="-226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36520" indent="-226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2470C-0C32-4B1A-976F-550788E9D4E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819b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0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dt" idx="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2D64-58B1-4CBE-A42F-7C71CA80700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antipolygraph.org/" TargetMode="External"/><Relationship Id="rId2" Type="http://schemas.openxmlformats.org/officeDocument/2006/relationships/hyperlink" Target="http://www.love-detector.com/" TargetMode="External"/><Relationship Id="rId3" Type="http://schemas.openxmlformats.org/officeDocument/2006/relationships/hyperlink" Target="http://news-info.wustl.edu/news/page/normal/669.html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ceptive Spee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749840" y="4495320"/>
            <a:ext cx="4013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000" spc="-1" strike="noStrike" baseline="3000">
                <a:solidFill>
                  <a:srgbClr val="003366"/>
                </a:solidFill>
                <a:latin typeface="Arial"/>
              </a:rPr>
              <a:t>Frank Enos • April 25, 2005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rank Tells Some Li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I’m buying tickets to Handel’s </a:t>
            </a: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Messiah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for me and my friends — would you like to join u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When is it?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December 19t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Uh… the 19th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My two friends from school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re comi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876920" y="3657600"/>
            <a:ext cx="4114800" cy="2895480"/>
            <a:chOff x="4876920" y="3657600"/>
            <a:chExt cx="4114800" cy="2895480"/>
          </a:xfrm>
        </p:grpSpPr>
        <p:grpSp>
          <p:nvGrpSpPr>
            <p:cNvPr id="126" name=""/>
            <p:cNvGrpSpPr/>
            <p:nvPr/>
          </p:nvGrpSpPr>
          <p:grpSpPr>
            <a:xfrm>
              <a:off x="5562720" y="3733920"/>
              <a:ext cx="3429000" cy="2514600"/>
              <a:chOff x="5562720" y="3733920"/>
              <a:chExt cx="3429000" cy="2514600"/>
            </a:xfrm>
          </p:grpSpPr>
          <p:sp>
            <p:nvSpPr>
              <p:cNvPr id="127" name=""/>
              <p:cNvSpPr/>
              <p:nvPr/>
            </p:nvSpPr>
            <p:spPr>
              <a:xfrm>
                <a:off x="5639040" y="3810240"/>
                <a:ext cx="3352680" cy="2438280"/>
              </a:xfrm>
              <a:prstGeom prst="rect">
                <a:avLst/>
              </a:prstGeom>
              <a:solidFill>
                <a:srgbClr val="000000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562720" y="3733920"/>
                <a:ext cx="3352680" cy="243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4876920" y="3657600"/>
              <a:ext cx="36781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noAutofit/>
            </a:bodyPr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Conceal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Falsification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Misdirecting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Telling the truth falsel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Half-conceal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Incorrect inference dodge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838080" y="5778360"/>
            <a:ext cx="495324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31105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a31105"/>
                </a:solidFill>
                <a:latin typeface="Arial"/>
              </a:rPr>
              <a:t> Oh gee, I’m having an </a:t>
            </a:r>
            <a:br>
              <a:rPr sz="2400"/>
            </a:br>
            <a:r>
              <a:rPr b="0" lang="en-US" sz="2400" spc="-1" strike="noStrike">
                <a:solidFill>
                  <a:srgbClr val="a31105"/>
                </a:solidFill>
                <a:latin typeface="Arial"/>
              </a:rPr>
              <a:t>    appendectomy that nigh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Reasons To Lie (Frank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’92 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f-preserv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lf-present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*Gai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truistic (social) l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Not To Lie (Ekma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’01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kag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t of the truth comes ou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ar shows inconsistent emo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ar says something inconsistent with the li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ception clu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dications that the speaker is deceiv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gain, can be emo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nsistent sto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Not To Lie (Ekma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’01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ad li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ying well is har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brication means keeping story straigh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alment means remembering what is omit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l this creates cognitive load </a:t>
            </a:r>
            <a:r>
              <a:rPr b="0" lang="en-US" sz="2000" spc="-1" strike="noStrike">
                <a:solidFill>
                  <a:srgbClr val="003366"/>
                </a:solidFill>
                <a:latin typeface="Zapf Dingbats"/>
                <a:ea typeface="Zapf Dingbats"/>
              </a:rPr>
              <a:t>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harder to hide emo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tection apprehension (fear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rget is hard to foo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rget is suspicio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kes are hig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rious rewards and/or punishments are at stak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nishment for being caught is gre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Not To Lie (Ekma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’01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209680"/>
            <a:ext cx="7693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ception guilt (vs. sham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akes for the target are hig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ceit is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unauthoriz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ar is not practiced at ly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ar and target are acquainte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rget can’t be faulted as mean or gull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ception is unexpected by targe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uping delig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rget poses particular challen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ie is a particular challen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thers can appreciate liar’s performan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eatures of Decep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gni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herence, flue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person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course features: DA, turn-taking,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Some addressed by Statement Analysi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o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Describing Emotion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8487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mary emo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ceptance, anger, anticipation, disgust, joy,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ear, sadness, surpri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ne approach: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inuous dim. model (Cowie/Lan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tivation – evaluation sp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 control/agen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imary E’s differ on at least 2 dimensions of this scale (Pereira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14680" y="1195920"/>
            <a:ext cx="7818840" cy="7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oblems With 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Emotion and Decep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levant emotions may not differ much on these sc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thello err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ople are afraid of the pol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ople are angry when wrongly accus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eople think pizza is funn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rokow haz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ilure to account for individual differen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20th Century Lie Detec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olygrap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 baseline="3000">
                <a:solidFill>
                  <a:srgbClr val="003366"/>
                </a:solidFill>
                <a:uFillTx/>
                <a:latin typeface="Arial"/>
                <a:hlinkClick r:id="rId1"/>
              </a:rPr>
              <a:t>http://antipolygraph.or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Polygraph and Lie Detection (N.A.P. 2003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oice Stress Analys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crotremors 8-12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iversal Lie respons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love-detector.com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http://news-info.wustl.edu/news/page/normal/669.htm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i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havioral Analysis Interview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rog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ception Experiments (Frank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’92)</a:t>
            </a:r>
            <a:br>
              <a:rPr sz="3600"/>
            </a:b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Addresses lying a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pendent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variabl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ype and form of l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al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lsif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sdirect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lling the truth falsel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alf-concealm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rrect inference dodg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tive for Ly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lf-preserv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lf-pres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ai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ltruistic (social) li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fining Decep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eliberate choice to mislead a target  without notification (Ekm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’01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ften to gain some advant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clud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lf-decep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ater, et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alsehoods due to ignorance/err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athological behavio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ception Experiments (Frank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’92)</a:t>
            </a:r>
            <a:br>
              <a:rPr sz="3600"/>
            </a:b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Addresses lying as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pendent</a:t>
            </a:r>
            <a:r>
              <a:rPr b="1" i="1" lang="en-US" sz="2400" spc="-1" strike="noStrike">
                <a:solidFill>
                  <a:srgbClr val="003366"/>
                </a:solidFill>
                <a:latin typeface="Arial"/>
              </a:rPr>
              <a:t> variable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cenar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*Topic of the lie: opinion; state; eve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kes for lying / stakes for telling the trut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val between event and subject’s accoun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rpersonal structu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racteristics of the li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haracteristics of the targ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ence or absence of a “coach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sence or absence of oth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he Good Old Day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hrabian 1971: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onverbal Betrayal of Feel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29440" y="829440"/>
            <a:ext cx="82465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Bulk of extant deception research…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 focused on verifying 20th century techniq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e by psychologis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iders primarily facial and physical cu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eech is hard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ittle focus on automatic detection of dece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odeling Deception in Spee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xic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osodic/Acousti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scour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ception in Speech (Depaulo ’03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itive Correla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rupted/repeated wo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ferences to “external” ev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erbal/vocal uncertain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ocal ten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ception in Speech (Depaulo ’03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gative Correlate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ject stays on topi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mitted uncertain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Verbal/vocal immediac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mitted lack of memo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pontaneous correc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oblems, revisited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fferences due 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nd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cial Statu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nguag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ul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lumbia/SRI/Colorado Corpu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th Julia Hirschberg, Stefan Benus,      Sarah Friedman, Sarah Gilman, and colleagues from SRI/ICSI and U. C. Bould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ine feasibility of automatic deception detection using spee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cover or verify acoustic/prosodic, lexical,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discourse correlates of decep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del a “non-guilt” scen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ate a “clean” corp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lumbia/SRI/Colorado Corpu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flated-performance scenari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tivation: financial gain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d self-presen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2 Subjects: 16 women, 16 m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ative speakers of Standard American Englis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jects told study seeks to identify people who match profile based on “25 Top Entrepreneur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olumbia/SRI/Colorado Corpu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jects take test in six categori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active, music, survival, food, </a:t>
            </a:r>
            <a:br>
              <a:rPr sz="2000"/>
            </a:b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YC geography, civic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Questions manipulated </a:t>
            </a:r>
            <a:r>
              <a:rPr b="0" lang="en-US" sz="2400" spc="-1" strike="noStrike">
                <a:solidFill>
                  <a:srgbClr val="003366"/>
                </a:solidFill>
                <a:latin typeface="Zapf Dingbats"/>
                <a:ea typeface="Zapf Dingbats"/>
              </a:rPr>
              <a:t>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2 too high; 2 too low; 2 matc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jects told study also seeks people who can convince interviewer they match profi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lf-presentation + rewar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ubjects undergo recorded interview in boot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dicate veracity of factual content of each utterance using pedal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y study deception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w enforcement / Jurisprud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telligence / Military /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usines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it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ental health practition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cial situ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s it ever good to li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SC Corpus: Data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5.2 hrs. of interviews; 7 hrs subject spee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xically transcribed &amp; automatically aligned </a:t>
            </a:r>
            <a:r>
              <a:rPr b="0" lang="en-US" sz="2400" spc="-1" strike="noStrike">
                <a:solidFill>
                  <a:srgbClr val="003366"/>
                </a:solidFill>
                <a:latin typeface="Zapf Dingbats"/>
                <a:ea typeface="Zapf Dingbats"/>
              </a:rPr>
              <a:t>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xical/discourse featu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e conditions: Big Lie / Little Li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gmentations (LT/LL):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lash units (5709/3782), phrases (11,612/7108),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urns (2230/157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oustic features  (± recognizer outpu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SC Corpus: Results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assification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Ripper rule induction, randomized 5-fold cv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lash Units / Little Lies — Baseline 39.8% er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xical &amp; acoustic: 37.2 %; + subject dependent: 33.6%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hrases / Little Lies — Baseline 38.2% er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xical &amp; acoustic 34.0%; + subject dependent: 27.9%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finding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ositive emotion words</a:t>
            </a:r>
            <a:r>
              <a:rPr b="0" lang="en-US" sz="2000" spc="-1" strike="noStrike">
                <a:solidFill>
                  <a:srgbClr val="003366"/>
                </a:solidFill>
                <a:latin typeface="Zapf Dingbats"/>
                <a:ea typeface="Zapf Dingbats"/>
              </a:rPr>
              <a:t>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eception (LIWC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leasantness </a:t>
            </a:r>
            <a:r>
              <a:rPr b="0" lang="en-US" sz="2000" spc="-1" strike="noStrike">
                <a:solidFill>
                  <a:srgbClr val="003366"/>
                </a:solidFill>
                <a:latin typeface="Zapf Dingbats"/>
                <a:ea typeface="Zapf Dingbats"/>
              </a:rPr>
              <a:t>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deception (DA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lled pauses </a:t>
            </a:r>
            <a:r>
              <a:rPr b="0" lang="en-US" sz="2000" spc="-1" strike="noStrike">
                <a:solidFill>
                  <a:srgbClr val="003366"/>
                </a:solidFill>
                <a:latin typeface="Zapf Dingbats"/>
                <a:ea typeface="Zapf Dingbats"/>
              </a:rPr>
              <a:t>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truth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ome pitch correlation — varies with subjec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Our Future Work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dividual differen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zards of decep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rk Frank Mock Theft Paradig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w paradig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rt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dition of personality te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igher stak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Why study deception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makes speech “believable”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gnizing deception means recognizing inten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 people spot a lia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ow does this relate to other subjective phenomena in speech? E.g. emotion, charis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29800" y="829440"/>
            <a:ext cx="748440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oblems in studying deception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ost people are terrible at detecting deception — ~50% accuracy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(Ekman &amp; O’sullivan 1991, etc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ople use subjective judgments —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otion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cognizing emotion is har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29440" y="829440"/>
            <a:ext cx="771300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Problems in studying deception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ard to get good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al worl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aborato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thical issu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va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ubject right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aims of succ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ut also ethical imperativ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eed for reliable metho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bunking faulty metho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alse confession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rank Tells Some Li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’m buying tickets to Handel’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essiah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or me and my friends — would you like to join u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When is i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ecember 19t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Uh… the 19th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My two friends from school are coming, and Robin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’d love to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Lie (Ekman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’01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7720" y="220968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eal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lsific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isdirec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elling the truth false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lf-conceal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orrect inference dod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29440" y="829440"/>
            <a:ext cx="77893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rank Tells Some Li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I’m buying tickets to Handel’s </a:t>
            </a: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Messiah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for me and my friends — would you like to join u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When is it?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December 19t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Uh… the 19th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19be5"/>
                </a:solidFill>
                <a:latin typeface="Arial"/>
              </a:rPr>
              <a:t>Maria:</a:t>
            </a: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My two friends from school</a:t>
            </a:r>
            <a:br>
              <a:rPr sz="2400"/>
            </a:br>
            <a:r>
              <a:rPr b="0" lang="en-US" sz="2400" spc="-1" strike="noStrike">
                <a:solidFill>
                  <a:srgbClr val="819be5"/>
                </a:solidFill>
                <a:latin typeface="Arial"/>
              </a:rPr>
              <a:t> are coming, and Robin…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Frank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’d love to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876920" y="3657600"/>
            <a:ext cx="4114800" cy="2895480"/>
            <a:chOff x="4876920" y="3657600"/>
            <a:chExt cx="4114800" cy="2895480"/>
          </a:xfrm>
        </p:grpSpPr>
        <p:grpSp>
          <p:nvGrpSpPr>
            <p:cNvPr id="119" name=""/>
            <p:cNvGrpSpPr/>
            <p:nvPr/>
          </p:nvGrpSpPr>
          <p:grpSpPr>
            <a:xfrm>
              <a:off x="5562720" y="3733920"/>
              <a:ext cx="3429000" cy="2514600"/>
              <a:chOff x="5562720" y="3733920"/>
              <a:chExt cx="3429000" cy="2514600"/>
            </a:xfrm>
          </p:grpSpPr>
          <p:sp>
            <p:nvSpPr>
              <p:cNvPr id="120" name=""/>
              <p:cNvSpPr/>
              <p:nvPr/>
            </p:nvSpPr>
            <p:spPr>
              <a:xfrm>
                <a:off x="5639040" y="3810240"/>
                <a:ext cx="3352680" cy="2438280"/>
              </a:xfrm>
              <a:prstGeom prst="rect">
                <a:avLst/>
              </a:prstGeom>
              <a:solidFill>
                <a:srgbClr val="000000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562720" y="3733920"/>
                <a:ext cx="3352680" cy="243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4876920" y="3657600"/>
              <a:ext cx="36781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noAutofit/>
            </a:bodyPr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Conceal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Falsification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Misdirecting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Telling the truth falsel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Half-conceal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lvl="2" marL="914400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• </a:t>
              </a:r>
              <a:r>
                <a:rPr b="1" i="1" lang="en-US" sz="1800" spc="-1" strike="noStrike">
                  <a:solidFill>
                    <a:srgbClr val="860076"/>
                  </a:solidFill>
                  <a:latin typeface="Arial"/>
                </a:rPr>
                <a:t>Incorrect inference dodge.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7T00:21:24Z</dcterms:created>
  <dc:creator>Frank Enos</dc:creator>
  <dc:description/>
  <dc:language>en-US</dc:language>
  <cp:lastModifiedBy>Frank Enos</cp:lastModifiedBy>
  <dcterms:modified xsi:type="dcterms:W3CDTF">2005-04-25T16:19:42Z</dcterms:modified>
  <cp:revision>62</cp:revision>
  <dc:subject/>
  <dc:title>Emotional Speech</dc:title>
</cp:coreProperties>
</file>