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D3628B-C876-416D-9FEE-1DC99B1AF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and anger overl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eira used different terminology: Pleasure, power, arou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proces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’s come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ditions trigger emotion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generation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it specification of goal structures relating to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emotion make system be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– Desca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u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ain interpretation, help 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= stand back; smile != punch in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hone: Whether F0 and duration are sufficient to express emotion: is voice quality indispens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speakers and some emo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parameters as in Forman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B searched for matching sample; if found, no signal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results are really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pproach: separate DB’s for separate emotions: good recogni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stration is lower than expected for a real life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native speaker data was thrown out b/c hard to judge hyperarticulation; longer call duration implied greater tolerance for frustration, system fail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not a linear phenomenon. Freudian slip, for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philosophical schools of the time eschewed the metaphys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A8FB-6D8B-48BE-BF32-431A5A2FC7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EEFD-0349-4830-8B9F-B2B74B36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7D6F-8B14-427E-8540-64408976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340C-A465-4B80-B986-4B292FE4C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B69B0-FD04-4374-BE6D-27848049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26515-970B-47D0-ABD1-189EF829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3071F-CE14-4B66-961F-B297FE11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3DA71-ABC3-4380-91D7-C0463BC2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628F5-9A34-4F68-AD23-95795176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29440" y="829440"/>
            <a:ext cx="7789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FE07B-5F41-444D-9482-01EBE7B9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AE9C8-861E-4CA8-B269-02C44D77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3417-4192-4520-BBF0-7419665C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3F6C2-3A2E-4722-8437-42544CE0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F9F57-B7BA-4056-B36B-75123918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127E2-2C3E-45E0-8384-EDF8DB93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DA0EA-44AB-498B-AA87-6652B1A8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C34BA-ECA5-496E-BD05-0F1140CE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100A-4507-42BA-8528-C1F6D6BA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5D4B-ABE4-432B-9747-B148ECFC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8C83-BB80-4892-A5EB-A3FD4976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29440" y="829440"/>
            <a:ext cx="7789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4342-1E1F-44B0-88E0-2DC22756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A631-62E6-47E6-AC87-30B8E38D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D7E5-430B-4ADB-91E8-1DEEB664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0461-6B8B-459E-B919-4C6C9123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905120"/>
            <a:ext cx="7391520" cy="318960"/>
            <a:chOff x="228600" y="1905120"/>
            <a:chExt cx="7391520" cy="318960"/>
          </a:xfrm>
        </p:grpSpPr>
        <p:sp>
          <p:nvSpPr>
            <p:cNvPr id="4" name=""/>
            <p:cNvSpPr/>
            <p:nvPr/>
          </p:nvSpPr>
          <p:spPr>
            <a:xfrm>
              <a:off x="609480" y="190512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486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905120"/>
              <a:ext cx="393840" cy="318960"/>
            </a:xfrm>
            <a:prstGeom prst="flowChartDelay">
              <a:avLst/>
            </a:prstGeom>
            <a:solidFill>
              <a:srgbClr val="486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DAA5-2587-4741-8D61-FEB439599C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BC98-6352-4199-8E15-4AB550DA65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ntipolygraph.org/" TargetMode="External"/><Relationship Id="rId2" Type="http://schemas.openxmlformats.org/officeDocument/2006/relationships/hyperlink" Target="http://www.love-detector.com/" TargetMode="External"/><Relationship Id="rId3" Type="http://schemas.openxmlformats.org/officeDocument/2006/relationships/hyperlink" Target="http://news-info.wustl.edu/news/page/normal/669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ve Spee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49840" y="4495320"/>
            <a:ext cx="4013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000" spc="-1" strike="noStrike" baseline="3000">
                <a:solidFill>
                  <a:srgbClr val="003366"/>
                </a:solidFill>
                <a:latin typeface="Arial"/>
              </a:rPr>
              <a:t>Frank Enos • April 25, 2005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When is it?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y two friends from school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com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76920" y="3657600"/>
            <a:ext cx="4114800" cy="2895480"/>
            <a:chOff x="4876920" y="3657600"/>
            <a:chExt cx="4114800" cy="2895480"/>
          </a:xfrm>
        </p:grpSpPr>
        <p:grpSp>
          <p:nvGrpSpPr>
            <p:cNvPr id="126" name=""/>
            <p:cNvGrpSpPr/>
            <p:nvPr/>
          </p:nvGrpSpPr>
          <p:grpSpPr>
            <a:xfrm>
              <a:off x="5562720" y="3733920"/>
              <a:ext cx="3429000" cy="2514600"/>
              <a:chOff x="5562720" y="3733920"/>
              <a:chExt cx="3429000" cy="2514600"/>
            </a:xfrm>
          </p:grpSpPr>
          <p:sp>
            <p:nvSpPr>
              <p:cNvPr id="127" name=""/>
              <p:cNvSpPr/>
              <p:nvPr/>
            </p:nvSpPr>
            <p:spPr>
              <a:xfrm>
                <a:off x="5639040" y="3810240"/>
                <a:ext cx="3352680" cy="2438280"/>
              </a:xfrm>
              <a:prstGeom prst="rect">
                <a:avLst/>
              </a:prstGeom>
              <a:solidFill>
                <a:srgbClr val="0000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62720" y="3733920"/>
                <a:ext cx="335268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4876920" y="3657600"/>
              <a:ext cx="36781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noAutofit/>
            </a:bodyPr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Falsifica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Misdirect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Telling the truth falsel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Half-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Incorrect inference dodge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5778360"/>
            <a:ext cx="495324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3110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a31105"/>
                </a:solidFill>
                <a:latin typeface="Arial"/>
              </a:rPr>
              <a:t> Oh gee, I’m having an </a:t>
            </a:r>
            <a:br>
              <a:rPr sz="2400"/>
            </a:br>
            <a:r>
              <a:rPr b="0" lang="en-US" sz="2400" spc="-1" strike="noStrike">
                <a:solidFill>
                  <a:srgbClr val="a31105"/>
                </a:solidFill>
                <a:latin typeface="Arial"/>
              </a:rPr>
              <a:t>    appendectomy that nigh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asons To Lie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 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preser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ruistic (social) l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t of the truth comes 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shows inconsistent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says something inconsistent with the 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eption clu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dications that the speaker is deceiv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gain, can be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nsistent s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d l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ying well is h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brication means keeping story stra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alment means remembering what is omit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his creates cognitive load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harder to hide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ction apprehension (fea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is hard to fo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is suspici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kes are hig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ious rewards and/or punishments are at sta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nishment for being caught is gre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209680"/>
            <a:ext cx="7693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eption guilt (vs. sh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kes for the target are hig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eit is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unauthoriz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is not practiced at l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and target are acquain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can’t be faulted as mean or gull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eption is unexpected by tar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ping del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poses particular challe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e is a particular challe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s can appreciate liar’s perform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eatures of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herence,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pers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ourse features: DA, turn-taking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Some addressed by Statement Analy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o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scribing Emotio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emo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ptance, anger, anticipation, disgust, joy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ar, sadness, surpr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approach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inuous dim. model (Cowie/La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vation – evaluation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 control/ag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E’s differ on at least 2 dimensions of this scale (Pereir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14680" y="11959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With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motion and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evant emotions may not differ much on these sc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llo er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are afraid of the pol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are angry when wrongly acc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think pizza is funn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okow haz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ilure to account for individual dif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0th Century Lie Detec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lygrap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 baseline="3000">
                <a:solidFill>
                  <a:srgbClr val="003366"/>
                </a:solidFill>
                <a:uFillTx/>
                <a:latin typeface="Arial"/>
                <a:hlinkClick r:id="rId1"/>
              </a:rPr>
              <a:t>http://antipolygraph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olygraph and Lie Detection (N.A.P. 200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ice Stress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tremors 8-12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versal Lie respon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love-detector.com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news-info.wustl.edu/news/page/normal/669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havioral Analysis Intervi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rog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Experiments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)</a:t>
            </a:r>
            <a:br>
              <a:rPr sz="36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ddresses lying a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pendent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variab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 and form of l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al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lsif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sdirec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ling the truth false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lf-conceal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rrect inference dod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e for Ly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rv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truistic (social) l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fining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iberate choice to mislead a target  without notification (Ek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to gain some advan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lud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f-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ater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lsehoods due to ignorance/e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thological behavi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Experiments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)</a:t>
            </a:r>
            <a:br>
              <a:rPr sz="36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ddresses lying a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pendent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variab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en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Topic of the lie: opinion; state; ev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kes for lying / stakes for telling the tru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val between event and subject’s accou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personal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stics of the l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stics of the targ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ce or absence of a “coach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ce or absence of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Good Old Day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hrabian 1971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verbal Betrayal of Fe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29440" y="829440"/>
            <a:ext cx="82465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ulk of extant deception research…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focused on verifying 20th century techn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e by psycholog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s primarily facial and physical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ech is hard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tle focus on automatic detection of de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odeling Deception in Spee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sodic/Acou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in Speech (Depaulo ’03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itive Correl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rupted/repeated wo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ences to “external” ev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al/vocal uncertain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cal t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in Speech (Depaulo ’03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Correlat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 stays on top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tted uncertain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al/vocal immedi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tted lack of mem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ontaneous corr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, revisite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ces du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cial Statu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Julia Hirschberg, Stefan Benus,      Sarah Friedman, Sarah Gilman, and colleagues from SRI/ICSI and U. C. Bou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ine feasibility of automatic deception detection using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over or verify acoustic/prosodic, lexical,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discourse correlates of 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a “non-guilt” scen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 a “clean” cor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lated-performance scen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: financial gain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self-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2 Subjects: 16 women, 16 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ive speakers of Standard American Engli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old study seeks to identify people who match profile based on “25 Top Entrepreneu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ake test in six categori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active, music, survival, food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YC geography, civ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stions manipulated </a:t>
            </a:r>
            <a:r>
              <a:rPr b="0" lang="en-US" sz="24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 too high; 2 too low; 2 mat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old study also seeks people who can convince interviewer they match prof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ntation + rew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undergo recorded interview in boo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dicate veracity of factual content of each utterance using peda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y study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w enforcement / Jurispru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ligence / Military /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ntal health practitio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situ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it ever good to li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SC Corpus: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5.2 hrs. of interviews; 7 hrs subject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xically transcribed &amp; automatically aligned </a:t>
            </a:r>
            <a:r>
              <a:rPr b="0" lang="en-US" sz="24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xical/discourse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e conditions: Big Lie / Little L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gmentations (LT/LL)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ash units (5709/3782), phrases (11,612/7108)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urns (2230/15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oustic features  (± recognizer outpu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SC Corpus: Resul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ification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Ripper rule induction, randomized 5-fold c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lash Units / Little Lies — Baseline 39.8% er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xical &amp; acoustic: 37.2 %; + subject dependent: 33.6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rases / Little Lies — Baseline 38.2% er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xical &amp; acoustic 34.0%; + subject dependent: 27.9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findin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sitive emotion words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ception (LIW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leasantness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ception (D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lled pauses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 pitch correlation — varies with subje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ur Future Work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dif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zards of 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 Frank Mock Theft Paradig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paradig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tion of personality 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stak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y study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akes speech “believable”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gnizing deception means recognizing inten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people spot a lia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es this relate to other subjective phenomena in speech? E.g. emotion, charis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29800" y="829440"/>
            <a:ext cx="748440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in studying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people are terrible at detecting deception — ~50% accuracy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Ekman &amp; O’sullivan 1991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ople use subjective judgments —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otion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gnizing emotion is h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9440" y="829440"/>
            <a:ext cx="771300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in studying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 to get good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l wor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bor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thical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bject righ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aims of suc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t also ethical imperativ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d for reliable metho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bunking faulty metho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lse confe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hen is i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y two friends from school are coming, and Robin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d love to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eal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lsif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direc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ling the truth fals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lf-conceal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orrect inference dod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hen is it?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My two friends from school</a:t>
            </a:r>
            <a:br>
              <a:rPr sz="2400"/>
            </a:b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are coming, and Robin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d love to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76920" y="3657600"/>
            <a:ext cx="4114800" cy="2895480"/>
            <a:chOff x="4876920" y="3657600"/>
            <a:chExt cx="4114800" cy="2895480"/>
          </a:xfrm>
        </p:grpSpPr>
        <p:grpSp>
          <p:nvGrpSpPr>
            <p:cNvPr id="119" name=""/>
            <p:cNvGrpSpPr/>
            <p:nvPr/>
          </p:nvGrpSpPr>
          <p:grpSpPr>
            <a:xfrm>
              <a:off x="5562720" y="3733920"/>
              <a:ext cx="3429000" cy="2514600"/>
              <a:chOff x="5562720" y="3733920"/>
              <a:chExt cx="3429000" cy="2514600"/>
            </a:xfrm>
          </p:grpSpPr>
          <p:sp>
            <p:nvSpPr>
              <p:cNvPr id="120" name=""/>
              <p:cNvSpPr/>
              <p:nvPr/>
            </p:nvSpPr>
            <p:spPr>
              <a:xfrm>
                <a:off x="5639040" y="3810240"/>
                <a:ext cx="3352680" cy="2438280"/>
              </a:xfrm>
              <a:prstGeom prst="rect">
                <a:avLst/>
              </a:prstGeom>
              <a:solidFill>
                <a:srgbClr val="0000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562720" y="3733920"/>
                <a:ext cx="335268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876920" y="3657600"/>
              <a:ext cx="36781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noAutofit/>
            </a:bodyPr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Falsifica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Misdirect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Telling the truth falsel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Half-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Incorrect inference dodge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0:21:24Z</dcterms:created>
  <dc:creator>Frank Enos</dc:creator>
  <dc:description/>
  <dc:language>en-US</dc:language>
  <cp:lastModifiedBy>Frank Enos</cp:lastModifiedBy>
  <dcterms:modified xsi:type="dcterms:W3CDTF">2005-04-25T16:19:42Z</dcterms:modified>
  <cp:revision>62</cp:revision>
  <dc:subject/>
  <dc:title>Emotional Speech</dc:title>
</cp:coreProperties>
</file>