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34D-3846-4F8E-95FC-8F550157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FBE-AB26-448E-A972-C8434EE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004-3EED-4E8A-B18D-911641FB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63D-6629-4245-8022-35A45FCD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D50-EC62-4B73-B174-5C757F1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C57-8AA6-4293-9A42-6579E81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52B-EEA3-4C0E-A1ED-A385B65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FAA-9454-4710-9A0B-2F90D5E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D99-0B81-43F4-B40C-2EE9546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258-EB46-453C-A41B-899DEC9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17F-304E-4FF6-AEC0-0CDAF5F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46B-7CA8-4208-9EC2-7726F4B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453-0B84-4186-B461-64C4A54E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5360" y="3048120"/>
            <a:ext cx="84344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Next Generation  9-1-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5587920"/>
            <a:ext cx="1439640" cy="132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71560" y="4165560"/>
            <a:ext cx="6608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roid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27640" y="5587920"/>
            <a:ext cx="4505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uj Sampathkumar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inhyung Pa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anay Dalm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we learn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P St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droid Development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Next Ste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ong-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prove User Interf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prove Real-Time Text Sta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dditional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utomatically Notifying to friends by using Address Boo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ing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4440" y="301320"/>
            <a:ext cx="96552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Features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l-time Tex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stant Messag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eo-location (PIDF-L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mage transmi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fl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25520" y="1206360"/>
            <a:ext cx="70628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nstant Messag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brary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P Stack: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JSIP 1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d SIP MESSAGE method to send instant-messages over UDP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sten for 200 OK from the serv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essage Time-out within 4 seconds if no response from the serv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al Time Messag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Library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SIP St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JSIP 1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User Session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ferenced SipDroid(Android VoIP Client) to implement UserAgen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T140 Protoc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d SIPc T140Handler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age Transmi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ses the SIP protocol (MJSIP Stack 1.6) to send imag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ustom camera interface to enable one-click sen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voke the Camera to get the image in JPEG forma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the content type of SIP message to "image/jpeg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witch the protocol to TC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sure that JPEG image is sent only as Binary dat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pplication listens for location update call backs from the Android run-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nce notified, construct a PIDF-LO using the location data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 this with the first Instant Message or Real-time text by sending a multi-part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fter this, keep buffering the location updat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nd this data with the next outgoing instant message and remove from buff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is ensures we do not send redundant PIDF-LO objects to the server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4440" y="301320"/>
            <a:ext cx="96552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Layout: I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27040" y="1432080"/>
            <a:ext cx="3375000" cy="5141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92600" y="1432080"/>
            <a:ext cx="34308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pplication Layout: RT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54320" y="1330200"/>
            <a:ext cx="335448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