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B61-F325-4C5B-9DD2-E9CD4653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8F2-0743-4C30-8828-12732FC7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4AE-B0FE-4C23-B705-A1DAB6B2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469-946F-432A-AA59-EE3BD9D9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F80-A85E-4642-812F-F62DA112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1B14-7BDE-49E6-BC2F-DDE4BD60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F2F-531B-44BC-9F13-944A336C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2D53-8AE7-45A4-A04D-4A451181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477A-1076-4C62-B0F2-C123DC41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E89-A50D-457F-BFEC-D7165A3D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15E-DCC4-4F1D-8238-26752D7C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8B00-DCCF-4C14-ABDA-08186B0C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A539-0B32-4E95-AFFA-0BC883CC2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4680"/>
          <a:ext cx="1150632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1150632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0" name=""/>
          <p:cNvGraphicFramePr/>
          <p:nvPr/>
        </p:nvGraphicFramePr>
        <p:xfrm>
          <a:off x="0" y="4680"/>
          <a:ext cx="9144000" cy="6848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4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2" name=""/>
          <p:cNvSpPr/>
          <p:nvPr/>
        </p:nvSpPr>
        <p:spPr>
          <a:xfrm>
            <a:off x="3051360" y="636588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CC Acces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3" name=""/>
          <p:cNvGraphicFramePr/>
          <p:nvPr/>
        </p:nvGraphicFramePr>
        <p:xfrm>
          <a:off x="0" y="46080"/>
          <a:ext cx="9144000" cy="67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080"/>
                    <a:ext cx="9144000" cy="67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5" name=""/>
          <p:cNvGraphicFramePr/>
          <p:nvPr/>
        </p:nvGraphicFramePr>
        <p:xfrm>
          <a:off x="0" y="4680"/>
          <a:ext cx="9144000" cy="6848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4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7" name=""/>
          <p:cNvGraphicFramePr/>
          <p:nvPr/>
        </p:nvGraphicFramePr>
        <p:xfrm>
          <a:off x="0" y="4680"/>
          <a:ext cx="9144000" cy="6848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4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4680"/>
          <a:ext cx="9144000" cy="6848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4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66760" y="6012000"/>
            <a:ext cx="4519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67920" y="6461280"/>
            <a:ext cx="58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e 1:  Composite Functional Reference Model (BICC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990720" y="228600"/>
            <a:ext cx="11810520" cy="6095160"/>
            <a:chOff x="-990720" y="228600"/>
            <a:chExt cx="11810520" cy="6095160"/>
          </a:xfrm>
        </p:grpSpPr>
        <p:sp>
          <p:nvSpPr>
            <p:cNvPr id="48" name=""/>
            <p:cNvSpPr/>
            <p:nvPr/>
          </p:nvSpPr>
          <p:spPr>
            <a:xfrm>
              <a:off x="414000" y="228600"/>
              <a:ext cx="8896680" cy="725400"/>
            </a:xfrm>
            <a:prstGeom prst="ellipse">
              <a:avLst/>
            </a:prstGeom>
            <a:solidFill>
              <a:srgbClr val="ff99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91760" y="2218320"/>
              <a:ext cx="120348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76000" y="2280600"/>
              <a:ext cx="1011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ll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60600" y="2489040"/>
              <a:ext cx="85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gna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5280" y="2218320"/>
              <a:ext cx="143820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59320" y="2280600"/>
              <a:ext cx="124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arer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51560" y="2489040"/>
              <a:ext cx="85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gna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284840" y="726120"/>
              <a:ext cx="473040" cy="2714400"/>
              <a:chOff x="1284840" y="726120"/>
              <a:chExt cx="473040" cy="2714400"/>
            </a:xfrm>
          </p:grpSpPr>
          <p:sp>
            <p:nvSpPr>
              <p:cNvPr id="56" name=""/>
              <p:cNvSpPr/>
              <p:nvPr/>
            </p:nvSpPr>
            <p:spPr>
              <a:xfrm>
                <a:off x="1284840" y="3358800"/>
                <a:ext cx="2196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306800" y="327492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06800" y="3130920"/>
                <a:ext cx="42480" cy="8136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0" y="38"/>
                    </a:moveTo>
                    <a:lnTo>
                      <a:pt x="10" y="38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329120" y="3047040"/>
                <a:ext cx="42480" cy="2124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10"/>
                    </a:moveTo>
                    <a:lnTo>
                      <a:pt x="9" y="1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349280" y="2902320"/>
                <a:ext cx="42480" cy="8172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0" y="38"/>
                    </a:moveTo>
                    <a:lnTo>
                      <a:pt x="10" y="38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71600" y="281844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392120" y="2674440"/>
                <a:ext cx="21960" cy="8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14080" y="261180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414080" y="2467440"/>
                <a:ext cx="42480" cy="8172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0" y="38"/>
                    </a:moveTo>
                    <a:lnTo>
                      <a:pt x="10" y="38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456920" y="2383560"/>
                <a:ext cx="2196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56920" y="2239560"/>
                <a:ext cx="42480" cy="8172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0" y="38"/>
                    </a:moveTo>
                    <a:lnTo>
                      <a:pt x="10" y="38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478880" y="215532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99400" y="2011320"/>
                <a:ext cx="44280" cy="8136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0" y="38"/>
                    </a:moveTo>
                    <a:lnTo>
                      <a:pt x="10" y="38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21720" y="192744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543680" y="1783080"/>
                <a:ext cx="1944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563480" y="1698840"/>
                <a:ext cx="2268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563480" y="1554840"/>
                <a:ext cx="45000" cy="8388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0" y="39"/>
                    </a:moveTo>
                    <a:lnTo>
                      <a:pt x="10" y="39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08480" y="1470960"/>
                <a:ext cx="1944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08480" y="1326600"/>
                <a:ext cx="4176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9" y="39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628280" y="1244880"/>
                <a:ext cx="2196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50600" y="109836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9" y="39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670760" y="1016280"/>
                <a:ext cx="21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93080" y="891360"/>
                <a:ext cx="2196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715400" y="80784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715400" y="726120"/>
                <a:ext cx="42480" cy="194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0" y="9"/>
                    </a:moveTo>
                    <a:lnTo>
                      <a:pt x="9" y="9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810160" y="767160"/>
              <a:ext cx="41400" cy="2673360"/>
              <a:chOff x="2810160" y="767160"/>
              <a:chExt cx="41400" cy="2673360"/>
            </a:xfrm>
          </p:grpSpPr>
          <p:sp>
            <p:nvSpPr>
              <p:cNvPr id="82" name=""/>
              <p:cNvSpPr/>
              <p:nvPr/>
            </p:nvSpPr>
            <p:spPr>
              <a:xfrm>
                <a:off x="2810160" y="3358800"/>
                <a:ext cx="41400" cy="8172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10" y="38"/>
                    </a:moveTo>
                    <a:lnTo>
                      <a:pt x="19" y="38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810160" y="3274920"/>
                <a:ext cx="2160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10160" y="3130920"/>
                <a:ext cx="21600" cy="8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810160" y="3047040"/>
                <a:ext cx="2160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810160" y="2902320"/>
                <a:ext cx="2160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810160" y="2818440"/>
                <a:ext cx="2160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810160" y="2674440"/>
                <a:ext cx="21600" cy="8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810160" y="2590560"/>
                <a:ext cx="2160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810160" y="2445840"/>
                <a:ext cx="2160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810160" y="2364480"/>
                <a:ext cx="2160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10160" y="2217960"/>
                <a:ext cx="2160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810160" y="2135880"/>
                <a:ext cx="2160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10160" y="1989360"/>
                <a:ext cx="2160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810160" y="1908000"/>
                <a:ext cx="2160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810160" y="1761480"/>
                <a:ext cx="2160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810160" y="1679400"/>
                <a:ext cx="2160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810160" y="1533600"/>
                <a:ext cx="2160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10160" y="1451520"/>
                <a:ext cx="2160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10160" y="1305000"/>
                <a:ext cx="2160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10160" y="1223640"/>
                <a:ext cx="2160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810160" y="1078920"/>
                <a:ext cx="2160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810160" y="995040"/>
                <a:ext cx="2160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10160" y="851040"/>
                <a:ext cx="21600" cy="8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0160" y="767160"/>
                <a:ext cx="2160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715760" y="745560"/>
              <a:ext cx="1115640" cy="20880"/>
              <a:chOff x="1715760" y="745560"/>
              <a:chExt cx="1115640" cy="20880"/>
            </a:xfrm>
          </p:grpSpPr>
          <p:sp>
            <p:nvSpPr>
              <p:cNvPr id="107" name=""/>
              <p:cNvSpPr/>
              <p:nvPr/>
            </p:nvSpPr>
            <p:spPr>
              <a:xfrm>
                <a:off x="1715760" y="745560"/>
                <a:ext cx="849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865520" y="745560"/>
                <a:ext cx="219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50120" y="745560"/>
                <a:ext cx="867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101680" y="745560"/>
                <a:ext cx="201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87000" y="745560"/>
                <a:ext cx="867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338560" y="745560"/>
                <a:ext cx="1944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423160" y="745560"/>
                <a:ext cx="849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73280" y="745560"/>
                <a:ext cx="219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60040" y="745560"/>
                <a:ext cx="8424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809440" y="745560"/>
                <a:ext cx="219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066840" y="767160"/>
              <a:ext cx="495000" cy="2716920"/>
              <a:chOff x="3066840" y="767160"/>
              <a:chExt cx="495000" cy="2716920"/>
            </a:xfrm>
          </p:grpSpPr>
          <p:sp>
            <p:nvSpPr>
              <p:cNvPr id="118" name=""/>
              <p:cNvSpPr/>
              <p:nvPr/>
            </p:nvSpPr>
            <p:spPr>
              <a:xfrm>
                <a:off x="3066840" y="3400200"/>
                <a:ext cx="219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88800" y="331632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88800" y="317160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10" y="39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111120" y="3090240"/>
                <a:ext cx="42480" cy="1872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0" y="9"/>
                    </a:moveTo>
                    <a:lnTo>
                      <a:pt x="9" y="9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31280" y="2943720"/>
                <a:ext cx="44280" cy="8388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0" y="39"/>
                    </a:moveTo>
                    <a:lnTo>
                      <a:pt x="10" y="39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53600" y="2861640"/>
                <a:ext cx="21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175920" y="2737080"/>
                <a:ext cx="42480" cy="6192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0" y="29"/>
                    </a:moveTo>
                    <a:lnTo>
                      <a:pt x="9" y="29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196080" y="265320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18400" y="2508480"/>
                <a:ext cx="2016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38920" y="242460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260880" y="2280600"/>
                <a:ext cx="219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283200" y="219672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83200" y="205200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9" y="39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25680" y="1970640"/>
                <a:ext cx="1944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325680" y="182412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9" y="39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45480" y="174204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10" y="9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368520" y="1595520"/>
                <a:ext cx="4176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10" y="39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90480" y="1514160"/>
                <a:ext cx="194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410280" y="1367640"/>
                <a:ext cx="45000" cy="8388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0" y="39"/>
                    </a:moveTo>
                    <a:lnTo>
                      <a:pt x="10" y="39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432600" y="1285560"/>
                <a:ext cx="226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55280" y="1161000"/>
                <a:ext cx="1944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475080" y="1078920"/>
                <a:ext cx="21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7400" y="932400"/>
                <a:ext cx="201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17560" y="851040"/>
                <a:ext cx="2196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17560" y="767160"/>
                <a:ext cx="44280" cy="212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10"/>
                    </a:moveTo>
                    <a:lnTo>
                      <a:pt x="10" y="10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4442400" y="788400"/>
              <a:ext cx="84600" cy="2673720"/>
              <a:chOff x="4442400" y="788400"/>
              <a:chExt cx="84600" cy="2673720"/>
            </a:xfrm>
          </p:grpSpPr>
          <p:sp>
            <p:nvSpPr>
              <p:cNvPr id="144" name=""/>
              <p:cNvSpPr/>
              <p:nvPr/>
            </p:nvSpPr>
            <p:spPr>
              <a:xfrm>
                <a:off x="4484520" y="337824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0" y="39"/>
                    </a:moveTo>
                    <a:lnTo>
                      <a:pt x="19" y="3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84520" y="3296160"/>
                <a:ext cx="226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84520" y="3149640"/>
                <a:ext cx="2268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84520" y="3068280"/>
                <a:ext cx="2268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84520" y="2923560"/>
                <a:ext cx="2268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84520" y="2839680"/>
                <a:ext cx="2268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84520" y="2695680"/>
                <a:ext cx="22680" cy="8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84520" y="2611800"/>
                <a:ext cx="2268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62200" y="2467080"/>
                <a:ext cx="2232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62200" y="2383200"/>
                <a:ext cx="2232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462200" y="2239200"/>
                <a:ext cx="2232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462200" y="2155320"/>
                <a:ext cx="223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62200" y="2011320"/>
                <a:ext cx="22320" cy="8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62200" y="1927080"/>
                <a:ext cx="223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62200" y="1782720"/>
                <a:ext cx="2232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462200" y="1698840"/>
                <a:ext cx="223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42400" y="1554840"/>
                <a:ext cx="1980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42400" y="1470600"/>
                <a:ext cx="1980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42400" y="1326240"/>
                <a:ext cx="1980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42400" y="1244880"/>
                <a:ext cx="1980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42400" y="1098360"/>
                <a:ext cx="1980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42400" y="1016280"/>
                <a:ext cx="1980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42400" y="869760"/>
                <a:ext cx="1980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42400" y="788400"/>
                <a:ext cx="1980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82360" y="745560"/>
              <a:ext cx="794520" cy="20880"/>
              <a:chOff x="3582360" y="745560"/>
              <a:chExt cx="794520" cy="20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582360" y="745560"/>
                <a:ext cx="867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33920" y="745560"/>
                <a:ext cx="1944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18520" y="745560"/>
                <a:ext cx="849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8280" y="745560"/>
                <a:ext cx="219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055400" y="745560"/>
                <a:ext cx="8424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204800" y="745560"/>
                <a:ext cx="219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91920" y="745560"/>
                <a:ext cx="849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741560" y="829440"/>
              <a:ext cx="430560" cy="2632680"/>
              <a:chOff x="4741560" y="829440"/>
              <a:chExt cx="430560" cy="2632680"/>
            </a:xfrm>
          </p:grpSpPr>
          <p:sp>
            <p:nvSpPr>
              <p:cNvPr id="177" name=""/>
              <p:cNvSpPr/>
              <p:nvPr/>
            </p:nvSpPr>
            <p:spPr>
              <a:xfrm>
                <a:off x="4741560" y="3378240"/>
                <a:ext cx="219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763520" y="3296160"/>
                <a:ext cx="21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763520" y="3149640"/>
                <a:ext cx="4176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10" y="39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785840" y="3068280"/>
                <a:ext cx="1944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05640" y="2923560"/>
                <a:ext cx="2268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828320" y="283968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850640" y="2695680"/>
                <a:ext cx="19440" cy="8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870440" y="261180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870440" y="248688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10" y="39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92760" y="2405160"/>
                <a:ext cx="2016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12920" y="2258640"/>
                <a:ext cx="219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35240" y="2176560"/>
                <a:ext cx="21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957560" y="2030400"/>
                <a:ext cx="201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977720" y="194868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977720" y="1804320"/>
                <a:ext cx="44280" cy="8172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0" y="38"/>
                    </a:moveTo>
                    <a:lnTo>
                      <a:pt x="10" y="38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000040" y="172008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22360" y="1576080"/>
                <a:ext cx="20160" cy="8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042520" y="149220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064840" y="1347840"/>
                <a:ext cx="2016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85000" y="126360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085000" y="1119600"/>
                <a:ext cx="44280" cy="8136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0" y="38"/>
                    </a:moveTo>
                    <a:lnTo>
                      <a:pt x="10" y="38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107320" y="103572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29640" y="891360"/>
                <a:ext cx="42480" cy="8172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0" y="38"/>
                    </a:moveTo>
                    <a:lnTo>
                      <a:pt x="9" y="38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49800" y="829440"/>
                <a:ext cx="219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5344920" y="788400"/>
              <a:ext cx="106200" cy="2673720"/>
              <a:chOff x="5344920" y="788400"/>
              <a:chExt cx="106200" cy="2673720"/>
            </a:xfrm>
          </p:grpSpPr>
          <p:sp>
            <p:nvSpPr>
              <p:cNvPr id="202" name=""/>
              <p:cNvSpPr/>
              <p:nvPr/>
            </p:nvSpPr>
            <p:spPr>
              <a:xfrm>
                <a:off x="5409000" y="3378240"/>
                <a:ext cx="4212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9" y="39"/>
                    </a:moveTo>
                    <a:lnTo>
                      <a:pt x="19" y="3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409000" y="3296160"/>
                <a:ext cx="1980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409000" y="3149640"/>
                <a:ext cx="1980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09000" y="3068280"/>
                <a:ext cx="1980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09000" y="2923560"/>
                <a:ext cx="1980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09000" y="2839680"/>
                <a:ext cx="1980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387040" y="2695680"/>
                <a:ext cx="21960" cy="8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87040" y="261180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387040" y="2467080"/>
                <a:ext cx="2196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387040" y="2383200"/>
                <a:ext cx="2196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387040" y="2239200"/>
                <a:ext cx="2196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387040" y="215532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364720" y="2011320"/>
                <a:ext cx="21960" cy="8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364720" y="192708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364720" y="1782720"/>
                <a:ext cx="2196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4720" y="169884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364720" y="1554840"/>
                <a:ext cx="219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364720" y="147060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344920" y="1326240"/>
                <a:ext cx="1980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344920" y="1244880"/>
                <a:ext cx="1980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344920" y="1098360"/>
                <a:ext cx="1980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344920" y="1016280"/>
                <a:ext cx="1980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44920" y="869760"/>
                <a:ext cx="1980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44920" y="788400"/>
                <a:ext cx="1980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150520" y="745560"/>
              <a:ext cx="171720" cy="20880"/>
              <a:chOff x="5150520" y="745560"/>
              <a:chExt cx="171720" cy="20880"/>
            </a:xfrm>
          </p:grpSpPr>
          <p:sp>
            <p:nvSpPr>
              <p:cNvPr id="227" name=""/>
              <p:cNvSpPr/>
              <p:nvPr/>
            </p:nvSpPr>
            <p:spPr>
              <a:xfrm>
                <a:off x="5150520" y="745560"/>
                <a:ext cx="8640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302080" y="745560"/>
                <a:ext cx="201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5666400" y="745560"/>
              <a:ext cx="534960" cy="2738160"/>
              <a:chOff x="5666400" y="745560"/>
              <a:chExt cx="534960" cy="2738160"/>
            </a:xfrm>
          </p:grpSpPr>
          <p:sp>
            <p:nvSpPr>
              <p:cNvPr id="230" name=""/>
              <p:cNvSpPr/>
              <p:nvPr/>
            </p:nvSpPr>
            <p:spPr>
              <a:xfrm>
                <a:off x="5666400" y="3399840"/>
                <a:ext cx="219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688360" y="331596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688360" y="317124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9" y="39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730840" y="3089880"/>
                <a:ext cx="2016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30840" y="294336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9" y="39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773680" y="2861280"/>
                <a:ext cx="21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73680" y="2736720"/>
                <a:ext cx="42480" cy="8136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0" y="38"/>
                    </a:moveTo>
                    <a:lnTo>
                      <a:pt x="10" y="38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16160" y="265284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16160" y="2508480"/>
                <a:ext cx="44280" cy="8172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0" y="38"/>
                    </a:moveTo>
                    <a:lnTo>
                      <a:pt x="10" y="38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60440" y="2424240"/>
                <a:ext cx="1944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60440" y="228024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9" y="39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03280" y="2196360"/>
                <a:ext cx="1944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903280" y="2052000"/>
                <a:ext cx="4176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9" y="39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45040" y="1970280"/>
                <a:ext cx="2196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45040" y="182376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10" y="39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87520" y="1741680"/>
                <a:ext cx="21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987520" y="159552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10" y="39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009840" y="1533240"/>
                <a:ext cx="42480" cy="2124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10"/>
                    </a:moveTo>
                    <a:lnTo>
                      <a:pt x="9" y="1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30000" y="1388880"/>
                <a:ext cx="44280" cy="8172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0" y="38"/>
                    </a:moveTo>
                    <a:lnTo>
                      <a:pt x="10" y="38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052320" y="1305000"/>
                <a:ext cx="42480" cy="2124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10"/>
                    </a:moveTo>
                    <a:lnTo>
                      <a:pt x="10" y="1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74640" y="116100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9" y="39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094800" y="1078920"/>
                <a:ext cx="44280" cy="1944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10" y="9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17120" y="93240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10" y="39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39440" y="850680"/>
                <a:ext cx="42480" cy="1872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0" y="9"/>
                    </a:moveTo>
                    <a:lnTo>
                      <a:pt x="9" y="9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159600" y="745560"/>
                <a:ext cx="41760" cy="4284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20"/>
                    </a:moveTo>
                    <a:lnTo>
                      <a:pt x="10" y="2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698160" y="788400"/>
              <a:ext cx="42120" cy="2673720"/>
              <a:chOff x="6698160" y="788400"/>
              <a:chExt cx="42120" cy="2673720"/>
            </a:xfrm>
          </p:grpSpPr>
          <p:sp>
            <p:nvSpPr>
              <p:cNvPr id="256" name=""/>
              <p:cNvSpPr/>
              <p:nvPr/>
            </p:nvSpPr>
            <p:spPr>
              <a:xfrm>
                <a:off x="6698160" y="3378240"/>
                <a:ext cx="4212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9" y="39"/>
                    </a:moveTo>
                    <a:lnTo>
                      <a:pt x="19" y="3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698160" y="3296160"/>
                <a:ext cx="201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98160" y="3149640"/>
                <a:ext cx="201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698160" y="306828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698160" y="2923560"/>
                <a:ext cx="2016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698160" y="283968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698160" y="2695680"/>
                <a:ext cx="20160" cy="8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698160" y="261180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698160" y="2467080"/>
                <a:ext cx="2016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98160" y="2383200"/>
                <a:ext cx="2016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698160" y="2239200"/>
                <a:ext cx="2016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698160" y="215532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698160" y="2011320"/>
                <a:ext cx="20160" cy="8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698160" y="192708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698160" y="1782720"/>
                <a:ext cx="2016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698160" y="169884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698160" y="1554840"/>
                <a:ext cx="201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698160" y="147060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98160" y="1326240"/>
                <a:ext cx="201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698160" y="1244880"/>
                <a:ext cx="2016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698160" y="1098360"/>
                <a:ext cx="201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698160" y="1016280"/>
                <a:ext cx="201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698160" y="869760"/>
                <a:ext cx="201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698160" y="788400"/>
                <a:ext cx="201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181920" y="745560"/>
              <a:ext cx="535680" cy="20880"/>
              <a:chOff x="6181920" y="745560"/>
              <a:chExt cx="535680" cy="20880"/>
            </a:xfrm>
          </p:grpSpPr>
          <p:sp>
            <p:nvSpPr>
              <p:cNvPr id="281" name=""/>
              <p:cNvSpPr/>
              <p:nvPr/>
            </p:nvSpPr>
            <p:spPr>
              <a:xfrm>
                <a:off x="6181920" y="745560"/>
                <a:ext cx="8424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31320" y="745560"/>
                <a:ext cx="219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18440" y="745560"/>
                <a:ext cx="849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68200" y="745560"/>
                <a:ext cx="1944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652800" y="745560"/>
                <a:ext cx="6480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6867720" y="807840"/>
              <a:ext cx="323280" cy="2654280"/>
              <a:chOff x="6867720" y="807840"/>
              <a:chExt cx="323280" cy="2654280"/>
            </a:xfrm>
          </p:grpSpPr>
          <p:sp>
            <p:nvSpPr>
              <p:cNvPr id="287" name=""/>
              <p:cNvSpPr/>
              <p:nvPr/>
            </p:nvSpPr>
            <p:spPr>
              <a:xfrm>
                <a:off x="6867720" y="3378240"/>
                <a:ext cx="219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867720" y="3296160"/>
                <a:ext cx="21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889680" y="3149640"/>
                <a:ext cx="219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912000" y="3068280"/>
                <a:ext cx="1944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912000" y="2923560"/>
                <a:ext cx="1944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931800" y="2839680"/>
                <a:ext cx="2268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31800" y="2695680"/>
                <a:ext cx="45000" cy="8136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0" y="38"/>
                    </a:moveTo>
                    <a:lnTo>
                      <a:pt x="10" y="38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54840" y="261180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977160" y="2467080"/>
                <a:ext cx="1944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977160" y="2383200"/>
                <a:ext cx="1944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996600" y="2239200"/>
                <a:ext cx="2196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018920" y="215532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018920" y="2011320"/>
                <a:ext cx="42480" cy="8136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0" y="38"/>
                    </a:moveTo>
                    <a:lnTo>
                      <a:pt x="9" y="38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039440" y="192708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039440" y="1803960"/>
                <a:ext cx="44280" cy="8172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0" y="38"/>
                    </a:moveTo>
                    <a:lnTo>
                      <a:pt x="10" y="38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61760" y="172008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4080" y="1576080"/>
                <a:ext cx="20160" cy="8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084080" y="1492200"/>
                <a:ext cx="42480" cy="2124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10"/>
                    </a:moveTo>
                    <a:lnTo>
                      <a:pt x="9" y="1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104240" y="1347480"/>
                <a:ext cx="2196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126560" y="126360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126560" y="1119600"/>
                <a:ext cx="42480" cy="8136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0" y="38"/>
                    </a:moveTo>
                    <a:lnTo>
                      <a:pt x="9" y="38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146720" y="103572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146720" y="891000"/>
                <a:ext cx="44280" cy="8172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0" y="38"/>
                    </a:moveTo>
                    <a:lnTo>
                      <a:pt x="10" y="38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69040" y="80784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7986240" y="788400"/>
              <a:ext cx="363600" cy="2652120"/>
              <a:chOff x="7986240" y="788400"/>
              <a:chExt cx="363600" cy="2652120"/>
            </a:xfrm>
          </p:grpSpPr>
          <p:sp>
            <p:nvSpPr>
              <p:cNvPr id="312" name=""/>
              <p:cNvSpPr/>
              <p:nvPr/>
            </p:nvSpPr>
            <p:spPr>
              <a:xfrm>
                <a:off x="8307360" y="3358800"/>
                <a:ext cx="42480" cy="8172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9" y="38"/>
                    </a:moveTo>
                    <a:lnTo>
                      <a:pt x="19" y="3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307360" y="327492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285040" y="3130920"/>
                <a:ext cx="21960" cy="8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264880" y="304704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42560" y="2902320"/>
                <a:ext cx="42480" cy="8172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10" y="38"/>
                    </a:moveTo>
                    <a:lnTo>
                      <a:pt x="19" y="38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242560" y="281844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220240" y="2674440"/>
                <a:ext cx="21960" cy="8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200080" y="2590560"/>
                <a:ext cx="42480" cy="2124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9" y="10"/>
                    </a:moveTo>
                    <a:lnTo>
                      <a:pt x="1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200080" y="2445840"/>
                <a:ext cx="201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177760" y="2364480"/>
                <a:ext cx="2196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155440" y="2217960"/>
                <a:ext cx="44280" cy="8388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10" y="39"/>
                    </a:moveTo>
                    <a:lnTo>
                      <a:pt x="20" y="3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155440" y="2135880"/>
                <a:ext cx="21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135280" y="2011320"/>
                <a:ext cx="2016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112960" y="1927440"/>
                <a:ext cx="42480" cy="2124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0" y="10"/>
                    </a:moveTo>
                    <a:lnTo>
                      <a:pt x="19" y="1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112960" y="1782720"/>
                <a:ext cx="2196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093160" y="1698840"/>
                <a:ext cx="1944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070480" y="155484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0" y="39"/>
                    </a:moveTo>
                    <a:lnTo>
                      <a:pt x="19" y="3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070480" y="1470960"/>
                <a:ext cx="2268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048160" y="1326240"/>
                <a:ext cx="219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028720" y="1244880"/>
                <a:ext cx="41760" cy="1872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9" y="9"/>
                    </a:moveTo>
                    <a:lnTo>
                      <a:pt x="1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028720" y="1098360"/>
                <a:ext cx="1944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006400" y="1016280"/>
                <a:ext cx="21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986240" y="86976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9" y="39"/>
                    </a:moveTo>
                    <a:lnTo>
                      <a:pt x="19" y="3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986240" y="788400"/>
                <a:ext cx="201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7169040" y="745560"/>
              <a:ext cx="794160" cy="20880"/>
              <a:chOff x="7169040" y="745560"/>
              <a:chExt cx="794160" cy="20880"/>
            </a:xfrm>
          </p:grpSpPr>
          <p:sp>
            <p:nvSpPr>
              <p:cNvPr id="337" name=""/>
              <p:cNvSpPr/>
              <p:nvPr/>
            </p:nvSpPr>
            <p:spPr>
              <a:xfrm>
                <a:off x="7169040" y="745560"/>
                <a:ext cx="867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18080" y="745560"/>
                <a:ext cx="219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405200" y="745560"/>
                <a:ext cx="849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554960" y="745560"/>
                <a:ext cx="219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642080" y="745560"/>
                <a:ext cx="8424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791480" y="745560"/>
                <a:ext cx="219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876440" y="745560"/>
                <a:ext cx="867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8480160" y="726120"/>
              <a:ext cx="233640" cy="2673720"/>
              <a:chOff x="8480160" y="726120"/>
              <a:chExt cx="233640" cy="2673720"/>
            </a:xfrm>
          </p:grpSpPr>
          <p:sp>
            <p:nvSpPr>
              <p:cNvPr id="345" name=""/>
              <p:cNvSpPr/>
              <p:nvPr/>
            </p:nvSpPr>
            <p:spPr>
              <a:xfrm>
                <a:off x="8480160" y="3315960"/>
                <a:ext cx="201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480160" y="323388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480160" y="3089880"/>
                <a:ext cx="42480" cy="8136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0" y="38"/>
                    </a:moveTo>
                    <a:lnTo>
                      <a:pt x="9" y="38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500320" y="300600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00320" y="2861280"/>
                <a:ext cx="44280" cy="8172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0" y="38"/>
                    </a:moveTo>
                    <a:lnTo>
                      <a:pt x="10" y="38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522640" y="277740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522640" y="2633400"/>
                <a:ext cx="42480" cy="8172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0" y="38"/>
                    </a:moveTo>
                    <a:lnTo>
                      <a:pt x="10" y="38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544600" y="254952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544600" y="2405520"/>
                <a:ext cx="42480" cy="8136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0" y="38"/>
                    </a:moveTo>
                    <a:lnTo>
                      <a:pt x="9" y="38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565120" y="232128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565120" y="2176920"/>
                <a:ext cx="2196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587080" y="209304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587080" y="1949040"/>
                <a:ext cx="20160" cy="8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607600" y="186480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607600" y="1720440"/>
                <a:ext cx="219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629560" y="1639080"/>
                <a:ext cx="2196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629560" y="1492560"/>
                <a:ext cx="219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651880" y="1410480"/>
                <a:ext cx="201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651880" y="1263960"/>
                <a:ext cx="201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651880" y="1182600"/>
                <a:ext cx="42480" cy="1872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0" y="9"/>
                    </a:moveTo>
                    <a:lnTo>
                      <a:pt x="9" y="9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672040" y="1036080"/>
                <a:ext cx="219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672040" y="954000"/>
                <a:ext cx="21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694360" y="807840"/>
                <a:ext cx="19440" cy="83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694360" y="726120"/>
                <a:ext cx="194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066840" y="310320"/>
              <a:ext cx="33073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98600" y="372960"/>
              <a:ext cx="102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gna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95160" y="372960"/>
              <a:ext cx="18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94800" y="4084920"/>
              <a:ext cx="515880" cy="662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lnTo>
                    <a:pt x="0" y="28"/>
                  </a:lnTo>
                  <a:cubicBezTo>
                    <a:pt x="0" y="31"/>
                    <a:pt x="2" y="32"/>
                    <a:pt x="4" y="32"/>
                  </a:cubicBezTo>
                  <a:lnTo>
                    <a:pt x="20" y="32"/>
                  </a:lnTo>
                  <a:cubicBezTo>
                    <a:pt x="23" y="32"/>
                    <a:pt x="24" y="31"/>
                    <a:pt x="24" y="28"/>
                  </a:cubicBezTo>
                  <a:lnTo>
                    <a:pt x="24" y="4"/>
                  </a:lnTo>
                  <a:cubicBezTo>
                    <a:pt x="24" y="2"/>
                    <a:pt x="23" y="0"/>
                    <a:pt x="2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81920" y="4147560"/>
              <a:ext cx="363960" cy="2689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lnTo>
                    <a:pt x="0" y="11"/>
                  </a:lnTo>
                  <a:cubicBezTo>
                    <a:pt x="0" y="12"/>
                    <a:pt x="1" y="13"/>
                    <a:pt x="2" y="13"/>
                  </a:cubicBezTo>
                  <a:lnTo>
                    <a:pt x="15" y="13"/>
                  </a:lnTo>
                  <a:cubicBezTo>
                    <a:pt x="16" y="13"/>
                    <a:pt x="17" y="12"/>
                    <a:pt x="17" y="11"/>
                  </a:cubicBezTo>
                  <a:lnTo>
                    <a:pt x="17" y="2"/>
                  </a:lnTo>
                  <a:cubicBezTo>
                    <a:pt x="17" y="1"/>
                    <a:pt x="16" y="0"/>
                    <a:pt x="15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23320" y="418608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CF-J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31680" y="4498560"/>
              <a:ext cx="86760" cy="186840"/>
            </a:xfrm>
            <a:prstGeom prst="rect">
              <a:avLst/>
            </a:prstGeom>
            <a:solidFill>
              <a:srgbClr val="00cc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03400" y="4498560"/>
              <a:ext cx="42480" cy="42840"/>
            </a:xfrm>
            <a:prstGeom prst="rect">
              <a:avLst/>
            </a:prstGeom>
            <a:solidFill>
              <a:srgbClr val="00cc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03400" y="4645080"/>
              <a:ext cx="42480" cy="40320"/>
            </a:xfrm>
            <a:prstGeom prst="rect">
              <a:avLst/>
            </a:prstGeom>
            <a:solidFill>
              <a:srgbClr val="00cc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02080" y="4498560"/>
              <a:ext cx="44280" cy="42840"/>
            </a:xfrm>
            <a:prstGeom prst="rect">
              <a:avLst/>
            </a:prstGeom>
            <a:solidFill>
              <a:srgbClr val="00cc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02080" y="4645080"/>
              <a:ext cx="44280" cy="40320"/>
            </a:xfrm>
            <a:prstGeom prst="rect">
              <a:avLst/>
            </a:prstGeom>
            <a:solidFill>
              <a:srgbClr val="00cc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46720" y="4519800"/>
              <a:ext cx="626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46720" y="4664160"/>
              <a:ext cx="6264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418440" y="4519800"/>
              <a:ext cx="62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418440" y="4664160"/>
              <a:ext cx="622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04200" y="5017680"/>
              <a:ext cx="665280" cy="18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18280" y="3960000"/>
              <a:ext cx="495000" cy="870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82360" y="4147560"/>
              <a:ext cx="366480" cy="2689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lnTo>
                    <a:pt x="0" y="11"/>
                  </a:lnTo>
                  <a:cubicBezTo>
                    <a:pt x="0" y="12"/>
                    <a:pt x="1" y="13"/>
                    <a:pt x="2" y="13"/>
                  </a:cubicBezTo>
                  <a:lnTo>
                    <a:pt x="15" y="13"/>
                  </a:lnTo>
                  <a:cubicBezTo>
                    <a:pt x="16" y="13"/>
                    <a:pt x="17" y="12"/>
                    <a:pt x="17" y="11"/>
                  </a:cubicBezTo>
                  <a:lnTo>
                    <a:pt x="17" y="2"/>
                  </a:lnTo>
                  <a:cubicBezTo>
                    <a:pt x="17" y="1"/>
                    <a:pt x="16" y="0"/>
                    <a:pt x="15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81640" y="418608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CF-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40600" y="3960000"/>
              <a:ext cx="4726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03600" y="4020480"/>
              <a:ext cx="32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N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3625200" y="4498560"/>
              <a:ext cx="343440" cy="186480"/>
              <a:chOff x="3625200" y="4498560"/>
              <a:chExt cx="343440" cy="186480"/>
            </a:xfrm>
          </p:grpSpPr>
          <p:sp>
            <p:nvSpPr>
              <p:cNvPr id="391" name=""/>
              <p:cNvSpPr/>
              <p:nvPr/>
            </p:nvSpPr>
            <p:spPr>
              <a:xfrm>
                <a:off x="3754080" y="4498560"/>
                <a:ext cx="86760" cy="1864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926160" y="4498560"/>
                <a:ext cx="42480" cy="4284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926160" y="4644720"/>
                <a:ext cx="42480" cy="4032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625200" y="4498560"/>
                <a:ext cx="44280" cy="4284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625200" y="4644720"/>
                <a:ext cx="44280" cy="4032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669480" y="4519800"/>
                <a:ext cx="64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669480" y="4663800"/>
                <a:ext cx="644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3841200" y="4519800"/>
                <a:ext cx="626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3841200" y="4663800"/>
                <a:ext cx="626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3647520" y="4707360"/>
              <a:ext cx="2520" cy="3099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26520" y="4726440"/>
              <a:ext cx="2520" cy="3124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224400" y="4707360"/>
              <a:ext cx="2520" cy="3312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25720" y="4707360"/>
              <a:ext cx="2520" cy="3099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03400" y="5017680"/>
              <a:ext cx="558360" cy="18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932520" y="3981240"/>
              <a:ext cx="515880" cy="848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97320" y="4147560"/>
              <a:ext cx="386280" cy="2689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3" y="0"/>
                  </a:moveTo>
                  <a:cubicBezTo>
                    <a:pt x="1" y="0"/>
                    <a:pt x="0" y="1"/>
                    <a:pt x="0" y="2"/>
                  </a:cubicBezTo>
                  <a:lnTo>
                    <a:pt x="0" y="11"/>
                  </a:lnTo>
                  <a:cubicBezTo>
                    <a:pt x="0" y="12"/>
                    <a:pt x="1" y="13"/>
                    <a:pt x="3" y="13"/>
                  </a:cubicBezTo>
                  <a:lnTo>
                    <a:pt x="16" y="13"/>
                  </a:lnTo>
                  <a:cubicBezTo>
                    <a:pt x="17" y="13"/>
                    <a:pt x="18" y="12"/>
                    <a:pt x="18" y="11"/>
                  </a:cubicBezTo>
                  <a:lnTo>
                    <a:pt x="18" y="2"/>
                  </a:lnTo>
                  <a:cubicBezTo>
                    <a:pt x="18" y="1"/>
                    <a:pt x="17" y="0"/>
                    <a:pt x="1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18920" y="418608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CF-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32520" y="3981240"/>
              <a:ext cx="473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97320" y="4020480"/>
              <a:ext cx="32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N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6997320" y="4498560"/>
              <a:ext cx="343080" cy="186480"/>
              <a:chOff x="6997320" y="4498560"/>
              <a:chExt cx="343080" cy="186480"/>
            </a:xfrm>
          </p:grpSpPr>
          <p:sp>
            <p:nvSpPr>
              <p:cNvPr id="411" name=""/>
              <p:cNvSpPr/>
              <p:nvPr/>
            </p:nvSpPr>
            <p:spPr>
              <a:xfrm>
                <a:off x="7126560" y="4498560"/>
                <a:ext cx="84960" cy="1864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298640" y="4498560"/>
                <a:ext cx="41760" cy="4284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298640" y="4644720"/>
                <a:ext cx="41760" cy="4032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997320" y="4498560"/>
                <a:ext cx="64440" cy="4284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997320" y="4644720"/>
                <a:ext cx="64440" cy="4032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61760" y="4519800"/>
                <a:ext cx="64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61760" y="4663800"/>
                <a:ext cx="644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7233480" y="4519800"/>
                <a:ext cx="64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7233480" y="4663800"/>
                <a:ext cx="644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7019640" y="4707360"/>
              <a:ext cx="1800" cy="3312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18800" y="4707360"/>
              <a:ext cx="1800" cy="3312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298640" y="4995720"/>
              <a:ext cx="730080" cy="21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14520" y="3359160"/>
              <a:ext cx="879480" cy="1491840"/>
            </a:xfrm>
            <a:custGeom>
              <a:avLst/>
              <a:gdLst/>
              <a:ahLst/>
              <a:rect l="l" t="t" r="r" b="b"/>
              <a:pathLst>
                <a:path w="41" h="72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lnTo>
                    <a:pt x="0" y="65"/>
                  </a:lnTo>
                  <a:cubicBezTo>
                    <a:pt x="0" y="69"/>
                    <a:pt x="3" y="72"/>
                    <a:pt x="7" y="72"/>
                  </a:cubicBezTo>
                  <a:lnTo>
                    <a:pt x="34" y="72"/>
                  </a:lnTo>
                  <a:cubicBezTo>
                    <a:pt x="38" y="72"/>
                    <a:pt x="41" y="69"/>
                    <a:pt x="41" y="65"/>
                  </a:cubicBezTo>
                  <a:lnTo>
                    <a:pt x="41" y="7"/>
                  </a:lnTo>
                  <a:cubicBezTo>
                    <a:pt x="41" y="3"/>
                    <a:pt x="38" y="0"/>
                    <a:pt x="34" y="0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28720" y="4001040"/>
              <a:ext cx="451080" cy="7063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3" y="0"/>
                  </a:moveTo>
                  <a:cubicBezTo>
                    <a:pt x="1" y="0"/>
                    <a:pt x="0" y="2"/>
                    <a:pt x="0" y="4"/>
                  </a:cubicBezTo>
                  <a:lnTo>
                    <a:pt x="0" y="30"/>
                  </a:lnTo>
                  <a:cubicBezTo>
                    <a:pt x="0" y="32"/>
                    <a:pt x="1" y="34"/>
                    <a:pt x="3" y="34"/>
                  </a:cubicBezTo>
                  <a:lnTo>
                    <a:pt x="17" y="34"/>
                  </a:lnTo>
                  <a:cubicBezTo>
                    <a:pt x="19" y="34"/>
                    <a:pt x="21" y="32"/>
                    <a:pt x="21" y="30"/>
                  </a:cubicBezTo>
                  <a:lnTo>
                    <a:pt x="21" y="4"/>
                  </a:lnTo>
                  <a:cubicBezTo>
                    <a:pt x="21" y="2"/>
                    <a:pt x="19" y="0"/>
                    <a:pt x="1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06400" y="3544200"/>
              <a:ext cx="538200" cy="31248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" y="0"/>
                  </a:moveTo>
                  <a:cubicBezTo>
                    <a:pt x="1" y="0"/>
                    <a:pt x="0" y="1"/>
                    <a:pt x="0" y="3"/>
                  </a:cubicBezTo>
                  <a:lnTo>
                    <a:pt x="0" y="12"/>
                  </a:lnTo>
                  <a:cubicBezTo>
                    <a:pt x="0" y="13"/>
                    <a:pt x="1" y="15"/>
                    <a:pt x="2" y="15"/>
                  </a:cubicBezTo>
                  <a:lnTo>
                    <a:pt x="23" y="15"/>
                  </a:lnTo>
                  <a:cubicBezTo>
                    <a:pt x="24" y="15"/>
                    <a:pt x="25" y="13"/>
                    <a:pt x="25" y="12"/>
                  </a:cubicBezTo>
                  <a:lnTo>
                    <a:pt x="25" y="3"/>
                  </a:lnTo>
                  <a:cubicBezTo>
                    <a:pt x="25" y="1"/>
                    <a:pt x="24" y="0"/>
                    <a:pt x="23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092080" y="3628440"/>
              <a:ext cx="33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SF-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006400" y="3359160"/>
              <a:ext cx="51588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71200" y="340020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SN-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8114040" y="3857040"/>
              <a:ext cx="151920" cy="206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265960" y="3857040"/>
              <a:ext cx="1800" cy="144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265960" y="5017680"/>
              <a:ext cx="857160" cy="18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9120" y="4084920"/>
              <a:ext cx="515880" cy="6843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4" y="0"/>
                  </a:moveTo>
                  <a:cubicBezTo>
                    <a:pt x="2" y="0"/>
                    <a:pt x="0" y="1"/>
                    <a:pt x="0" y="4"/>
                  </a:cubicBezTo>
                  <a:lnTo>
                    <a:pt x="0" y="29"/>
                  </a:lnTo>
                  <a:cubicBezTo>
                    <a:pt x="0" y="31"/>
                    <a:pt x="2" y="33"/>
                    <a:pt x="4" y="33"/>
                  </a:cubicBezTo>
                  <a:lnTo>
                    <a:pt x="20" y="33"/>
                  </a:lnTo>
                  <a:cubicBezTo>
                    <a:pt x="22" y="33"/>
                    <a:pt x="24" y="31"/>
                    <a:pt x="24" y="29"/>
                  </a:cubicBezTo>
                  <a:lnTo>
                    <a:pt x="24" y="4"/>
                  </a:lnTo>
                  <a:cubicBezTo>
                    <a:pt x="24" y="1"/>
                    <a:pt x="22" y="0"/>
                    <a:pt x="2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41600" y="4147560"/>
              <a:ext cx="386280" cy="2689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3" y="0"/>
                  </a:moveTo>
                  <a:cubicBezTo>
                    <a:pt x="1" y="0"/>
                    <a:pt x="0" y="1"/>
                    <a:pt x="0" y="2"/>
                  </a:cubicBezTo>
                  <a:lnTo>
                    <a:pt x="0" y="11"/>
                  </a:lnTo>
                  <a:cubicBezTo>
                    <a:pt x="0" y="12"/>
                    <a:pt x="1" y="13"/>
                    <a:pt x="3" y="13"/>
                  </a:cubicBezTo>
                  <a:lnTo>
                    <a:pt x="15" y="13"/>
                  </a:lnTo>
                  <a:cubicBezTo>
                    <a:pt x="17" y="13"/>
                    <a:pt x="18" y="12"/>
                    <a:pt x="18" y="11"/>
                  </a:cubicBezTo>
                  <a:lnTo>
                    <a:pt x="18" y="2"/>
                  </a:lnTo>
                  <a:cubicBezTo>
                    <a:pt x="18" y="1"/>
                    <a:pt x="17" y="0"/>
                    <a:pt x="1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63200" y="418608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CF-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70120" y="4311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z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7986240" y="4498560"/>
              <a:ext cx="341280" cy="208440"/>
              <a:chOff x="7986240" y="4498560"/>
              <a:chExt cx="341280" cy="208440"/>
            </a:xfrm>
          </p:grpSpPr>
          <p:sp>
            <p:nvSpPr>
              <p:cNvPr id="437" name=""/>
              <p:cNvSpPr/>
              <p:nvPr/>
            </p:nvSpPr>
            <p:spPr>
              <a:xfrm>
                <a:off x="8112960" y="4498560"/>
                <a:ext cx="86760" cy="20844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285040" y="4498560"/>
                <a:ext cx="42480" cy="622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285040" y="4644720"/>
                <a:ext cx="42480" cy="622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986240" y="4498560"/>
                <a:ext cx="42480" cy="622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986240" y="4644720"/>
                <a:ext cx="42480" cy="622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048160" y="4541400"/>
                <a:ext cx="64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048160" y="4685040"/>
                <a:ext cx="644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8199720" y="4541400"/>
                <a:ext cx="64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8199720" y="4685040"/>
                <a:ext cx="644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8006400" y="4707360"/>
              <a:ext cx="1800" cy="3312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07720" y="4726440"/>
              <a:ext cx="2520" cy="3124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28720" y="5079600"/>
              <a:ext cx="2520" cy="703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29960" y="5038920"/>
              <a:ext cx="902160" cy="6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056320" y="5079600"/>
              <a:ext cx="58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ackbon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01680" y="5226120"/>
              <a:ext cx="483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12760" y="5370480"/>
              <a:ext cx="663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nect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51800" y="551448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1242360" y="5577120"/>
              <a:ext cx="1502280" cy="165600"/>
              <a:chOff x="1242360" y="5577120"/>
              <a:chExt cx="1502280" cy="165600"/>
            </a:xfrm>
          </p:grpSpPr>
          <p:sp>
            <p:nvSpPr>
              <p:cNvPr id="455" name=""/>
              <p:cNvSpPr/>
              <p:nvPr/>
            </p:nvSpPr>
            <p:spPr>
              <a:xfrm>
                <a:off x="1284840" y="5661000"/>
                <a:ext cx="867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436760" y="5661000"/>
                <a:ext cx="84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586520" y="5661000"/>
                <a:ext cx="842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735920" y="5661000"/>
                <a:ext cx="867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887840" y="5661000"/>
                <a:ext cx="842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037240" y="5661000"/>
                <a:ext cx="84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87000" y="5661000"/>
                <a:ext cx="867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338920" y="5661000"/>
                <a:ext cx="842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488320" y="5661000"/>
                <a:ext cx="84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638080" y="5661000"/>
                <a:ext cx="640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42360" y="557712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0"/>
                    </a:moveTo>
                    <a:lnTo>
                      <a:pt x="0" y="39"/>
                    </a:lnTo>
                    <a:lnTo>
                      <a:pt x="67" y="68"/>
                    </a:lnTo>
                    <a:lnTo>
                      <a:pt x="39" y="39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595600" y="5598360"/>
                <a:ext cx="149040" cy="14436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29"/>
                    </a:lnTo>
                    <a:lnTo>
                      <a:pt x="0" y="0"/>
                    </a:lnTo>
                    <a:lnTo>
                      <a:pt x="29" y="29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3046680" y="5783760"/>
              <a:ext cx="2920680" cy="29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25880" y="5848560"/>
              <a:ext cx="2728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ckbone Network Conn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-990720" y="6115320"/>
              <a:ext cx="11810520" cy="167040"/>
              <a:chOff x="-990720" y="6115320"/>
              <a:chExt cx="11810520" cy="167040"/>
            </a:xfrm>
          </p:grpSpPr>
          <p:sp>
            <p:nvSpPr>
              <p:cNvPr id="470" name=""/>
              <p:cNvSpPr/>
              <p:nvPr/>
            </p:nvSpPr>
            <p:spPr>
              <a:xfrm>
                <a:off x="-94788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-79668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-646560" y="6198840"/>
                <a:ext cx="8424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-49716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-34740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-195480" y="6198840"/>
                <a:ext cx="8424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-4608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0332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5488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0464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5404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0596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56080" y="6198840"/>
                <a:ext cx="8424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0548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157400" y="6198840"/>
                <a:ext cx="8424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0680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45656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08480" y="6198840"/>
                <a:ext cx="8424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75788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0764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05704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208960" y="6198840"/>
                <a:ext cx="8424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35836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50848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660400" y="6198840"/>
                <a:ext cx="8424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80980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95956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11076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260880" y="6198840"/>
                <a:ext cx="8424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41028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6220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711960" y="6198840"/>
                <a:ext cx="8424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86136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01328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16268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31244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46184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61376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76388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91328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06520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21460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6436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516280" y="6198840"/>
                <a:ext cx="8424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66568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81544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96700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116760" y="6198840"/>
                <a:ext cx="8424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26616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41808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568200" y="6198840"/>
                <a:ext cx="8424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71760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6736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01892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16868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31808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47000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61976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76916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92108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07048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22060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372520" y="6198840"/>
                <a:ext cx="8424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52192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67168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82324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7300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12240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927216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9424080" y="6198840"/>
                <a:ext cx="8424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957348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972360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87480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002492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017432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0326240" y="6198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0476000" y="6198840"/>
                <a:ext cx="8424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0625400" y="6198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-990720" y="6115320"/>
                <a:ext cx="149040" cy="14616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0"/>
                    </a:moveTo>
                    <a:lnTo>
                      <a:pt x="0" y="39"/>
                    </a:lnTo>
                    <a:lnTo>
                      <a:pt x="67" y="68"/>
                    </a:lnTo>
                    <a:lnTo>
                      <a:pt x="38" y="39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0670040" y="6136920"/>
                <a:ext cx="149760" cy="1454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29"/>
                    </a:lnTo>
                    <a:lnTo>
                      <a:pt x="0" y="0"/>
                    </a:lnTo>
                    <a:lnTo>
                      <a:pt x="28" y="2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3582360" y="6012000"/>
              <a:ext cx="3651120" cy="311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60120" y="6096240"/>
              <a:ext cx="346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twork Bearer Connection (end to en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7080" y="3359160"/>
              <a:ext cx="944280" cy="1491840"/>
            </a:xfrm>
            <a:custGeom>
              <a:avLst/>
              <a:gdLst/>
              <a:ahLst/>
              <a:rect l="l" t="t" r="r" b="b"/>
              <a:pathLst>
                <a:path w="44" h="72">
                  <a:moveTo>
                    <a:pt x="7" y="0"/>
                  </a:moveTo>
                  <a:cubicBezTo>
                    <a:pt x="3" y="0"/>
                    <a:pt x="0" y="4"/>
                    <a:pt x="0" y="8"/>
                  </a:cubicBezTo>
                  <a:lnTo>
                    <a:pt x="0" y="64"/>
                  </a:lnTo>
                  <a:cubicBezTo>
                    <a:pt x="0" y="68"/>
                    <a:pt x="3" y="72"/>
                    <a:pt x="7" y="72"/>
                  </a:cubicBezTo>
                  <a:lnTo>
                    <a:pt x="37" y="72"/>
                  </a:lnTo>
                  <a:cubicBezTo>
                    <a:pt x="41" y="72"/>
                    <a:pt x="44" y="68"/>
                    <a:pt x="44" y="64"/>
                  </a:cubicBezTo>
                  <a:lnTo>
                    <a:pt x="44" y="8"/>
                  </a:lnTo>
                  <a:cubicBezTo>
                    <a:pt x="44" y="4"/>
                    <a:pt x="41" y="0"/>
                    <a:pt x="37" y="0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005840" y="4001040"/>
              <a:ext cx="450360" cy="7063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lnTo>
                    <a:pt x="0" y="30"/>
                  </a:lnTo>
                  <a:cubicBezTo>
                    <a:pt x="0" y="32"/>
                    <a:pt x="2" y="34"/>
                    <a:pt x="4" y="34"/>
                  </a:cubicBezTo>
                  <a:lnTo>
                    <a:pt x="18" y="34"/>
                  </a:lnTo>
                  <a:cubicBezTo>
                    <a:pt x="20" y="34"/>
                    <a:pt x="21" y="32"/>
                    <a:pt x="21" y="30"/>
                  </a:cubicBezTo>
                  <a:lnTo>
                    <a:pt x="21" y="4"/>
                  </a:lnTo>
                  <a:cubicBezTo>
                    <a:pt x="21" y="2"/>
                    <a:pt x="20" y="0"/>
                    <a:pt x="18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78400" y="4084920"/>
              <a:ext cx="493560" cy="68436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3" y="0"/>
                  </a:moveTo>
                  <a:cubicBezTo>
                    <a:pt x="1" y="0"/>
                    <a:pt x="0" y="2"/>
                    <a:pt x="0" y="4"/>
                  </a:cubicBezTo>
                  <a:lnTo>
                    <a:pt x="0" y="29"/>
                  </a:lnTo>
                  <a:cubicBezTo>
                    <a:pt x="0" y="31"/>
                    <a:pt x="1" y="33"/>
                    <a:pt x="3" y="33"/>
                  </a:cubicBezTo>
                  <a:lnTo>
                    <a:pt x="19" y="33"/>
                  </a:lnTo>
                  <a:cubicBezTo>
                    <a:pt x="21" y="33"/>
                    <a:pt x="23" y="31"/>
                    <a:pt x="23" y="29"/>
                  </a:cubicBezTo>
                  <a:lnTo>
                    <a:pt x="23" y="4"/>
                  </a:lnTo>
                  <a:cubicBezTo>
                    <a:pt x="23" y="2"/>
                    <a:pt x="21" y="0"/>
                    <a:pt x="1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1680" y="3565800"/>
              <a:ext cx="473400" cy="29088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" y="0"/>
                  </a:moveTo>
                  <a:cubicBezTo>
                    <a:pt x="1" y="0"/>
                    <a:pt x="0" y="1"/>
                    <a:pt x="0" y="3"/>
                  </a:cubicBezTo>
                  <a:lnTo>
                    <a:pt x="0" y="12"/>
                  </a:lnTo>
                  <a:cubicBezTo>
                    <a:pt x="0" y="13"/>
                    <a:pt x="1" y="14"/>
                    <a:pt x="2" y="14"/>
                  </a:cubicBezTo>
                  <a:lnTo>
                    <a:pt x="20" y="14"/>
                  </a:lnTo>
                  <a:cubicBezTo>
                    <a:pt x="21" y="14"/>
                    <a:pt x="22" y="13"/>
                    <a:pt x="22" y="12"/>
                  </a:cubicBezTo>
                  <a:lnTo>
                    <a:pt x="22" y="3"/>
                  </a:lnTo>
                  <a:cubicBezTo>
                    <a:pt x="22" y="1"/>
                    <a:pt x="21" y="0"/>
                    <a:pt x="2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6120" y="3649680"/>
              <a:ext cx="33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SF-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41040" y="4147560"/>
              <a:ext cx="388080" cy="2689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lnTo>
                    <a:pt x="0" y="11"/>
                  </a:lnTo>
                  <a:cubicBezTo>
                    <a:pt x="0" y="12"/>
                    <a:pt x="1" y="13"/>
                    <a:pt x="2" y="13"/>
                  </a:cubicBezTo>
                  <a:lnTo>
                    <a:pt x="15" y="13"/>
                  </a:lnTo>
                  <a:cubicBezTo>
                    <a:pt x="17" y="13"/>
                    <a:pt x="18" y="12"/>
                    <a:pt x="18" y="11"/>
                  </a:cubicBezTo>
                  <a:lnTo>
                    <a:pt x="18" y="2"/>
                  </a:lnTo>
                  <a:cubicBezTo>
                    <a:pt x="18" y="1"/>
                    <a:pt x="17" y="0"/>
                    <a:pt x="15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62640" y="418608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CF-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068840" y="4311000"/>
              <a:ext cx="11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v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33760" y="3378960"/>
              <a:ext cx="51588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98560" y="34192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SN-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70280" y="3857040"/>
              <a:ext cx="236880" cy="144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070280" y="3857040"/>
              <a:ext cx="149760" cy="206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941040" y="4498560"/>
              <a:ext cx="365400" cy="208440"/>
              <a:chOff x="941040" y="4498560"/>
              <a:chExt cx="365400" cy="208440"/>
            </a:xfrm>
          </p:grpSpPr>
          <p:sp>
            <p:nvSpPr>
              <p:cNvPr id="565" name=""/>
              <p:cNvSpPr/>
              <p:nvPr/>
            </p:nvSpPr>
            <p:spPr>
              <a:xfrm>
                <a:off x="1070280" y="4498560"/>
                <a:ext cx="86760" cy="20844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42000" y="4498560"/>
                <a:ext cx="64440" cy="622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242000" y="4644720"/>
                <a:ext cx="64440" cy="622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41040" y="4498560"/>
                <a:ext cx="44280" cy="622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941040" y="4644720"/>
                <a:ext cx="44280" cy="622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005480" y="4541400"/>
                <a:ext cx="64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005480" y="4685040"/>
                <a:ext cx="644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1177920" y="4541400"/>
                <a:ext cx="64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1177920" y="4685040"/>
                <a:ext cx="6408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963360" y="4707360"/>
              <a:ext cx="1800" cy="3502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-925560" y="5017680"/>
              <a:ext cx="1911600" cy="18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264680" y="4707360"/>
              <a:ext cx="2520" cy="3099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264680" y="5058000"/>
              <a:ext cx="2520" cy="725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2320" y="5286600"/>
              <a:ext cx="966960" cy="6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0960" y="5329440"/>
              <a:ext cx="363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ear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8360" y="5473440"/>
              <a:ext cx="726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ter-work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7960" y="561996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unc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1320" y="5764680"/>
              <a:ext cx="36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(BIWF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706680" y="4229280"/>
              <a:ext cx="148680" cy="145440"/>
              <a:chOff x="706680" y="4229280"/>
              <a:chExt cx="148680" cy="145440"/>
            </a:xfrm>
          </p:grpSpPr>
          <p:sp>
            <p:nvSpPr>
              <p:cNvPr id="584" name=""/>
              <p:cNvSpPr/>
              <p:nvPr/>
            </p:nvSpPr>
            <p:spPr>
              <a:xfrm flipH="1">
                <a:off x="706680" y="4290840"/>
                <a:ext cx="10656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06680" y="4229280"/>
                <a:ext cx="148680" cy="1454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29"/>
                    </a:lnTo>
                    <a:lnTo>
                      <a:pt x="0" y="0"/>
                    </a:lnTo>
                    <a:lnTo>
                      <a:pt x="29" y="2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706680" y="4291560"/>
              <a:ext cx="1800" cy="99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242360" y="5017680"/>
              <a:ext cx="645120" cy="18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36280" y="3981240"/>
              <a:ext cx="515520" cy="870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00360" y="4147560"/>
              <a:ext cx="366480" cy="2689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lnTo>
                    <a:pt x="0" y="11"/>
                  </a:lnTo>
                  <a:cubicBezTo>
                    <a:pt x="0" y="12"/>
                    <a:pt x="1" y="13"/>
                    <a:pt x="2" y="13"/>
                  </a:cubicBezTo>
                  <a:lnTo>
                    <a:pt x="15" y="13"/>
                  </a:lnTo>
                  <a:cubicBezTo>
                    <a:pt x="16" y="13"/>
                    <a:pt x="17" y="12"/>
                    <a:pt x="17" y="11"/>
                  </a:cubicBezTo>
                  <a:lnTo>
                    <a:pt x="17" y="2"/>
                  </a:lnTo>
                  <a:cubicBezTo>
                    <a:pt x="17" y="1"/>
                    <a:pt x="16" y="0"/>
                    <a:pt x="15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21600" y="418608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CF-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78040" y="3960000"/>
              <a:ext cx="4734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41760" y="4020480"/>
              <a:ext cx="32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N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1823400" y="4519800"/>
              <a:ext cx="362880" cy="186840"/>
              <a:chOff x="1823400" y="4519800"/>
              <a:chExt cx="362880" cy="186840"/>
            </a:xfrm>
          </p:grpSpPr>
          <p:sp>
            <p:nvSpPr>
              <p:cNvPr id="594" name=""/>
              <p:cNvSpPr/>
              <p:nvPr/>
            </p:nvSpPr>
            <p:spPr>
              <a:xfrm>
                <a:off x="1950120" y="4519800"/>
                <a:ext cx="86760" cy="18684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121840" y="4519800"/>
                <a:ext cx="64440" cy="406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121840" y="4663440"/>
                <a:ext cx="64440" cy="4320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23400" y="4519800"/>
                <a:ext cx="42120" cy="406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823400" y="4663440"/>
                <a:ext cx="42120" cy="4320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887840" y="4541040"/>
                <a:ext cx="619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887840" y="4684680"/>
                <a:ext cx="619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2057040" y="4541040"/>
                <a:ext cx="64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2057040" y="4684680"/>
                <a:ext cx="644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1842840" y="4726440"/>
              <a:ext cx="2520" cy="3124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44880" y="4726440"/>
              <a:ext cx="21960" cy="3124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65160" y="5058000"/>
              <a:ext cx="2520" cy="352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1242360" y="5204520"/>
              <a:ext cx="599760" cy="165600"/>
              <a:chOff x="1242360" y="5204520"/>
              <a:chExt cx="599760" cy="165600"/>
            </a:xfrm>
          </p:grpSpPr>
          <p:sp>
            <p:nvSpPr>
              <p:cNvPr id="607" name=""/>
              <p:cNvSpPr/>
              <p:nvPr/>
            </p:nvSpPr>
            <p:spPr>
              <a:xfrm>
                <a:off x="1284840" y="528624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436400" y="5286240"/>
                <a:ext cx="84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586160" y="5286240"/>
                <a:ext cx="8424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735200" y="5286240"/>
                <a:ext cx="6444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242360" y="5204520"/>
                <a:ext cx="149400" cy="14436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0"/>
                    </a:moveTo>
                    <a:lnTo>
                      <a:pt x="0" y="38"/>
                    </a:lnTo>
                    <a:lnTo>
                      <a:pt x="67" y="67"/>
                    </a:lnTo>
                    <a:lnTo>
                      <a:pt x="39" y="38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692720" y="5223960"/>
                <a:ext cx="149400" cy="14616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29"/>
                    </a:lnTo>
                    <a:lnTo>
                      <a:pt x="0" y="0"/>
                    </a:lnTo>
                    <a:lnTo>
                      <a:pt x="29" y="2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2553480" y="3359160"/>
              <a:ext cx="749880" cy="1491840"/>
            </a:xfrm>
            <a:custGeom>
              <a:avLst/>
              <a:gdLst/>
              <a:ahLst/>
              <a:rect l="l" t="t" r="r" b="b"/>
              <a:pathLst>
                <a:path w="35" h="72">
                  <a:moveTo>
                    <a:pt x="6" y="0"/>
                  </a:moveTo>
                  <a:cubicBezTo>
                    <a:pt x="2" y="0"/>
                    <a:pt x="0" y="3"/>
                    <a:pt x="0" y="6"/>
                  </a:cubicBezTo>
                  <a:lnTo>
                    <a:pt x="0" y="66"/>
                  </a:lnTo>
                  <a:cubicBezTo>
                    <a:pt x="0" y="69"/>
                    <a:pt x="2" y="72"/>
                    <a:pt x="6" y="72"/>
                  </a:cubicBezTo>
                  <a:lnTo>
                    <a:pt x="29" y="72"/>
                  </a:lnTo>
                  <a:cubicBezTo>
                    <a:pt x="33" y="72"/>
                    <a:pt x="35" y="69"/>
                    <a:pt x="35" y="66"/>
                  </a:cubicBezTo>
                  <a:lnTo>
                    <a:pt x="35" y="6"/>
                  </a:lnTo>
                  <a:cubicBezTo>
                    <a:pt x="35" y="3"/>
                    <a:pt x="33" y="0"/>
                    <a:pt x="29" y="0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45360" y="4001040"/>
              <a:ext cx="473400" cy="7063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lnTo>
                    <a:pt x="0" y="30"/>
                  </a:lnTo>
                  <a:cubicBezTo>
                    <a:pt x="0" y="32"/>
                    <a:pt x="2" y="34"/>
                    <a:pt x="4" y="34"/>
                  </a:cubicBezTo>
                  <a:lnTo>
                    <a:pt x="18" y="34"/>
                  </a:lnTo>
                  <a:cubicBezTo>
                    <a:pt x="20" y="34"/>
                    <a:pt x="22" y="32"/>
                    <a:pt x="22" y="30"/>
                  </a:cubicBezTo>
                  <a:lnTo>
                    <a:pt x="22" y="4"/>
                  </a:lnTo>
                  <a:cubicBezTo>
                    <a:pt x="22" y="2"/>
                    <a:pt x="20" y="0"/>
                    <a:pt x="18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638080" y="4084920"/>
              <a:ext cx="493560" cy="68436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lnTo>
                    <a:pt x="0" y="29"/>
                  </a:lnTo>
                  <a:cubicBezTo>
                    <a:pt x="0" y="32"/>
                    <a:pt x="2" y="33"/>
                    <a:pt x="4" y="33"/>
                  </a:cubicBezTo>
                  <a:lnTo>
                    <a:pt x="19" y="33"/>
                  </a:lnTo>
                  <a:cubicBezTo>
                    <a:pt x="21" y="33"/>
                    <a:pt x="23" y="32"/>
                    <a:pt x="23" y="29"/>
                  </a:cubicBezTo>
                  <a:lnTo>
                    <a:pt x="23" y="4"/>
                  </a:lnTo>
                  <a:cubicBezTo>
                    <a:pt x="23" y="2"/>
                    <a:pt x="21" y="0"/>
                    <a:pt x="19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02880" y="3565800"/>
              <a:ext cx="493560" cy="2908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lnTo>
                    <a:pt x="0" y="12"/>
                  </a:lnTo>
                  <a:cubicBezTo>
                    <a:pt x="0" y="13"/>
                    <a:pt x="1" y="14"/>
                    <a:pt x="3" y="14"/>
                  </a:cubicBezTo>
                  <a:lnTo>
                    <a:pt x="21" y="14"/>
                  </a:lnTo>
                  <a:cubicBezTo>
                    <a:pt x="22" y="14"/>
                    <a:pt x="23" y="13"/>
                    <a:pt x="23" y="12"/>
                  </a:cubicBezTo>
                  <a:lnTo>
                    <a:pt x="23" y="3"/>
                  </a:lnTo>
                  <a:cubicBezTo>
                    <a:pt x="23" y="1"/>
                    <a:pt x="22" y="0"/>
                    <a:pt x="2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66960" y="3649680"/>
              <a:ext cx="331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SF-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702880" y="4147560"/>
              <a:ext cx="363960" cy="2689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lnTo>
                    <a:pt x="0" y="11"/>
                  </a:lnTo>
                  <a:cubicBezTo>
                    <a:pt x="0" y="12"/>
                    <a:pt x="1" y="13"/>
                    <a:pt x="2" y="13"/>
                  </a:cubicBezTo>
                  <a:lnTo>
                    <a:pt x="15" y="13"/>
                  </a:lnTo>
                  <a:cubicBezTo>
                    <a:pt x="16" y="13"/>
                    <a:pt x="17" y="12"/>
                    <a:pt x="17" y="11"/>
                  </a:cubicBezTo>
                  <a:lnTo>
                    <a:pt x="17" y="2"/>
                  </a:lnTo>
                  <a:cubicBezTo>
                    <a:pt x="17" y="1"/>
                    <a:pt x="16" y="0"/>
                    <a:pt x="15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702160" y="418608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CF-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86760" y="4311000"/>
              <a:ext cx="14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w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702880" y="3359160"/>
              <a:ext cx="53568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767680" y="3400200"/>
              <a:ext cx="36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SN-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2852280" y="3857040"/>
              <a:ext cx="151920" cy="206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004200" y="3857040"/>
              <a:ext cx="2520" cy="144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2702880" y="4498560"/>
              <a:ext cx="363240" cy="208440"/>
              <a:chOff x="2702880" y="4498560"/>
              <a:chExt cx="363240" cy="208440"/>
            </a:xfrm>
          </p:grpSpPr>
          <p:sp>
            <p:nvSpPr>
              <p:cNvPr id="626" name=""/>
              <p:cNvSpPr/>
              <p:nvPr/>
            </p:nvSpPr>
            <p:spPr>
              <a:xfrm>
                <a:off x="2852640" y="4498560"/>
                <a:ext cx="64440" cy="20844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004200" y="4498560"/>
                <a:ext cx="61920" cy="622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004200" y="4644720"/>
                <a:ext cx="61920" cy="622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702880" y="4498560"/>
                <a:ext cx="64440" cy="622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702880" y="4644720"/>
                <a:ext cx="64440" cy="622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767320" y="4541400"/>
                <a:ext cx="64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767320" y="4685040"/>
                <a:ext cx="644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2939040" y="4541400"/>
                <a:ext cx="64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2939040" y="4685040"/>
                <a:ext cx="644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2745360" y="4726440"/>
              <a:ext cx="1800" cy="3124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46680" y="4726440"/>
              <a:ext cx="1800" cy="3124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22200" y="5017680"/>
              <a:ext cx="645480" cy="18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3046680" y="4188240"/>
              <a:ext cx="515520" cy="164880"/>
              <a:chOff x="3046680" y="4188240"/>
              <a:chExt cx="515520" cy="164880"/>
            </a:xfrm>
          </p:grpSpPr>
          <p:sp>
            <p:nvSpPr>
              <p:cNvPr id="639" name=""/>
              <p:cNvSpPr/>
              <p:nvPr/>
            </p:nvSpPr>
            <p:spPr>
              <a:xfrm>
                <a:off x="3088440" y="4269240"/>
                <a:ext cx="871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238560" y="4269240"/>
                <a:ext cx="871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390480" y="4269240"/>
                <a:ext cx="8460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046680" y="4188240"/>
                <a:ext cx="149400" cy="14364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0"/>
                    </a:moveTo>
                    <a:lnTo>
                      <a:pt x="0" y="38"/>
                    </a:lnTo>
                    <a:lnTo>
                      <a:pt x="67" y="67"/>
                    </a:lnTo>
                    <a:lnTo>
                      <a:pt x="38" y="38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410280" y="4209480"/>
                <a:ext cx="151920" cy="14364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0" y="67"/>
                    </a:moveTo>
                    <a:lnTo>
                      <a:pt x="68" y="28"/>
                    </a:lnTo>
                    <a:lnTo>
                      <a:pt x="0" y="0"/>
                    </a:lnTo>
                    <a:lnTo>
                      <a:pt x="29" y="28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2208960" y="4209840"/>
              <a:ext cx="450360" cy="164880"/>
              <a:chOff x="2208960" y="4209840"/>
              <a:chExt cx="450360" cy="164880"/>
            </a:xfrm>
          </p:grpSpPr>
          <p:sp>
            <p:nvSpPr>
              <p:cNvPr id="645" name=""/>
              <p:cNvSpPr/>
              <p:nvPr/>
            </p:nvSpPr>
            <p:spPr>
              <a:xfrm>
                <a:off x="2251440" y="4290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400480" y="4290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552400" y="4290840"/>
                <a:ext cx="6444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208960" y="4209840"/>
                <a:ext cx="149040" cy="14364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0"/>
                    </a:moveTo>
                    <a:lnTo>
                      <a:pt x="0" y="38"/>
                    </a:lnTo>
                    <a:lnTo>
                      <a:pt x="67" y="67"/>
                    </a:lnTo>
                    <a:lnTo>
                      <a:pt x="38" y="38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507760" y="4229280"/>
                <a:ext cx="151560" cy="1454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0" y="68"/>
                    </a:moveTo>
                    <a:lnTo>
                      <a:pt x="68" y="29"/>
                    </a:lnTo>
                    <a:lnTo>
                      <a:pt x="0" y="0"/>
                    </a:lnTo>
                    <a:lnTo>
                      <a:pt x="29" y="2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1307160" y="4188240"/>
              <a:ext cx="492480" cy="186120"/>
              <a:chOff x="1307160" y="4188240"/>
              <a:chExt cx="492480" cy="186120"/>
            </a:xfrm>
          </p:grpSpPr>
          <p:sp>
            <p:nvSpPr>
              <p:cNvPr id="651" name=""/>
              <p:cNvSpPr/>
              <p:nvPr/>
            </p:nvSpPr>
            <p:spPr>
              <a:xfrm>
                <a:off x="1349280" y="426960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499040" y="426960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650240" y="4269600"/>
                <a:ext cx="8460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07160" y="4188240"/>
                <a:ext cx="149400" cy="14364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0"/>
                    </a:moveTo>
                    <a:lnTo>
                      <a:pt x="0" y="38"/>
                    </a:lnTo>
                    <a:lnTo>
                      <a:pt x="67" y="67"/>
                    </a:lnTo>
                    <a:lnTo>
                      <a:pt x="38" y="38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650240" y="4228920"/>
                <a:ext cx="149400" cy="1454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29"/>
                    </a:lnTo>
                    <a:lnTo>
                      <a:pt x="0" y="0"/>
                    </a:lnTo>
                    <a:lnTo>
                      <a:pt x="29" y="2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4228200" y="3378960"/>
              <a:ext cx="772560" cy="1472400"/>
            </a:xfrm>
            <a:custGeom>
              <a:avLst/>
              <a:gdLst/>
              <a:ahLst/>
              <a:rect l="l" t="t" r="r" b="b"/>
              <a:pathLst>
                <a:path w="36" h="71">
                  <a:moveTo>
                    <a:pt x="6" y="0"/>
                  </a:moveTo>
                  <a:cubicBezTo>
                    <a:pt x="3" y="0"/>
                    <a:pt x="0" y="2"/>
                    <a:pt x="0" y="6"/>
                  </a:cubicBezTo>
                  <a:lnTo>
                    <a:pt x="0" y="65"/>
                  </a:lnTo>
                  <a:cubicBezTo>
                    <a:pt x="0" y="69"/>
                    <a:pt x="3" y="71"/>
                    <a:pt x="6" y="71"/>
                  </a:cubicBezTo>
                  <a:lnTo>
                    <a:pt x="30" y="71"/>
                  </a:lnTo>
                  <a:cubicBezTo>
                    <a:pt x="33" y="71"/>
                    <a:pt x="36" y="69"/>
                    <a:pt x="36" y="65"/>
                  </a:cubicBezTo>
                  <a:lnTo>
                    <a:pt x="36" y="6"/>
                  </a:lnTo>
                  <a:cubicBezTo>
                    <a:pt x="36" y="2"/>
                    <a:pt x="33" y="0"/>
                    <a:pt x="30" y="0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42400" y="4022280"/>
              <a:ext cx="451080" cy="68472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lnTo>
                    <a:pt x="0" y="30"/>
                  </a:lnTo>
                  <a:cubicBezTo>
                    <a:pt x="0" y="32"/>
                    <a:pt x="1" y="33"/>
                    <a:pt x="3" y="33"/>
                  </a:cubicBezTo>
                  <a:lnTo>
                    <a:pt x="18" y="33"/>
                  </a:lnTo>
                  <a:cubicBezTo>
                    <a:pt x="20" y="33"/>
                    <a:pt x="21" y="32"/>
                    <a:pt x="21" y="30"/>
                  </a:cubicBezTo>
                  <a:lnTo>
                    <a:pt x="21" y="3"/>
                  </a:lnTo>
                  <a:cubicBezTo>
                    <a:pt x="21" y="1"/>
                    <a:pt x="20" y="0"/>
                    <a:pt x="1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312800" y="4084920"/>
              <a:ext cx="515880" cy="7038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lnTo>
                    <a:pt x="0" y="30"/>
                  </a:lnTo>
                  <a:cubicBezTo>
                    <a:pt x="0" y="32"/>
                    <a:pt x="2" y="34"/>
                    <a:pt x="4" y="34"/>
                  </a:cubicBezTo>
                  <a:lnTo>
                    <a:pt x="20" y="34"/>
                  </a:lnTo>
                  <a:cubicBezTo>
                    <a:pt x="22" y="34"/>
                    <a:pt x="24" y="32"/>
                    <a:pt x="24" y="30"/>
                  </a:cubicBezTo>
                  <a:lnTo>
                    <a:pt x="24" y="4"/>
                  </a:lnTo>
                  <a:cubicBezTo>
                    <a:pt x="24" y="2"/>
                    <a:pt x="22" y="0"/>
                    <a:pt x="2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99920" y="3587400"/>
              <a:ext cx="471240" cy="28836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lnTo>
                    <a:pt x="0" y="11"/>
                  </a:lnTo>
                  <a:cubicBezTo>
                    <a:pt x="0" y="13"/>
                    <a:pt x="1" y="14"/>
                    <a:pt x="2" y="14"/>
                  </a:cubicBezTo>
                  <a:lnTo>
                    <a:pt x="20" y="14"/>
                  </a:lnTo>
                  <a:cubicBezTo>
                    <a:pt x="21" y="14"/>
                    <a:pt x="22" y="13"/>
                    <a:pt x="22" y="11"/>
                  </a:cubicBezTo>
                  <a:lnTo>
                    <a:pt x="22" y="2"/>
                  </a:lnTo>
                  <a:cubicBezTo>
                    <a:pt x="22" y="1"/>
                    <a:pt x="21" y="0"/>
                    <a:pt x="2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461480" y="366948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SF-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99920" y="4147560"/>
              <a:ext cx="363960" cy="2689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lnTo>
                    <a:pt x="0" y="11"/>
                  </a:lnTo>
                  <a:cubicBezTo>
                    <a:pt x="0" y="12"/>
                    <a:pt x="1" y="13"/>
                    <a:pt x="2" y="13"/>
                  </a:cubicBezTo>
                  <a:lnTo>
                    <a:pt x="15" y="13"/>
                  </a:lnTo>
                  <a:cubicBezTo>
                    <a:pt x="16" y="13"/>
                    <a:pt x="17" y="12"/>
                    <a:pt x="17" y="11"/>
                  </a:cubicBezTo>
                  <a:lnTo>
                    <a:pt x="17" y="2"/>
                  </a:lnTo>
                  <a:cubicBezTo>
                    <a:pt x="17" y="1"/>
                    <a:pt x="16" y="0"/>
                    <a:pt x="15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18640" y="416700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CF-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26640" y="4291560"/>
              <a:ext cx="11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x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77600" y="3378960"/>
              <a:ext cx="55836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441680" y="341928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SN-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4527360" y="3875760"/>
              <a:ext cx="151920" cy="208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79280" y="3875760"/>
              <a:ext cx="1800" cy="12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4399920" y="4519800"/>
              <a:ext cx="341280" cy="186840"/>
              <a:chOff x="4399920" y="4519800"/>
              <a:chExt cx="341280" cy="186840"/>
            </a:xfrm>
          </p:grpSpPr>
          <p:sp>
            <p:nvSpPr>
              <p:cNvPr id="669" name=""/>
              <p:cNvSpPr/>
              <p:nvPr/>
            </p:nvSpPr>
            <p:spPr>
              <a:xfrm>
                <a:off x="4526640" y="4519800"/>
                <a:ext cx="86760" cy="18684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698720" y="4519800"/>
                <a:ext cx="42480" cy="406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98720" y="4663440"/>
                <a:ext cx="42480" cy="4320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399920" y="4519800"/>
                <a:ext cx="42480" cy="406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399920" y="4663440"/>
                <a:ext cx="42480" cy="4320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61840" y="4541040"/>
                <a:ext cx="64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461840" y="4684680"/>
                <a:ext cx="644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4613760" y="4541040"/>
                <a:ext cx="849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4613760" y="4684680"/>
                <a:ext cx="8496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4420080" y="4726440"/>
              <a:ext cx="1800" cy="3124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21400" y="4726440"/>
              <a:ext cx="20160" cy="3124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150520" y="3359160"/>
              <a:ext cx="752400" cy="1491840"/>
            </a:xfrm>
            <a:custGeom>
              <a:avLst/>
              <a:gdLst/>
              <a:ahLst/>
              <a:rect l="l" t="t" r="r" b="b"/>
              <a:pathLst>
                <a:path w="35" h="72">
                  <a:moveTo>
                    <a:pt x="6" y="0"/>
                  </a:moveTo>
                  <a:cubicBezTo>
                    <a:pt x="2" y="0"/>
                    <a:pt x="0" y="3"/>
                    <a:pt x="0" y="6"/>
                  </a:cubicBezTo>
                  <a:lnTo>
                    <a:pt x="0" y="66"/>
                  </a:lnTo>
                  <a:cubicBezTo>
                    <a:pt x="0" y="69"/>
                    <a:pt x="2" y="72"/>
                    <a:pt x="6" y="72"/>
                  </a:cubicBezTo>
                  <a:lnTo>
                    <a:pt x="29" y="72"/>
                  </a:lnTo>
                  <a:cubicBezTo>
                    <a:pt x="33" y="72"/>
                    <a:pt x="35" y="69"/>
                    <a:pt x="35" y="66"/>
                  </a:cubicBezTo>
                  <a:lnTo>
                    <a:pt x="35" y="6"/>
                  </a:lnTo>
                  <a:cubicBezTo>
                    <a:pt x="35" y="3"/>
                    <a:pt x="33" y="0"/>
                    <a:pt x="29" y="0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344920" y="4001040"/>
              <a:ext cx="450360" cy="7063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lnTo>
                    <a:pt x="0" y="30"/>
                  </a:lnTo>
                  <a:cubicBezTo>
                    <a:pt x="0" y="32"/>
                    <a:pt x="2" y="34"/>
                    <a:pt x="4" y="34"/>
                  </a:cubicBezTo>
                  <a:lnTo>
                    <a:pt x="18" y="34"/>
                  </a:lnTo>
                  <a:cubicBezTo>
                    <a:pt x="20" y="34"/>
                    <a:pt x="21" y="32"/>
                    <a:pt x="21" y="30"/>
                  </a:cubicBezTo>
                  <a:lnTo>
                    <a:pt x="21" y="4"/>
                  </a:lnTo>
                  <a:cubicBezTo>
                    <a:pt x="21" y="2"/>
                    <a:pt x="20" y="0"/>
                    <a:pt x="18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237640" y="4084920"/>
              <a:ext cx="493560" cy="68436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4" y="0"/>
                  </a:moveTo>
                  <a:cubicBezTo>
                    <a:pt x="2" y="0"/>
                    <a:pt x="0" y="1"/>
                    <a:pt x="0" y="4"/>
                  </a:cubicBezTo>
                  <a:lnTo>
                    <a:pt x="0" y="29"/>
                  </a:lnTo>
                  <a:cubicBezTo>
                    <a:pt x="0" y="31"/>
                    <a:pt x="2" y="33"/>
                    <a:pt x="4" y="33"/>
                  </a:cubicBezTo>
                  <a:lnTo>
                    <a:pt x="19" y="33"/>
                  </a:lnTo>
                  <a:cubicBezTo>
                    <a:pt x="21" y="33"/>
                    <a:pt x="23" y="31"/>
                    <a:pt x="23" y="29"/>
                  </a:cubicBezTo>
                  <a:lnTo>
                    <a:pt x="23" y="4"/>
                  </a:lnTo>
                  <a:cubicBezTo>
                    <a:pt x="23" y="1"/>
                    <a:pt x="21" y="0"/>
                    <a:pt x="19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302440" y="3565800"/>
              <a:ext cx="493200" cy="2908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lnTo>
                    <a:pt x="0" y="12"/>
                  </a:lnTo>
                  <a:cubicBezTo>
                    <a:pt x="0" y="13"/>
                    <a:pt x="1" y="14"/>
                    <a:pt x="3" y="14"/>
                  </a:cubicBezTo>
                  <a:lnTo>
                    <a:pt x="21" y="14"/>
                  </a:lnTo>
                  <a:cubicBezTo>
                    <a:pt x="22" y="14"/>
                    <a:pt x="23" y="13"/>
                    <a:pt x="23" y="12"/>
                  </a:cubicBezTo>
                  <a:lnTo>
                    <a:pt x="23" y="3"/>
                  </a:lnTo>
                  <a:cubicBezTo>
                    <a:pt x="23" y="1"/>
                    <a:pt x="22" y="0"/>
                    <a:pt x="2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363640" y="364968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SF-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80120" y="4147560"/>
              <a:ext cx="386280" cy="2689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3" y="0"/>
                  </a:moveTo>
                  <a:cubicBezTo>
                    <a:pt x="1" y="0"/>
                    <a:pt x="0" y="1"/>
                    <a:pt x="0" y="2"/>
                  </a:cubicBezTo>
                  <a:lnTo>
                    <a:pt x="0" y="11"/>
                  </a:lnTo>
                  <a:cubicBezTo>
                    <a:pt x="0" y="12"/>
                    <a:pt x="1" y="13"/>
                    <a:pt x="3" y="13"/>
                  </a:cubicBezTo>
                  <a:lnTo>
                    <a:pt x="16" y="13"/>
                  </a:lnTo>
                  <a:cubicBezTo>
                    <a:pt x="17" y="13"/>
                    <a:pt x="18" y="12"/>
                    <a:pt x="18" y="11"/>
                  </a:cubicBezTo>
                  <a:lnTo>
                    <a:pt x="18" y="2"/>
                  </a:lnTo>
                  <a:cubicBezTo>
                    <a:pt x="18" y="1"/>
                    <a:pt x="17" y="0"/>
                    <a:pt x="1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301000" y="416700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CF-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09000" y="4291560"/>
              <a:ext cx="11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y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280120" y="3378960"/>
              <a:ext cx="55800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344920" y="341928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SN-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5451840" y="3857040"/>
              <a:ext cx="149760" cy="206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601600" y="3857040"/>
              <a:ext cx="1800" cy="144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302440" y="4498560"/>
              <a:ext cx="363240" cy="208440"/>
              <a:chOff x="5302440" y="4498560"/>
              <a:chExt cx="363240" cy="208440"/>
            </a:xfrm>
          </p:grpSpPr>
          <p:sp>
            <p:nvSpPr>
              <p:cNvPr id="693" name=""/>
              <p:cNvSpPr/>
              <p:nvPr/>
            </p:nvSpPr>
            <p:spPr>
              <a:xfrm>
                <a:off x="5452200" y="4498560"/>
                <a:ext cx="64440" cy="20844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601240" y="4498560"/>
                <a:ext cx="64440" cy="622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601240" y="4644720"/>
                <a:ext cx="64440" cy="622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302440" y="4498560"/>
                <a:ext cx="62640" cy="622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302440" y="4644720"/>
                <a:ext cx="62640" cy="62280"/>
              </a:xfrm>
              <a:prstGeom prst="rect">
                <a:avLst/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365080" y="4541400"/>
                <a:ext cx="64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65080" y="4685040"/>
                <a:ext cx="644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5536080" y="4541400"/>
                <a:ext cx="64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5536080" y="4685040"/>
                <a:ext cx="644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5322600" y="4726440"/>
              <a:ext cx="1800" cy="3124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644080" y="4726440"/>
              <a:ext cx="1800" cy="3124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3949200" y="4188240"/>
              <a:ext cx="427680" cy="164880"/>
              <a:chOff x="3949200" y="4188240"/>
              <a:chExt cx="427680" cy="164880"/>
            </a:xfrm>
          </p:grpSpPr>
          <p:sp>
            <p:nvSpPr>
              <p:cNvPr id="705" name=""/>
              <p:cNvSpPr/>
              <p:nvPr/>
            </p:nvSpPr>
            <p:spPr>
              <a:xfrm>
                <a:off x="3991320" y="4269240"/>
                <a:ext cx="8424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140720" y="426924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292280" y="4269240"/>
                <a:ext cx="421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949200" y="4188240"/>
                <a:ext cx="149400" cy="14364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0"/>
                    </a:moveTo>
                    <a:lnTo>
                      <a:pt x="0" y="38"/>
                    </a:lnTo>
                    <a:lnTo>
                      <a:pt x="67" y="67"/>
                    </a:lnTo>
                    <a:lnTo>
                      <a:pt x="38" y="38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27480" y="4209480"/>
                <a:ext cx="149400" cy="14364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28"/>
                    </a:lnTo>
                    <a:lnTo>
                      <a:pt x="0" y="0"/>
                    </a:lnTo>
                    <a:lnTo>
                      <a:pt x="29" y="28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4741560" y="4188240"/>
              <a:ext cx="537840" cy="164880"/>
              <a:chOff x="4741560" y="4188240"/>
              <a:chExt cx="537840" cy="164880"/>
            </a:xfrm>
          </p:grpSpPr>
          <p:sp>
            <p:nvSpPr>
              <p:cNvPr id="711" name=""/>
              <p:cNvSpPr/>
              <p:nvPr/>
            </p:nvSpPr>
            <p:spPr>
              <a:xfrm>
                <a:off x="4785840" y="4269240"/>
                <a:ext cx="8460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935600" y="4269240"/>
                <a:ext cx="871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085360" y="4269240"/>
                <a:ext cx="871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741560" y="4188240"/>
                <a:ext cx="151200" cy="14364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68" y="0"/>
                    </a:moveTo>
                    <a:lnTo>
                      <a:pt x="0" y="38"/>
                    </a:lnTo>
                    <a:lnTo>
                      <a:pt x="68" y="67"/>
                    </a:lnTo>
                    <a:lnTo>
                      <a:pt x="39" y="38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130000" y="4209480"/>
                <a:ext cx="149400" cy="14364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28"/>
                    </a:lnTo>
                    <a:lnTo>
                      <a:pt x="0" y="0"/>
                    </a:lnTo>
                    <a:lnTo>
                      <a:pt x="28" y="28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666400" y="4188240"/>
              <a:ext cx="492480" cy="164880"/>
              <a:chOff x="5666400" y="4188240"/>
              <a:chExt cx="492480" cy="164880"/>
            </a:xfrm>
          </p:grpSpPr>
          <p:sp>
            <p:nvSpPr>
              <p:cNvPr id="717" name=""/>
              <p:cNvSpPr/>
              <p:nvPr/>
            </p:nvSpPr>
            <p:spPr>
              <a:xfrm>
                <a:off x="5708520" y="426924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860440" y="4269240"/>
                <a:ext cx="8424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009480" y="4269240"/>
                <a:ext cx="8460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666400" y="4188240"/>
                <a:ext cx="149400" cy="14364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0"/>
                    </a:moveTo>
                    <a:lnTo>
                      <a:pt x="0" y="38"/>
                    </a:lnTo>
                    <a:lnTo>
                      <a:pt x="67" y="67"/>
                    </a:lnTo>
                    <a:lnTo>
                      <a:pt x="38" y="38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009480" y="4209480"/>
                <a:ext cx="149400" cy="14364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28"/>
                    </a:lnTo>
                    <a:lnTo>
                      <a:pt x="0" y="0"/>
                    </a:lnTo>
                    <a:lnTo>
                      <a:pt x="29" y="28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1157400" y="3649680"/>
              <a:ext cx="1545120" cy="165600"/>
              <a:chOff x="1157400" y="3649680"/>
              <a:chExt cx="1545120" cy="165600"/>
            </a:xfrm>
          </p:grpSpPr>
          <p:sp>
            <p:nvSpPr>
              <p:cNvPr id="723" name=""/>
              <p:cNvSpPr/>
              <p:nvPr/>
            </p:nvSpPr>
            <p:spPr>
              <a:xfrm>
                <a:off x="1199880" y="3731400"/>
                <a:ext cx="8424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349280" y="373140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499040" y="373140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650600" y="3731400"/>
                <a:ext cx="84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800360" y="373140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949760" y="373140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101680" y="3731400"/>
                <a:ext cx="84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251800" y="373140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401200" y="373140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553120" y="3731400"/>
                <a:ext cx="84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157400" y="3649680"/>
                <a:ext cx="149400" cy="14436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0"/>
                    </a:moveTo>
                    <a:lnTo>
                      <a:pt x="0" y="38"/>
                    </a:lnTo>
                    <a:lnTo>
                      <a:pt x="67" y="67"/>
                    </a:lnTo>
                    <a:lnTo>
                      <a:pt x="38" y="38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553120" y="3669120"/>
                <a:ext cx="149400" cy="14616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29"/>
                    </a:lnTo>
                    <a:lnTo>
                      <a:pt x="0" y="0"/>
                    </a:lnTo>
                    <a:lnTo>
                      <a:pt x="29" y="2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3196800" y="3669480"/>
              <a:ext cx="1202400" cy="165600"/>
              <a:chOff x="3196800" y="3669480"/>
              <a:chExt cx="1202400" cy="165600"/>
            </a:xfrm>
          </p:grpSpPr>
          <p:sp>
            <p:nvSpPr>
              <p:cNvPr id="736" name=""/>
              <p:cNvSpPr/>
              <p:nvPr/>
            </p:nvSpPr>
            <p:spPr>
              <a:xfrm>
                <a:off x="3239280" y="3753360"/>
                <a:ext cx="867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390840" y="3753360"/>
                <a:ext cx="842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540240" y="3753360"/>
                <a:ext cx="84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690000" y="3753360"/>
                <a:ext cx="867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841200" y="3753360"/>
                <a:ext cx="84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991320" y="3753360"/>
                <a:ext cx="842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40360" y="3753360"/>
                <a:ext cx="867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292280" y="3753360"/>
                <a:ext cx="626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196800" y="3669480"/>
                <a:ext cx="149040" cy="14616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0"/>
                    </a:moveTo>
                    <a:lnTo>
                      <a:pt x="0" y="39"/>
                    </a:lnTo>
                    <a:lnTo>
                      <a:pt x="67" y="68"/>
                    </a:lnTo>
                    <a:lnTo>
                      <a:pt x="39" y="39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247640" y="3690720"/>
                <a:ext cx="151560" cy="14436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0" y="67"/>
                    </a:moveTo>
                    <a:lnTo>
                      <a:pt x="68" y="29"/>
                    </a:lnTo>
                    <a:lnTo>
                      <a:pt x="0" y="0"/>
                    </a:lnTo>
                    <a:lnTo>
                      <a:pt x="29" y="29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4871520" y="3669480"/>
              <a:ext cx="430560" cy="145800"/>
              <a:chOff x="4871520" y="3669480"/>
              <a:chExt cx="430560" cy="145800"/>
            </a:xfrm>
          </p:grpSpPr>
          <p:sp>
            <p:nvSpPr>
              <p:cNvPr id="747" name=""/>
              <p:cNvSpPr/>
              <p:nvPr/>
            </p:nvSpPr>
            <p:spPr>
              <a:xfrm>
                <a:off x="4914000" y="3731760"/>
                <a:ext cx="86760" cy="4068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10"/>
                    </a:moveTo>
                    <a:lnTo>
                      <a:pt x="0" y="19"/>
                    </a:lnTo>
                    <a:lnTo>
                      <a:pt x="39" y="10"/>
                    </a:lnTo>
                    <a:lnTo>
                      <a:pt x="39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065560" y="3731760"/>
                <a:ext cx="84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14960" y="3731760"/>
                <a:ext cx="4248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871520" y="3669480"/>
                <a:ext cx="151560" cy="1458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0"/>
                    </a:moveTo>
                    <a:lnTo>
                      <a:pt x="0" y="39"/>
                    </a:lnTo>
                    <a:lnTo>
                      <a:pt x="68" y="68"/>
                    </a:lnTo>
                    <a:lnTo>
                      <a:pt x="39" y="39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150880" y="3669480"/>
                <a:ext cx="151200" cy="1458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0" y="68"/>
                    </a:moveTo>
                    <a:lnTo>
                      <a:pt x="68" y="29"/>
                    </a:lnTo>
                    <a:lnTo>
                      <a:pt x="0" y="0"/>
                    </a:lnTo>
                    <a:lnTo>
                      <a:pt x="29" y="2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420080" y="5038920"/>
              <a:ext cx="1800" cy="725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23920" y="5058000"/>
              <a:ext cx="1800" cy="725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644080" y="5577120"/>
              <a:ext cx="2383920" cy="165600"/>
              <a:chOff x="5644080" y="5577120"/>
              <a:chExt cx="2383920" cy="165600"/>
            </a:xfrm>
          </p:grpSpPr>
          <p:sp>
            <p:nvSpPr>
              <p:cNvPr id="755" name=""/>
              <p:cNvSpPr/>
              <p:nvPr/>
            </p:nvSpPr>
            <p:spPr>
              <a:xfrm>
                <a:off x="5688360" y="5661000"/>
                <a:ext cx="84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838480" y="5661000"/>
                <a:ext cx="842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987520" y="5661000"/>
                <a:ext cx="867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139440" y="5661000"/>
                <a:ext cx="84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288840" y="5661000"/>
                <a:ext cx="84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438600" y="5661000"/>
                <a:ext cx="867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588000" y="5661000"/>
                <a:ext cx="867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739920" y="5661000"/>
                <a:ext cx="84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889680" y="5661000"/>
                <a:ext cx="867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039080" y="5661000"/>
                <a:ext cx="867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91000" y="5661000"/>
                <a:ext cx="84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340400" y="5661000"/>
                <a:ext cx="84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490160" y="5661000"/>
                <a:ext cx="867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42080" y="5661000"/>
                <a:ext cx="842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791480" y="5661000"/>
                <a:ext cx="84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941240" y="5661000"/>
                <a:ext cx="442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644080" y="5577120"/>
                <a:ext cx="151560" cy="14616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0"/>
                    </a:moveTo>
                    <a:lnTo>
                      <a:pt x="0" y="39"/>
                    </a:lnTo>
                    <a:lnTo>
                      <a:pt x="68" y="68"/>
                    </a:lnTo>
                    <a:lnTo>
                      <a:pt x="39" y="39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876440" y="5598360"/>
                <a:ext cx="151560" cy="14436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0" y="67"/>
                    </a:moveTo>
                    <a:lnTo>
                      <a:pt x="68" y="29"/>
                    </a:lnTo>
                    <a:lnTo>
                      <a:pt x="0" y="0"/>
                    </a:lnTo>
                    <a:lnTo>
                      <a:pt x="29" y="29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3904200" y="5038920"/>
              <a:ext cx="558360" cy="18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699080" y="5038920"/>
              <a:ext cx="645480" cy="18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601600" y="5017680"/>
              <a:ext cx="645120" cy="18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4699080" y="5577120"/>
              <a:ext cx="645120" cy="145800"/>
              <a:chOff x="4699080" y="5577120"/>
              <a:chExt cx="645120" cy="145800"/>
            </a:xfrm>
          </p:grpSpPr>
          <p:sp>
            <p:nvSpPr>
              <p:cNvPr id="777" name=""/>
              <p:cNvSpPr/>
              <p:nvPr/>
            </p:nvSpPr>
            <p:spPr>
              <a:xfrm>
                <a:off x="4741560" y="5639400"/>
                <a:ext cx="87120" cy="4068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10"/>
                    </a:moveTo>
                    <a:lnTo>
                      <a:pt x="0" y="19"/>
                    </a:lnTo>
                    <a:lnTo>
                      <a:pt x="39" y="10"/>
                    </a:lnTo>
                    <a:lnTo>
                      <a:pt x="39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892760" y="5639400"/>
                <a:ext cx="84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042880" y="5639400"/>
                <a:ext cx="871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192280" y="5639400"/>
                <a:ext cx="871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699080" y="5577120"/>
                <a:ext cx="151920" cy="1458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0"/>
                    </a:moveTo>
                    <a:lnTo>
                      <a:pt x="0" y="39"/>
                    </a:lnTo>
                    <a:lnTo>
                      <a:pt x="68" y="68"/>
                    </a:lnTo>
                    <a:lnTo>
                      <a:pt x="39" y="39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192280" y="5577120"/>
                <a:ext cx="151920" cy="1458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0" y="68"/>
                    </a:moveTo>
                    <a:lnTo>
                      <a:pt x="68" y="29"/>
                    </a:lnTo>
                    <a:lnTo>
                      <a:pt x="0" y="0"/>
                    </a:lnTo>
                    <a:lnTo>
                      <a:pt x="29" y="2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2745360" y="5038920"/>
              <a:ext cx="1800" cy="725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3004200" y="5577120"/>
              <a:ext cx="1415520" cy="165600"/>
              <a:chOff x="3004200" y="5577120"/>
              <a:chExt cx="1415520" cy="165600"/>
            </a:xfrm>
          </p:grpSpPr>
          <p:sp>
            <p:nvSpPr>
              <p:cNvPr id="785" name=""/>
              <p:cNvSpPr/>
              <p:nvPr/>
            </p:nvSpPr>
            <p:spPr>
              <a:xfrm>
                <a:off x="3046680" y="5661000"/>
                <a:ext cx="842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96080" y="5661000"/>
                <a:ext cx="867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345120" y="5661000"/>
                <a:ext cx="867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497040" y="5661000"/>
                <a:ext cx="84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647160" y="5661000"/>
                <a:ext cx="867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96560" y="5661000"/>
                <a:ext cx="867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948480" y="5661000"/>
                <a:ext cx="84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098240" y="5661000"/>
                <a:ext cx="842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247640" y="5661000"/>
                <a:ext cx="867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004200" y="5577120"/>
                <a:ext cx="149040" cy="14616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0"/>
                    </a:moveTo>
                    <a:lnTo>
                      <a:pt x="0" y="39"/>
                    </a:lnTo>
                    <a:lnTo>
                      <a:pt x="67" y="68"/>
                    </a:lnTo>
                    <a:lnTo>
                      <a:pt x="38" y="39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269960" y="5598360"/>
                <a:ext cx="149760" cy="14436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29"/>
                    </a:lnTo>
                    <a:lnTo>
                      <a:pt x="0" y="0"/>
                    </a:lnTo>
                    <a:lnTo>
                      <a:pt x="29" y="29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2144880" y="5702040"/>
              <a:ext cx="148680" cy="205560"/>
              <a:chOff x="2144880" y="5702040"/>
              <a:chExt cx="148680" cy="205560"/>
            </a:xfrm>
          </p:grpSpPr>
          <p:sp>
            <p:nvSpPr>
              <p:cNvPr id="797" name=""/>
              <p:cNvSpPr/>
              <p:nvPr/>
            </p:nvSpPr>
            <p:spPr>
              <a:xfrm flipV="1">
                <a:off x="2209320" y="5742720"/>
                <a:ext cx="1800" cy="164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144880" y="5702040"/>
                <a:ext cx="148680" cy="14364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29" y="0"/>
                    </a:lnTo>
                    <a:lnTo>
                      <a:pt x="0" y="67"/>
                    </a:lnTo>
                    <a:lnTo>
                      <a:pt x="29" y="38"/>
                    </a:lnTo>
                    <a:lnTo>
                      <a:pt x="67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5065200" y="5680440"/>
              <a:ext cx="149400" cy="164880"/>
              <a:chOff x="5065200" y="5680440"/>
              <a:chExt cx="149400" cy="164880"/>
            </a:xfrm>
          </p:grpSpPr>
          <p:sp>
            <p:nvSpPr>
              <p:cNvPr id="800" name=""/>
              <p:cNvSpPr/>
              <p:nvPr/>
            </p:nvSpPr>
            <p:spPr>
              <a:xfrm flipV="1">
                <a:off x="5150160" y="5723280"/>
                <a:ext cx="1800" cy="10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065200" y="5680440"/>
                <a:ext cx="149400" cy="164880"/>
              </a:xfrm>
              <a:custGeom>
                <a:avLst/>
                <a:gdLst/>
                <a:ahLst/>
                <a:rect l="l" t="t" r="r" b="b"/>
                <a:pathLst>
                  <a:path w="67" h="77">
                    <a:moveTo>
                      <a:pt x="67" y="77"/>
                    </a:moveTo>
                    <a:lnTo>
                      <a:pt x="48" y="0"/>
                    </a:lnTo>
                    <a:lnTo>
                      <a:pt x="0" y="58"/>
                    </a:lnTo>
                    <a:lnTo>
                      <a:pt x="38" y="39"/>
                    </a:lnTo>
                    <a:lnTo>
                      <a:pt x="67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3625200" y="5680440"/>
              <a:ext cx="151560" cy="145800"/>
              <a:chOff x="3625200" y="5680440"/>
              <a:chExt cx="151560" cy="145800"/>
            </a:xfrm>
          </p:grpSpPr>
          <p:sp>
            <p:nvSpPr>
              <p:cNvPr id="803" name=""/>
              <p:cNvSpPr/>
              <p:nvPr/>
            </p:nvSpPr>
            <p:spPr>
              <a:xfrm flipV="1">
                <a:off x="3689640" y="5722560"/>
                <a:ext cx="1800" cy="8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25200" y="5680440"/>
                <a:ext cx="151560" cy="1458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68"/>
                    </a:moveTo>
                    <a:lnTo>
                      <a:pt x="29" y="0"/>
                    </a:lnTo>
                    <a:lnTo>
                      <a:pt x="0" y="68"/>
                    </a:lnTo>
                    <a:lnTo>
                      <a:pt x="29" y="39"/>
                    </a:lnTo>
                    <a:lnTo>
                      <a:pt x="6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6783120" y="5723640"/>
              <a:ext cx="148680" cy="183960"/>
              <a:chOff x="6783120" y="5723640"/>
              <a:chExt cx="148680" cy="183960"/>
            </a:xfrm>
          </p:grpSpPr>
          <p:sp>
            <p:nvSpPr>
              <p:cNvPr id="806" name=""/>
              <p:cNvSpPr/>
              <p:nvPr/>
            </p:nvSpPr>
            <p:spPr>
              <a:xfrm flipV="1">
                <a:off x="6847560" y="5763960"/>
                <a:ext cx="1800" cy="143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783120" y="5723640"/>
                <a:ext cx="148680" cy="14364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29" y="0"/>
                    </a:lnTo>
                    <a:lnTo>
                      <a:pt x="0" y="67"/>
                    </a:lnTo>
                    <a:lnTo>
                      <a:pt x="29" y="38"/>
                    </a:lnTo>
                    <a:lnTo>
                      <a:pt x="67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1950480" y="2653200"/>
              <a:ext cx="151560" cy="1037160"/>
              <a:chOff x="1950480" y="2653200"/>
              <a:chExt cx="151560" cy="1037160"/>
            </a:xfrm>
          </p:grpSpPr>
          <p:sp>
            <p:nvSpPr>
              <p:cNvPr id="809" name=""/>
              <p:cNvSpPr/>
              <p:nvPr/>
            </p:nvSpPr>
            <p:spPr>
              <a:xfrm>
                <a:off x="2037240" y="2653200"/>
                <a:ext cx="2520" cy="933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950480" y="3484080"/>
                <a:ext cx="151560" cy="206280"/>
              </a:xfrm>
              <a:custGeom>
                <a:avLst/>
                <a:gdLst/>
                <a:ahLst/>
                <a:rect l="l" t="t" r="r" b="b"/>
                <a:pathLst>
                  <a:path w="68" h="96">
                    <a:moveTo>
                      <a:pt x="0" y="0"/>
                    </a:moveTo>
                    <a:lnTo>
                      <a:pt x="39" y="96"/>
                    </a:lnTo>
                    <a:lnTo>
                      <a:pt x="68" y="0"/>
                    </a:lnTo>
                    <a:lnTo>
                      <a:pt x="39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7383600" y="4167000"/>
              <a:ext cx="557280" cy="164880"/>
              <a:chOff x="7383600" y="4167000"/>
              <a:chExt cx="557280" cy="164880"/>
            </a:xfrm>
          </p:grpSpPr>
          <p:sp>
            <p:nvSpPr>
              <p:cNvPr id="812" name=""/>
              <p:cNvSpPr/>
              <p:nvPr/>
            </p:nvSpPr>
            <p:spPr>
              <a:xfrm>
                <a:off x="7426080" y="4250520"/>
                <a:ext cx="8676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577640" y="4250520"/>
                <a:ext cx="8424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726680" y="4250520"/>
                <a:ext cx="8676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876440" y="4250520"/>
                <a:ext cx="2196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383600" y="4167000"/>
                <a:ext cx="151560" cy="1458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0"/>
                    </a:moveTo>
                    <a:lnTo>
                      <a:pt x="0" y="39"/>
                    </a:lnTo>
                    <a:lnTo>
                      <a:pt x="68" y="68"/>
                    </a:lnTo>
                    <a:lnTo>
                      <a:pt x="39" y="39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791480" y="4188240"/>
                <a:ext cx="149400" cy="14364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29"/>
                    </a:lnTo>
                    <a:lnTo>
                      <a:pt x="0" y="0"/>
                    </a:lnTo>
                    <a:lnTo>
                      <a:pt x="29" y="29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6481080" y="3275280"/>
              <a:ext cx="623160" cy="54036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5" y="0"/>
                  </a:moveTo>
                  <a:cubicBezTo>
                    <a:pt x="2" y="0"/>
                    <a:pt x="0" y="2"/>
                    <a:pt x="0" y="5"/>
                  </a:cubicBezTo>
                  <a:lnTo>
                    <a:pt x="0" y="22"/>
                  </a:lnTo>
                  <a:cubicBezTo>
                    <a:pt x="0" y="24"/>
                    <a:pt x="2" y="26"/>
                    <a:pt x="5" y="26"/>
                  </a:cubicBezTo>
                  <a:lnTo>
                    <a:pt x="25" y="26"/>
                  </a:lnTo>
                  <a:cubicBezTo>
                    <a:pt x="28" y="26"/>
                    <a:pt x="29" y="24"/>
                    <a:pt x="29" y="22"/>
                  </a:cubicBezTo>
                  <a:lnTo>
                    <a:pt x="29" y="5"/>
                  </a:lnTo>
                  <a:cubicBezTo>
                    <a:pt x="29" y="2"/>
                    <a:pt x="28" y="0"/>
                    <a:pt x="25" y="0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568200" y="3484440"/>
              <a:ext cx="493560" cy="2689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lnTo>
                    <a:pt x="0" y="10"/>
                  </a:lnTo>
                  <a:cubicBezTo>
                    <a:pt x="0" y="12"/>
                    <a:pt x="1" y="13"/>
                    <a:pt x="2" y="13"/>
                  </a:cubicBezTo>
                  <a:lnTo>
                    <a:pt x="20" y="13"/>
                  </a:lnTo>
                  <a:cubicBezTo>
                    <a:pt x="22" y="13"/>
                    <a:pt x="23" y="12"/>
                    <a:pt x="23" y="10"/>
                  </a:cubicBezTo>
                  <a:lnTo>
                    <a:pt x="23" y="2"/>
                  </a:lnTo>
                  <a:cubicBezTo>
                    <a:pt x="23" y="1"/>
                    <a:pt x="22" y="0"/>
                    <a:pt x="2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31920" y="3546720"/>
              <a:ext cx="33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SF-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25720" y="3275280"/>
              <a:ext cx="62064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11040" y="33163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MN-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4056120" y="2674800"/>
              <a:ext cx="149400" cy="1553760"/>
              <a:chOff x="4056120" y="2674800"/>
              <a:chExt cx="149400" cy="1553760"/>
            </a:xfrm>
          </p:grpSpPr>
          <p:sp>
            <p:nvSpPr>
              <p:cNvPr id="824" name=""/>
              <p:cNvSpPr/>
              <p:nvPr/>
            </p:nvSpPr>
            <p:spPr>
              <a:xfrm flipV="1">
                <a:off x="4140720" y="2674800"/>
                <a:ext cx="2520" cy="1450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056120" y="4021920"/>
                <a:ext cx="149400" cy="206640"/>
              </a:xfrm>
              <a:custGeom>
                <a:avLst/>
                <a:gdLst/>
                <a:ahLst/>
                <a:rect l="l" t="t" r="r" b="b"/>
                <a:pathLst>
                  <a:path w="67" h="96">
                    <a:moveTo>
                      <a:pt x="0" y="0"/>
                    </a:moveTo>
                    <a:lnTo>
                      <a:pt x="38" y="96"/>
                    </a:lnTo>
                    <a:lnTo>
                      <a:pt x="67" y="0"/>
                    </a:lnTo>
                    <a:lnTo>
                      <a:pt x="38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2208960" y="5930280"/>
              <a:ext cx="87984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945400" y="5908680"/>
              <a:ext cx="9018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1929960" y="5389560"/>
              <a:ext cx="84960" cy="12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1585800" y="5495040"/>
              <a:ext cx="3438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1521360" y="5349240"/>
              <a:ext cx="149400" cy="145440"/>
              <a:chOff x="1521360" y="5349240"/>
              <a:chExt cx="149400" cy="145440"/>
            </a:xfrm>
          </p:grpSpPr>
          <p:sp>
            <p:nvSpPr>
              <p:cNvPr id="831" name=""/>
              <p:cNvSpPr/>
              <p:nvPr/>
            </p:nvSpPr>
            <p:spPr>
              <a:xfrm flipV="1">
                <a:off x="1586160" y="5389560"/>
                <a:ext cx="1800" cy="105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521360" y="5349240"/>
                <a:ext cx="149400" cy="1454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29" y="0"/>
                    </a:lnTo>
                    <a:lnTo>
                      <a:pt x="0" y="68"/>
                    </a:lnTo>
                    <a:lnTo>
                      <a:pt x="29" y="39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 flipH="1">
              <a:off x="3004200" y="5100840"/>
              <a:ext cx="20160" cy="663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699080" y="5058000"/>
              <a:ext cx="2520" cy="70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44920" y="5058000"/>
              <a:ext cx="1800" cy="70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"/>
            <p:cNvGrpSpPr/>
            <p:nvPr/>
          </p:nvGrpSpPr>
          <p:grpSpPr>
            <a:xfrm>
              <a:off x="748800" y="767160"/>
              <a:ext cx="128880" cy="2656080"/>
              <a:chOff x="748800" y="767160"/>
              <a:chExt cx="128880" cy="2656080"/>
            </a:xfrm>
          </p:grpSpPr>
          <p:sp>
            <p:nvSpPr>
              <p:cNvPr id="837" name=""/>
              <p:cNvSpPr/>
              <p:nvPr/>
            </p:nvSpPr>
            <p:spPr>
              <a:xfrm>
                <a:off x="748800" y="767160"/>
                <a:ext cx="219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48800" y="91116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48800" y="995040"/>
                <a:ext cx="219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48800" y="113940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48800" y="1223280"/>
                <a:ext cx="42120" cy="8136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10" y="0"/>
                    </a:moveTo>
                    <a:lnTo>
                      <a:pt x="0" y="0"/>
                    </a:lnTo>
                    <a:lnTo>
                      <a:pt x="10" y="38"/>
                    </a:lnTo>
                    <a:lnTo>
                      <a:pt x="19" y="38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70760" y="136764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70760" y="1451520"/>
                <a:ext cx="2016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0760" y="1595520"/>
                <a:ext cx="2016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70760" y="1679400"/>
                <a:ext cx="2016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70760" y="1823760"/>
                <a:ext cx="42120" cy="2124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9" y="0"/>
                    </a:moveTo>
                    <a:lnTo>
                      <a:pt x="0" y="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90920" y="1908000"/>
                <a:ext cx="21960" cy="8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90920" y="205200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90920" y="2135880"/>
                <a:ext cx="21960" cy="8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90920" y="228024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13240" y="2364480"/>
                <a:ext cx="20160" cy="8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13240" y="2508480"/>
                <a:ext cx="201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13240" y="2590560"/>
                <a:ext cx="201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3240" y="2736720"/>
                <a:ext cx="2016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13240" y="2818440"/>
                <a:ext cx="42120" cy="838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9" y="0"/>
                    </a:moveTo>
                    <a:lnTo>
                      <a:pt x="0" y="0"/>
                    </a:lnTo>
                    <a:lnTo>
                      <a:pt x="9" y="39"/>
                    </a:lnTo>
                    <a:lnTo>
                      <a:pt x="19" y="3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33400" y="2964960"/>
                <a:ext cx="21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33400" y="3047040"/>
                <a:ext cx="219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33400" y="3192840"/>
                <a:ext cx="21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33400" y="3274920"/>
                <a:ext cx="2196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33400" y="3421440"/>
                <a:ext cx="4428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10" y="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2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-775800" y="3731760"/>
              <a:ext cx="1436760" cy="164880"/>
              <a:chOff x="-775800" y="3731760"/>
              <a:chExt cx="1436760" cy="164880"/>
            </a:xfrm>
          </p:grpSpPr>
          <p:sp>
            <p:nvSpPr>
              <p:cNvPr id="862" name=""/>
              <p:cNvSpPr/>
              <p:nvPr/>
            </p:nvSpPr>
            <p:spPr>
              <a:xfrm>
                <a:off x="-732960" y="3815280"/>
                <a:ext cx="867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-581400" y="3815280"/>
                <a:ext cx="842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-432000" y="3815280"/>
                <a:ext cx="84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-282240" y="3815280"/>
                <a:ext cx="867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-130320" y="3815280"/>
                <a:ext cx="842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8720" y="3815280"/>
                <a:ext cx="84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67760" y="3815280"/>
                <a:ext cx="867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19680" y="3815280"/>
                <a:ext cx="849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69440" y="3815280"/>
                <a:ext cx="842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-775800" y="3731760"/>
                <a:ext cx="149760" cy="14364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0"/>
                    </a:moveTo>
                    <a:lnTo>
                      <a:pt x="0" y="39"/>
                    </a:lnTo>
                    <a:lnTo>
                      <a:pt x="67" y="67"/>
                    </a:lnTo>
                    <a:lnTo>
                      <a:pt x="39" y="39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11920" y="3753000"/>
                <a:ext cx="149040" cy="14364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29"/>
                    </a:lnTo>
                    <a:lnTo>
                      <a:pt x="0" y="0"/>
                    </a:lnTo>
                    <a:lnTo>
                      <a:pt x="29" y="29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 flipH="1">
              <a:off x="125640" y="4541400"/>
              <a:ext cx="794880" cy="18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350560" y="4541400"/>
              <a:ext cx="515880" cy="18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8544960" y="3255840"/>
              <a:ext cx="233640" cy="309600"/>
              <a:chOff x="8544960" y="3255840"/>
              <a:chExt cx="233640" cy="309600"/>
            </a:xfrm>
          </p:grpSpPr>
          <p:sp>
            <p:nvSpPr>
              <p:cNvPr id="876" name=""/>
              <p:cNvSpPr/>
              <p:nvPr/>
            </p:nvSpPr>
            <p:spPr>
              <a:xfrm>
                <a:off x="8694360" y="3255840"/>
                <a:ext cx="84240" cy="60480"/>
              </a:xfrm>
              <a:custGeom>
                <a:avLst/>
                <a:gdLst/>
                <a:ahLst/>
                <a:rect l="l" t="t" r="r" b="b"/>
                <a:pathLst>
                  <a:path w="38" h="28">
                    <a:moveTo>
                      <a:pt x="38" y="0"/>
                    </a:moveTo>
                    <a:lnTo>
                      <a:pt x="29" y="0"/>
                    </a:lnTo>
                    <a:lnTo>
                      <a:pt x="0" y="28"/>
                    </a:lnTo>
                    <a:lnTo>
                      <a:pt x="9" y="28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607600" y="3378600"/>
                <a:ext cx="64440" cy="622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9" y="0"/>
                    </a:moveTo>
                    <a:lnTo>
                      <a:pt x="20" y="0"/>
                    </a:lnTo>
                    <a:lnTo>
                      <a:pt x="0" y="29"/>
                    </a:lnTo>
                    <a:lnTo>
                      <a:pt x="1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544960" y="3484080"/>
                <a:ext cx="42480" cy="5976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9" y="0"/>
                    </a:moveTo>
                    <a:lnTo>
                      <a:pt x="9" y="0"/>
                    </a:lnTo>
                    <a:lnTo>
                      <a:pt x="0" y="28"/>
                    </a:lnTo>
                    <a:lnTo>
                      <a:pt x="9" y="28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544960" y="3400200"/>
                <a:ext cx="127440" cy="165240"/>
              </a:xfrm>
              <a:custGeom>
                <a:avLst/>
                <a:gdLst/>
                <a:ahLst/>
                <a:rect l="l" t="t" r="r" b="b"/>
                <a:pathLst>
                  <a:path w="57" h="77">
                    <a:moveTo>
                      <a:pt x="9" y="0"/>
                    </a:moveTo>
                    <a:lnTo>
                      <a:pt x="0" y="77"/>
                    </a:lnTo>
                    <a:lnTo>
                      <a:pt x="57" y="39"/>
                    </a:lnTo>
                    <a:lnTo>
                      <a:pt x="19" y="4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8285760" y="5100840"/>
              <a:ext cx="2520" cy="703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8265960" y="5598720"/>
              <a:ext cx="856440" cy="165600"/>
              <a:chOff x="8265960" y="5598720"/>
              <a:chExt cx="856440" cy="165600"/>
            </a:xfrm>
          </p:grpSpPr>
          <p:sp>
            <p:nvSpPr>
              <p:cNvPr id="882" name=""/>
              <p:cNvSpPr/>
              <p:nvPr/>
            </p:nvSpPr>
            <p:spPr>
              <a:xfrm>
                <a:off x="8308440" y="5680440"/>
                <a:ext cx="8424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457480" y="568044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607600" y="568044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759160" y="5680440"/>
                <a:ext cx="8424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908560" y="5680440"/>
                <a:ext cx="84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9058680" y="5680440"/>
                <a:ext cx="21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265960" y="5598720"/>
                <a:ext cx="149760" cy="14436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0"/>
                    </a:moveTo>
                    <a:lnTo>
                      <a:pt x="0" y="38"/>
                    </a:lnTo>
                    <a:lnTo>
                      <a:pt x="67" y="67"/>
                    </a:lnTo>
                    <a:lnTo>
                      <a:pt x="38" y="38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973360" y="5618160"/>
                <a:ext cx="149040" cy="14616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29"/>
                    </a:lnTo>
                    <a:lnTo>
                      <a:pt x="0" y="0"/>
                    </a:lnTo>
                    <a:lnTo>
                      <a:pt x="29" y="2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5923080" y="5971320"/>
              <a:ext cx="367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5795640" y="3587400"/>
              <a:ext cx="772200" cy="165600"/>
              <a:chOff x="5795640" y="3587400"/>
              <a:chExt cx="772200" cy="165600"/>
            </a:xfrm>
          </p:grpSpPr>
          <p:sp>
            <p:nvSpPr>
              <p:cNvPr id="892" name=""/>
              <p:cNvSpPr/>
              <p:nvPr/>
            </p:nvSpPr>
            <p:spPr>
              <a:xfrm>
                <a:off x="5838120" y="3669120"/>
                <a:ext cx="8424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987160" y="366912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139080" y="3669120"/>
                <a:ext cx="84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288480" y="3669120"/>
                <a:ext cx="84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438240" y="366912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795640" y="3587400"/>
                <a:ext cx="149040" cy="14436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0"/>
                    </a:moveTo>
                    <a:lnTo>
                      <a:pt x="0" y="38"/>
                    </a:lnTo>
                    <a:lnTo>
                      <a:pt x="67" y="67"/>
                    </a:lnTo>
                    <a:lnTo>
                      <a:pt x="38" y="38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418080" y="36068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29"/>
                    </a:lnTo>
                    <a:lnTo>
                      <a:pt x="0" y="0"/>
                    </a:lnTo>
                    <a:lnTo>
                      <a:pt x="28" y="2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7039800" y="3587400"/>
              <a:ext cx="966240" cy="165600"/>
              <a:chOff x="7039800" y="3587400"/>
              <a:chExt cx="966240" cy="165600"/>
            </a:xfrm>
          </p:grpSpPr>
          <p:sp>
            <p:nvSpPr>
              <p:cNvPr id="900" name=""/>
              <p:cNvSpPr/>
              <p:nvPr/>
            </p:nvSpPr>
            <p:spPr>
              <a:xfrm>
                <a:off x="7084080" y="3669120"/>
                <a:ext cx="84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233840" y="3669120"/>
                <a:ext cx="8424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383240" y="366912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535160" y="3669120"/>
                <a:ext cx="84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684920" y="3669120"/>
                <a:ext cx="8424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833960" y="366912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39800" y="3587400"/>
                <a:ext cx="151560" cy="14436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68" y="0"/>
                    </a:moveTo>
                    <a:lnTo>
                      <a:pt x="0" y="38"/>
                    </a:lnTo>
                    <a:lnTo>
                      <a:pt x="68" y="67"/>
                    </a:lnTo>
                    <a:lnTo>
                      <a:pt x="39" y="38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856280" y="36068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29"/>
                    </a:lnTo>
                    <a:lnTo>
                      <a:pt x="0" y="0"/>
                    </a:lnTo>
                    <a:lnTo>
                      <a:pt x="29" y="2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5581440" y="3857040"/>
              <a:ext cx="620640" cy="206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6525720" y="3919320"/>
              <a:ext cx="149760" cy="144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6675840" y="3857040"/>
              <a:ext cx="1590120" cy="8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751000" y="5120640"/>
              <a:ext cx="14176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072840" y="518292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oint Doma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859360" y="5329440"/>
              <a:ext cx="112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earer Inter-work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985720" y="5473440"/>
              <a:ext cx="886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unction (BIWF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6309720" y="4769640"/>
              <a:ext cx="151560" cy="371160"/>
              <a:chOff x="6309720" y="4769640"/>
              <a:chExt cx="151560" cy="371160"/>
            </a:xfrm>
          </p:grpSpPr>
          <p:sp>
            <p:nvSpPr>
              <p:cNvPr id="916" name=""/>
              <p:cNvSpPr/>
              <p:nvPr/>
            </p:nvSpPr>
            <p:spPr>
              <a:xfrm flipV="1">
                <a:off x="6374160" y="4809960"/>
                <a:ext cx="180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309720" y="4769640"/>
                <a:ext cx="151560" cy="14400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68" y="67"/>
                    </a:moveTo>
                    <a:lnTo>
                      <a:pt x="29" y="0"/>
                    </a:lnTo>
                    <a:lnTo>
                      <a:pt x="0" y="67"/>
                    </a:lnTo>
                    <a:lnTo>
                      <a:pt x="29" y="38"/>
                    </a:lnTo>
                    <a:lnTo>
                      <a:pt x="68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8328240" y="4209840"/>
              <a:ext cx="729720" cy="164880"/>
              <a:chOff x="8328240" y="4209840"/>
              <a:chExt cx="729720" cy="164880"/>
            </a:xfrm>
          </p:grpSpPr>
          <p:sp>
            <p:nvSpPr>
              <p:cNvPr id="919" name=""/>
              <p:cNvSpPr/>
              <p:nvPr/>
            </p:nvSpPr>
            <p:spPr>
              <a:xfrm>
                <a:off x="8372520" y="4290840"/>
                <a:ext cx="8424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521920" y="4290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671680" y="4290840"/>
                <a:ext cx="867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823240" y="4290840"/>
                <a:ext cx="8496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973000" y="4290840"/>
                <a:ext cx="4248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328240" y="4209840"/>
                <a:ext cx="151200" cy="14364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68" y="0"/>
                    </a:moveTo>
                    <a:lnTo>
                      <a:pt x="0" y="38"/>
                    </a:lnTo>
                    <a:lnTo>
                      <a:pt x="68" y="67"/>
                    </a:lnTo>
                    <a:lnTo>
                      <a:pt x="39" y="38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908200" y="4229280"/>
                <a:ext cx="149760" cy="1454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29"/>
                    </a:lnTo>
                    <a:lnTo>
                      <a:pt x="0" y="0"/>
                    </a:lnTo>
                    <a:lnTo>
                      <a:pt x="29" y="2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6545880" y="4188240"/>
              <a:ext cx="472680" cy="164880"/>
              <a:chOff x="6545880" y="4188240"/>
              <a:chExt cx="472680" cy="164880"/>
            </a:xfrm>
          </p:grpSpPr>
          <p:sp>
            <p:nvSpPr>
              <p:cNvPr id="927" name=""/>
              <p:cNvSpPr/>
              <p:nvPr/>
            </p:nvSpPr>
            <p:spPr>
              <a:xfrm>
                <a:off x="6587640" y="4269240"/>
                <a:ext cx="871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739920" y="4269240"/>
                <a:ext cx="84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889680" y="4269240"/>
                <a:ext cx="871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545880" y="4188240"/>
                <a:ext cx="151200" cy="14364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68" y="0"/>
                    </a:moveTo>
                    <a:lnTo>
                      <a:pt x="0" y="38"/>
                    </a:lnTo>
                    <a:lnTo>
                      <a:pt x="68" y="67"/>
                    </a:lnTo>
                    <a:lnTo>
                      <a:pt x="39" y="38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867360" y="4209480"/>
                <a:ext cx="151200" cy="14364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0" y="67"/>
                    </a:moveTo>
                    <a:lnTo>
                      <a:pt x="68" y="28"/>
                    </a:lnTo>
                    <a:lnTo>
                      <a:pt x="0" y="0"/>
                    </a:lnTo>
                    <a:lnTo>
                      <a:pt x="29" y="28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8544960" y="3525480"/>
              <a:ext cx="1178280" cy="184680"/>
              <a:chOff x="8544960" y="3525480"/>
              <a:chExt cx="1178280" cy="184680"/>
            </a:xfrm>
          </p:grpSpPr>
          <p:sp>
            <p:nvSpPr>
              <p:cNvPr id="933" name=""/>
              <p:cNvSpPr/>
              <p:nvPr/>
            </p:nvSpPr>
            <p:spPr>
              <a:xfrm>
                <a:off x="9595800" y="3606840"/>
                <a:ext cx="84960" cy="4284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38" y="20"/>
                    </a:moveTo>
                    <a:lnTo>
                      <a:pt x="38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9443880" y="360684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9294840" y="360684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9145080" y="3606840"/>
                <a:ext cx="849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8993520" y="360684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8843760" y="3606840"/>
                <a:ext cx="8676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8694720" y="3606840"/>
                <a:ext cx="8424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587440" y="3606840"/>
                <a:ext cx="4248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9573480" y="3565800"/>
                <a:ext cx="149760" cy="14436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29"/>
                    </a:lnTo>
                    <a:lnTo>
                      <a:pt x="0" y="0"/>
                    </a:lnTo>
                    <a:lnTo>
                      <a:pt x="29" y="29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544960" y="3525480"/>
                <a:ext cx="149760" cy="14364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0"/>
                    </a:moveTo>
                    <a:lnTo>
                      <a:pt x="0" y="38"/>
                    </a:lnTo>
                    <a:lnTo>
                      <a:pt x="67" y="67"/>
                    </a:lnTo>
                    <a:lnTo>
                      <a:pt x="38" y="38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3" name=""/>
          <p:cNvSpPr/>
          <p:nvPr/>
        </p:nvSpPr>
        <p:spPr>
          <a:xfrm>
            <a:off x="892080" y="5354640"/>
            <a:ext cx="3846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4" name=""/>
          <p:cNvGraphicFramePr/>
          <p:nvPr/>
        </p:nvGraphicFramePr>
        <p:xfrm>
          <a:off x="76320" y="1371600"/>
          <a:ext cx="4565520" cy="343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371600"/>
                    <a:ext cx="456552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"/>
          <p:cNvGraphicFramePr/>
          <p:nvPr/>
        </p:nvGraphicFramePr>
        <p:xfrm>
          <a:off x="4572000" y="1371600"/>
          <a:ext cx="4527720" cy="33876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371600"/>
                    <a:ext cx="452772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"/>
          <p:cNvSpPr/>
          <p:nvPr/>
        </p:nvSpPr>
        <p:spPr>
          <a:xfrm>
            <a:off x="4572000" y="13716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572000" y="48006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0" name=""/>
          <p:cNvGraphicFramePr/>
          <p:nvPr/>
        </p:nvGraphicFramePr>
        <p:xfrm>
          <a:off x="428760" y="85680"/>
          <a:ext cx="4219560" cy="32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85680"/>
                    <a:ext cx="421956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2" name=""/>
          <p:cNvGraphicFramePr/>
          <p:nvPr/>
        </p:nvGraphicFramePr>
        <p:xfrm>
          <a:off x="4800600" y="163440"/>
          <a:ext cx="4419720" cy="326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63440"/>
                    <a:ext cx="441972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4" name=""/>
          <p:cNvGraphicFramePr/>
          <p:nvPr/>
        </p:nvGraphicFramePr>
        <p:xfrm>
          <a:off x="304920" y="3581280"/>
          <a:ext cx="4419360" cy="326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581280"/>
                    <a:ext cx="441936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"/>
          <p:cNvGraphicFramePr/>
          <p:nvPr/>
        </p:nvGraphicFramePr>
        <p:xfrm>
          <a:off x="4800600" y="3592440"/>
          <a:ext cx="4419720" cy="326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3592440"/>
                    <a:ext cx="441972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3322800" y="271440"/>
            <a:ext cx="823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437600" y="2236680"/>
            <a:ext cx="568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607160" y="2287440"/>
            <a:ext cx="27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508520" y="2479680"/>
            <a:ext cx="49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i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450200" y="1395360"/>
            <a:ext cx="5554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619760" y="1444680"/>
            <a:ext cx="27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521120" y="1638360"/>
            <a:ext cx="48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i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5840" y="2108160"/>
            <a:ext cx="5684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355400" y="2157480"/>
            <a:ext cx="27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57120" y="2351160"/>
            <a:ext cx="49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i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066680" y="4800600"/>
            <a:ext cx="695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136160" y="4849920"/>
            <a:ext cx="66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365960" y="5837400"/>
            <a:ext cx="696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435080" y="5886360"/>
            <a:ext cx="66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365960" y="4672080"/>
            <a:ext cx="696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435080" y="4721400"/>
            <a:ext cx="66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68400" y="1332000"/>
            <a:ext cx="5511960" cy="1746000"/>
          </a:xfrm>
          <a:custGeom>
            <a:avLst/>
            <a:gdLst/>
            <a:ahLst/>
            <a:rect l="l" t="t" r="r" b="b"/>
            <a:pathLst>
              <a:path w="388" h="10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lnTo>
                  <a:pt x="0" y="90"/>
                </a:lnTo>
                <a:cubicBezTo>
                  <a:pt x="0" y="100"/>
                  <a:pt x="8" y="108"/>
                  <a:pt x="18" y="108"/>
                </a:cubicBezTo>
                <a:lnTo>
                  <a:pt x="370" y="108"/>
                </a:lnTo>
                <a:cubicBezTo>
                  <a:pt x="380" y="108"/>
                  <a:pt x="388" y="100"/>
                  <a:pt x="388" y="90"/>
                </a:cubicBezTo>
                <a:lnTo>
                  <a:pt x="388" y="18"/>
                </a:lnTo>
                <a:cubicBezTo>
                  <a:pt x="388" y="8"/>
                  <a:pt x="380" y="0"/>
                  <a:pt x="370" y="0"/>
                </a:cubicBezTo>
                <a:lnTo>
                  <a:pt x="18" y="0"/>
                </a:lnTo>
                <a:close/>
              </a:path>
            </a:pathLst>
          </a:custGeom>
          <a:solidFill>
            <a:srgbClr val="99ff33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857240" y="3571920"/>
            <a:ext cx="5515200" cy="3133800"/>
          </a:xfrm>
          <a:custGeom>
            <a:avLst/>
            <a:gdLst/>
            <a:ahLst/>
            <a:rect l="l" t="t" r="r" b="b"/>
            <a:pathLst>
              <a:path w="388" h="164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lnTo>
                  <a:pt x="0" y="137"/>
                </a:lnTo>
                <a:cubicBezTo>
                  <a:pt x="0" y="152"/>
                  <a:pt x="12" y="164"/>
                  <a:pt x="27" y="164"/>
                </a:cubicBezTo>
                <a:lnTo>
                  <a:pt x="361" y="164"/>
                </a:lnTo>
                <a:cubicBezTo>
                  <a:pt x="376" y="164"/>
                  <a:pt x="388" y="152"/>
                  <a:pt x="388" y="137"/>
                </a:cubicBezTo>
                <a:lnTo>
                  <a:pt x="388" y="27"/>
                </a:lnTo>
                <a:cubicBezTo>
                  <a:pt x="388" y="12"/>
                  <a:pt x="376" y="0"/>
                  <a:pt x="361" y="0"/>
                </a:cubicBezTo>
                <a:lnTo>
                  <a:pt x="27" y="0"/>
                </a:lnTo>
                <a:close/>
              </a:path>
            </a:pathLst>
          </a:custGeom>
          <a:solidFill>
            <a:srgbClr val="66ffff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1968480" y="1447920"/>
            <a:ext cx="5326200" cy="4875840"/>
            <a:chOff x="1968480" y="1447920"/>
            <a:chExt cx="5326200" cy="4875840"/>
          </a:xfrm>
        </p:grpSpPr>
        <p:grpSp>
          <p:nvGrpSpPr>
            <p:cNvPr id="977" name=""/>
            <p:cNvGrpSpPr/>
            <p:nvPr/>
          </p:nvGrpSpPr>
          <p:grpSpPr>
            <a:xfrm>
              <a:off x="1968480" y="1447920"/>
              <a:ext cx="5326200" cy="4875840"/>
              <a:chOff x="1968480" y="1447920"/>
              <a:chExt cx="5326200" cy="4875840"/>
            </a:xfrm>
          </p:grpSpPr>
          <p:sp>
            <p:nvSpPr>
              <p:cNvPr id="978" name=""/>
              <p:cNvSpPr/>
              <p:nvPr/>
            </p:nvSpPr>
            <p:spPr>
              <a:xfrm>
                <a:off x="260748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521080" y="1447920"/>
                <a:ext cx="4356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436480" y="1466280"/>
                <a:ext cx="57240" cy="6804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1"/>
                    </a:moveTo>
                    <a:lnTo>
                      <a:pt x="31" y="0"/>
                    </a:lnTo>
                    <a:lnTo>
                      <a:pt x="0" y="10"/>
                    </a:lnTo>
                    <a:lnTo>
                      <a:pt x="11" y="41"/>
                    </a:lnTo>
                    <a:lnTo>
                      <a:pt x="42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351520" y="1499400"/>
                <a:ext cx="55800" cy="6948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41" y="32"/>
                    </a:moveTo>
                    <a:lnTo>
                      <a:pt x="31" y="0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10" y="42"/>
                    </a:lnTo>
                    <a:lnTo>
                      <a:pt x="31" y="32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280240" y="1552320"/>
                <a:ext cx="57240" cy="6804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1"/>
                    </a:moveTo>
                    <a:lnTo>
                      <a:pt x="31" y="0"/>
                    </a:lnTo>
                    <a:lnTo>
                      <a:pt x="0" y="10"/>
                    </a:lnTo>
                    <a:lnTo>
                      <a:pt x="10" y="41"/>
                    </a:lnTo>
                    <a:lnTo>
                      <a:pt x="42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209320" y="1604160"/>
                <a:ext cx="57240" cy="6804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20"/>
                    </a:moveTo>
                    <a:lnTo>
                      <a:pt x="21" y="0"/>
                    </a:lnTo>
                    <a:lnTo>
                      <a:pt x="0" y="20"/>
                    </a:lnTo>
                    <a:lnTo>
                      <a:pt x="21" y="41"/>
                    </a:lnTo>
                    <a:lnTo>
                      <a:pt x="4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138040" y="1672200"/>
                <a:ext cx="57240" cy="6948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21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1" y="11"/>
                    </a:lnTo>
                    <a:lnTo>
                      <a:pt x="0" y="21"/>
                    </a:lnTo>
                    <a:lnTo>
                      <a:pt x="21" y="42"/>
                    </a:lnTo>
                    <a:lnTo>
                      <a:pt x="42" y="21"/>
                    </a:lnTo>
                    <a:lnTo>
                      <a:pt x="31" y="21"/>
                    </a:lnTo>
                    <a:lnTo>
                      <a:pt x="31" y="3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095560" y="1758600"/>
                <a:ext cx="42480" cy="6804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31" y="21"/>
                    </a:moveTo>
                    <a:lnTo>
                      <a:pt x="11" y="0"/>
                    </a:lnTo>
                    <a:lnTo>
                      <a:pt x="0" y="21"/>
                    </a:lnTo>
                    <a:lnTo>
                      <a:pt x="21" y="41"/>
                    </a:lnTo>
                    <a:lnTo>
                      <a:pt x="3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039400" y="1845000"/>
                <a:ext cx="56160" cy="680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10"/>
                    </a:moveTo>
                    <a:lnTo>
                      <a:pt x="10" y="0"/>
                    </a:lnTo>
                    <a:lnTo>
                      <a:pt x="0" y="31"/>
                    </a:lnTo>
                    <a:lnTo>
                      <a:pt x="31" y="41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010600" y="1931400"/>
                <a:ext cx="56160" cy="6768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10"/>
                    </a:moveTo>
                    <a:lnTo>
                      <a:pt x="10" y="0"/>
                    </a:lnTo>
                    <a:lnTo>
                      <a:pt x="0" y="10"/>
                    </a:lnTo>
                    <a:lnTo>
                      <a:pt x="0" y="31"/>
                    </a:lnTo>
                    <a:lnTo>
                      <a:pt x="31" y="41"/>
                    </a:lnTo>
                    <a:lnTo>
                      <a:pt x="31" y="20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81800" y="2034360"/>
                <a:ext cx="57240" cy="6804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10"/>
                    </a:moveTo>
                    <a:lnTo>
                      <a:pt x="11" y="0"/>
                    </a:lnTo>
                    <a:lnTo>
                      <a:pt x="0" y="31"/>
                    </a:lnTo>
                    <a:lnTo>
                      <a:pt x="31" y="41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68480" y="213732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68480" y="2240280"/>
                <a:ext cx="42120" cy="514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0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0" y="31"/>
                    </a:lnTo>
                    <a:lnTo>
                      <a:pt x="31" y="31"/>
                    </a:lnTo>
                    <a:lnTo>
                      <a:pt x="31" y="2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68480" y="2345040"/>
                <a:ext cx="42120" cy="5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968480" y="244800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968480" y="2551320"/>
                <a:ext cx="42120" cy="5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968480" y="265392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968480" y="2758680"/>
                <a:ext cx="42120" cy="5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968480" y="286164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968480" y="2964960"/>
                <a:ext cx="42120" cy="5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968480" y="306756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968480" y="3170520"/>
                <a:ext cx="42120" cy="52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968480" y="327528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968480" y="3378600"/>
                <a:ext cx="42120" cy="5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968480" y="348156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968480" y="358416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968480" y="368892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968480" y="3792240"/>
                <a:ext cx="42120" cy="5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968480" y="389520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968480" y="399780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968480" y="4101120"/>
                <a:ext cx="42120" cy="52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968480" y="4205880"/>
                <a:ext cx="42120" cy="5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968480" y="430884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968480" y="441144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968480" y="451476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968480" y="4619520"/>
                <a:ext cx="42120" cy="5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968480" y="472248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968480" y="482508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8480" y="492840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968480" y="5031360"/>
                <a:ext cx="42120" cy="52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968480" y="513612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968480" y="523908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968480" y="534204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968480" y="5445000"/>
                <a:ext cx="42120" cy="514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0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0" y="31"/>
                    </a:lnTo>
                    <a:lnTo>
                      <a:pt x="31" y="31"/>
                    </a:lnTo>
                    <a:lnTo>
                      <a:pt x="31" y="2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968480" y="554976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981800" y="5652720"/>
                <a:ext cx="57240" cy="6804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31" y="0"/>
                    </a:moveTo>
                    <a:lnTo>
                      <a:pt x="0" y="10"/>
                    </a:lnTo>
                    <a:lnTo>
                      <a:pt x="11" y="41"/>
                    </a:lnTo>
                    <a:lnTo>
                      <a:pt x="42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996920" y="5739120"/>
                <a:ext cx="56160" cy="680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1" y="0"/>
                    </a:moveTo>
                    <a:lnTo>
                      <a:pt x="0" y="10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41" y="31"/>
                    </a:lnTo>
                    <a:lnTo>
                      <a:pt x="41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039400" y="5842080"/>
                <a:ext cx="56160" cy="680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1" y="0"/>
                    </a:moveTo>
                    <a:lnTo>
                      <a:pt x="0" y="10"/>
                    </a:lnTo>
                    <a:lnTo>
                      <a:pt x="10" y="41"/>
                    </a:lnTo>
                    <a:lnTo>
                      <a:pt x="41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081880" y="5928480"/>
                <a:ext cx="56160" cy="680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1" y="0"/>
                    </a:moveTo>
                    <a:lnTo>
                      <a:pt x="0" y="20"/>
                    </a:lnTo>
                    <a:lnTo>
                      <a:pt x="21" y="41"/>
                    </a:lnTo>
                    <a:lnTo>
                      <a:pt x="41" y="2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138040" y="5996520"/>
                <a:ext cx="57240" cy="86400"/>
              </a:xfrm>
              <a:custGeom>
                <a:avLst/>
                <a:gdLst/>
                <a:ahLst/>
                <a:rect l="l" t="t" r="r" b="b"/>
                <a:pathLst>
                  <a:path w="42" h="52">
                    <a:moveTo>
                      <a:pt x="21" y="0"/>
                    </a:moveTo>
                    <a:lnTo>
                      <a:pt x="0" y="21"/>
                    </a:lnTo>
                    <a:lnTo>
                      <a:pt x="11" y="42"/>
                    </a:lnTo>
                    <a:lnTo>
                      <a:pt x="21" y="52"/>
                    </a:lnTo>
                    <a:lnTo>
                      <a:pt x="21" y="42"/>
                    </a:lnTo>
                    <a:lnTo>
                      <a:pt x="42" y="21"/>
                    </a:lnTo>
                    <a:lnTo>
                      <a:pt x="31" y="21"/>
                    </a:lnTo>
                    <a:lnTo>
                      <a:pt x="31" y="31"/>
                    </a:lnTo>
                    <a:lnTo>
                      <a:pt x="42" y="3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195640" y="6066360"/>
                <a:ext cx="70920" cy="6804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21" y="0"/>
                    </a:moveTo>
                    <a:lnTo>
                      <a:pt x="0" y="20"/>
                    </a:lnTo>
                    <a:lnTo>
                      <a:pt x="31" y="41"/>
                    </a:lnTo>
                    <a:lnTo>
                      <a:pt x="52" y="2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280240" y="6134400"/>
                <a:ext cx="42480" cy="6948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10" y="0"/>
                    </a:moveTo>
                    <a:lnTo>
                      <a:pt x="0" y="31"/>
                    </a:lnTo>
                    <a:lnTo>
                      <a:pt x="21" y="42"/>
                    </a:lnTo>
                    <a:lnTo>
                      <a:pt x="31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351520" y="6185880"/>
                <a:ext cx="42120" cy="6948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10" y="0"/>
                    </a:moveTo>
                    <a:lnTo>
                      <a:pt x="0" y="31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422800" y="6221160"/>
                <a:ext cx="56160" cy="6948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10" y="0"/>
                    </a:moveTo>
                    <a:lnTo>
                      <a:pt x="0" y="31"/>
                    </a:lnTo>
                    <a:lnTo>
                      <a:pt x="31" y="42"/>
                    </a:lnTo>
                    <a:lnTo>
                      <a:pt x="41" y="1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521080" y="6255720"/>
                <a:ext cx="4356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607480" y="6255720"/>
                <a:ext cx="2700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67840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76372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84832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33280" y="6272280"/>
                <a:ext cx="4356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01932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10428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18924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274200" y="6272280"/>
                <a:ext cx="4356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36024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44520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53016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61620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701520" y="627228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78612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87072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95712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042080" y="627228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12704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211640" y="6272280"/>
                <a:ext cx="4356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29804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383000" y="627228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46796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52560" y="6272280"/>
                <a:ext cx="4356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63896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723920" y="627228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80852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893480" y="6272280"/>
                <a:ext cx="4356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97988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064840" y="627228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14944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23584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32044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05760" y="627228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9036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57676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66136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746320" y="627228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831280" y="6272280"/>
                <a:ext cx="4356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91768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00228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087240" y="627228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172200" y="6272280"/>
                <a:ext cx="4356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25824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34320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428160" y="627228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514200" y="6272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599160" y="62557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684120" y="62557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769080" y="6221160"/>
                <a:ext cx="57240" cy="6948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10"/>
                    </a:moveTo>
                    <a:lnTo>
                      <a:pt x="11" y="42"/>
                    </a:lnTo>
                    <a:lnTo>
                      <a:pt x="42" y="31"/>
                    </a:lnTo>
                    <a:lnTo>
                      <a:pt x="3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855480" y="6185880"/>
                <a:ext cx="42120" cy="6948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0" y="11"/>
                    </a:moveTo>
                    <a:lnTo>
                      <a:pt x="10" y="42"/>
                    </a:lnTo>
                    <a:lnTo>
                      <a:pt x="10" y="42"/>
                    </a:lnTo>
                    <a:lnTo>
                      <a:pt x="31" y="31"/>
                    </a:lnTo>
                    <a:lnTo>
                      <a:pt x="2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924960" y="6134400"/>
                <a:ext cx="43920" cy="69480"/>
              </a:xfrm>
              <a:custGeom>
                <a:avLst/>
                <a:gdLst/>
                <a:ahLst/>
                <a:rect l="l" t="t" r="r" b="b"/>
                <a:pathLst>
                  <a:path w="32" h="42">
                    <a:moveTo>
                      <a:pt x="0" y="11"/>
                    </a:moveTo>
                    <a:lnTo>
                      <a:pt x="11" y="42"/>
                    </a:lnTo>
                    <a:lnTo>
                      <a:pt x="32" y="31"/>
                    </a:lnTo>
                    <a:lnTo>
                      <a:pt x="21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982560" y="6066360"/>
                <a:ext cx="70920" cy="6804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0" y="20"/>
                    </a:moveTo>
                    <a:lnTo>
                      <a:pt x="21" y="41"/>
                    </a:lnTo>
                    <a:lnTo>
                      <a:pt x="52" y="20"/>
                    </a:lnTo>
                    <a:lnTo>
                      <a:pt x="31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053840" y="5996520"/>
                <a:ext cx="56160" cy="86400"/>
              </a:xfrm>
              <a:custGeom>
                <a:avLst/>
                <a:gdLst/>
                <a:ahLst/>
                <a:rect l="l" t="t" r="r" b="b"/>
                <a:pathLst>
                  <a:path w="41" h="52">
                    <a:moveTo>
                      <a:pt x="0" y="21"/>
                    </a:moveTo>
                    <a:lnTo>
                      <a:pt x="21" y="42"/>
                    </a:lnTo>
                    <a:lnTo>
                      <a:pt x="21" y="52"/>
                    </a:lnTo>
                    <a:lnTo>
                      <a:pt x="31" y="42"/>
                    </a:lnTo>
                    <a:lnTo>
                      <a:pt x="41" y="21"/>
                    </a:lnTo>
                    <a:lnTo>
                      <a:pt x="21" y="0"/>
                    </a:lnTo>
                    <a:lnTo>
                      <a:pt x="0" y="31"/>
                    </a:lnTo>
                    <a:lnTo>
                      <a:pt x="10" y="31"/>
                    </a:lnTo>
                    <a:lnTo>
                      <a:pt x="1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110000" y="5928480"/>
                <a:ext cx="57240" cy="6804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0" y="20"/>
                    </a:moveTo>
                    <a:lnTo>
                      <a:pt x="21" y="41"/>
                    </a:lnTo>
                    <a:lnTo>
                      <a:pt x="42" y="20"/>
                    </a:lnTo>
                    <a:lnTo>
                      <a:pt x="21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152120" y="5842080"/>
                <a:ext cx="57600" cy="6804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0" y="31"/>
                    </a:moveTo>
                    <a:lnTo>
                      <a:pt x="32" y="41"/>
                    </a:lnTo>
                    <a:lnTo>
                      <a:pt x="42" y="10"/>
                    </a:lnTo>
                    <a:lnTo>
                      <a:pt x="11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196040" y="5739120"/>
                <a:ext cx="55800" cy="680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0" y="31"/>
                    </a:moveTo>
                    <a:lnTo>
                      <a:pt x="31" y="41"/>
                    </a:lnTo>
                    <a:lnTo>
                      <a:pt x="31" y="41"/>
                    </a:lnTo>
                    <a:lnTo>
                      <a:pt x="41" y="10"/>
                    </a:lnTo>
                    <a:lnTo>
                      <a:pt x="10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209720" y="5652720"/>
                <a:ext cx="57240" cy="6804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0" y="31"/>
                    </a:moveTo>
                    <a:lnTo>
                      <a:pt x="31" y="41"/>
                    </a:lnTo>
                    <a:lnTo>
                      <a:pt x="42" y="10"/>
                    </a:lnTo>
                    <a:lnTo>
                      <a:pt x="10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238520" y="554976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238520" y="5445000"/>
                <a:ext cx="56160" cy="5148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0" y="31"/>
                    </a:moveTo>
                    <a:lnTo>
                      <a:pt x="31" y="31"/>
                    </a:lnTo>
                    <a:lnTo>
                      <a:pt x="41" y="21"/>
                    </a:lnTo>
                    <a:lnTo>
                      <a:pt x="41" y="0"/>
                    </a:lnTo>
                    <a:lnTo>
                      <a:pt x="10" y="0"/>
                    </a:lnTo>
                    <a:lnTo>
                      <a:pt x="10" y="2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252200" y="534204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252200" y="52390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252200" y="51361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252200" y="5031360"/>
                <a:ext cx="42480" cy="52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252200" y="492840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252200" y="48250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252200" y="47224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252200" y="4619520"/>
                <a:ext cx="42480" cy="5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252200" y="451476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252200" y="441144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252200" y="430884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252200" y="4205880"/>
                <a:ext cx="42480" cy="5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252200" y="4101120"/>
                <a:ext cx="42480" cy="52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252200" y="399780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252200" y="389520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252200" y="3792240"/>
                <a:ext cx="42480" cy="5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252200" y="3688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252200" y="358416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252200" y="348156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252200" y="3378600"/>
                <a:ext cx="42480" cy="5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252200" y="327528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252200" y="3170520"/>
                <a:ext cx="42480" cy="52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252200" y="306756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252200" y="2964960"/>
                <a:ext cx="42480" cy="5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252200" y="286164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252200" y="2758680"/>
                <a:ext cx="42480" cy="5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252200" y="2653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252200" y="2551320"/>
                <a:ext cx="42480" cy="5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252200" y="244800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252200" y="2345040"/>
                <a:ext cx="42480" cy="5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238520" y="2240280"/>
                <a:ext cx="56160" cy="5148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10" y="31"/>
                    </a:moveTo>
                    <a:lnTo>
                      <a:pt x="41" y="31"/>
                    </a:lnTo>
                    <a:lnTo>
                      <a:pt x="41" y="21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10" y="21"/>
                    </a:lnTo>
                    <a:lnTo>
                      <a:pt x="1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238520" y="21373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209720" y="2034360"/>
                <a:ext cx="57240" cy="6804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10" y="41"/>
                    </a:moveTo>
                    <a:lnTo>
                      <a:pt x="42" y="31"/>
                    </a:lnTo>
                    <a:lnTo>
                      <a:pt x="31" y="0"/>
                    </a:lnTo>
                    <a:lnTo>
                      <a:pt x="0" y="10"/>
                    </a:lnTo>
                    <a:lnTo>
                      <a:pt x="1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180920" y="1931400"/>
                <a:ext cx="57240" cy="676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11" y="41"/>
                    </a:moveTo>
                    <a:lnTo>
                      <a:pt x="42" y="31"/>
                    </a:lnTo>
                    <a:lnTo>
                      <a:pt x="42" y="10"/>
                    </a:lnTo>
                    <a:lnTo>
                      <a:pt x="31" y="0"/>
                    </a:lnTo>
                    <a:lnTo>
                      <a:pt x="0" y="10"/>
                    </a:lnTo>
                    <a:lnTo>
                      <a:pt x="11" y="20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152120" y="1845000"/>
                <a:ext cx="57600" cy="6804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11" y="41"/>
                    </a:moveTo>
                    <a:lnTo>
                      <a:pt x="42" y="31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110000" y="1758600"/>
                <a:ext cx="42120" cy="6804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11" y="41"/>
                    </a:moveTo>
                    <a:lnTo>
                      <a:pt x="31" y="21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053840" y="1672200"/>
                <a:ext cx="56160" cy="6948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1" y="42"/>
                    </a:moveTo>
                    <a:lnTo>
                      <a:pt x="41" y="21"/>
                    </a:lnTo>
                    <a:lnTo>
                      <a:pt x="31" y="1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10" y="31"/>
                    </a:lnTo>
                    <a:lnTo>
                      <a:pt x="10" y="21"/>
                    </a:lnTo>
                    <a:lnTo>
                      <a:pt x="0" y="21"/>
                    </a:lnTo>
                    <a:lnTo>
                      <a:pt x="2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982560" y="1604160"/>
                <a:ext cx="55800" cy="680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1" y="41"/>
                    </a:moveTo>
                    <a:lnTo>
                      <a:pt x="41" y="2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2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911280" y="1552320"/>
                <a:ext cx="57600" cy="6804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31" y="41"/>
                    </a:moveTo>
                    <a:lnTo>
                      <a:pt x="42" y="10"/>
                    </a:lnTo>
                    <a:lnTo>
                      <a:pt x="10" y="0"/>
                    </a:lnTo>
                    <a:lnTo>
                      <a:pt x="0" y="31"/>
                    </a:lnTo>
                    <a:lnTo>
                      <a:pt x="3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40000" y="1499400"/>
                <a:ext cx="57240" cy="6948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1" y="42"/>
                    </a:moveTo>
                    <a:lnTo>
                      <a:pt x="42" y="11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0" y="32"/>
                    </a:lnTo>
                    <a:lnTo>
                      <a:pt x="11" y="32"/>
                    </a:lnTo>
                    <a:lnTo>
                      <a:pt x="3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755400" y="1466280"/>
                <a:ext cx="55800" cy="680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1" y="41"/>
                    </a:moveTo>
                    <a:lnTo>
                      <a:pt x="41" y="10"/>
                    </a:lnTo>
                    <a:lnTo>
                      <a:pt x="10" y="0"/>
                    </a:lnTo>
                    <a:lnTo>
                      <a:pt x="0" y="31"/>
                    </a:lnTo>
                    <a:lnTo>
                      <a:pt x="3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68412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59916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51420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428160" y="144792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34320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25824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172200" y="1447920"/>
                <a:ext cx="4356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087240" y="144792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00228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91768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831280" y="1447920"/>
                <a:ext cx="4356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746320" y="144792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66136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57676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49036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405760" y="144792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32044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23584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14944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064840" y="144792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97988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893480" y="1447920"/>
                <a:ext cx="4356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80852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723920" y="144792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63896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552560" y="1447920"/>
                <a:ext cx="4356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46796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383000" y="144792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29804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211640" y="1447920"/>
                <a:ext cx="4356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12704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042080" y="144792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712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87072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78612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701520" y="1447920"/>
                <a:ext cx="4212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61620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53016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44520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36024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274200" y="1447920"/>
                <a:ext cx="4356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18924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10428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019320" y="1447920"/>
                <a:ext cx="42480" cy="5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2933280" y="1447920"/>
              <a:ext cx="43560" cy="5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848320" y="1447920"/>
              <a:ext cx="42480" cy="5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763720" y="1447920"/>
              <a:ext cx="42480" cy="5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678400" y="1447920"/>
              <a:ext cx="42480" cy="5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2266920" y="2236680"/>
            <a:ext cx="851040" cy="584280"/>
          </a:xfrm>
          <a:custGeom>
            <a:avLst/>
            <a:gdLst/>
            <a:ahLst/>
            <a:rect l="l" t="t" r="r" b="b"/>
            <a:pathLst>
              <a:path w="60" h="36">
                <a:moveTo>
                  <a:pt x="6" y="0"/>
                </a:moveTo>
                <a:cubicBezTo>
                  <a:pt x="3" y="0"/>
                  <a:pt x="0" y="3"/>
                  <a:pt x="0" y="6"/>
                </a:cubicBezTo>
                <a:lnTo>
                  <a:pt x="0" y="30"/>
                </a:lnTo>
                <a:cubicBezTo>
                  <a:pt x="0" y="33"/>
                  <a:pt x="3" y="36"/>
                  <a:pt x="6" y="36"/>
                </a:cubicBezTo>
                <a:lnTo>
                  <a:pt x="54" y="36"/>
                </a:lnTo>
                <a:cubicBezTo>
                  <a:pt x="57" y="36"/>
                  <a:pt x="60" y="33"/>
                  <a:pt x="60" y="30"/>
                </a:cubicBezTo>
                <a:lnTo>
                  <a:pt x="60" y="6"/>
                </a:lnTo>
                <a:cubicBezTo>
                  <a:pt x="60" y="3"/>
                  <a:pt x="57" y="0"/>
                  <a:pt x="54" y="0"/>
                </a:cubicBez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06240" y="23018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634840" y="25448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994280" y="1720800"/>
            <a:ext cx="851040" cy="581040"/>
          </a:xfrm>
          <a:custGeom>
            <a:avLst/>
            <a:gdLst/>
            <a:ahLst/>
            <a:rect l="l" t="t" r="r" b="b"/>
            <a:pathLst>
              <a:path w="60" h="36">
                <a:moveTo>
                  <a:pt x="6" y="0"/>
                </a:moveTo>
                <a:cubicBezTo>
                  <a:pt x="3" y="0"/>
                  <a:pt x="0" y="3"/>
                  <a:pt x="0" y="6"/>
                </a:cubicBezTo>
                <a:lnTo>
                  <a:pt x="0" y="30"/>
                </a:lnTo>
                <a:cubicBezTo>
                  <a:pt x="0" y="33"/>
                  <a:pt x="3" y="36"/>
                  <a:pt x="6" y="36"/>
                </a:cubicBezTo>
                <a:lnTo>
                  <a:pt x="54" y="36"/>
                </a:lnTo>
                <a:cubicBezTo>
                  <a:pt x="57" y="36"/>
                  <a:pt x="60" y="33"/>
                  <a:pt x="60" y="30"/>
                </a:cubicBezTo>
                <a:lnTo>
                  <a:pt x="60" y="6"/>
                </a:lnTo>
                <a:cubicBezTo>
                  <a:pt x="60" y="3"/>
                  <a:pt x="57" y="0"/>
                  <a:pt x="54" y="0"/>
                </a:cubicBez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149440" y="17845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61840" y="2027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73920" y="2236680"/>
            <a:ext cx="850680" cy="584280"/>
          </a:xfrm>
          <a:custGeom>
            <a:avLst/>
            <a:gdLst/>
            <a:ahLst/>
            <a:rect l="l" t="t" r="r" b="b"/>
            <a:pathLst>
              <a:path w="60" h="36">
                <a:moveTo>
                  <a:pt x="6" y="0"/>
                </a:moveTo>
                <a:cubicBezTo>
                  <a:pt x="3" y="0"/>
                  <a:pt x="0" y="3"/>
                  <a:pt x="0" y="6"/>
                </a:cubicBezTo>
                <a:lnTo>
                  <a:pt x="0" y="30"/>
                </a:lnTo>
                <a:cubicBezTo>
                  <a:pt x="0" y="33"/>
                  <a:pt x="3" y="36"/>
                  <a:pt x="6" y="36"/>
                </a:cubicBezTo>
                <a:lnTo>
                  <a:pt x="54" y="36"/>
                </a:lnTo>
                <a:cubicBezTo>
                  <a:pt x="57" y="36"/>
                  <a:pt x="60" y="33"/>
                  <a:pt x="60" y="30"/>
                </a:cubicBezTo>
                <a:lnTo>
                  <a:pt x="60" y="6"/>
                </a:lnTo>
                <a:cubicBezTo>
                  <a:pt x="60" y="3"/>
                  <a:pt x="57" y="0"/>
                  <a:pt x="54" y="0"/>
                </a:cubicBez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229080" y="23018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443280" y="25448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3117960" y="2544840"/>
            <a:ext cx="2955600" cy="159840"/>
            <a:chOff x="3117960" y="2544840"/>
            <a:chExt cx="2955600" cy="159840"/>
          </a:xfrm>
        </p:grpSpPr>
        <p:sp>
          <p:nvSpPr>
            <p:cNvPr id="1192" name=""/>
            <p:cNvSpPr/>
            <p:nvPr/>
          </p:nvSpPr>
          <p:spPr>
            <a:xfrm>
              <a:off x="3204000" y="2624040"/>
              <a:ext cx="27846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117960" y="2544840"/>
              <a:ext cx="113400" cy="14436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83" y="0"/>
                  </a:moveTo>
                  <a:lnTo>
                    <a:pt x="0" y="51"/>
                  </a:lnTo>
                  <a:lnTo>
                    <a:pt x="83" y="9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960160" y="2560320"/>
              <a:ext cx="113400" cy="14436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0" y="93"/>
                  </a:moveTo>
                  <a:lnTo>
                    <a:pt x="83" y="41"/>
                  </a:lnTo>
                  <a:lnTo>
                    <a:pt x="0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"/>
          <p:cNvSpPr/>
          <p:nvPr/>
        </p:nvSpPr>
        <p:spPr>
          <a:xfrm>
            <a:off x="4013280" y="4187880"/>
            <a:ext cx="142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666880" y="2819520"/>
            <a:ext cx="1360080" cy="1464840"/>
            <a:chOff x="2666880" y="2819520"/>
            <a:chExt cx="1360080" cy="1464840"/>
          </a:xfrm>
        </p:grpSpPr>
        <p:sp>
          <p:nvSpPr>
            <p:cNvPr id="1197" name=""/>
            <p:cNvSpPr/>
            <p:nvPr/>
          </p:nvSpPr>
          <p:spPr>
            <a:xfrm>
              <a:off x="2747880" y="2910960"/>
              <a:ext cx="64080" cy="723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0" y="0"/>
                  </a:moveTo>
                  <a:lnTo>
                    <a:pt x="0" y="20"/>
                  </a:lnTo>
                  <a:lnTo>
                    <a:pt x="20" y="41"/>
                  </a:lnTo>
                  <a:lnTo>
                    <a:pt x="41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811960" y="2983320"/>
              <a:ext cx="81360" cy="7380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21" y="0"/>
                  </a:moveTo>
                  <a:lnTo>
                    <a:pt x="0" y="21"/>
                  </a:lnTo>
                  <a:lnTo>
                    <a:pt x="31" y="42"/>
                  </a:lnTo>
                  <a:lnTo>
                    <a:pt x="52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893320" y="3057480"/>
              <a:ext cx="65520" cy="723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1" y="0"/>
                  </a:moveTo>
                  <a:lnTo>
                    <a:pt x="0" y="20"/>
                  </a:lnTo>
                  <a:lnTo>
                    <a:pt x="21" y="41"/>
                  </a:lnTo>
                  <a:lnTo>
                    <a:pt x="42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958840" y="3129840"/>
              <a:ext cx="64080" cy="738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0" y="0"/>
                  </a:moveTo>
                  <a:lnTo>
                    <a:pt x="0" y="21"/>
                  </a:lnTo>
                  <a:lnTo>
                    <a:pt x="20" y="42"/>
                  </a:lnTo>
                  <a:lnTo>
                    <a:pt x="41" y="2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022920" y="3204000"/>
              <a:ext cx="81000" cy="90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1" y="0"/>
                  </a:moveTo>
                  <a:lnTo>
                    <a:pt x="0" y="20"/>
                  </a:lnTo>
                  <a:lnTo>
                    <a:pt x="31" y="51"/>
                  </a:lnTo>
                  <a:lnTo>
                    <a:pt x="52" y="3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104280" y="3294000"/>
              <a:ext cx="64080" cy="738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0" y="21"/>
                  </a:lnTo>
                  <a:lnTo>
                    <a:pt x="21" y="42"/>
                  </a:lnTo>
                  <a:lnTo>
                    <a:pt x="41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168360" y="3368160"/>
              <a:ext cx="65520" cy="723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1" y="0"/>
                  </a:moveTo>
                  <a:lnTo>
                    <a:pt x="0" y="21"/>
                  </a:lnTo>
                  <a:lnTo>
                    <a:pt x="21" y="41"/>
                  </a:lnTo>
                  <a:lnTo>
                    <a:pt x="42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49360" y="3440520"/>
              <a:ext cx="65520" cy="738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1" y="0"/>
                  </a:moveTo>
                  <a:lnTo>
                    <a:pt x="0" y="21"/>
                  </a:lnTo>
                  <a:lnTo>
                    <a:pt x="21" y="42"/>
                  </a:lnTo>
                  <a:lnTo>
                    <a:pt x="42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314880" y="3514680"/>
              <a:ext cx="64080" cy="723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0" y="21"/>
                  </a:lnTo>
                  <a:lnTo>
                    <a:pt x="21" y="41"/>
                  </a:lnTo>
                  <a:lnTo>
                    <a:pt x="41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78960" y="3587040"/>
              <a:ext cx="65520" cy="738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1" y="0"/>
                  </a:moveTo>
                  <a:lnTo>
                    <a:pt x="0" y="21"/>
                  </a:lnTo>
                  <a:lnTo>
                    <a:pt x="21" y="42"/>
                  </a:lnTo>
                  <a:lnTo>
                    <a:pt x="42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59960" y="3661200"/>
              <a:ext cx="65520" cy="723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1" y="0"/>
                  </a:moveTo>
                  <a:lnTo>
                    <a:pt x="0" y="21"/>
                  </a:lnTo>
                  <a:lnTo>
                    <a:pt x="21" y="41"/>
                  </a:lnTo>
                  <a:lnTo>
                    <a:pt x="42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25480" y="3733560"/>
              <a:ext cx="64080" cy="738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0" y="21"/>
                  </a:lnTo>
                  <a:lnTo>
                    <a:pt x="21" y="42"/>
                  </a:lnTo>
                  <a:lnTo>
                    <a:pt x="41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589560" y="3807720"/>
              <a:ext cx="81360" cy="723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21" y="0"/>
                  </a:moveTo>
                  <a:lnTo>
                    <a:pt x="0" y="21"/>
                  </a:lnTo>
                  <a:lnTo>
                    <a:pt x="31" y="41"/>
                  </a:lnTo>
                  <a:lnTo>
                    <a:pt x="52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671280" y="3899880"/>
              <a:ext cx="65520" cy="7200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1" y="0"/>
                  </a:moveTo>
                  <a:lnTo>
                    <a:pt x="0" y="20"/>
                  </a:lnTo>
                  <a:lnTo>
                    <a:pt x="21" y="41"/>
                  </a:lnTo>
                  <a:lnTo>
                    <a:pt x="42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736800" y="3971880"/>
              <a:ext cx="64080" cy="7416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0" y="0"/>
                  </a:moveTo>
                  <a:lnTo>
                    <a:pt x="0" y="21"/>
                  </a:lnTo>
                  <a:lnTo>
                    <a:pt x="20" y="42"/>
                  </a:lnTo>
                  <a:lnTo>
                    <a:pt x="41" y="2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800880" y="4046400"/>
              <a:ext cx="81000" cy="7200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21" y="0"/>
                  </a:moveTo>
                  <a:lnTo>
                    <a:pt x="0" y="20"/>
                  </a:lnTo>
                  <a:lnTo>
                    <a:pt x="31" y="41"/>
                  </a:lnTo>
                  <a:lnTo>
                    <a:pt x="52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881880" y="4118400"/>
              <a:ext cx="65520" cy="741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1" y="0"/>
                  </a:moveTo>
                  <a:lnTo>
                    <a:pt x="0" y="21"/>
                  </a:lnTo>
                  <a:lnTo>
                    <a:pt x="21" y="42"/>
                  </a:lnTo>
                  <a:lnTo>
                    <a:pt x="42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666880" y="2819520"/>
              <a:ext cx="193680" cy="201240"/>
            </a:xfrm>
            <a:custGeom>
              <a:avLst/>
              <a:gdLst/>
              <a:ahLst/>
              <a:rect l="l" t="t" r="r" b="b"/>
              <a:pathLst>
                <a:path w="124" h="114">
                  <a:moveTo>
                    <a:pt x="124" y="41"/>
                  </a:moveTo>
                  <a:lnTo>
                    <a:pt x="0" y="0"/>
                  </a:lnTo>
                  <a:lnTo>
                    <a:pt x="41" y="114"/>
                  </a:lnTo>
                  <a:lnTo>
                    <a:pt x="12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833280" y="4081680"/>
              <a:ext cx="193680" cy="20268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0" y="73"/>
                  </a:moveTo>
                  <a:lnTo>
                    <a:pt x="124" y="115"/>
                  </a:lnTo>
                  <a:lnTo>
                    <a:pt x="83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3117960" y="1995480"/>
            <a:ext cx="1875960" cy="420480"/>
            <a:chOff x="3117960" y="1995480"/>
            <a:chExt cx="1875960" cy="420480"/>
          </a:xfrm>
        </p:grpSpPr>
        <p:sp>
          <p:nvSpPr>
            <p:cNvPr id="1217" name=""/>
            <p:cNvSpPr/>
            <p:nvPr/>
          </p:nvSpPr>
          <p:spPr>
            <a:xfrm flipV="1">
              <a:off x="3204000" y="2058840"/>
              <a:ext cx="1704960" cy="291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117960" y="2269440"/>
              <a:ext cx="113400" cy="146520"/>
            </a:xfrm>
            <a:custGeom>
              <a:avLst/>
              <a:gdLst/>
              <a:ahLst/>
              <a:rect l="l" t="t" r="r" b="b"/>
              <a:pathLst>
                <a:path w="83" h="94">
                  <a:moveTo>
                    <a:pt x="73" y="0"/>
                  </a:moveTo>
                  <a:lnTo>
                    <a:pt x="0" y="62"/>
                  </a:lnTo>
                  <a:lnTo>
                    <a:pt x="83" y="9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80520" y="1995480"/>
              <a:ext cx="113400" cy="14472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10" y="93"/>
                  </a:moveTo>
                  <a:lnTo>
                    <a:pt x="83" y="31"/>
                  </a:lnTo>
                  <a:lnTo>
                    <a:pt x="0" y="0"/>
                  </a:lnTo>
                  <a:lnTo>
                    <a:pt x="1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4879800" y="2286000"/>
            <a:ext cx="453960" cy="1933200"/>
            <a:chOff x="4879800" y="2286000"/>
            <a:chExt cx="453960" cy="1933200"/>
          </a:xfrm>
        </p:grpSpPr>
        <p:sp>
          <p:nvSpPr>
            <p:cNvPr id="1221" name=""/>
            <p:cNvSpPr/>
            <p:nvPr/>
          </p:nvSpPr>
          <p:spPr>
            <a:xfrm>
              <a:off x="5220360" y="2446200"/>
              <a:ext cx="57600" cy="5328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42" y="11"/>
                  </a:moveTo>
                  <a:lnTo>
                    <a:pt x="11" y="0"/>
                  </a:lnTo>
                  <a:lnTo>
                    <a:pt x="0" y="21"/>
                  </a:lnTo>
                  <a:lnTo>
                    <a:pt x="31" y="31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06680" y="2535840"/>
              <a:ext cx="42480" cy="7236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31" y="11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1" y="42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178240" y="2643120"/>
              <a:ext cx="57240" cy="723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11"/>
                  </a:moveTo>
                  <a:lnTo>
                    <a:pt x="10" y="0"/>
                  </a:lnTo>
                  <a:lnTo>
                    <a:pt x="0" y="32"/>
                  </a:lnTo>
                  <a:lnTo>
                    <a:pt x="31" y="42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164200" y="2751840"/>
              <a:ext cx="56160" cy="705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10"/>
                  </a:moveTo>
                  <a:lnTo>
                    <a:pt x="10" y="0"/>
                  </a:lnTo>
                  <a:lnTo>
                    <a:pt x="0" y="31"/>
                  </a:lnTo>
                  <a:lnTo>
                    <a:pt x="31" y="41"/>
                  </a:lnTo>
                  <a:lnTo>
                    <a:pt x="4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49440" y="2859120"/>
              <a:ext cx="42480" cy="7056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1" y="1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1" y="41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22080" y="2965680"/>
              <a:ext cx="56160" cy="7236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41" y="10"/>
                  </a:moveTo>
                  <a:lnTo>
                    <a:pt x="10" y="0"/>
                  </a:lnTo>
                  <a:lnTo>
                    <a:pt x="0" y="31"/>
                  </a:lnTo>
                  <a:lnTo>
                    <a:pt x="31" y="42"/>
                  </a:lnTo>
                  <a:lnTo>
                    <a:pt x="4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106960" y="3072960"/>
              <a:ext cx="57240" cy="723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11"/>
                  </a:moveTo>
                  <a:lnTo>
                    <a:pt x="11" y="0"/>
                  </a:lnTo>
                  <a:lnTo>
                    <a:pt x="0" y="31"/>
                  </a:lnTo>
                  <a:lnTo>
                    <a:pt x="31" y="42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093280" y="3162600"/>
              <a:ext cx="42480" cy="7236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31" y="11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1" y="42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064480" y="3269520"/>
              <a:ext cx="57240" cy="727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11"/>
                  </a:moveTo>
                  <a:lnTo>
                    <a:pt x="10" y="0"/>
                  </a:lnTo>
                  <a:lnTo>
                    <a:pt x="0" y="31"/>
                  </a:lnTo>
                  <a:lnTo>
                    <a:pt x="31" y="42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050800" y="3378600"/>
              <a:ext cx="56160" cy="705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10"/>
                  </a:moveTo>
                  <a:lnTo>
                    <a:pt x="10" y="0"/>
                  </a:lnTo>
                  <a:lnTo>
                    <a:pt x="0" y="31"/>
                  </a:lnTo>
                  <a:lnTo>
                    <a:pt x="31" y="41"/>
                  </a:lnTo>
                  <a:lnTo>
                    <a:pt x="4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035680" y="3485880"/>
              <a:ext cx="42480" cy="7020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1" y="1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1" y="41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022000" y="3592440"/>
              <a:ext cx="42480" cy="7236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31" y="1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1" y="42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993200" y="3699360"/>
              <a:ext cx="57240" cy="727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11"/>
                  </a:moveTo>
                  <a:lnTo>
                    <a:pt x="11" y="0"/>
                  </a:lnTo>
                  <a:lnTo>
                    <a:pt x="0" y="31"/>
                  </a:lnTo>
                  <a:lnTo>
                    <a:pt x="31" y="42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979520" y="3806640"/>
              <a:ext cx="56160" cy="7236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41" y="11"/>
                  </a:moveTo>
                  <a:lnTo>
                    <a:pt x="10" y="0"/>
                  </a:lnTo>
                  <a:lnTo>
                    <a:pt x="0" y="32"/>
                  </a:lnTo>
                  <a:lnTo>
                    <a:pt x="31" y="42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964760" y="3896280"/>
              <a:ext cx="43560" cy="7236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32" y="11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2" y="42"/>
                  </a:lnTo>
                  <a:lnTo>
                    <a:pt x="3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951080" y="4005360"/>
              <a:ext cx="42120" cy="7056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1" y="1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1" y="41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178240" y="2286000"/>
              <a:ext cx="155520" cy="213840"/>
            </a:xfrm>
            <a:custGeom>
              <a:avLst/>
              <a:gdLst/>
              <a:ahLst/>
              <a:rect l="l" t="t" r="r" b="b"/>
              <a:pathLst>
                <a:path w="114" h="124">
                  <a:moveTo>
                    <a:pt x="114" y="124"/>
                  </a:moveTo>
                  <a:lnTo>
                    <a:pt x="73" y="0"/>
                  </a:lnTo>
                  <a:lnTo>
                    <a:pt x="0" y="104"/>
                  </a:lnTo>
                  <a:lnTo>
                    <a:pt x="114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879800" y="4005360"/>
              <a:ext cx="155880" cy="213840"/>
            </a:xfrm>
            <a:custGeom>
              <a:avLst/>
              <a:gdLst/>
              <a:ahLst/>
              <a:rect l="l" t="t" r="r" b="b"/>
              <a:pathLst>
                <a:path w="114" h="124">
                  <a:moveTo>
                    <a:pt x="0" y="0"/>
                  </a:moveTo>
                  <a:lnTo>
                    <a:pt x="42" y="124"/>
                  </a:lnTo>
                  <a:lnTo>
                    <a:pt x="114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5051520" y="2819520"/>
            <a:ext cx="1348920" cy="1464840"/>
            <a:chOff x="5051520" y="2819520"/>
            <a:chExt cx="1348920" cy="1464840"/>
          </a:xfrm>
        </p:grpSpPr>
        <p:sp>
          <p:nvSpPr>
            <p:cNvPr id="1240" name=""/>
            <p:cNvSpPr/>
            <p:nvPr/>
          </p:nvSpPr>
          <p:spPr>
            <a:xfrm>
              <a:off x="6274440" y="2892960"/>
              <a:ext cx="50760" cy="7092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2" y="31"/>
                  </a:moveTo>
                  <a:lnTo>
                    <a:pt x="31" y="0"/>
                  </a:lnTo>
                  <a:lnTo>
                    <a:pt x="0" y="10"/>
                  </a:lnTo>
                  <a:lnTo>
                    <a:pt x="11" y="41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211080" y="2946600"/>
              <a:ext cx="51120" cy="9072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31"/>
                  </a:moveTo>
                  <a:lnTo>
                    <a:pt x="31" y="0"/>
                  </a:lnTo>
                  <a:lnTo>
                    <a:pt x="0" y="21"/>
                  </a:lnTo>
                  <a:lnTo>
                    <a:pt x="11" y="52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161400" y="3019680"/>
              <a:ext cx="37440" cy="8856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31"/>
                  </a:moveTo>
                  <a:lnTo>
                    <a:pt x="21" y="0"/>
                  </a:lnTo>
                  <a:lnTo>
                    <a:pt x="0" y="20"/>
                  </a:lnTo>
                  <a:lnTo>
                    <a:pt x="10" y="5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98040" y="3073680"/>
              <a:ext cx="37440" cy="9036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31" y="31"/>
                  </a:moveTo>
                  <a:lnTo>
                    <a:pt x="21" y="0"/>
                  </a:lnTo>
                  <a:lnTo>
                    <a:pt x="0" y="20"/>
                  </a:lnTo>
                  <a:lnTo>
                    <a:pt x="10" y="52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035040" y="3145320"/>
              <a:ext cx="37440" cy="9036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31" y="31"/>
                  </a:moveTo>
                  <a:lnTo>
                    <a:pt x="21" y="0"/>
                  </a:lnTo>
                  <a:lnTo>
                    <a:pt x="0" y="21"/>
                  </a:lnTo>
                  <a:lnTo>
                    <a:pt x="10" y="52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971680" y="3218400"/>
              <a:ext cx="50760" cy="8856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42" y="31"/>
                  </a:moveTo>
                  <a:lnTo>
                    <a:pt x="31" y="0"/>
                  </a:lnTo>
                  <a:lnTo>
                    <a:pt x="0" y="20"/>
                  </a:lnTo>
                  <a:lnTo>
                    <a:pt x="11" y="51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922000" y="3272400"/>
              <a:ext cx="37440" cy="9036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31" y="31"/>
                  </a:moveTo>
                  <a:lnTo>
                    <a:pt x="20" y="0"/>
                  </a:lnTo>
                  <a:lnTo>
                    <a:pt x="0" y="20"/>
                  </a:lnTo>
                  <a:lnTo>
                    <a:pt x="10" y="52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858640" y="3344040"/>
              <a:ext cx="37440" cy="9036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31" y="31"/>
                  </a:moveTo>
                  <a:lnTo>
                    <a:pt x="21" y="0"/>
                  </a:lnTo>
                  <a:lnTo>
                    <a:pt x="0" y="21"/>
                  </a:lnTo>
                  <a:lnTo>
                    <a:pt x="10" y="52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5280" y="3417120"/>
              <a:ext cx="37440" cy="7128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1" y="31"/>
                  </a:moveTo>
                  <a:lnTo>
                    <a:pt x="21" y="0"/>
                  </a:lnTo>
                  <a:lnTo>
                    <a:pt x="0" y="10"/>
                  </a:lnTo>
                  <a:lnTo>
                    <a:pt x="10" y="4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32280" y="3471120"/>
              <a:ext cx="50760" cy="9036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31"/>
                  </a:moveTo>
                  <a:lnTo>
                    <a:pt x="31" y="0"/>
                  </a:lnTo>
                  <a:lnTo>
                    <a:pt x="0" y="21"/>
                  </a:lnTo>
                  <a:lnTo>
                    <a:pt x="10" y="52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668920" y="3542400"/>
              <a:ext cx="50760" cy="9072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31"/>
                  </a:moveTo>
                  <a:lnTo>
                    <a:pt x="31" y="0"/>
                  </a:lnTo>
                  <a:lnTo>
                    <a:pt x="0" y="21"/>
                  </a:lnTo>
                  <a:lnTo>
                    <a:pt x="11" y="52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19240" y="3615840"/>
              <a:ext cx="37440" cy="7092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1" y="31"/>
                  </a:moveTo>
                  <a:lnTo>
                    <a:pt x="20" y="0"/>
                  </a:lnTo>
                  <a:lnTo>
                    <a:pt x="0" y="10"/>
                  </a:lnTo>
                  <a:lnTo>
                    <a:pt x="10" y="4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56240" y="3669480"/>
              <a:ext cx="37440" cy="9072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31" y="31"/>
                  </a:moveTo>
                  <a:lnTo>
                    <a:pt x="20" y="0"/>
                  </a:lnTo>
                  <a:lnTo>
                    <a:pt x="0" y="21"/>
                  </a:lnTo>
                  <a:lnTo>
                    <a:pt x="10" y="52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92520" y="3741120"/>
              <a:ext cx="49680" cy="90360"/>
            </a:xfrm>
            <a:custGeom>
              <a:avLst/>
              <a:gdLst/>
              <a:ahLst/>
              <a:rect l="l" t="t" r="r" b="b"/>
              <a:pathLst>
                <a:path w="41" h="52">
                  <a:moveTo>
                    <a:pt x="41" y="31"/>
                  </a:moveTo>
                  <a:lnTo>
                    <a:pt x="31" y="0"/>
                  </a:lnTo>
                  <a:lnTo>
                    <a:pt x="0" y="21"/>
                  </a:lnTo>
                  <a:lnTo>
                    <a:pt x="10" y="52"/>
                  </a:lnTo>
                  <a:lnTo>
                    <a:pt x="4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429520" y="3795120"/>
              <a:ext cx="49680" cy="90360"/>
            </a:xfrm>
            <a:custGeom>
              <a:avLst/>
              <a:gdLst/>
              <a:ahLst/>
              <a:rect l="l" t="t" r="r" b="b"/>
              <a:pathLst>
                <a:path w="41" h="52">
                  <a:moveTo>
                    <a:pt x="41" y="32"/>
                  </a:moveTo>
                  <a:lnTo>
                    <a:pt x="31" y="0"/>
                  </a:lnTo>
                  <a:lnTo>
                    <a:pt x="0" y="21"/>
                  </a:lnTo>
                  <a:lnTo>
                    <a:pt x="10" y="52"/>
                  </a:lnTo>
                  <a:lnTo>
                    <a:pt x="4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378400" y="3868200"/>
              <a:ext cx="38520" cy="9036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2" y="31"/>
                  </a:moveTo>
                  <a:lnTo>
                    <a:pt x="21" y="0"/>
                  </a:lnTo>
                  <a:lnTo>
                    <a:pt x="0" y="21"/>
                  </a:lnTo>
                  <a:lnTo>
                    <a:pt x="11" y="52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316480" y="3939480"/>
              <a:ext cx="37440" cy="9036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31" y="32"/>
                  </a:moveTo>
                  <a:lnTo>
                    <a:pt x="20" y="0"/>
                  </a:lnTo>
                  <a:lnTo>
                    <a:pt x="0" y="21"/>
                  </a:lnTo>
                  <a:lnTo>
                    <a:pt x="10" y="5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253480" y="3995280"/>
              <a:ext cx="37440" cy="8856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31"/>
                  </a:moveTo>
                  <a:lnTo>
                    <a:pt x="20" y="0"/>
                  </a:lnTo>
                  <a:lnTo>
                    <a:pt x="0" y="20"/>
                  </a:lnTo>
                  <a:lnTo>
                    <a:pt x="10" y="5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190120" y="4066920"/>
              <a:ext cx="49680" cy="90360"/>
            </a:xfrm>
            <a:custGeom>
              <a:avLst/>
              <a:gdLst/>
              <a:ahLst/>
              <a:rect l="l" t="t" r="r" b="b"/>
              <a:pathLst>
                <a:path w="41" h="52">
                  <a:moveTo>
                    <a:pt x="41" y="31"/>
                  </a:moveTo>
                  <a:lnTo>
                    <a:pt x="31" y="0"/>
                  </a:lnTo>
                  <a:lnTo>
                    <a:pt x="0" y="21"/>
                  </a:lnTo>
                  <a:lnTo>
                    <a:pt x="10" y="52"/>
                  </a:lnTo>
                  <a:lnTo>
                    <a:pt x="4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39000" y="4140000"/>
              <a:ext cx="37440" cy="7128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1" y="31"/>
                  </a:moveTo>
                  <a:lnTo>
                    <a:pt x="21" y="0"/>
                  </a:lnTo>
                  <a:lnTo>
                    <a:pt x="0" y="10"/>
                  </a:lnTo>
                  <a:lnTo>
                    <a:pt x="11" y="4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48880" y="2819520"/>
              <a:ext cx="151560" cy="200160"/>
            </a:xfrm>
            <a:custGeom>
              <a:avLst/>
              <a:gdLst/>
              <a:ahLst/>
              <a:rect l="l" t="t" r="r" b="b"/>
              <a:pathLst>
                <a:path w="125" h="115">
                  <a:moveTo>
                    <a:pt x="73" y="115"/>
                  </a:moveTo>
                  <a:lnTo>
                    <a:pt x="125" y="0"/>
                  </a:lnTo>
                  <a:lnTo>
                    <a:pt x="0" y="32"/>
                  </a:lnTo>
                  <a:lnTo>
                    <a:pt x="73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051520" y="4084200"/>
              <a:ext cx="150480" cy="20016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52" y="0"/>
                  </a:moveTo>
                  <a:lnTo>
                    <a:pt x="0" y="115"/>
                  </a:lnTo>
                  <a:lnTo>
                    <a:pt x="124" y="8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1754280" y="3281400"/>
            <a:ext cx="5682960" cy="33120"/>
            <a:chOff x="1754280" y="3281400"/>
            <a:chExt cx="5682960" cy="33120"/>
          </a:xfrm>
        </p:grpSpPr>
        <p:sp>
          <p:nvSpPr>
            <p:cNvPr id="1263" name=""/>
            <p:cNvSpPr/>
            <p:nvPr/>
          </p:nvSpPr>
          <p:spPr>
            <a:xfrm>
              <a:off x="175428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95264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15244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35116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54952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74968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94804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14676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34512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54492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74328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94200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140360" y="3281400"/>
              <a:ext cx="11484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34052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53888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73760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3704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13576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33412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53284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3300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93136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12972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32952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2824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72660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92532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12512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323840" y="3281400"/>
              <a:ext cx="11340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214280" y="2951280"/>
            <a:ext cx="6238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285560" y="2995560"/>
            <a:ext cx="563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B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52800" y="4834080"/>
            <a:ext cx="207468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630600" y="4672080"/>
            <a:ext cx="668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699720" y="4721400"/>
            <a:ext cx="62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368960" y="5126040"/>
            <a:ext cx="668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438080" y="5425920"/>
            <a:ext cx="62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505480" y="4737240"/>
            <a:ext cx="73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601600" y="4786200"/>
            <a:ext cx="62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185840" y="2481120"/>
            <a:ext cx="1080720" cy="160200"/>
            <a:chOff x="1185840" y="2481120"/>
            <a:chExt cx="1080720" cy="160200"/>
          </a:xfrm>
        </p:grpSpPr>
        <p:sp>
          <p:nvSpPr>
            <p:cNvPr id="1302" name=""/>
            <p:cNvSpPr/>
            <p:nvPr/>
          </p:nvSpPr>
          <p:spPr>
            <a:xfrm flipH="1">
              <a:off x="1270080" y="2561400"/>
              <a:ext cx="90972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53160" y="2496240"/>
              <a:ext cx="113400" cy="145080"/>
            </a:xfrm>
            <a:custGeom>
              <a:avLst/>
              <a:gdLst/>
              <a:ahLst/>
              <a:rect l="l" t="t" r="r" b="b"/>
              <a:pathLst>
                <a:path w="83" h="94">
                  <a:moveTo>
                    <a:pt x="0" y="94"/>
                  </a:moveTo>
                  <a:lnTo>
                    <a:pt x="83" y="42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185840" y="2481120"/>
              <a:ext cx="113400" cy="14364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83" y="0"/>
                  </a:moveTo>
                  <a:lnTo>
                    <a:pt x="0" y="52"/>
                  </a:lnTo>
                  <a:lnTo>
                    <a:pt x="83" y="9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6924600" y="2608200"/>
            <a:ext cx="1080720" cy="163080"/>
            <a:chOff x="6924600" y="2608200"/>
            <a:chExt cx="1080720" cy="163080"/>
          </a:xfrm>
        </p:grpSpPr>
        <p:sp>
          <p:nvSpPr>
            <p:cNvPr id="1306" name=""/>
            <p:cNvSpPr/>
            <p:nvPr/>
          </p:nvSpPr>
          <p:spPr>
            <a:xfrm flipH="1">
              <a:off x="7010640" y="2689920"/>
              <a:ext cx="90936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891920" y="2623680"/>
              <a:ext cx="113400" cy="147600"/>
            </a:xfrm>
            <a:custGeom>
              <a:avLst/>
              <a:gdLst/>
              <a:ahLst/>
              <a:rect l="l" t="t" r="r" b="b"/>
              <a:pathLst>
                <a:path w="83" h="94">
                  <a:moveTo>
                    <a:pt x="0" y="94"/>
                  </a:moveTo>
                  <a:lnTo>
                    <a:pt x="83" y="42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924600" y="2608200"/>
              <a:ext cx="113400" cy="14616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83" y="0"/>
                  </a:moveTo>
                  <a:lnTo>
                    <a:pt x="0" y="52"/>
                  </a:lnTo>
                  <a:lnTo>
                    <a:pt x="83" y="9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5845320" y="1768320"/>
            <a:ext cx="2160000" cy="160200"/>
            <a:chOff x="5845320" y="1768320"/>
            <a:chExt cx="2160000" cy="160200"/>
          </a:xfrm>
        </p:grpSpPr>
        <p:sp>
          <p:nvSpPr>
            <p:cNvPr id="1310" name=""/>
            <p:cNvSpPr/>
            <p:nvPr/>
          </p:nvSpPr>
          <p:spPr>
            <a:xfrm flipH="1">
              <a:off x="5929560" y="1848960"/>
              <a:ext cx="199044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891920" y="1783800"/>
              <a:ext cx="113400" cy="14472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0" y="93"/>
                  </a:moveTo>
                  <a:lnTo>
                    <a:pt x="83" y="42"/>
                  </a:lnTo>
                  <a:lnTo>
                    <a:pt x="0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845320" y="1768320"/>
              <a:ext cx="113400" cy="14472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83" y="0"/>
                  </a:moveTo>
                  <a:lnTo>
                    <a:pt x="0" y="52"/>
                  </a:lnTo>
                  <a:lnTo>
                    <a:pt x="83" y="9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3" name=""/>
          <p:cNvSpPr/>
          <p:nvPr/>
        </p:nvSpPr>
        <p:spPr>
          <a:xfrm>
            <a:off x="4255920" y="2593800"/>
            <a:ext cx="7099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326120" y="2657520"/>
            <a:ext cx="6469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S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199040" y="5578560"/>
            <a:ext cx="950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190240" y="6283440"/>
            <a:ext cx="9151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IW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678040" y="1622520"/>
            <a:ext cx="23306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732760" y="1695600"/>
            <a:ext cx="2213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cal Call Inst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3984480" y="1461960"/>
            <a:ext cx="100080" cy="258480"/>
            <a:chOff x="3984480" y="1461960"/>
            <a:chExt cx="100080" cy="258480"/>
          </a:xfrm>
        </p:grpSpPr>
        <p:sp>
          <p:nvSpPr>
            <p:cNvPr id="1320" name=""/>
            <p:cNvSpPr/>
            <p:nvPr/>
          </p:nvSpPr>
          <p:spPr>
            <a:xfrm flipV="1">
              <a:off x="4026960" y="1542600"/>
              <a:ext cx="1080" cy="177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84480" y="1461960"/>
              <a:ext cx="100080" cy="11196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73" y="72"/>
                  </a:moveTo>
                  <a:lnTo>
                    <a:pt x="31" y="0"/>
                  </a:lnTo>
                  <a:lnTo>
                    <a:pt x="0" y="72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2095560" y="3701880"/>
            <a:ext cx="5071680" cy="2393640"/>
            <a:chOff x="2095560" y="3701880"/>
            <a:chExt cx="5071680" cy="2393640"/>
          </a:xfrm>
        </p:grpSpPr>
        <p:sp>
          <p:nvSpPr>
            <p:cNvPr id="1323" name=""/>
            <p:cNvSpPr/>
            <p:nvPr/>
          </p:nvSpPr>
          <p:spPr>
            <a:xfrm>
              <a:off x="2365200" y="3701880"/>
              <a:ext cx="57240" cy="1764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2" y="11"/>
                  </a:moveTo>
                  <a:lnTo>
                    <a:pt x="42" y="11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266560" y="3719520"/>
              <a:ext cx="56160" cy="3240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41" y="10"/>
                  </a:moveTo>
                  <a:lnTo>
                    <a:pt x="41" y="0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20" y="10"/>
                  </a:lnTo>
                  <a:lnTo>
                    <a:pt x="4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195280" y="3770280"/>
              <a:ext cx="42480" cy="507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0"/>
                  </a:moveTo>
                  <a:lnTo>
                    <a:pt x="31" y="0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124360" y="3853800"/>
              <a:ext cx="42120" cy="522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21" y="0"/>
                  </a:lnTo>
                  <a:lnTo>
                    <a:pt x="0" y="32"/>
                  </a:lnTo>
                  <a:lnTo>
                    <a:pt x="10" y="3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095560" y="3957120"/>
              <a:ext cx="28800" cy="6660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21" y="0"/>
                  </a:moveTo>
                  <a:lnTo>
                    <a:pt x="11" y="0"/>
                  </a:lnTo>
                  <a:lnTo>
                    <a:pt x="0" y="41"/>
                  </a:lnTo>
                  <a:lnTo>
                    <a:pt x="11" y="4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095560" y="4074840"/>
              <a:ext cx="14760" cy="684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11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0" y="42"/>
                  </a:lnTo>
                  <a:lnTo>
                    <a:pt x="11" y="42"/>
                  </a:lnTo>
                  <a:lnTo>
                    <a:pt x="11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095560" y="4194360"/>
              <a:ext cx="14760" cy="6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095560" y="4313880"/>
              <a:ext cx="14760" cy="6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095560" y="4431600"/>
              <a:ext cx="14760" cy="68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095560" y="4551480"/>
              <a:ext cx="14760" cy="6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095560" y="4669560"/>
              <a:ext cx="147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095560" y="4789080"/>
              <a:ext cx="14760" cy="6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95560" y="4906800"/>
              <a:ext cx="147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095560" y="5026320"/>
              <a:ext cx="147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095560" y="5145840"/>
              <a:ext cx="14760" cy="6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095560" y="5263920"/>
              <a:ext cx="147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095560" y="5383080"/>
              <a:ext cx="14760" cy="6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095560" y="5501160"/>
              <a:ext cx="147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095560" y="5620680"/>
              <a:ext cx="147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095560" y="5740200"/>
              <a:ext cx="28800" cy="6696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11" y="0"/>
                  </a:moveTo>
                  <a:lnTo>
                    <a:pt x="0" y="0"/>
                  </a:lnTo>
                  <a:lnTo>
                    <a:pt x="11" y="41"/>
                  </a:lnTo>
                  <a:lnTo>
                    <a:pt x="21" y="4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124360" y="5857920"/>
              <a:ext cx="42120" cy="507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0" y="0"/>
                  </a:moveTo>
                  <a:lnTo>
                    <a:pt x="0" y="0"/>
                  </a:lnTo>
                  <a:lnTo>
                    <a:pt x="21" y="31"/>
                  </a:lnTo>
                  <a:lnTo>
                    <a:pt x="31" y="3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180160" y="5943600"/>
              <a:ext cx="43560" cy="6840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1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11" y="21"/>
                  </a:lnTo>
                  <a:lnTo>
                    <a:pt x="32" y="42"/>
                  </a:lnTo>
                  <a:lnTo>
                    <a:pt x="32" y="3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266560" y="6012000"/>
              <a:ext cx="42480" cy="504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0"/>
                  </a:moveTo>
                  <a:lnTo>
                    <a:pt x="0" y="10"/>
                  </a:lnTo>
                  <a:lnTo>
                    <a:pt x="20" y="31"/>
                  </a:lnTo>
                  <a:lnTo>
                    <a:pt x="31" y="31"/>
                  </a:lnTo>
                  <a:lnTo>
                    <a:pt x="31" y="20"/>
                  </a:lnTo>
                  <a:lnTo>
                    <a:pt x="2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351520" y="6062760"/>
              <a:ext cx="55800" cy="1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451240" y="6079320"/>
              <a:ext cx="561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549880" y="6079320"/>
              <a:ext cx="572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649960" y="6079320"/>
              <a:ext cx="561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749680" y="6079320"/>
              <a:ext cx="561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848320" y="6079320"/>
              <a:ext cx="572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48040" y="6079320"/>
              <a:ext cx="561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047040" y="6079320"/>
              <a:ext cx="572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146760" y="6079320"/>
              <a:ext cx="572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246480" y="6079320"/>
              <a:ext cx="561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345120" y="6079320"/>
              <a:ext cx="572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445200" y="6079320"/>
              <a:ext cx="572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545280" y="6079320"/>
              <a:ext cx="561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643560" y="6079320"/>
              <a:ext cx="576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43640" y="6079320"/>
              <a:ext cx="561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43360" y="6079320"/>
              <a:ext cx="561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942360" y="6079320"/>
              <a:ext cx="572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042080" y="6079320"/>
              <a:ext cx="558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140720" y="6079320"/>
              <a:ext cx="572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240440" y="6079320"/>
              <a:ext cx="572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340520" y="6079320"/>
              <a:ext cx="561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438800" y="6079320"/>
              <a:ext cx="576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538880" y="6079320"/>
              <a:ext cx="572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638960" y="6079320"/>
              <a:ext cx="561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737600" y="6079320"/>
              <a:ext cx="572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837680" y="6079320"/>
              <a:ext cx="558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937040" y="6079320"/>
              <a:ext cx="561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036040" y="6079320"/>
              <a:ext cx="572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135760" y="6079320"/>
              <a:ext cx="561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35840" y="6079320"/>
              <a:ext cx="561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334120" y="6079320"/>
              <a:ext cx="576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34200" y="6079320"/>
              <a:ext cx="561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532840" y="6079320"/>
              <a:ext cx="572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632920" y="6079320"/>
              <a:ext cx="572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733000" y="6079320"/>
              <a:ext cx="558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831280" y="6079320"/>
              <a:ext cx="572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931360" y="6079320"/>
              <a:ext cx="572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031080" y="6079320"/>
              <a:ext cx="561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129720" y="6079320"/>
              <a:ext cx="576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229440" y="6079320"/>
              <a:ext cx="561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329520" y="6079320"/>
              <a:ext cx="561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428160" y="6079320"/>
              <a:ext cx="572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28240" y="6079320"/>
              <a:ext cx="558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627960" y="6079320"/>
              <a:ext cx="561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726600" y="6079320"/>
              <a:ext cx="572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826680" y="6062760"/>
              <a:ext cx="56160" cy="3276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0" y="10"/>
                  </a:moveTo>
                  <a:lnTo>
                    <a:pt x="0" y="20"/>
                  </a:lnTo>
                  <a:lnTo>
                    <a:pt x="0" y="20"/>
                  </a:lnTo>
                  <a:lnTo>
                    <a:pt x="41" y="10"/>
                  </a:lnTo>
                  <a:lnTo>
                    <a:pt x="41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24960" y="6028560"/>
              <a:ext cx="43920" cy="3384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0" y="10"/>
                  </a:moveTo>
                  <a:lnTo>
                    <a:pt x="0" y="21"/>
                  </a:lnTo>
                  <a:lnTo>
                    <a:pt x="21" y="21"/>
                  </a:lnTo>
                  <a:lnTo>
                    <a:pt x="32" y="10"/>
                  </a:lnTo>
                  <a:lnTo>
                    <a:pt x="32" y="0"/>
                  </a:lnTo>
                  <a:lnTo>
                    <a:pt x="2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011360" y="5959800"/>
              <a:ext cx="42480" cy="522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21"/>
                  </a:moveTo>
                  <a:lnTo>
                    <a:pt x="0" y="32"/>
                  </a:lnTo>
                  <a:lnTo>
                    <a:pt x="31" y="11"/>
                  </a:lnTo>
                  <a:lnTo>
                    <a:pt x="3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067520" y="5876280"/>
              <a:ext cx="57240" cy="5040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0" y="31"/>
                  </a:moveTo>
                  <a:lnTo>
                    <a:pt x="11" y="31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124760" y="5756760"/>
              <a:ext cx="27000" cy="6840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42"/>
                  </a:moveTo>
                  <a:lnTo>
                    <a:pt x="10" y="42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138440" y="5637240"/>
              <a:ext cx="28800" cy="6840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10" y="42"/>
                  </a:lnTo>
                  <a:lnTo>
                    <a:pt x="21" y="32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10" y="3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152120" y="5519160"/>
              <a:ext cx="15120" cy="6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152120" y="5399640"/>
              <a:ext cx="1512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152120" y="5281560"/>
              <a:ext cx="15120" cy="6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152120" y="5162040"/>
              <a:ext cx="1512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152120" y="5042520"/>
              <a:ext cx="1512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152120" y="4924800"/>
              <a:ext cx="15120" cy="6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152120" y="4805280"/>
              <a:ext cx="1512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152120" y="4687200"/>
              <a:ext cx="15120" cy="6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152120" y="4567680"/>
              <a:ext cx="15120" cy="68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152120" y="4448160"/>
              <a:ext cx="15120" cy="68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152120" y="4330440"/>
              <a:ext cx="15120" cy="6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152120" y="4210920"/>
              <a:ext cx="1512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152120" y="4093200"/>
              <a:ext cx="15120" cy="66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124760" y="3973680"/>
              <a:ext cx="27000" cy="6840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10" y="42"/>
                  </a:moveTo>
                  <a:lnTo>
                    <a:pt x="20" y="4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082640" y="3871800"/>
              <a:ext cx="42120" cy="507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0" y="31"/>
                  </a:moveTo>
                  <a:lnTo>
                    <a:pt x="31" y="3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025040" y="3786840"/>
              <a:ext cx="57600" cy="5076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31" y="31"/>
                  </a:moveTo>
                  <a:lnTo>
                    <a:pt x="42" y="31"/>
                  </a:lnTo>
                  <a:lnTo>
                    <a:pt x="31" y="21"/>
                  </a:lnTo>
                  <a:lnTo>
                    <a:pt x="21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940080" y="3719520"/>
              <a:ext cx="42480" cy="507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31"/>
                  </a:moveTo>
                  <a:lnTo>
                    <a:pt x="31" y="2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40360" y="3701880"/>
              <a:ext cx="572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741360" y="3701880"/>
              <a:ext cx="56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642000" y="3701880"/>
              <a:ext cx="558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541920" y="3701880"/>
              <a:ext cx="572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443280" y="3701880"/>
              <a:ext cx="56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343200" y="3701880"/>
              <a:ext cx="56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243120" y="3701880"/>
              <a:ext cx="576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144840" y="3701880"/>
              <a:ext cx="56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044760" y="3701880"/>
              <a:ext cx="572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945040" y="3701880"/>
              <a:ext cx="572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46400" y="3701880"/>
              <a:ext cx="558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746680" y="3701880"/>
              <a:ext cx="572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646600" y="3701880"/>
              <a:ext cx="572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547960" y="3701880"/>
              <a:ext cx="56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447880" y="3701880"/>
              <a:ext cx="576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349600" y="3701880"/>
              <a:ext cx="56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249520" y="3701880"/>
              <a:ext cx="56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149440" y="3701880"/>
              <a:ext cx="572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050800" y="3701880"/>
              <a:ext cx="56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951080" y="3701880"/>
              <a:ext cx="572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851360" y="3701880"/>
              <a:ext cx="572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52360" y="3701880"/>
              <a:ext cx="56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652640" y="3701880"/>
              <a:ext cx="572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552560" y="3701880"/>
              <a:ext cx="576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454280" y="3701880"/>
              <a:ext cx="56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354200" y="3701880"/>
              <a:ext cx="572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255560" y="3701880"/>
              <a:ext cx="56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155840" y="3701880"/>
              <a:ext cx="558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055760" y="3701880"/>
              <a:ext cx="572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957120" y="3701880"/>
              <a:ext cx="56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857040" y="3701880"/>
              <a:ext cx="56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57320" y="3701880"/>
              <a:ext cx="576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658680" y="3701880"/>
              <a:ext cx="56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558960" y="3701880"/>
              <a:ext cx="572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458880" y="3701880"/>
              <a:ext cx="572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360240" y="3701880"/>
              <a:ext cx="56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260520" y="3701880"/>
              <a:ext cx="572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160440" y="3701880"/>
              <a:ext cx="572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061800" y="3701880"/>
              <a:ext cx="56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961720" y="3701880"/>
              <a:ext cx="572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863440" y="3701880"/>
              <a:ext cx="56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763360" y="3701880"/>
              <a:ext cx="56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663640" y="3701880"/>
              <a:ext cx="572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564640" y="3701880"/>
              <a:ext cx="56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465280" y="3701880"/>
              <a:ext cx="558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9" name=""/>
          <p:cNvSpPr/>
          <p:nvPr/>
        </p:nvSpPr>
        <p:spPr>
          <a:xfrm>
            <a:off x="2208240" y="3897360"/>
            <a:ext cx="1308240" cy="903240"/>
          </a:xfrm>
          <a:custGeom>
            <a:avLst/>
            <a:gdLst/>
            <a:ahLst/>
            <a:rect l="l" t="t" r="r" b="b"/>
            <a:pathLst>
              <a:path w="92" h="56">
                <a:moveTo>
                  <a:pt x="9" y="0"/>
                </a:moveTo>
                <a:cubicBezTo>
                  <a:pt x="4" y="0"/>
                  <a:pt x="0" y="4"/>
                  <a:pt x="0" y="9"/>
                </a:cubicBezTo>
                <a:lnTo>
                  <a:pt x="0" y="47"/>
                </a:lnTo>
                <a:cubicBezTo>
                  <a:pt x="0" y="52"/>
                  <a:pt x="4" y="56"/>
                  <a:pt x="9" y="56"/>
                </a:cubicBezTo>
                <a:lnTo>
                  <a:pt x="83" y="56"/>
                </a:lnTo>
                <a:cubicBezTo>
                  <a:pt x="88" y="56"/>
                  <a:pt x="92" y="52"/>
                  <a:pt x="92" y="47"/>
                </a:cubicBezTo>
                <a:lnTo>
                  <a:pt x="92" y="9"/>
                </a:lnTo>
                <a:cubicBezTo>
                  <a:pt x="92" y="4"/>
                  <a:pt x="88" y="0"/>
                  <a:pt x="83" y="0"/>
                </a:cubicBez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379600" y="4156200"/>
            <a:ext cx="965160" cy="515880"/>
          </a:xfrm>
          <a:custGeom>
            <a:avLst/>
            <a:gdLst/>
            <a:ahLst/>
            <a:rect l="l" t="t" r="r" b="b"/>
            <a:pathLst>
              <a:path w="68" h="32">
                <a:moveTo>
                  <a:pt x="5" y="0"/>
                </a:moveTo>
                <a:cubicBezTo>
                  <a:pt x="2" y="0"/>
                  <a:pt x="0" y="2"/>
                  <a:pt x="0" y="5"/>
                </a:cubicBezTo>
                <a:lnTo>
                  <a:pt x="0" y="27"/>
                </a:lnTo>
                <a:cubicBezTo>
                  <a:pt x="0" y="30"/>
                  <a:pt x="2" y="32"/>
                  <a:pt x="5" y="32"/>
                </a:cubicBezTo>
                <a:lnTo>
                  <a:pt x="63" y="32"/>
                </a:lnTo>
                <a:cubicBezTo>
                  <a:pt x="66" y="32"/>
                  <a:pt x="68" y="30"/>
                  <a:pt x="68" y="27"/>
                </a:cubicBezTo>
                <a:lnTo>
                  <a:pt x="68" y="5"/>
                </a:lnTo>
                <a:cubicBezTo>
                  <a:pt x="68" y="2"/>
                  <a:pt x="66" y="0"/>
                  <a:pt x="63" y="0"/>
                </a:cubicBezTo>
                <a:lnTo>
                  <a:pt x="5" y="0"/>
                </a:lnTo>
                <a:close/>
              </a:path>
            </a:pathLst>
          </a:custGeom>
          <a:solidFill>
            <a:srgbClr val="ffff9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451240" y="4219560"/>
            <a:ext cx="82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776320" y="441324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549520" y="3897360"/>
            <a:ext cx="981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620800" y="3944880"/>
            <a:ext cx="81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gical Port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732640" y="3897360"/>
            <a:ext cx="1306440" cy="903240"/>
          </a:xfrm>
          <a:custGeom>
            <a:avLst/>
            <a:gdLst/>
            <a:ahLst/>
            <a:rect l="l" t="t" r="r" b="b"/>
            <a:pathLst>
              <a:path w="92" h="56">
                <a:moveTo>
                  <a:pt x="9" y="0"/>
                </a:moveTo>
                <a:cubicBezTo>
                  <a:pt x="4" y="0"/>
                  <a:pt x="0" y="4"/>
                  <a:pt x="0" y="9"/>
                </a:cubicBezTo>
                <a:lnTo>
                  <a:pt x="0" y="47"/>
                </a:lnTo>
                <a:cubicBezTo>
                  <a:pt x="0" y="52"/>
                  <a:pt x="4" y="56"/>
                  <a:pt x="9" y="56"/>
                </a:cubicBezTo>
                <a:lnTo>
                  <a:pt x="83" y="56"/>
                </a:lnTo>
                <a:cubicBezTo>
                  <a:pt x="88" y="56"/>
                  <a:pt x="92" y="52"/>
                  <a:pt x="92" y="47"/>
                </a:cubicBezTo>
                <a:lnTo>
                  <a:pt x="92" y="9"/>
                </a:lnTo>
                <a:cubicBezTo>
                  <a:pt x="92" y="4"/>
                  <a:pt x="88" y="0"/>
                  <a:pt x="83" y="0"/>
                </a:cubicBez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902200" y="4156200"/>
            <a:ext cx="966960" cy="515880"/>
          </a:xfrm>
          <a:custGeom>
            <a:avLst/>
            <a:gdLst/>
            <a:ahLst/>
            <a:rect l="l" t="t" r="r" b="b"/>
            <a:pathLst>
              <a:path w="68" h="32">
                <a:moveTo>
                  <a:pt x="5" y="0"/>
                </a:moveTo>
                <a:cubicBezTo>
                  <a:pt x="2" y="0"/>
                  <a:pt x="0" y="2"/>
                  <a:pt x="0" y="5"/>
                </a:cubicBezTo>
                <a:lnTo>
                  <a:pt x="0" y="27"/>
                </a:lnTo>
                <a:cubicBezTo>
                  <a:pt x="0" y="30"/>
                  <a:pt x="2" y="32"/>
                  <a:pt x="5" y="32"/>
                </a:cubicBezTo>
                <a:lnTo>
                  <a:pt x="63" y="32"/>
                </a:lnTo>
                <a:cubicBezTo>
                  <a:pt x="66" y="32"/>
                  <a:pt x="68" y="30"/>
                  <a:pt x="68" y="27"/>
                </a:cubicBezTo>
                <a:lnTo>
                  <a:pt x="68" y="5"/>
                </a:lnTo>
                <a:cubicBezTo>
                  <a:pt x="68" y="2"/>
                  <a:pt x="66" y="0"/>
                  <a:pt x="63" y="0"/>
                </a:cubicBezTo>
                <a:lnTo>
                  <a:pt x="5" y="0"/>
                </a:lnTo>
                <a:close/>
              </a:path>
            </a:pathLst>
          </a:custGeom>
          <a:solidFill>
            <a:srgbClr val="ffff9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973840" y="4219560"/>
            <a:ext cx="82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300360" y="441324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732640" y="3897360"/>
            <a:ext cx="979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803920" y="3944880"/>
            <a:ext cx="81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gical Port-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106960" y="4997520"/>
            <a:ext cx="1420920" cy="904680"/>
          </a:xfrm>
          <a:custGeom>
            <a:avLst/>
            <a:gdLst/>
            <a:ahLst/>
            <a:rect l="l" t="t" r="r" b="b"/>
            <a:pathLst>
              <a:path w="100" h="56">
                <a:moveTo>
                  <a:pt x="9" y="0"/>
                </a:moveTo>
                <a:cubicBezTo>
                  <a:pt x="4" y="0"/>
                  <a:pt x="0" y="4"/>
                  <a:pt x="0" y="9"/>
                </a:cubicBezTo>
                <a:lnTo>
                  <a:pt x="0" y="47"/>
                </a:lnTo>
                <a:cubicBezTo>
                  <a:pt x="0" y="52"/>
                  <a:pt x="4" y="56"/>
                  <a:pt x="9" y="56"/>
                </a:cubicBezTo>
                <a:lnTo>
                  <a:pt x="91" y="56"/>
                </a:lnTo>
                <a:cubicBezTo>
                  <a:pt x="96" y="56"/>
                  <a:pt x="100" y="52"/>
                  <a:pt x="100" y="47"/>
                </a:cubicBezTo>
                <a:lnTo>
                  <a:pt x="100" y="9"/>
                </a:lnTo>
                <a:cubicBezTo>
                  <a:pt x="100" y="4"/>
                  <a:pt x="96" y="0"/>
                  <a:pt x="91" y="0"/>
                </a:cubicBez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221440" y="5060880"/>
            <a:ext cx="1079280" cy="582840"/>
          </a:xfrm>
          <a:custGeom>
            <a:avLst/>
            <a:gdLst/>
            <a:ahLst/>
            <a:rect l="l" t="t" r="r" b="b"/>
            <a:pathLst>
              <a:path w="76" h="36">
                <a:moveTo>
                  <a:pt x="6" y="0"/>
                </a:moveTo>
                <a:cubicBezTo>
                  <a:pt x="3" y="0"/>
                  <a:pt x="0" y="3"/>
                  <a:pt x="0" y="6"/>
                </a:cubicBezTo>
                <a:lnTo>
                  <a:pt x="0" y="30"/>
                </a:lnTo>
                <a:cubicBezTo>
                  <a:pt x="0" y="33"/>
                  <a:pt x="3" y="36"/>
                  <a:pt x="6" y="36"/>
                </a:cubicBezTo>
                <a:lnTo>
                  <a:pt x="70" y="36"/>
                </a:lnTo>
                <a:cubicBezTo>
                  <a:pt x="73" y="36"/>
                  <a:pt x="76" y="33"/>
                  <a:pt x="76" y="30"/>
                </a:cubicBezTo>
                <a:lnTo>
                  <a:pt x="76" y="6"/>
                </a:lnTo>
                <a:cubicBezTo>
                  <a:pt x="76" y="3"/>
                  <a:pt x="73" y="0"/>
                  <a:pt x="70" y="0"/>
                </a:cubicBezTo>
                <a:lnTo>
                  <a:pt x="6" y="0"/>
                </a:lnTo>
                <a:close/>
              </a:path>
            </a:pathLst>
          </a:custGeom>
          <a:solidFill>
            <a:srgbClr val="ffff9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302080" y="5126040"/>
            <a:ext cx="96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660280" y="5367240"/>
            <a:ext cx="23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278320" y="5643720"/>
            <a:ext cx="9795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347800" y="5692680"/>
            <a:ext cx="80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gical Port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2406600" y="2819520"/>
            <a:ext cx="171000" cy="1336320"/>
            <a:chOff x="2406600" y="2819520"/>
            <a:chExt cx="171000" cy="1336320"/>
          </a:xfrm>
        </p:grpSpPr>
        <p:sp>
          <p:nvSpPr>
            <p:cNvPr id="1478" name=""/>
            <p:cNvSpPr/>
            <p:nvPr/>
          </p:nvSpPr>
          <p:spPr>
            <a:xfrm>
              <a:off x="2477880" y="2985840"/>
              <a:ext cx="4212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477880" y="3096360"/>
              <a:ext cx="421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477880" y="3209400"/>
              <a:ext cx="4212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477880" y="3320640"/>
              <a:ext cx="42120" cy="5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477880" y="3431160"/>
              <a:ext cx="4212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477880" y="3542040"/>
              <a:ext cx="4212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477880" y="3654720"/>
              <a:ext cx="4212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477880" y="3765960"/>
              <a:ext cx="42120" cy="5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477880" y="3876840"/>
              <a:ext cx="4212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421720" y="2819520"/>
              <a:ext cx="155880" cy="20376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114" y="114"/>
                  </a:moveTo>
                  <a:lnTo>
                    <a:pt x="52" y="0"/>
                  </a:lnTo>
                  <a:lnTo>
                    <a:pt x="0" y="114"/>
                  </a:lnTo>
                  <a:lnTo>
                    <a:pt x="11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406600" y="3950280"/>
              <a:ext cx="157320" cy="20556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0" y="0"/>
                  </a:moveTo>
                  <a:lnTo>
                    <a:pt x="63" y="115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6670800" y="2819520"/>
            <a:ext cx="169200" cy="1336320"/>
            <a:chOff x="6670800" y="2819520"/>
            <a:chExt cx="169200" cy="1336320"/>
          </a:xfrm>
        </p:grpSpPr>
        <p:sp>
          <p:nvSpPr>
            <p:cNvPr id="1490" name=""/>
            <p:cNvSpPr/>
            <p:nvPr/>
          </p:nvSpPr>
          <p:spPr>
            <a:xfrm>
              <a:off x="6741720" y="2985840"/>
              <a:ext cx="4212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741720" y="3096360"/>
              <a:ext cx="421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741720" y="3209400"/>
              <a:ext cx="4212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741720" y="3320640"/>
              <a:ext cx="42120" cy="5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741720" y="3431160"/>
              <a:ext cx="4212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741720" y="3542040"/>
              <a:ext cx="4212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741720" y="3654720"/>
              <a:ext cx="4212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741720" y="3765960"/>
              <a:ext cx="42120" cy="5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741720" y="3876840"/>
              <a:ext cx="4212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684120" y="2819520"/>
              <a:ext cx="155880" cy="20376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114" y="114"/>
                  </a:moveTo>
                  <a:lnTo>
                    <a:pt x="52" y="0"/>
                  </a:lnTo>
                  <a:lnTo>
                    <a:pt x="0" y="114"/>
                  </a:lnTo>
                  <a:lnTo>
                    <a:pt x="11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670800" y="3950280"/>
              <a:ext cx="155880" cy="20556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0"/>
                  </a:moveTo>
                  <a:lnTo>
                    <a:pt x="62" y="115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5362560" y="2286000"/>
            <a:ext cx="171000" cy="2774160"/>
            <a:chOff x="5362560" y="2286000"/>
            <a:chExt cx="171000" cy="2774160"/>
          </a:xfrm>
        </p:grpSpPr>
        <p:sp>
          <p:nvSpPr>
            <p:cNvPr id="1502" name=""/>
            <p:cNvSpPr/>
            <p:nvPr/>
          </p:nvSpPr>
          <p:spPr>
            <a:xfrm>
              <a:off x="5434200" y="2441160"/>
              <a:ext cx="42840" cy="5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434200" y="2546640"/>
              <a:ext cx="42840" cy="5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434200" y="2650320"/>
              <a:ext cx="42840" cy="5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434200" y="2754360"/>
              <a:ext cx="42840" cy="5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434200" y="2857680"/>
              <a:ext cx="42840" cy="5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34200" y="2961360"/>
              <a:ext cx="42840" cy="5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434200" y="3066840"/>
              <a:ext cx="42840" cy="5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434200" y="3170520"/>
              <a:ext cx="42840" cy="5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434200" y="3274200"/>
              <a:ext cx="42840" cy="5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434200" y="3377880"/>
              <a:ext cx="42840" cy="5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434200" y="3483360"/>
              <a:ext cx="42840" cy="5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434200" y="3587040"/>
              <a:ext cx="42840" cy="5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434200" y="3690720"/>
              <a:ext cx="42840" cy="5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434200" y="3794400"/>
              <a:ext cx="42840" cy="5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34200" y="3898080"/>
              <a:ext cx="42840" cy="5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434200" y="4003560"/>
              <a:ext cx="42840" cy="5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434200" y="4107240"/>
              <a:ext cx="42840" cy="5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434200" y="4210560"/>
              <a:ext cx="42840" cy="5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434200" y="4314600"/>
              <a:ext cx="42840" cy="5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434200" y="4420080"/>
              <a:ext cx="42840" cy="5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434200" y="4523760"/>
              <a:ext cx="42840" cy="5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434200" y="4627080"/>
              <a:ext cx="42840" cy="5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434200" y="4731120"/>
              <a:ext cx="42840" cy="5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434200" y="4834800"/>
              <a:ext cx="42840" cy="5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376240" y="2286000"/>
              <a:ext cx="157320" cy="19044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114" y="114"/>
                  </a:moveTo>
                  <a:lnTo>
                    <a:pt x="52" y="0"/>
                  </a:lnTo>
                  <a:lnTo>
                    <a:pt x="0" y="114"/>
                  </a:lnTo>
                  <a:lnTo>
                    <a:pt x="11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362560" y="4869720"/>
              <a:ext cx="157320" cy="19044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0" y="0"/>
                  </a:moveTo>
                  <a:lnTo>
                    <a:pt x="62" y="114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8" name=""/>
          <p:cNvGrpSpPr/>
          <p:nvPr/>
        </p:nvGrpSpPr>
        <p:grpSpPr>
          <a:xfrm>
            <a:off x="5106960" y="4462560"/>
            <a:ext cx="794880" cy="144360"/>
            <a:chOff x="5106960" y="4462560"/>
            <a:chExt cx="794880" cy="144360"/>
          </a:xfrm>
        </p:grpSpPr>
        <p:sp>
          <p:nvSpPr>
            <p:cNvPr id="1529" name=""/>
            <p:cNvSpPr/>
            <p:nvPr/>
          </p:nvSpPr>
          <p:spPr>
            <a:xfrm flipH="1">
              <a:off x="5191920" y="4541760"/>
              <a:ext cx="70992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106960" y="4462560"/>
              <a:ext cx="113400" cy="14436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83" y="0"/>
                  </a:moveTo>
                  <a:lnTo>
                    <a:pt x="0" y="51"/>
                  </a:lnTo>
                  <a:lnTo>
                    <a:pt x="83" y="9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5106960" y="4284720"/>
            <a:ext cx="794880" cy="146160"/>
            <a:chOff x="5106960" y="4284720"/>
            <a:chExt cx="794880" cy="146160"/>
          </a:xfrm>
        </p:grpSpPr>
        <p:sp>
          <p:nvSpPr>
            <p:cNvPr id="1532" name=""/>
            <p:cNvSpPr/>
            <p:nvPr/>
          </p:nvSpPr>
          <p:spPr>
            <a:xfrm>
              <a:off x="5106960" y="4349160"/>
              <a:ext cx="71028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788440" y="4284720"/>
              <a:ext cx="113400" cy="14616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0" y="93"/>
                  </a:moveTo>
                  <a:lnTo>
                    <a:pt x="83" y="41"/>
                  </a:lnTo>
                  <a:lnTo>
                    <a:pt x="0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6869160" y="4156200"/>
            <a:ext cx="966240" cy="144360"/>
            <a:chOff x="6869160" y="4156200"/>
            <a:chExt cx="966240" cy="144360"/>
          </a:xfrm>
        </p:grpSpPr>
        <p:sp>
          <p:nvSpPr>
            <p:cNvPr id="1535" name=""/>
            <p:cNvSpPr/>
            <p:nvPr/>
          </p:nvSpPr>
          <p:spPr>
            <a:xfrm>
              <a:off x="6869160" y="4219920"/>
              <a:ext cx="8802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22000" y="4156200"/>
              <a:ext cx="113400" cy="14436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0" y="93"/>
                  </a:moveTo>
                  <a:lnTo>
                    <a:pt x="83" y="41"/>
                  </a:lnTo>
                  <a:lnTo>
                    <a:pt x="0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6869160" y="4334040"/>
            <a:ext cx="965880" cy="144360"/>
            <a:chOff x="6869160" y="4334040"/>
            <a:chExt cx="965880" cy="144360"/>
          </a:xfrm>
        </p:grpSpPr>
        <p:sp>
          <p:nvSpPr>
            <p:cNvPr id="1538" name=""/>
            <p:cNvSpPr/>
            <p:nvPr/>
          </p:nvSpPr>
          <p:spPr>
            <a:xfrm flipH="1">
              <a:off x="6953400" y="4412880"/>
              <a:ext cx="8816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869160" y="4334040"/>
              <a:ext cx="113400" cy="14436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83" y="0"/>
                  </a:moveTo>
                  <a:lnTo>
                    <a:pt x="0" y="51"/>
                  </a:lnTo>
                  <a:lnTo>
                    <a:pt x="83" y="9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1413000" y="4284720"/>
            <a:ext cx="966240" cy="146160"/>
            <a:chOff x="1413000" y="4284720"/>
            <a:chExt cx="966240" cy="146160"/>
          </a:xfrm>
        </p:grpSpPr>
        <p:sp>
          <p:nvSpPr>
            <p:cNvPr id="1541" name=""/>
            <p:cNvSpPr/>
            <p:nvPr/>
          </p:nvSpPr>
          <p:spPr>
            <a:xfrm>
              <a:off x="1413000" y="4349160"/>
              <a:ext cx="8802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65840" y="4284720"/>
              <a:ext cx="113400" cy="14616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0" y="93"/>
                  </a:moveTo>
                  <a:lnTo>
                    <a:pt x="83" y="41"/>
                  </a:lnTo>
                  <a:lnTo>
                    <a:pt x="0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1357200" y="4462560"/>
            <a:ext cx="1022040" cy="144360"/>
            <a:chOff x="1357200" y="4462560"/>
            <a:chExt cx="1022040" cy="144360"/>
          </a:xfrm>
        </p:grpSpPr>
        <p:sp>
          <p:nvSpPr>
            <p:cNvPr id="1544" name=""/>
            <p:cNvSpPr/>
            <p:nvPr/>
          </p:nvSpPr>
          <p:spPr>
            <a:xfrm flipH="1">
              <a:off x="1441800" y="4541760"/>
              <a:ext cx="93744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357200" y="4462560"/>
              <a:ext cx="113400" cy="14436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83" y="0"/>
                  </a:moveTo>
                  <a:lnTo>
                    <a:pt x="0" y="51"/>
                  </a:lnTo>
                  <a:lnTo>
                    <a:pt x="83" y="9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3344760" y="4284720"/>
            <a:ext cx="626760" cy="146160"/>
            <a:chOff x="3344760" y="4284720"/>
            <a:chExt cx="626760" cy="146160"/>
          </a:xfrm>
        </p:grpSpPr>
        <p:sp>
          <p:nvSpPr>
            <p:cNvPr id="1547" name=""/>
            <p:cNvSpPr/>
            <p:nvPr/>
          </p:nvSpPr>
          <p:spPr>
            <a:xfrm>
              <a:off x="3344760" y="4349160"/>
              <a:ext cx="54216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857760" y="4284720"/>
              <a:ext cx="113760" cy="14616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0" y="93"/>
                  </a:moveTo>
                  <a:lnTo>
                    <a:pt x="83" y="41"/>
                  </a:lnTo>
                  <a:lnTo>
                    <a:pt x="0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3344760" y="4462560"/>
            <a:ext cx="626400" cy="144360"/>
            <a:chOff x="3344760" y="4462560"/>
            <a:chExt cx="626400" cy="144360"/>
          </a:xfrm>
        </p:grpSpPr>
        <p:sp>
          <p:nvSpPr>
            <p:cNvPr id="1550" name=""/>
            <p:cNvSpPr/>
            <p:nvPr/>
          </p:nvSpPr>
          <p:spPr>
            <a:xfrm flipH="1">
              <a:off x="3430800" y="4541760"/>
              <a:ext cx="54036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344760" y="4462560"/>
              <a:ext cx="113760" cy="14436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83" y="0"/>
                  </a:moveTo>
                  <a:lnTo>
                    <a:pt x="0" y="51"/>
                  </a:lnTo>
                  <a:lnTo>
                    <a:pt x="83" y="9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"/>
          <p:cNvSpPr/>
          <p:nvPr/>
        </p:nvSpPr>
        <p:spPr>
          <a:xfrm>
            <a:off x="1584360" y="4187880"/>
            <a:ext cx="55440" cy="484200"/>
          </a:xfrm>
          <a:prstGeom prst="ellipse">
            <a:avLst/>
          </a:prstGeom>
          <a:solidFill>
            <a:srgbClr val="00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630600" y="4091040"/>
            <a:ext cx="55440" cy="646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562720" y="4091040"/>
            <a:ext cx="55440" cy="646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4695840" y="4722840"/>
            <a:ext cx="524880" cy="726480"/>
            <a:chOff x="4695840" y="4722840"/>
            <a:chExt cx="524880" cy="726480"/>
          </a:xfrm>
        </p:grpSpPr>
        <p:sp>
          <p:nvSpPr>
            <p:cNvPr id="1556" name=""/>
            <p:cNvSpPr/>
            <p:nvPr/>
          </p:nvSpPr>
          <p:spPr>
            <a:xfrm flipH="1" flipV="1">
              <a:off x="4737960" y="4785840"/>
              <a:ext cx="482760" cy="6634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695840" y="4722840"/>
              <a:ext cx="128520" cy="14508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94" y="31"/>
                  </a:moveTo>
                  <a:lnTo>
                    <a:pt x="0" y="0"/>
                  </a:lnTo>
                  <a:lnTo>
                    <a:pt x="21" y="93"/>
                  </a:lnTo>
                  <a:lnTo>
                    <a:pt x="9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4824360" y="4672080"/>
            <a:ext cx="396720" cy="516960"/>
            <a:chOff x="4824360" y="4672080"/>
            <a:chExt cx="396720" cy="516960"/>
          </a:xfrm>
        </p:grpSpPr>
        <p:sp>
          <p:nvSpPr>
            <p:cNvPr id="1559" name=""/>
            <p:cNvSpPr/>
            <p:nvPr/>
          </p:nvSpPr>
          <p:spPr>
            <a:xfrm>
              <a:off x="4824360" y="4672080"/>
              <a:ext cx="354600" cy="453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094000" y="5043960"/>
              <a:ext cx="127080" cy="14508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0" y="62"/>
                  </a:moveTo>
                  <a:lnTo>
                    <a:pt x="93" y="93"/>
                  </a:lnTo>
                  <a:lnTo>
                    <a:pt x="72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1" name=""/>
          <p:cNvSpPr/>
          <p:nvPr/>
        </p:nvSpPr>
        <p:spPr>
          <a:xfrm>
            <a:off x="4994280" y="4800600"/>
            <a:ext cx="57240" cy="6494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6300720" y="5319720"/>
            <a:ext cx="1534680" cy="146160"/>
            <a:chOff x="6300720" y="5319720"/>
            <a:chExt cx="1534680" cy="146160"/>
          </a:xfrm>
        </p:grpSpPr>
        <p:sp>
          <p:nvSpPr>
            <p:cNvPr id="1563" name=""/>
            <p:cNvSpPr/>
            <p:nvPr/>
          </p:nvSpPr>
          <p:spPr>
            <a:xfrm>
              <a:off x="6300720" y="5384880"/>
              <a:ext cx="144864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722000" y="5319720"/>
              <a:ext cx="113400" cy="146160"/>
            </a:xfrm>
            <a:custGeom>
              <a:avLst/>
              <a:gdLst/>
              <a:ahLst/>
              <a:rect l="l" t="t" r="r" b="b"/>
              <a:pathLst>
                <a:path w="83" h="94">
                  <a:moveTo>
                    <a:pt x="0" y="94"/>
                  </a:moveTo>
                  <a:lnTo>
                    <a:pt x="83" y="42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6300720" y="5497560"/>
            <a:ext cx="1534680" cy="146160"/>
            <a:chOff x="6300720" y="5497560"/>
            <a:chExt cx="1534680" cy="146160"/>
          </a:xfrm>
        </p:grpSpPr>
        <p:sp>
          <p:nvSpPr>
            <p:cNvPr id="1566" name=""/>
            <p:cNvSpPr/>
            <p:nvPr/>
          </p:nvSpPr>
          <p:spPr>
            <a:xfrm flipH="1">
              <a:off x="6385320" y="5578560"/>
              <a:ext cx="145008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300720" y="5497560"/>
              <a:ext cx="113400" cy="146160"/>
            </a:xfrm>
            <a:custGeom>
              <a:avLst/>
              <a:gdLst/>
              <a:ahLst/>
              <a:rect l="l" t="t" r="r" b="b"/>
              <a:pathLst>
                <a:path w="83" h="94">
                  <a:moveTo>
                    <a:pt x="83" y="0"/>
                  </a:moveTo>
                  <a:lnTo>
                    <a:pt x="0" y="52"/>
                  </a:lnTo>
                  <a:lnTo>
                    <a:pt x="83" y="9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8" name=""/>
          <p:cNvSpPr/>
          <p:nvPr/>
        </p:nvSpPr>
        <p:spPr>
          <a:xfrm>
            <a:off x="7550280" y="4091040"/>
            <a:ext cx="58680" cy="450720"/>
          </a:xfrm>
          <a:prstGeom prst="ellipse">
            <a:avLst/>
          </a:prstGeom>
          <a:solidFill>
            <a:srgbClr val="00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550280" y="5256360"/>
            <a:ext cx="58680" cy="450720"/>
          </a:xfrm>
          <a:prstGeom prst="ellipse">
            <a:avLst/>
          </a:prstGeom>
          <a:solidFill>
            <a:srgbClr val="00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611360" y="2481120"/>
            <a:ext cx="58680" cy="176400"/>
          </a:xfrm>
          <a:prstGeom prst="ellipse">
            <a:avLst/>
          </a:prstGeom>
          <a:solidFill>
            <a:srgbClr val="00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608960" y="1784520"/>
            <a:ext cx="55440" cy="161640"/>
          </a:xfrm>
          <a:prstGeom prst="ellipse">
            <a:avLst/>
          </a:prstGeom>
          <a:solidFill>
            <a:srgbClr val="00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608960" y="2625840"/>
            <a:ext cx="55440" cy="161640"/>
          </a:xfrm>
          <a:prstGeom prst="ellipse">
            <a:avLst/>
          </a:prstGeom>
          <a:solidFill>
            <a:srgbClr val="00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384200" y="2608200"/>
            <a:ext cx="4269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455480" y="2657520"/>
            <a:ext cx="3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466040" y="1898640"/>
            <a:ext cx="425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536960" y="1946160"/>
            <a:ext cx="3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466040" y="2738520"/>
            <a:ext cx="425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536960" y="2787480"/>
            <a:ext cx="3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281240" y="4656240"/>
            <a:ext cx="4111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335960" y="470376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380360" y="4527720"/>
            <a:ext cx="4111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449480" y="457524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380360" y="5692680"/>
            <a:ext cx="4111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7449480" y="574056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857760" y="3767040"/>
            <a:ext cx="10364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912840" y="3836880"/>
            <a:ext cx="904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7" name=""/>
          <p:cNvGrpSpPr/>
          <p:nvPr/>
        </p:nvGrpSpPr>
        <p:grpSpPr>
          <a:xfrm>
            <a:off x="4387680" y="3701880"/>
            <a:ext cx="100080" cy="194760"/>
            <a:chOff x="4387680" y="3701880"/>
            <a:chExt cx="100080" cy="194760"/>
          </a:xfrm>
        </p:grpSpPr>
        <p:sp>
          <p:nvSpPr>
            <p:cNvPr id="1588" name=""/>
            <p:cNvSpPr/>
            <p:nvPr/>
          </p:nvSpPr>
          <p:spPr>
            <a:xfrm flipV="1">
              <a:off x="4429800" y="3782520"/>
              <a:ext cx="1440" cy="11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387680" y="3701880"/>
              <a:ext cx="100080" cy="1141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73"/>
                  </a:moveTo>
                  <a:lnTo>
                    <a:pt x="31" y="0"/>
                  </a:lnTo>
                  <a:lnTo>
                    <a:pt x="0" y="73"/>
                  </a:lnTo>
                  <a:lnTo>
                    <a:pt x="73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3913200" y="4156200"/>
            <a:ext cx="1251000" cy="581040"/>
          </a:xfrm>
          <a:prstGeom prst="ellipse">
            <a:avLst/>
          </a:prstGeom>
          <a:solidFill>
            <a:srgbClr val="ff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043520" y="4308480"/>
            <a:ext cx="1058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379600" y="3014640"/>
            <a:ext cx="4530960" cy="96840"/>
          </a:xfrm>
          <a:prstGeom prst="ellipse">
            <a:avLst/>
          </a:prstGeom>
          <a:solidFill>
            <a:srgbClr val="ff6600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379600" y="3524400"/>
            <a:ext cx="4573800" cy="96840"/>
          </a:xfrm>
          <a:prstGeom prst="ellipse">
            <a:avLst/>
          </a:prstGeom>
          <a:solidFill>
            <a:srgbClr val="ff6600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232080" y="3078000"/>
            <a:ext cx="1251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3456720" y="3322800"/>
            <a:ext cx="127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IWF Control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6" name=""/>
          <p:cNvGrpSpPr/>
          <p:nvPr/>
        </p:nvGrpSpPr>
        <p:grpSpPr>
          <a:xfrm>
            <a:off x="4778280" y="3378240"/>
            <a:ext cx="98640" cy="210600"/>
            <a:chOff x="4778280" y="3378240"/>
            <a:chExt cx="98640" cy="210600"/>
          </a:xfrm>
        </p:grpSpPr>
        <p:sp>
          <p:nvSpPr>
            <p:cNvPr id="1597" name=""/>
            <p:cNvSpPr/>
            <p:nvPr/>
          </p:nvSpPr>
          <p:spPr>
            <a:xfrm>
              <a:off x="4834800" y="3378240"/>
              <a:ext cx="1440" cy="129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778280" y="3474720"/>
              <a:ext cx="98640" cy="1141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0" y="0"/>
                  </a:moveTo>
                  <a:lnTo>
                    <a:pt x="42" y="73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9" name=""/>
          <p:cNvSpPr/>
          <p:nvPr/>
        </p:nvSpPr>
        <p:spPr>
          <a:xfrm>
            <a:off x="4748040" y="3208320"/>
            <a:ext cx="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444840" y="2287440"/>
            <a:ext cx="11797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517200" y="2316240"/>
            <a:ext cx="120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CU Control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3701880" y="2481120"/>
            <a:ext cx="98640" cy="596520"/>
            <a:chOff x="3701880" y="2481120"/>
            <a:chExt cx="98640" cy="596520"/>
          </a:xfrm>
        </p:grpSpPr>
        <p:sp>
          <p:nvSpPr>
            <p:cNvPr id="1603" name=""/>
            <p:cNvSpPr/>
            <p:nvPr/>
          </p:nvSpPr>
          <p:spPr>
            <a:xfrm>
              <a:off x="3757680" y="2481120"/>
              <a:ext cx="1440" cy="51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701880" y="2964240"/>
              <a:ext cx="98640" cy="11340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0" y="0"/>
                  </a:moveTo>
                  <a:lnTo>
                    <a:pt x="41" y="73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5" name=""/>
          <p:cNvSpPr/>
          <p:nvPr/>
        </p:nvSpPr>
        <p:spPr>
          <a:xfrm>
            <a:off x="2266920" y="4025880"/>
            <a:ext cx="112680" cy="13032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6" name=""/>
          <p:cNvGrpSpPr/>
          <p:nvPr/>
        </p:nvGrpSpPr>
        <p:grpSpPr>
          <a:xfrm>
            <a:off x="6981840" y="3944880"/>
            <a:ext cx="853920" cy="160200"/>
            <a:chOff x="6981840" y="3944880"/>
            <a:chExt cx="853920" cy="160200"/>
          </a:xfrm>
        </p:grpSpPr>
        <p:sp>
          <p:nvSpPr>
            <p:cNvPr id="1607" name=""/>
            <p:cNvSpPr/>
            <p:nvPr/>
          </p:nvSpPr>
          <p:spPr>
            <a:xfrm>
              <a:off x="7722000" y="4008240"/>
              <a:ext cx="2700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664400" y="4008240"/>
              <a:ext cx="2844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608240" y="4008240"/>
              <a:ext cx="2700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550640" y="4008240"/>
              <a:ext cx="2844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494120" y="4008240"/>
              <a:ext cx="2700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436880" y="4008240"/>
              <a:ext cx="2844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380360" y="4008240"/>
              <a:ext cx="2700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323120" y="4008240"/>
              <a:ext cx="2844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266600" y="4008240"/>
              <a:ext cx="2700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209360" y="4008240"/>
              <a:ext cx="2844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51400" y="4008240"/>
              <a:ext cx="2880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95600" y="4008240"/>
              <a:ext cx="2844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722000" y="3960360"/>
              <a:ext cx="113760" cy="14472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0" y="93"/>
                  </a:moveTo>
                  <a:lnTo>
                    <a:pt x="83" y="42"/>
                  </a:lnTo>
                  <a:lnTo>
                    <a:pt x="0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981840" y="3944880"/>
              <a:ext cx="113760" cy="14472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83" y="0"/>
                  </a:moveTo>
                  <a:lnTo>
                    <a:pt x="0" y="52"/>
                  </a:lnTo>
                  <a:lnTo>
                    <a:pt x="83" y="9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1" name=""/>
          <p:cNvSpPr/>
          <p:nvPr/>
        </p:nvSpPr>
        <p:spPr>
          <a:xfrm>
            <a:off x="6869160" y="3960720"/>
            <a:ext cx="112680" cy="13032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2" name=""/>
          <p:cNvGrpSpPr/>
          <p:nvPr/>
        </p:nvGrpSpPr>
        <p:grpSpPr>
          <a:xfrm>
            <a:off x="1300320" y="4008600"/>
            <a:ext cx="966240" cy="161280"/>
            <a:chOff x="1300320" y="4008600"/>
            <a:chExt cx="966240" cy="161280"/>
          </a:xfrm>
        </p:grpSpPr>
        <p:sp>
          <p:nvSpPr>
            <p:cNvPr id="1623" name=""/>
            <p:cNvSpPr/>
            <p:nvPr/>
          </p:nvSpPr>
          <p:spPr>
            <a:xfrm>
              <a:off x="2153160" y="4073760"/>
              <a:ext cx="27000" cy="3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095560" y="4073760"/>
              <a:ext cx="28800" cy="3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039400" y="4073760"/>
              <a:ext cx="27000" cy="3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982160" y="4073760"/>
              <a:ext cx="28440" cy="3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926000" y="4073760"/>
              <a:ext cx="27000" cy="3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868400" y="4073760"/>
              <a:ext cx="28440" cy="3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812240" y="4073760"/>
              <a:ext cx="27000" cy="3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754640" y="4073760"/>
              <a:ext cx="28440" cy="3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698480" y="4073760"/>
              <a:ext cx="27000" cy="3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641240" y="4073760"/>
              <a:ext cx="28440" cy="3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584720" y="4073760"/>
              <a:ext cx="27000" cy="3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27480" y="4073760"/>
              <a:ext cx="28440" cy="3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471320" y="4073760"/>
              <a:ext cx="27000" cy="3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13720" y="4073760"/>
              <a:ext cx="28440" cy="3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153160" y="4025520"/>
              <a:ext cx="113400" cy="14436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0" y="93"/>
                  </a:moveTo>
                  <a:lnTo>
                    <a:pt x="83" y="41"/>
                  </a:lnTo>
                  <a:lnTo>
                    <a:pt x="0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300320" y="4008600"/>
              <a:ext cx="113400" cy="145800"/>
            </a:xfrm>
            <a:custGeom>
              <a:avLst/>
              <a:gdLst/>
              <a:ahLst/>
              <a:rect l="l" t="t" r="r" b="b"/>
              <a:pathLst>
                <a:path w="83" h="94">
                  <a:moveTo>
                    <a:pt x="83" y="0"/>
                  </a:moveTo>
                  <a:lnTo>
                    <a:pt x="0" y="52"/>
                  </a:lnTo>
                  <a:lnTo>
                    <a:pt x="83" y="9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6356520" y="5060880"/>
            <a:ext cx="114120" cy="12852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6470640" y="5045040"/>
            <a:ext cx="1420560" cy="161640"/>
            <a:chOff x="6470640" y="5045040"/>
            <a:chExt cx="1420560" cy="161640"/>
          </a:xfrm>
        </p:grpSpPr>
        <p:sp>
          <p:nvSpPr>
            <p:cNvPr id="1641" name=""/>
            <p:cNvSpPr/>
            <p:nvPr/>
          </p:nvSpPr>
          <p:spPr>
            <a:xfrm>
              <a:off x="7777800" y="5108760"/>
              <a:ext cx="2844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721640" y="5108760"/>
              <a:ext cx="2700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664400" y="5108760"/>
              <a:ext cx="2844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607880" y="5108760"/>
              <a:ext cx="2700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50640" y="5108760"/>
              <a:ext cx="2844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494480" y="5108760"/>
              <a:ext cx="2700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436880" y="5108760"/>
              <a:ext cx="2844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380720" y="5108760"/>
              <a:ext cx="2700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323480" y="5108760"/>
              <a:ext cx="2844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267320" y="5108760"/>
              <a:ext cx="2700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209720" y="5108760"/>
              <a:ext cx="2844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152120" y="5108760"/>
              <a:ext cx="2880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096320" y="5108760"/>
              <a:ext cx="2844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038360" y="5108760"/>
              <a:ext cx="2880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982560" y="5108760"/>
              <a:ext cx="2844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924960" y="5108760"/>
              <a:ext cx="2880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869160" y="5108760"/>
              <a:ext cx="2844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811200" y="5108760"/>
              <a:ext cx="2880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755400" y="5108760"/>
              <a:ext cx="2844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697800" y="5108760"/>
              <a:ext cx="2880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641640" y="5108760"/>
              <a:ext cx="2844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584040" y="5108760"/>
              <a:ext cx="2880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777800" y="5060880"/>
              <a:ext cx="113400" cy="145800"/>
            </a:xfrm>
            <a:custGeom>
              <a:avLst/>
              <a:gdLst/>
              <a:ahLst/>
              <a:rect l="l" t="t" r="r" b="b"/>
              <a:pathLst>
                <a:path w="83" h="94">
                  <a:moveTo>
                    <a:pt x="0" y="94"/>
                  </a:moveTo>
                  <a:lnTo>
                    <a:pt x="83" y="42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470640" y="5045040"/>
              <a:ext cx="113400" cy="14472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83" y="0"/>
                  </a:moveTo>
                  <a:lnTo>
                    <a:pt x="0" y="52"/>
                  </a:lnTo>
                  <a:lnTo>
                    <a:pt x="83" y="9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1384200" y="3878280"/>
            <a:ext cx="2858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455840" y="39276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437600" y="3814920"/>
            <a:ext cx="2984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508880" y="38638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437600" y="4915080"/>
            <a:ext cx="2984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508880" y="496404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664000" y="3046320"/>
            <a:ext cx="298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5280" y="311004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5106960" y="3062160"/>
            <a:ext cx="298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178600" y="311004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56520" y="3062160"/>
            <a:ext cx="298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427800" y="311004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959440" y="1638360"/>
            <a:ext cx="298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031080" y="16542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925640" y="2351160"/>
            <a:ext cx="298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2006640" y="234324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981840" y="2481120"/>
            <a:ext cx="29844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053120" y="24955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483080" y="2416320"/>
            <a:ext cx="297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552920" y="24652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571920" y="2043000"/>
            <a:ext cx="299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643200" y="20638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505480" y="1461960"/>
            <a:ext cx="298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575320" y="150984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470640" y="1978200"/>
            <a:ext cx="2984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541920" y="20271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606760" y="1978200"/>
            <a:ext cx="299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678040" y="20271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185840" y="3508200"/>
            <a:ext cx="582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1328040" y="35384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ar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255680" y="366876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gnall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268640" y="379872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423200" y="3441600"/>
            <a:ext cx="58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563600" y="34750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ar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493040" y="360504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gnall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507440" y="373212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2194920" y="4807080"/>
            <a:ext cx="2595960" cy="1271880"/>
            <a:chOff x="2194920" y="4807080"/>
            <a:chExt cx="2595960" cy="1271880"/>
          </a:xfrm>
        </p:grpSpPr>
        <p:sp>
          <p:nvSpPr>
            <p:cNvPr id="1702" name=""/>
            <p:cNvSpPr/>
            <p:nvPr/>
          </p:nvSpPr>
          <p:spPr>
            <a:xfrm>
              <a:off x="2203920" y="4807080"/>
              <a:ext cx="1663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ermination St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199600" y="5026320"/>
              <a:ext cx="375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-  Nul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194920" y="5158800"/>
              <a:ext cx="241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-  Loop Back External Signal (loopback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196720" y="5306760"/>
              <a:ext cx="170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-  Loop Back Internal Sign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6" name=""/>
            <p:cNvGrpSpPr/>
            <p:nvPr/>
          </p:nvGrpSpPr>
          <p:grpSpPr>
            <a:xfrm>
              <a:off x="2195640" y="5642280"/>
              <a:ext cx="2595240" cy="436680"/>
              <a:chOff x="2195640" y="5642280"/>
              <a:chExt cx="2595240" cy="436680"/>
            </a:xfrm>
          </p:grpSpPr>
          <p:sp>
            <p:nvSpPr>
              <p:cNvPr id="1707" name=""/>
              <p:cNvSpPr/>
              <p:nvPr/>
            </p:nvSpPr>
            <p:spPr>
              <a:xfrm>
                <a:off x="2206800" y="5642280"/>
                <a:ext cx="2584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-  Cut-Through Towards Context (Receive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196360" y="5763600"/>
                <a:ext cx="2225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-  Cut-Through From Context (Send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195640" y="5911200"/>
                <a:ext cx="2238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-  Cut-Through Both (Send / Receive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0" name=""/>
            <p:cNvSpPr/>
            <p:nvPr/>
          </p:nvSpPr>
          <p:spPr>
            <a:xfrm>
              <a:off x="2206080" y="5424120"/>
              <a:ext cx="117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ream M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1" name=""/>
          <p:cNvSpPr/>
          <p:nvPr/>
        </p:nvSpPr>
        <p:spPr>
          <a:xfrm>
            <a:off x="1870200" y="76320"/>
            <a:ext cx="5521320" cy="904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2238480" y="330120"/>
            <a:ext cx="1123920" cy="525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735440" y="299880"/>
            <a:ext cx="1123920" cy="525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145200" y="317520"/>
            <a:ext cx="1123920" cy="525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452320" y="43164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P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414480" y="41292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P-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003280" y="44280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P-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753720" y="3096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2629080" y="831600"/>
            <a:ext cx="0" cy="14158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H="1" flipV="1">
            <a:off x="5258880" y="788760"/>
            <a:ext cx="11160" cy="927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6799320" y="814320"/>
            <a:ext cx="0" cy="14162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725480" y="1173240"/>
            <a:ext cx="578808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4767120" y="3381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4" name=""/>
          <p:cNvGraphicFramePr/>
          <p:nvPr/>
        </p:nvGraphicFramePr>
        <p:xfrm>
          <a:off x="533520" y="230040"/>
          <a:ext cx="8001000" cy="678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0040"/>
                    <a:ext cx="8001000" cy="67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6" name=""/>
          <p:cNvGraphicFramePr/>
          <p:nvPr/>
        </p:nvGraphicFramePr>
        <p:xfrm>
          <a:off x="685800" y="228600"/>
          <a:ext cx="7924680" cy="67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7924680" cy="67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8" name=""/>
          <p:cNvGraphicFramePr/>
          <p:nvPr/>
        </p:nvGraphicFramePr>
        <p:xfrm>
          <a:off x="0" y="4680"/>
          <a:ext cx="1150632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1150632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9:27:52Z</dcterms:created>
  <dc:creator>Rolphe Buhrke</dc:creator>
  <dc:description/>
  <dc:language>en-US</dc:language>
  <cp:lastModifiedBy>Rolphe Buhrke</cp:lastModifiedBy>
  <cp:lastPrinted>2001-01-08T18:24:47Z</cp:lastPrinted>
  <dcterms:modified xsi:type="dcterms:W3CDTF">2001-01-08T18:25:18Z</dcterms:modified>
  <cp:revision>8</cp:revision>
  <dc:subject/>
  <dc:title>No Slide Title</dc:title>
</cp:coreProperties>
</file>