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wmf" ContentType="image/x-wmf"/>
  <Override PartName="/ppt/media/image9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5.png" ContentType="image/png"/>
  <Override PartName="/ppt/media/image10.wmf" ContentType="image/x-wmf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39360" y="939960"/>
            <a:ext cx="7867800" cy="26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39360" y="1879560"/>
            <a:ext cx="7867800" cy="161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39360" y="3647160"/>
            <a:ext cx="7867800" cy="161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39360" y="939960"/>
            <a:ext cx="7867800" cy="26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39360" y="1879560"/>
            <a:ext cx="3839400" cy="161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1000" y="1879560"/>
            <a:ext cx="3839400" cy="161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39360" y="3647160"/>
            <a:ext cx="3839400" cy="161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1000" y="3647160"/>
            <a:ext cx="3839400" cy="161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39360" y="939960"/>
            <a:ext cx="7867800" cy="26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39360" y="1879560"/>
            <a:ext cx="2533320" cy="161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9760" y="1879560"/>
            <a:ext cx="2533320" cy="161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0160" y="1879560"/>
            <a:ext cx="2533320" cy="161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39360" y="3647160"/>
            <a:ext cx="2533320" cy="161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9760" y="3647160"/>
            <a:ext cx="2533320" cy="161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0160" y="3647160"/>
            <a:ext cx="2533320" cy="161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39360" y="939960"/>
            <a:ext cx="7867800" cy="26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39360" y="1879560"/>
            <a:ext cx="7867800" cy="338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39360" y="939960"/>
            <a:ext cx="7867800" cy="26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39360" y="1879560"/>
            <a:ext cx="7867800" cy="338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39360" y="939960"/>
            <a:ext cx="7867800" cy="26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39360" y="1879560"/>
            <a:ext cx="3839400" cy="338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1000" y="1879560"/>
            <a:ext cx="3839400" cy="338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39360" y="939960"/>
            <a:ext cx="7867800" cy="26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39360" y="939960"/>
            <a:ext cx="7867800" cy="12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39360" y="939960"/>
            <a:ext cx="7867800" cy="26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39360" y="1879560"/>
            <a:ext cx="3839400" cy="161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1000" y="1879560"/>
            <a:ext cx="3839400" cy="338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39360" y="3647160"/>
            <a:ext cx="3839400" cy="161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39360" y="939960"/>
            <a:ext cx="7867800" cy="26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39360" y="1879560"/>
            <a:ext cx="3839400" cy="338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1000" y="1879560"/>
            <a:ext cx="3839400" cy="161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1000" y="3647160"/>
            <a:ext cx="3839400" cy="161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39360" y="939960"/>
            <a:ext cx="7867800" cy="26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39360" y="1879560"/>
            <a:ext cx="3839400" cy="161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1000" y="1879560"/>
            <a:ext cx="3839400" cy="161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39360" y="3647160"/>
            <a:ext cx="7867800" cy="161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9360" y="939960"/>
            <a:ext cx="7867800" cy="26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9360" y="1879560"/>
            <a:ext cx="7867800" cy="338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231480">
              <a:lnSpc>
                <a:spcPct val="87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90480" indent="-230040">
              <a:lnSpc>
                <a:spcPct val="87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218880">
              <a:lnSpc>
                <a:spcPct val="87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0160" indent="-231840">
              <a:lnSpc>
                <a:spcPct val="87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370160" indent="-231840">
              <a:lnSpc>
                <a:spcPct val="87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370160" indent="-231840">
              <a:lnSpc>
                <a:spcPct val="87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49440" y="6459480"/>
            <a:ext cx="785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15960" y="6337440"/>
            <a:ext cx="759600" cy="24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403F9-F95F-4E71-8C09-700B5963919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003480" y="452520"/>
            <a:ext cx="5575320" cy="90360"/>
          </a:xfrm>
          <a:prstGeom prst="rect">
            <a:avLst/>
          </a:prstGeom>
          <a:gradFill rotWithShape="0">
            <a:gsLst>
              <a:gs pos="0">
                <a:srgbClr val="993300"/>
              </a:gs>
              <a:gs pos="100000">
                <a:srgbClr val="4b19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28680" y="33480"/>
            <a:ext cx="2706480" cy="649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9.wmf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10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1.wmf"/><Relationship Id="rId17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31640"/>
            <a:ext cx="7772400" cy="10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Genuity Voice over IP Services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Overcoming Obstacles to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Delivering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liable, Scalable Voice over IP Service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29, 20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7600" y="6111720"/>
            <a:ext cx="8502480" cy="5781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90080" y="4559400"/>
            <a:ext cx="3490920" cy="13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7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ick Damen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7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ector VoIP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7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l: 781-262-72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7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ail: ndamenti@genuity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61440" y="707760"/>
            <a:ext cx="8504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 Implementation-- Challenges We Overcam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42440" y="1481040"/>
            <a:ext cx="7867800" cy="377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lvl="1" marL="342360" indent="-228960">
              <a:lnSpc>
                <a:spcPct val="9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place Accep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Voice over I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3280" indent="-2275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ed Enterprise VoIP Trial (9 Genuity Build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3280" indent="-2275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 score of 3.9, ranking comparable to PST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2360" indent="-228960">
              <a:lnSpc>
                <a:spcPct val="9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mature Software and 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3280" indent="-2275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Years to Reach Acceptable Quality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2360" indent="-228960">
              <a:lnSpc>
                <a:spcPct val="9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C Interconnection Difficul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3280" indent="-2275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sioning del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3280" indent="-2275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bound dial h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3280" indent="-2275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network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31280" y="639360"/>
            <a:ext cx="850428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 Implementation--Challenges We Overcam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42440" y="1080720"/>
            <a:ext cx="7867800" cy="50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lvl="1" marL="342360" indent="-228960">
              <a:lnSpc>
                <a:spcPct val="9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d Billing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3280" indent="-2275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able solution for CDR Aggregation and Ra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2360" indent="-228960">
              <a:lnSpc>
                <a:spcPct val="9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ing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3280" indent="-2275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tomer Integration Testb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3280" indent="-2275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 to End Network Element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2360" indent="-228960">
              <a:lnSpc>
                <a:spcPct val="9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lex Network Configuration and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3280" indent="-2275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1000 Network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3280" indent="-2275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VoIP Gateway Contains Complex Configuration Data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4-6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3280" indent="-2275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ment of a Large number of DIDs (&gt;2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3280" indent="-2275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local dial co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13400" indent="-216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% U.S. metro population, 450 rate centers, 58k (out of 100k) local ex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150840" y="685800"/>
            <a:ext cx="8461440" cy="5195520"/>
            <a:chOff x="150840" y="685800"/>
            <a:chExt cx="8461440" cy="5195520"/>
          </a:xfrm>
        </p:grpSpPr>
        <p:sp>
          <p:nvSpPr>
            <p:cNvPr id="77" name=""/>
            <p:cNvSpPr/>
            <p:nvPr/>
          </p:nvSpPr>
          <p:spPr>
            <a:xfrm flipH="1" flipV="1">
              <a:off x="2320920" y="1320840"/>
              <a:ext cx="1535040" cy="19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1971720" y="3348000"/>
              <a:ext cx="1884240" cy="174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0840" y="1736640"/>
              <a:ext cx="16081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lco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vision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44440" y="2898720"/>
              <a:ext cx="12686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ngineer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09560" y="4087800"/>
              <a:ext cx="6346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O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445120" y="5302080"/>
              <a:ext cx="12931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ustome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vision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136040" y="5302080"/>
              <a:ext cx="11786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egacy D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 flipV="1">
              <a:off x="2181240" y="2158920"/>
              <a:ext cx="1814400" cy="111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2112480" y="3274920"/>
              <a:ext cx="188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2182320" y="3279600"/>
              <a:ext cx="1744920" cy="83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3441600" y="3349800"/>
              <a:ext cx="486000" cy="104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930480" y="3279600"/>
              <a:ext cx="765360" cy="104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3929040" y="2228760"/>
              <a:ext cx="276120" cy="104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471200" y="3519360"/>
              <a:ext cx="9226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COM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3718080" y="2925720"/>
              <a:ext cx="2226960" cy="612720"/>
              <a:chOff x="3718080" y="2925720"/>
              <a:chExt cx="2226960" cy="612720"/>
            </a:xfrm>
          </p:grpSpPr>
          <p:grpSp>
            <p:nvGrpSpPr>
              <p:cNvPr id="92" name=""/>
              <p:cNvGrpSpPr/>
              <p:nvPr/>
            </p:nvGrpSpPr>
            <p:grpSpPr>
              <a:xfrm>
                <a:off x="3718080" y="2925720"/>
                <a:ext cx="2226960" cy="612720"/>
                <a:chOff x="3718080" y="2925720"/>
                <a:chExt cx="2226960" cy="61272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3718080" y="2925720"/>
                  <a:ext cx="2226960" cy="215280"/>
                </a:xfrm>
                <a:custGeom>
                  <a:avLst/>
                  <a:gdLst/>
                  <a:ahLst/>
                  <a:rect l="l" t="t" r="r" b="b"/>
                  <a:pathLst>
                    <a:path w="1529" h="148">
                      <a:moveTo>
                        <a:pt x="1326" y="147"/>
                      </a:moveTo>
                      <a:lnTo>
                        <a:pt x="0" y="147"/>
                      </a:lnTo>
                      <a:lnTo>
                        <a:pt x="366" y="0"/>
                      </a:lnTo>
                      <a:lnTo>
                        <a:pt x="1528" y="0"/>
                      </a:lnTo>
                      <a:lnTo>
                        <a:pt x="1326" y="147"/>
                      </a:lnTo>
                    </a:path>
                  </a:pathLst>
                </a:custGeom>
                <a:gradFill rotWithShape="0">
                  <a:gsLst>
                    <a:gs pos="0">
                      <a:srgbClr val="7b7b7b"/>
                    </a:gs>
                    <a:gs pos="100000">
                      <a:srgbClr val="cecece"/>
                    </a:gs>
                  </a:gsLst>
                  <a:lin ang="81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5649120" y="2925720"/>
                  <a:ext cx="295560" cy="612720"/>
                </a:xfrm>
                <a:custGeom>
                  <a:avLst/>
                  <a:gdLst/>
                  <a:ahLst/>
                  <a:rect l="l" t="t" r="r" b="b"/>
                  <a:pathLst>
                    <a:path w="203" h="421">
                      <a:moveTo>
                        <a:pt x="202" y="0"/>
                      </a:moveTo>
                      <a:lnTo>
                        <a:pt x="0" y="148"/>
                      </a:lnTo>
                      <a:lnTo>
                        <a:pt x="0" y="420"/>
                      </a:lnTo>
                      <a:lnTo>
                        <a:pt x="202" y="219"/>
                      </a:lnTo>
                      <a:lnTo>
                        <a:pt x="202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3719160" y="3141000"/>
                <a:ext cx="1929960" cy="394200"/>
                <a:chOff x="3719160" y="3141000"/>
                <a:chExt cx="1929960" cy="39420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3719160" y="3141000"/>
                  <a:ext cx="1929960" cy="394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cecece"/>
                    </a:gs>
                    <a:gs pos="100000">
                      <a:srgbClr val="8f8f8f"/>
                    </a:gs>
                  </a:gsLst>
                  <a:lin ang="81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 flipH="1">
                  <a:off x="3727800" y="3474000"/>
                  <a:ext cx="19137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5085720" y="3170160"/>
                <a:ext cx="490680" cy="159120"/>
                <a:chOff x="5085720" y="3170160"/>
                <a:chExt cx="490680" cy="159120"/>
              </a:xfrm>
            </p:grpSpPr>
            <p:grpSp>
              <p:nvGrpSpPr>
                <p:cNvPr id="99" name=""/>
                <p:cNvGrpSpPr/>
                <p:nvPr/>
              </p:nvGrpSpPr>
              <p:grpSpPr>
                <a:xfrm>
                  <a:off x="5085720" y="3210840"/>
                  <a:ext cx="490680" cy="118440"/>
                  <a:chOff x="5085720" y="3210840"/>
                  <a:chExt cx="490680" cy="118440"/>
                </a:xfrm>
              </p:grpSpPr>
              <p:sp>
                <p:nvSpPr>
                  <p:cNvPr id="100" name=""/>
                  <p:cNvSpPr/>
                  <p:nvPr/>
                </p:nvSpPr>
                <p:spPr>
                  <a:xfrm>
                    <a:off x="5085720" y="3220920"/>
                    <a:ext cx="490680" cy="108360"/>
                  </a:xfrm>
                  <a:prstGeom prst="rect">
                    <a:avLst/>
                  </a:prstGeom>
                  <a:solidFill>
                    <a:srgbClr val="919191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5155200" y="3274560"/>
                    <a:ext cx="354960" cy="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5254200" y="3251160"/>
                    <a:ext cx="158760" cy="49320"/>
                  </a:xfrm>
                  <a:prstGeom prst="rect">
                    <a:avLst/>
                  </a:prstGeom>
                  <a:solidFill>
                    <a:srgbClr val="00000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20" bIns="2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5464080" y="3210840"/>
                    <a:ext cx="85680" cy="21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4" name=""/>
                <p:cNvSpPr/>
                <p:nvPr/>
              </p:nvSpPr>
              <p:spPr>
                <a:xfrm>
                  <a:off x="5089680" y="3170160"/>
                  <a:ext cx="37800" cy="12960"/>
                </a:xfrm>
                <a:prstGeom prst="rect">
                  <a:avLst/>
                </a:prstGeom>
                <a:solidFill>
                  <a:srgbClr val="d1d1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" name=""/>
              <p:cNvGrpSpPr/>
              <p:nvPr/>
            </p:nvGrpSpPr>
            <p:grpSpPr>
              <a:xfrm>
                <a:off x="4002120" y="3396960"/>
                <a:ext cx="481680" cy="44640"/>
                <a:chOff x="4002120" y="3396960"/>
                <a:chExt cx="481680" cy="4464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4002120" y="3398040"/>
                  <a:ext cx="133920" cy="435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0"/>
                    </a:gs>
                    <a:gs pos="50000">
                      <a:srgbClr val="191919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4175280" y="3396960"/>
                  <a:ext cx="135360" cy="43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0"/>
                    </a:gs>
                    <a:gs pos="50000">
                      <a:srgbClr val="191919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4349880" y="3396960"/>
                  <a:ext cx="133920" cy="4320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0"/>
                    </a:gs>
                    <a:gs pos="50000">
                      <a:srgbClr val="191919"/>
                    </a:gs>
                    <a:gs pos="100000">
                      <a:srgbClr val="00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9" name=""/>
              <p:cNvSpPr/>
              <p:nvPr/>
            </p:nvSpPr>
            <p:spPr>
              <a:xfrm>
                <a:off x="3814200" y="3232800"/>
                <a:ext cx="158760" cy="158040"/>
              </a:xfrm>
              <a:prstGeom prst="diamond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1339920" y="1736640"/>
              <a:ext cx="1064880" cy="920160"/>
              <a:chOff x="1339920" y="1736640"/>
              <a:chExt cx="1064880" cy="920160"/>
            </a:xfrm>
          </p:grpSpPr>
          <p:sp>
            <p:nvSpPr>
              <p:cNvPr id="111" name=""/>
              <p:cNvSpPr/>
              <p:nvPr/>
            </p:nvSpPr>
            <p:spPr>
              <a:xfrm>
                <a:off x="1495800" y="2261160"/>
                <a:ext cx="909000" cy="103320"/>
              </a:xfrm>
              <a:custGeom>
                <a:avLst/>
                <a:gdLst/>
                <a:ahLst/>
                <a:rect l="l" t="t" r="r" b="b"/>
                <a:pathLst>
                  <a:path w="624" h="71">
                    <a:moveTo>
                      <a:pt x="525" y="70"/>
                    </a:moveTo>
                    <a:lnTo>
                      <a:pt x="0" y="70"/>
                    </a:lnTo>
                    <a:lnTo>
                      <a:pt x="180" y="0"/>
                    </a:lnTo>
                    <a:lnTo>
                      <a:pt x="623" y="0"/>
                    </a:lnTo>
                    <a:lnTo>
                      <a:pt x="525" y="70"/>
                    </a:lnTo>
                  </a:path>
                </a:pathLst>
              </a:custGeom>
              <a:gradFill rotWithShape="0">
                <a:gsLst>
                  <a:gs pos="0">
                    <a:srgbClr val="7b7b7b"/>
                  </a:gs>
                  <a:gs pos="100000">
                    <a:srgbClr val="cecece"/>
                  </a:gs>
                </a:gsLst>
                <a:lin ang="81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158920" y="2247840"/>
                <a:ext cx="98640" cy="92880"/>
              </a:xfrm>
              <a:custGeom>
                <a:avLst/>
                <a:gdLst/>
                <a:ahLst/>
                <a:rect l="l" t="t" r="r" b="b"/>
                <a:pathLst>
                  <a:path w="68" h="64">
                    <a:moveTo>
                      <a:pt x="0" y="43"/>
                    </a:moveTo>
                    <a:lnTo>
                      <a:pt x="67" y="0"/>
                    </a:lnTo>
                    <a:lnTo>
                      <a:pt x="67" y="17"/>
                    </a:lnTo>
                    <a:lnTo>
                      <a:pt x="0" y="63"/>
                    </a:lnTo>
                    <a:lnTo>
                      <a:pt x="0" y="4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260440" y="2262600"/>
                <a:ext cx="144360" cy="292680"/>
              </a:xfrm>
              <a:custGeom>
                <a:avLst/>
                <a:gdLst/>
                <a:ahLst/>
                <a:rect l="l" t="t" r="r" b="b"/>
                <a:pathLst>
                  <a:path w="99" h="201">
                    <a:moveTo>
                      <a:pt x="98" y="0"/>
                    </a:moveTo>
                    <a:lnTo>
                      <a:pt x="0" y="69"/>
                    </a:lnTo>
                    <a:lnTo>
                      <a:pt x="1" y="200"/>
                    </a:lnTo>
                    <a:lnTo>
                      <a:pt x="98" y="104"/>
                    </a:lnTo>
                    <a:lnTo>
                      <a:pt x="98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492560" y="2364480"/>
                <a:ext cx="767880" cy="189000"/>
              </a:xfrm>
              <a:prstGeom prst="rect">
                <a:avLst/>
              </a:prstGeom>
              <a:gradFill rotWithShape="0">
                <a:gsLst>
                  <a:gs pos="0">
                    <a:srgbClr val="919191"/>
                  </a:gs>
                  <a:gs pos="100000">
                    <a:srgbClr val="818181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510200" y="2387880"/>
                <a:ext cx="74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2035080" y="2409480"/>
                <a:ext cx="206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31160" y="2313360"/>
                <a:ext cx="527400" cy="24480"/>
              </a:xfrm>
              <a:prstGeom prst="rect">
                <a:avLst/>
              </a:prstGeom>
              <a:solidFill>
                <a:srgbClr val="676767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94240" y="2253600"/>
                <a:ext cx="291240" cy="48240"/>
              </a:xfrm>
              <a:custGeom>
                <a:avLst/>
                <a:gdLst/>
                <a:ahLst/>
                <a:rect l="l" t="t" r="r" b="b"/>
                <a:pathLst>
                  <a:path w="200" h="33">
                    <a:moveTo>
                      <a:pt x="0" y="18"/>
                    </a:moveTo>
                    <a:lnTo>
                      <a:pt x="0" y="0"/>
                    </a:lnTo>
                    <a:lnTo>
                      <a:pt x="199" y="0"/>
                    </a:lnTo>
                    <a:lnTo>
                      <a:pt x="199" y="18"/>
                    </a:lnTo>
                    <a:lnTo>
                      <a:pt x="197" y="20"/>
                    </a:lnTo>
                    <a:lnTo>
                      <a:pt x="196" y="22"/>
                    </a:lnTo>
                    <a:lnTo>
                      <a:pt x="192" y="23"/>
                    </a:lnTo>
                    <a:lnTo>
                      <a:pt x="187" y="24"/>
                    </a:lnTo>
                    <a:lnTo>
                      <a:pt x="182" y="25"/>
                    </a:lnTo>
                    <a:lnTo>
                      <a:pt x="177" y="27"/>
                    </a:lnTo>
                    <a:lnTo>
                      <a:pt x="170" y="28"/>
                    </a:lnTo>
                    <a:lnTo>
                      <a:pt x="163" y="28"/>
                    </a:lnTo>
                    <a:lnTo>
                      <a:pt x="156" y="29"/>
                    </a:lnTo>
                    <a:lnTo>
                      <a:pt x="146" y="30"/>
                    </a:lnTo>
                    <a:lnTo>
                      <a:pt x="137" y="31"/>
                    </a:lnTo>
                    <a:lnTo>
                      <a:pt x="129" y="32"/>
                    </a:lnTo>
                    <a:lnTo>
                      <a:pt x="119" y="32"/>
                    </a:lnTo>
                    <a:lnTo>
                      <a:pt x="108" y="32"/>
                    </a:lnTo>
                    <a:lnTo>
                      <a:pt x="94" y="32"/>
                    </a:lnTo>
                    <a:lnTo>
                      <a:pt x="82" y="32"/>
                    </a:lnTo>
                    <a:lnTo>
                      <a:pt x="68" y="32"/>
                    </a:lnTo>
                    <a:lnTo>
                      <a:pt x="57" y="31"/>
                    </a:lnTo>
                    <a:lnTo>
                      <a:pt x="49" y="30"/>
                    </a:lnTo>
                    <a:lnTo>
                      <a:pt x="41" y="29"/>
                    </a:lnTo>
                    <a:lnTo>
                      <a:pt x="33" y="28"/>
                    </a:lnTo>
                    <a:lnTo>
                      <a:pt x="24" y="27"/>
                    </a:lnTo>
                    <a:lnTo>
                      <a:pt x="19" y="26"/>
                    </a:lnTo>
                    <a:lnTo>
                      <a:pt x="11" y="24"/>
                    </a:lnTo>
                    <a:lnTo>
                      <a:pt x="7" y="24"/>
                    </a:lnTo>
                    <a:lnTo>
                      <a:pt x="4" y="23"/>
                    </a:lnTo>
                    <a:lnTo>
                      <a:pt x="3" y="21"/>
                    </a:lnTo>
                    <a:lnTo>
                      <a:pt x="0" y="20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333333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603440" y="1769760"/>
                <a:ext cx="636840" cy="492480"/>
              </a:xfrm>
              <a:prstGeom prst="rect">
                <a:avLst/>
              </a:prstGeom>
              <a:gradFill rotWithShape="0">
                <a:gsLst>
                  <a:gs pos="0">
                    <a:srgbClr val="ababab"/>
                  </a:gs>
                  <a:gs pos="50000">
                    <a:srgbClr val="c0c0c0"/>
                  </a:gs>
                  <a:gs pos="100000">
                    <a:srgbClr val="ababab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677600" y="1825200"/>
                <a:ext cx="490680" cy="38016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>
                <a:off x="2147760" y="2236320"/>
                <a:ext cx="3960" cy="828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709640" y="1844280"/>
                <a:ext cx="435600" cy="335160"/>
              </a:xfrm>
              <a:prstGeom prst="rect">
                <a:avLst/>
              </a:prstGeom>
              <a:solidFill>
                <a:srgbClr val="00c3df"/>
              </a:solidFill>
              <a:ln w="12600">
                <a:solidFill>
                  <a:srgbClr val="a2c1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3" name=""/>
              <p:cNvGrpSpPr/>
              <p:nvPr/>
            </p:nvGrpSpPr>
            <p:grpSpPr>
              <a:xfrm>
                <a:off x="1339920" y="2535120"/>
                <a:ext cx="965880" cy="121680"/>
                <a:chOff x="1339920" y="2535120"/>
                <a:chExt cx="965880" cy="12168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1342800" y="2628000"/>
                  <a:ext cx="857880" cy="27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c0c0c0"/>
                    </a:gs>
                    <a:gs pos="100000">
                      <a:srgbClr val="ababab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1339920" y="2535120"/>
                  <a:ext cx="965880" cy="94320"/>
                </a:xfrm>
                <a:custGeom>
                  <a:avLst/>
                  <a:gdLst/>
                  <a:ahLst/>
                  <a:rect l="l" t="t" r="r" b="b"/>
                  <a:pathLst>
                    <a:path w="663" h="65">
                      <a:moveTo>
                        <a:pt x="0" y="64"/>
                      </a:moveTo>
                      <a:lnTo>
                        <a:pt x="593" y="64"/>
                      </a:lnTo>
                      <a:lnTo>
                        <a:pt x="662" y="0"/>
                      </a:lnTo>
                      <a:lnTo>
                        <a:pt x="94" y="0"/>
                      </a:lnTo>
                      <a:lnTo>
                        <a:pt x="0" y="64"/>
                      </a:lnTo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ababab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2202120" y="2536200"/>
                  <a:ext cx="103320" cy="120600"/>
                </a:xfrm>
                <a:custGeom>
                  <a:avLst/>
                  <a:gdLst/>
                  <a:ahLst/>
                  <a:rect l="l" t="t" r="r" b="b"/>
                  <a:pathLst>
                    <a:path w="71" h="83">
                      <a:moveTo>
                        <a:pt x="0" y="64"/>
                      </a:moveTo>
                      <a:lnTo>
                        <a:pt x="70" y="0"/>
                      </a:lnTo>
                      <a:lnTo>
                        <a:pt x="70" y="15"/>
                      </a:lnTo>
                      <a:lnTo>
                        <a:pt x="0" y="82"/>
                      </a:lnTo>
                      <a:lnTo>
                        <a:pt x="0" y="64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1600920" y="1736640"/>
                <a:ext cx="712080" cy="36000"/>
              </a:xfrm>
              <a:custGeom>
                <a:avLst/>
                <a:gdLst/>
                <a:ahLst/>
                <a:rect l="l" t="t" r="r" b="b"/>
                <a:pathLst>
                  <a:path w="489" h="25">
                    <a:moveTo>
                      <a:pt x="0" y="24"/>
                    </a:moveTo>
                    <a:lnTo>
                      <a:pt x="78" y="0"/>
                    </a:lnTo>
                    <a:lnTo>
                      <a:pt x="488" y="0"/>
                    </a:lnTo>
                    <a:lnTo>
                      <a:pt x="438" y="24"/>
                    </a:lnTo>
                    <a:lnTo>
                      <a:pt x="0" y="24"/>
                    </a:lnTo>
                  </a:path>
                </a:pathLst>
              </a:custGeom>
              <a:gradFill rotWithShape="0">
                <a:gsLst>
                  <a:gs pos="0">
                    <a:srgbClr val="919191"/>
                  </a:gs>
                  <a:gs pos="100000">
                    <a:srgbClr val="fefefe"/>
                  </a:gs>
                </a:gsLst>
                <a:lin ang="135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238840" y="1737720"/>
                <a:ext cx="74160" cy="525960"/>
              </a:xfrm>
              <a:custGeom>
                <a:avLst/>
                <a:gdLst/>
                <a:ahLst/>
                <a:rect l="l" t="t" r="r" b="b"/>
                <a:pathLst>
                  <a:path w="51" h="361">
                    <a:moveTo>
                      <a:pt x="0" y="360"/>
                    </a:moveTo>
                    <a:lnTo>
                      <a:pt x="50" y="325"/>
                    </a:lnTo>
                    <a:lnTo>
                      <a:pt x="50" y="0"/>
                    </a:lnTo>
                    <a:lnTo>
                      <a:pt x="0" y="23"/>
                    </a:lnTo>
                    <a:lnTo>
                      <a:pt x="0" y="36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1200240" y="2786040"/>
              <a:ext cx="1064880" cy="920160"/>
              <a:chOff x="1200240" y="2786040"/>
              <a:chExt cx="1064880" cy="920160"/>
            </a:xfrm>
          </p:grpSpPr>
          <p:sp>
            <p:nvSpPr>
              <p:cNvPr id="130" name=""/>
              <p:cNvSpPr/>
              <p:nvPr/>
            </p:nvSpPr>
            <p:spPr>
              <a:xfrm>
                <a:off x="1356120" y="3310560"/>
                <a:ext cx="909000" cy="103320"/>
              </a:xfrm>
              <a:custGeom>
                <a:avLst/>
                <a:gdLst/>
                <a:ahLst/>
                <a:rect l="l" t="t" r="r" b="b"/>
                <a:pathLst>
                  <a:path w="624" h="71">
                    <a:moveTo>
                      <a:pt x="525" y="70"/>
                    </a:moveTo>
                    <a:lnTo>
                      <a:pt x="0" y="70"/>
                    </a:lnTo>
                    <a:lnTo>
                      <a:pt x="180" y="0"/>
                    </a:lnTo>
                    <a:lnTo>
                      <a:pt x="623" y="0"/>
                    </a:lnTo>
                    <a:lnTo>
                      <a:pt x="525" y="70"/>
                    </a:lnTo>
                  </a:path>
                </a:pathLst>
              </a:custGeom>
              <a:gradFill rotWithShape="0">
                <a:gsLst>
                  <a:gs pos="0">
                    <a:srgbClr val="7b7b7b"/>
                  </a:gs>
                  <a:gs pos="100000">
                    <a:srgbClr val="cecece"/>
                  </a:gs>
                </a:gsLst>
                <a:lin ang="81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018880" y="3297240"/>
                <a:ext cx="99000" cy="92880"/>
              </a:xfrm>
              <a:custGeom>
                <a:avLst/>
                <a:gdLst/>
                <a:ahLst/>
                <a:rect l="l" t="t" r="r" b="b"/>
                <a:pathLst>
                  <a:path w="68" h="64">
                    <a:moveTo>
                      <a:pt x="0" y="43"/>
                    </a:moveTo>
                    <a:lnTo>
                      <a:pt x="67" y="0"/>
                    </a:lnTo>
                    <a:lnTo>
                      <a:pt x="67" y="17"/>
                    </a:lnTo>
                    <a:lnTo>
                      <a:pt x="0" y="63"/>
                    </a:lnTo>
                    <a:lnTo>
                      <a:pt x="0" y="4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120760" y="3312000"/>
                <a:ext cx="144360" cy="292680"/>
              </a:xfrm>
              <a:custGeom>
                <a:avLst/>
                <a:gdLst/>
                <a:ahLst/>
                <a:rect l="l" t="t" r="r" b="b"/>
                <a:pathLst>
                  <a:path w="99" h="201">
                    <a:moveTo>
                      <a:pt x="98" y="0"/>
                    </a:moveTo>
                    <a:lnTo>
                      <a:pt x="0" y="69"/>
                    </a:lnTo>
                    <a:lnTo>
                      <a:pt x="1" y="200"/>
                    </a:lnTo>
                    <a:lnTo>
                      <a:pt x="98" y="104"/>
                    </a:lnTo>
                    <a:lnTo>
                      <a:pt x="98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352880" y="3413880"/>
                <a:ext cx="767880" cy="189000"/>
              </a:xfrm>
              <a:prstGeom prst="rect">
                <a:avLst/>
              </a:prstGeom>
              <a:gradFill rotWithShape="0">
                <a:gsLst>
                  <a:gs pos="0">
                    <a:srgbClr val="919191"/>
                  </a:gs>
                  <a:gs pos="100000">
                    <a:srgbClr val="818181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370520" y="3437280"/>
                <a:ext cx="74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>
                <a:off x="1894680" y="3458880"/>
                <a:ext cx="207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491480" y="3362760"/>
                <a:ext cx="527040" cy="24480"/>
              </a:xfrm>
              <a:prstGeom prst="rect">
                <a:avLst/>
              </a:prstGeom>
              <a:solidFill>
                <a:srgbClr val="676767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654560" y="3303000"/>
                <a:ext cx="291240" cy="48240"/>
              </a:xfrm>
              <a:custGeom>
                <a:avLst/>
                <a:gdLst/>
                <a:ahLst/>
                <a:rect l="l" t="t" r="r" b="b"/>
                <a:pathLst>
                  <a:path w="200" h="33">
                    <a:moveTo>
                      <a:pt x="0" y="18"/>
                    </a:moveTo>
                    <a:lnTo>
                      <a:pt x="0" y="0"/>
                    </a:lnTo>
                    <a:lnTo>
                      <a:pt x="199" y="0"/>
                    </a:lnTo>
                    <a:lnTo>
                      <a:pt x="199" y="18"/>
                    </a:lnTo>
                    <a:lnTo>
                      <a:pt x="197" y="20"/>
                    </a:lnTo>
                    <a:lnTo>
                      <a:pt x="196" y="22"/>
                    </a:lnTo>
                    <a:lnTo>
                      <a:pt x="192" y="23"/>
                    </a:lnTo>
                    <a:lnTo>
                      <a:pt x="187" y="24"/>
                    </a:lnTo>
                    <a:lnTo>
                      <a:pt x="182" y="25"/>
                    </a:lnTo>
                    <a:lnTo>
                      <a:pt x="177" y="27"/>
                    </a:lnTo>
                    <a:lnTo>
                      <a:pt x="170" y="28"/>
                    </a:lnTo>
                    <a:lnTo>
                      <a:pt x="163" y="28"/>
                    </a:lnTo>
                    <a:lnTo>
                      <a:pt x="156" y="29"/>
                    </a:lnTo>
                    <a:lnTo>
                      <a:pt x="146" y="30"/>
                    </a:lnTo>
                    <a:lnTo>
                      <a:pt x="137" y="31"/>
                    </a:lnTo>
                    <a:lnTo>
                      <a:pt x="129" y="32"/>
                    </a:lnTo>
                    <a:lnTo>
                      <a:pt x="119" y="32"/>
                    </a:lnTo>
                    <a:lnTo>
                      <a:pt x="108" y="32"/>
                    </a:lnTo>
                    <a:lnTo>
                      <a:pt x="94" y="32"/>
                    </a:lnTo>
                    <a:lnTo>
                      <a:pt x="82" y="32"/>
                    </a:lnTo>
                    <a:lnTo>
                      <a:pt x="68" y="32"/>
                    </a:lnTo>
                    <a:lnTo>
                      <a:pt x="57" y="31"/>
                    </a:lnTo>
                    <a:lnTo>
                      <a:pt x="49" y="30"/>
                    </a:lnTo>
                    <a:lnTo>
                      <a:pt x="41" y="29"/>
                    </a:lnTo>
                    <a:lnTo>
                      <a:pt x="33" y="28"/>
                    </a:lnTo>
                    <a:lnTo>
                      <a:pt x="24" y="27"/>
                    </a:lnTo>
                    <a:lnTo>
                      <a:pt x="19" y="26"/>
                    </a:lnTo>
                    <a:lnTo>
                      <a:pt x="11" y="24"/>
                    </a:lnTo>
                    <a:lnTo>
                      <a:pt x="7" y="24"/>
                    </a:lnTo>
                    <a:lnTo>
                      <a:pt x="4" y="23"/>
                    </a:lnTo>
                    <a:lnTo>
                      <a:pt x="3" y="21"/>
                    </a:lnTo>
                    <a:lnTo>
                      <a:pt x="0" y="20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333333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463760" y="2819160"/>
                <a:ext cx="636480" cy="492480"/>
              </a:xfrm>
              <a:prstGeom prst="rect">
                <a:avLst/>
              </a:prstGeom>
              <a:gradFill rotWithShape="0">
                <a:gsLst>
                  <a:gs pos="0">
                    <a:srgbClr val="ababab"/>
                  </a:gs>
                  <a:gs pos="50000">
                    <a:srgbClr val="c0c0c0"/>
                  </a:gs>
                  <a:gs pos="100000">
                    <a:srgbClr val="ababab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537920" y="2874600"/>
                <a:ext cx="490680" cy="38016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H="1">
                <a:off x="2008440" y="3285720"/>
                <a:ext cx="4320" cy="828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569960" y="2893680"/>
                <a:ext cx="435600" cy="335160"/>
              </a:xfrm>
              <a:prstGeom prst="rect">
                <a:avLst/>
              </a:prstGeom>
              <a:solidFill>
                <a:srgbClr val="00c3df"/>
              </a:solidFill>
              <a:ln w="12600">
                <a:solidFill>
                  <a:srgbClr val="a2c1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2" name=""/>
              <p:cNvGrpSpPr/>
              <p:nvPr/>
            </p:nvGrpSpPr>
            <p:grpSpPr>
              <a:xfrm>
                <a:off x="1200240" y="3584520"/>
                <a:ext cx="965880" cy="121680"/>
                <a:chOff x="1200240" y="3584520"/>
                <a:chExt cx="965880" cy="12168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1203120" y="3677400"/>
                  <a:ext cx="857880" cy="27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c0c0c0"/>
                    </a:gs>
                    <a:gs pos="100000">
                      <a:srgbClr val="ababab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200240" y="3584520"/>
                  <a:ext cx="965880" cy="94320"/>
                </a:xfrm>
                <a:custGeom>
                  <a:avLst/>
                  <a:gdLst/>
                  <a:ahLst/>
                  <a:rect l="l" t="t" r="r" b="b"/>
                  <a:pathLst>
                    <a:path w="663" h="65">
                      <a:moveTo>
                        <a:pt x="0" y="64"/>
                      </a:moveTo>
                      <a:lnTo>
                        <a:pt x="593" y="64"/>
                      </a:lnTo>
                      <a:lnTo>
                        <a:pt x="662" y="0"/>
                      </a:lnTo>
                      <a:lnTo>
                        <a:pt x="94" y="0"/>
                      </a:lnTo>
                      <a:lnTo>
                        <a:pt x="0" y="64"/>
                      </a:lnTo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ababab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2062440" y="3585600"/>
                  <a:ext cx="103320" cy="120600"/>
                </a:xfrm>
                <a:custGeom>
                  <a:avLst/>
                  <a:gdLst/>
                  <a:ahLst/>
                  <a:rect l="l" t="t" r="r" b="b"/>
                  <a:pathLst>
                    <a:path w="71" h="83">
                      <a:moveTo>
                        <a:pt x="0" y="64"/>
                      </a:moveTo>
                      <a:lnTo>
                        <a:pt x="70" y="0"/>
                      </a:lnTo>
                      <a:lnTo>
                        <a:pt x="70" y="15"/>
                      </a:lnTo>
                      <a:lnTo>
                        <a:pt x="0" y="82"/>
                      </a:lnTo>
                      <a:lnTo>
                        <a:pt x="0" y="64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6" name=""/>
              <p:cNvSpPr/>
              <p:nvPr/>
            </p:nvSpPr>
            <p:spPr>
              <a:xfrm>
                <a:off x="1460880" y="2786040"/>
                <a:ext cx="712440" cy="36000"/>
              </a:xfrm>
              <a:custGeom>
                <a:avLst/>
                <a:gdLst/>
                <a:ahLst/>
                <a:rect l="l" t="t" r="r" b="b"/>
                <a:pathLst>
                  <a:path w="489" h="25">
                    <a:moveTo>
                      <a:pt x="0" y="24"/>
                    </a:moveTo>
                    <a:lnTo>
                      <a:pt x="78" y="0"/>
                    </a:lnTo>
                    <a:lnTo>
                      <a:pt x="488" y="0"/>
                    </a:lnTo>
                    <a:lnTo>
                      <a:pt x="438" y="24"/>
                    </a:lnTo>
                    <a:lnTo>
                      <a:pt x="0" y="24"/>
                    </a:lnTo>
                  </a:path>
                </a:pathLst>
              </a:custGeom>
              <a:gradFill rotWithShape="0">
                <a:gsLst>
                  <a:gs pos="0">
                    <a:srgbClr val="919191"/>
                  </a:gs>
                  <a:gs pos="100000">
                    <a:srgbClr val="fefefe"/>
                  </a:gs>
                </a:gsLst>
                <a:lin ang="135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099160" y="2787120"/>
                <a:ext cx="74160" cy="525960"/>
              </a:xfrm>
              <a:custGeom>
                <a:avLst/>
                <a:gdLst/>
                <a:ahLst/>
                <a:rect l="l" t="t" r="r" b="b"/>
                <a:pathLst>
                  <a:path w="51" h="361">
                    <a:moveTo>
                      <a:pt x="0" y="360"/>
                    </a:moveTo>
                    <a:lnTo>
                      <a:pt x="50" y="325"/>
                    </a:lnTo>
                    <a:lnTo>
                      <a:pt x="50" y="0"/>
                    </a:lnTo>
                    <a:lnTo>
                      <a:pt x="0" y="23"/>
                    </a:lnTo>
                    <a:lnTo>
                      <a:pt x="0" y="36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1200240" y="3833640"/>
              <a:ext cx="1064880" cy="920160"/>
              <a:chOff x="1200240" y="3833640"/>
              <a:chExt cx="1064880" cy="920160"/>
            </a:xfrm>
          </p:grpSpPr>
          <p:sp>
            <p:nvSpPr>
              <p:cNvPr id="149" name=""/>
              <p:cNvSpPr/>
              <p:nvPr/>
            </p:nvSpPr>
            <p:spPr>
              <a:xfrm>
                <a:off x="1356120" y="4358160"/>
                <a:ext cx="909000" cy="103320"/>
              </a:xfrm>
              <a:custGeom>
                <a:avLst/>
                <a:gdLst/>
                <a:ahLst/>
                <a:rect l="l" t="t" r="r" b="b"/>
                <a:pathLst>
                  <a:path w="624" h="71">
                    <a:moveTo>
                      <a:pt x="525" y="70"/>
                    </a:moveTo>
                    <a:lnTo>
                      <a:pt x="0" y="70"/>
                    </a:lnTo>
                    <a:lnTo>
                      <a:pt x="180" y="0"/>
                    </a:lnTo>
                    <a:lnTo>
                      <a:pt x="623" y="0"/>
                    </a:lnTo>
                    <a:lnTo>
                      <a:pt x="525" y="70"/>
                    </a:lnTo>
                  </a:path>
                </a:pathLst>
              </a:custGeom>
              <a:gradFill rotWithShape="0">
                <a:gsLst>
                  <a:gs pos="0">
                    <a:srgbClr val="7b7b7b"/>
                  </a:gs>
                  <a:gs pos="100000">
                    <a:srgbClr val="cecece"/>
                  </a:gs>
                </a:gsLst>
                <a:lin ang="81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018880" y="4344840"/>
                <a:ext cx="99000" cy="92880"/>
              </a:xfrm>
              <a:custGeom>
                <a:avLst/>
                <a:gdLst/>
                <a:ahLst/>
                <a:rect l="l" t="t" r="r" b="b"/>
                <a:pathLst>
                  <a:path w="68" h="64">
                    <a:moveTo>
                      <a:pt x="0" y="43"/>
                    </a:moveTo>
                    <a:lnTo>
                      <a:pt x="67" y="0"/>
                    </a:lnTo>
                    <a:lnTo>
                      <a:pt x="67" y="17"/>
                    </a:lnTo>
                    <a:lnTo>
                      <a:pt x="0" y="63"/>
                    </a:lnTo>
                    <a:lnTo>
                      <a:pt x="0" y="4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120760" y="4359600"/>
                <a:ext cx="144360" cy="292680"/>
              </a:xfrm>
              <a:custGeom>
                <a:avLst/>
                <a:gdLst/>
                <a:ahLst/>
                <a:rect l="l" t="t" r="r" b="b"/>
                <a:pathLst>
                  <a:path w="99" h="201">
                    <a:moveTo>
                      <a:pt x="98" y="0"/>
                    </a:moveTo>
                    <a:lnTo>
                      <a:pt x="0" y="69"/>
                    </a:lnTo>
                    <a:lnTo>
                      <a:pt x="1" y="200"/>
                    </a:lnTo>
                    <a:lnTo>
                      <a:pt x="98" y="104"/>
                    </a:lnTo>
                    <a:lnTo>
                      <a:pt x="98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352880" y="4461480"/>
                <a:ext cx="767880" cy="189000"/>
              </a:xfrm>
              <a:prstGeom prst="rect">
                <a:avLst/>
              </a:prstGeom>
              <a:gradFill rotWithShape="0">
                <a:gsLst>
                  <a:gs pos="0">
                    <a:srgbClr val="919191"/>
                  </a:gs>
                  <a:gs pos="100000">
                    <a:srgbClr val="818181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370520" y="4484880"/>
                <a:ext cx="74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>
                <a:off x="1894680" y="4506480"/>
                <a:ext cx="207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491480" y="4410360"/>
                <a:ext cx="527040" cy="24480"/>
              </a:xfrm>
              <a:prstGeom prst="rect">
                <a:avLst/>
              </a:prstGeom>
              <a:solidFill>
                <a:srgbClr val="676767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654560" y="4350600"/>
                <a:ext cx="291240" cy="48240"/>
              </a:xfrm>
              <a:custGeom>
                <a:avLst/>
                <a:gdLst/>
                <a:ahLst/>
                <a:rect l="l" t="t" r="r" b="b"/>
                <a:pathLst>
                  <a:path w="200" h="33">
                    <a:moveTo>
                      <a:pt x="0" y="18"/>
                    </a:moveTo>
                    <a:lnTo>
                      <a:pt x="0" y="0"/>
                    </a:lnTo>
                    <a:lnTo>
                      <a:pt x="199" y="0"/>
                    </a:lnTo>
                    <a:lnTo>
                      <a:pt x="199" y="18"/>
                    </a:lnTo>
                    <a:lnTo>
                      <a:pt x="197" y="20"/>
                    </a:lnTo>
                    <a:lnTo>
                      <a:pt x="196" y="22"/>
                    </a:lnTo>
                    <a:lnTo>
                      <a:pt x="192" y="23"/>
                    </a:lnTo>
                    <a:lnTo>
                      <a:pt x="187" y="24"/>
                    </a:lnTo>
                    <a:lnTo>
                      <a:pt x="182" y="25"/>
                    </a:lnTo>
                    <a:lnTo>
                      <a:pt x="177" y="27"/>
                    </a:lnTo>
                    <a:lnTo>
                      <a:pt x="170" y="28"/>
                    </a:lnTo>
                    <a:lnTo>
                      <a:pt x="163" y="28"/>
                    </a:lnTo>
                    <a:lnTo>
                      <a:pt x="156" y="29"/>
                    </a:lnTo>
                    <a:lnTo>
                      <a:pt x="146" y="30"/>
                    </a:lnTo>
                    <a:lnTo>
                      <a:pt x="137" y="31"/>
                    </a:lnTo>
                    <a:lnTo>
                      <a:pt x="129" y="32"/>
                    </a:lnTo>
                    <a:lnTo>
                      <a:pt x="119" y="32"/>
                    </a:lnTo>
                    <a:lnTo>
                      <a:pt x="108" y="32"/>
                    </a:lnTo>
                    <a:lnTo>
                      <a:pt x="94" y="32"/>
                    </a:lnTo>
                    <a:lnTo>
                      <a:pt x="82" y="32"/>
                    </a:lnTo>
                    <a:lnTo>
                      <a:pt x="68" y="32"/>
                    </a:lnTo>
                    <a:lnTo>
                      <a:pt x="57" y="31"/>
                    </a:lnTo>
                    <a:lnTo>
                      <a:pt x="49" y="30"/>
                    </a:lnTo>
                    <a:lnTo>
                      <a:pt x="41" y="29"/>
                    </a:lnTo>
                    <a:lnTo>
                      <a:pt x="33" y="28"/>
                    </a:lnTo>
                    <a:lnTo>
                      <a:pt x="24" y="27"/>
                    </a:lnTo>
                    <a:lnTo>
                      <a:pt x="19" y="26"/>
                    </a:lnTo>
                    <a:lnTo>
                      <a:pt x="11" y="24"/>
                    </a:lnTo>
                    <a:lnTo>
                      <a:pt x="7" y="24"/>
                    </a:lnTo>
                    <a:lnTo>
                      <a:pt x="4" y="23"/>
                    </a:lnTo>
                    <a:lnTo>
                      <a:pt x="3" y="21"/>
                    </a:lnTo>
                    <a:lnTo>
                      <a:pt x="0" y="20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333333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463760" y="3866760"/>
                <a:ext cx="636480" cy="492480"/>
              </a:xfrm>
              <a:prstGeom prst="rect">
                <a:avLst/>
              </a:prstGeom>
              <a:gradFill rotWithShape="0">
                <a:gsLst>
                  <a:gs pos="0">
                    <a:srgbClr val="ababab"/>
                  </a:gs>
                  <a:gs pos="50000">
                    <a:srgbClr val="c0c0c0"/>
                  </a:gs>
                  <a:gs pos="100000">
                    <a:srgbClr val="ababab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537920" y="3922200"/>
                <a:ext cx="490680" cy="38016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2008440" y="4333320"/>
                <a:ext cx="4320" cy="828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569960" y="3941280"/>
                <a:ext cx="435600" cy="335160"/>
              </a:xfrm>
              <a:prstGeom prst="rect">
                <a:avLst/>
              </a:prstGeom>
              <a:solidFill>
                <a:srgbClr val="00c3df"/>
              </a:solidFill>
              <a:ln w="12600">
                <a:solidFill>
                  <a:srgbClr val="a2c1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1200240" y="4632120"/>
                <a:ext cx="965880" cy="121680"/>
                <a:chOff x="1200240" y="4632120"/>
                <a:chExt cx="965880" cy="12168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1203120" y="4725000"/>
                  <a:ext cx="857880" cy="27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c0c0c0"/>
                    </a:gs>
                    <a:gs pos="100000">
                      <a:srgbClr val="ababab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1200240" y="4632120"/>
                  <a:ext cx="965880" cy="94320"/>
                </a:xfrm>
                <a:custGeom>
                  <a:avLst/>
                  <a:gdLst/>
                  <a:ahLst/>
                  <a:rect l="l" t="t" r="r" b="b"/>
                  <a:pathLst>
                    <a:path w="663" h="65">
                      <a:moveTo>
                        <a:pt x="0" y="64"/>
                      </a:moveTo>
                      <a:lnTo>
                        <a:pt x="593" y="64"/>
                      </a:lnTo>
                      <a:lnTo>
                        <a:pt x="662" y="0"/>
                      </a:lnTo>
                      <a:lnTo>
                        <a:pt x="94" y="0"/>
                      </a:lnTo>
                      <a:lnTo>
                        <a:pt x="0" y="64"/>
                      </a:lnTo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ababab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062440" y="4633200"/>
                  <a:ext cx="103320" cy="120600"/>
                </a:xfrm>
                <a:custGeom>
                  <a:avLst/>
                  <a:gdLst/>
                  <a:ahLst/>
                  <a:rect l="l" t="t" r="r" b="b"/>
                  <a:pathLst>
                    <a:path w="71" h="83">
                      <a:moveTo>
                        <a:pt x="0" y="64"/>
                      </a:moveTo>
                      <a:lnTo>
                        <a:pt x="70" y="0"/>
                      </a:lnTo>
                      <a:lnTo>
                        <a:pt x="70" y="15"/>
                      </a:lnTo>
                      <a:lnTo>
                        <a:pt x="0" y="82"/>
                      </a:lnTo>
                      <a:lnTo>
                        <a:pt x="0" y="64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5" name=""/>
              <p:cNvSpPr/>
              <p:nvPr/>
            </p:nvSpPr>
            <p:spPr>
              <a:xfrm>
                <a:off x="1460880" y="3833640"/>
                <a:ext cx="712440" cy="36000"/>
              </a:xfrm>
              <a:custGeom>
                <a:avLst/>
                <a:gdLst/>
                <a:ahLst/>
                <a:rect l="l" t="t" r="r" b="b"/>
                <a:pathLst>
                  <a:path w="489" h="25">
                    <a:moveTo>
                      <a:pt x="0" y="24"/>
                    </a:moveTo>
                    <a:lnTo>
                      <a:pt x="78" y="0"/>
                    </a:lnTo>
                    <a:lnTo>
                      <a:pt x="488" y="0"/>
                    </a:lnTo>
                    <a:lnTo>
                      <a:pt x="438" y="24"/>
                    </a:lnTo>
                    <a:lnTo>
                      <a:pt x="0" y="24"/>
                    </a:lnTo>
                  </a:path>
                </a:pathLst>
              </a:custGeom>
              <a:gradFill rotWithShape="0">
                <a:gsLst>
                  <a:gs pos="0">
                    <a:srgbClr val="919191"/>
                  </a:gs>
                  <a:gs pos="100000">
                    <a:srgbClr val="fefefe"/>
                  </a:gs>
                </a:gsLst>
                <a:lin ang="135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099160" y="3834720"/>
                <a:ext cx="74160" cy="525960"/>
              </a:xfrm>
              <a:custGeom>
                <a:avLst/>
                <a:gdLst/>
                <a:ahLst/>
                <a:rect l="l" t="t" r="r" b="b"/>
                <a:pathLst>
                  <a:path w="51" h="361">
                    <a:moveTo>
                      <a:pt x="0" y="360"/>
                    </a:moveTo>
                    <a:lnTo>
                      <a:pt x="50" y="325"/>
                    </a:lnTo>
                    <a:lnTo>
                      <a:pt x="50" y="0"/>
                    </a:lnTo>
                    <a:lnTo>
                      <a:pt x="0" y="23"/>
                    </a:lnTo>
                    <a:lnTo>
                      <a:pt x="0" y="36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4346640" y="4183200"/>
              <a:ext cx="560160" cy="1118880"/>
              <a:chOff x="4346640" y="4183200"/>
              <a:chExt cx="560160" cy="1118880"/>
            </a:xfrm>
          </p:grpSpPr>
          <p:sp>
            <p:nvSpPr>
              <p:cNvPr id="168" name=""/>
              <p:cNvSpPr/>
              <p:nvPr/>
            </p:nvSpPr>
            <p:spPr>
              <a:xfrm>
                <a:off x="4375440" y="4804920"/>
                <a:ext cx="107640" cy="28980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347720" y="4416120"/>
                <a:ext cx="372240" cy="4212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0" name=""/>
              <p:cNvGrpSpPr/>
              <p:nvPr/>
            </p:nvGrpSpPr>
            <p:grpSpPr>
              <a:xfrm>
                <a:off x="4347720" y="4459680"/>
                <a:ext cx="360360" cy="842040"/>
                <a:chOff x="4347720" y="4459680"/>
                <a:chExt cx="360360" cy="84204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4347720" y="4459680"/>
                  <a:ext cx="156960" cy="842040"/>
                </a:xfrm>
                <a:prstGeom prst="rect">
                  <a:avLst/>
                </a:prstGeom>
                <a:gradFill rotWithShape="0">
                  <a:gsLst>
                    <a:gs pos="0">
                      <a:srgbClr val="676767"/>
                    </a:gs>
                    <a:gs pos="100000">
                      <a:srgbClr val="767676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4496040" y="4459680"/>
                  <a:ext cx="212040" cy="842040"/>
                </a:xfrm>
                <a:prstGeom prst="rect">
                  <a:avLst/>
                </a:prstGeom>
                <a:gradFill rotWithShape="0">
                  <a:gsLst>
                    <a:gs pos="0">
                      <a:srgbClr val="676767"/>
                    </a:gs>
                    <a:gs pos="100000">
                      <a:srgbClr val="767676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3" name=""/>
              <p:cNvSpPr/>
              <p:nvPr/>
            </p:nvSpPr>
            <p:spPr>
              <a:xfrm>
                <a:off x="4375440" y="4494960"/>
                <a:ext cx="107640" cy="28836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398840" y="4528080"/>
                <a:ext cx="57960" cy="42120"/>
              </a:xfrm>
              <a:prstGeom prst="rect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4528080" y="4494960"/>
                <a:ext cx="156960" cy="124920"/>
                <a:chOff x="4528080" y="4494960"/>
                <a:chExt cx="156960" cy="12492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4528080" y="4494960"/>
                  <a:ext cx="156960" cy="124920"/>
                </a:xfrm>
                <a:prstGeom prst="rect">
                  <a:avLst/>
                </a:prstGeom>
                <a:solidFill>
                  <a:srgbClr val="919191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4554360" y="4547160"/>
                  <a:ext cx="105840" cy="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8" name=""/>
              <p:cNvSpPr/>
              <p:nvPr/>
            </p:nvSpPr>
            <p:spPr>
              <a:xfrm>
                <a:off x="4528080" y="4649040"/>
                <a:ext cx="156960" cy="8748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551840" y="4685760"/>
                <a:ext cx="110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347720" y="4343400"/>
                <a:ext cx="362160" cy="78840"/>
              </a:xfrm>
              <a:prstGeom prst="rect">
                <a:avLst/>
              </a:prstGeom>
              <a:solidFill>
                <a:srgbClr val="676767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346640" y="4183200"/>
                <a:ext cx="560160" cy="158760"/>
              </a:xfrm>
              <a:custGeom>
                <a:avLst/>
                <a:gdLst/>
                <a:ahLst/>
                <a:rect l="l" t="t" r="r" b="b"/>
                <a:pathLst>
                  <a:path w="385" h="109">
                    <a:moveTo>
                      <a:pt x="0" y="108"/>
                    </a:moveTo>
                    <a:lnTo>
                      <a:pt x="176" y="0"/>
                    </a:lnTo>
                    <a:lnTo>
                      <a:pt x="384" y="0"/>
                    </a:lnTo>
                    <a:lnTo>
                      <a:pt x="251" y="108"/>
                    </a:lnTo>
                    <a:lnTo>
                      <a:pt x="0" y="108"/>
                    </a:lnTo>
                  </a:path>
                </a:pathLst>
              </a:custGeom>
              <a:gradFill rotWithShape="0">
                <a:gsLst>
                  <a:gs pos="0">
                    <a:srgbClr val="919191"/>
                  </a:gs>
                  <a:gs pos="100000">
                    <a:srgbClr val="fefefe"/>
                  </a:gs>
                </a:gsLst>
                <a:lin ang="135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711680" y="4183200"/>
                <a:ext cx="194760" cy="1118880"/>
              </a:xfrm>
              <a:custGeom>
                <a:avLst/>
                <a:gdLst/>
                <a:ahLst/>
                <a:rect l="l" t="t" r="r" b="b"/>
                <a:pathLst>
                  <a:path w="134" h="768">
                    <a:moveTo>
                      <a:pt x="0" y="767"/>
                    </a:moveTo>
                    <a:lnTo>
                      <a:pt x="0" y="106"/>
                    </a:lnTo>
                    <a:lnTo>
                      <a:pt x="133" y="0"/>
                    </a:lnTo>
                    <a:lnTo>
                      <a:pt x="133" y="602"/>
                    </a:lnTo>
                    <a:lnTo>
                      <a:pt x="0" y="767"/>
                    </a:lnTo>
                  </a:path>
                </a:pathLst>
              </a:custGeom>
              <a:gradFill rotWithShape="0">
                <a:gsLst>
                  <a:gs pos="0">
                    <a:srgbClr val="919191"/>
                  </a:gs>
                  <a:gs pos="100000">
                    <a:srgbClr val="fefefe"/>
                  </a:gs>
                </a:gsLst>
                <a:lin ang="135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3087720" y="4253040"/>
              <a:ext cx="560520" cy="1049040"/>
              <a:chOff x="3087720" y="4253040"/>
              <a:chExt cx="560520" cy="1049040"/>
            </a:xfrm>
          </p:grpSpPr>
          <p:sp>
            <p:nvSpPr>
              <p:cNvPr id="184" name=""/>
              <p:cNvSpPr/>
              <p:nvPr/>
            </p:nvSpPr>
            <p:spPr>
              <a:xfrm>
                <a:off x="3116520" y="4835880"/>
                <a:ext cx="107640" cy="27252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088800" y="4471200"/>
                <a:ext cx="372600" cy="396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6" name=""/>
              <p:cNvGrpSpPr/>
              <p:nvPr/>
            </p:nvGrpSpPr>
            <p:grpSpPr>
              <a:xfrm>
                <a:off x="3088800" y="4512240"/>
                <a:ext cx="360720" cy="789480"/>
                <a:chOff x="3088800" y="4512240"/>
                <a:chExt cx="360720" cy="78948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3088800" y="4512240"/>
                  <a:ext cx="157320" cy="789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76767"/>
                    </a:gs>
                    <a:gs pos="100000">
                      <a:srgbClr val="767676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3237120" y="4512240"/>
                  <a:ext cx="212400" cy="789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76767"/>
                    </a:gs>
                    <a:gs pos="100000">
                      <a:srgbClr val="767676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9" name=""/>
              <p:cNvSpPr/>
              <p:nvPr/>
            </p:nvSpPr>
            <p:spPr>
              <a:xfrm>
                <a:off x="3116520" y="4544280"/>
                <a:ext cx="107640" cy="27252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139920" y="4576320"/>
                <a:ext cx="57960" cy="39240"/>
              </a:xfrm>
              <a:prstGeom prst="rect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1" name=""/>
              <p:cNvGrpSpPr/>
              <p:nvPr/>
            </p:nvGrpSpPr>
            <p:grpSpPr>
              <a:xfrm>
                <a:off x="3269520" y="4544280"/>
                <a:ext cx="156960" cy="117720"/>
                <a:chOff x="3269520" y="4544280"/>
                <a:chExt cx="156960" cy="11772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3269520" y="4544280"/>
                  <a:ext cx="156960" cy="117720"/>
                </a:xfrm>
                <a:prstGeom prst="rect">
                  <a:avLst/>
                </a:prstGeom>
                <a:solidFill>
                  <a:srgbClr val="919191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3295800" y="4593600"/>
                  <a:ext cx="105840" cy="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4" name=""/>
              <p:cNvSpPr/>
              <p:nvPr/>
            </p:nvSpPr>
            <p:spPr>
              <a:xfrm>
                <a:off x="3269520" y="4690080"/>
                <a:ext cx="156960" cy="8136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292920" y="4725000"/>
                <a:ext cx="110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088800" y="4402800"/>
                <a:ext cx="362160" cy="72720"/>
              </a:xfrm>
              <a:prstGeom prst="rect">
                <a:avLst/>
              </a:prstGeom>
              <a:solidFill>
                <a:srgbClr val="676767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087720" y="4253040"/>
                <a:ext cx="560520" cy="148680"/>
              </a:xfrm>
              <a:custGeom>
                <a:avLst/>
                <a:gdLst/>
                <a:ahLst/>
                <a:rect l="l" t="t" r="r" b="b"/>
                <a:pathLst>
                  <a:path w="385" h="102">
                    <a:moveTo>
                      <a:pt x="0" y="101"/>
                    </a:moveTo>
                    <a:lnTo>
                      <a:pt x="176" y="0"/>
                    </a:lnTo>
                    <a:lnTo>
                      <a:pt x="384" y="0"/>
                    </a:lnTo>
                    <a:lnTo>
                      <a:pt x="251" y="101"/>
                    </a:lnTo>
                    <a:lnTo>
                      <a:pt x="0" y="101"/>
                    </a:lnTo>
                  </a:path>
                </a:pathLst>
              </a:custGeom>
              <a:gradFill rotWithShape="0">
                <a:gsLst>
                  <a:gs pos="0">
                    <a:srgbClr val="919191"/>
                  </a:gs>
                  <a:gs pos="100000">
                    <a:srgbClr val="fefefe"/>
                  </a:gs>
                </a:gsLst>
                <a:lin ang="135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453120" y="4253040"/>
                <a:ext cx="194760" cy="1049040"/>
              </a:xfrm>
              <a:custGeom>
                <a:avLst/>
                <a:gdLst/>
                <a:ahLst/>
                <a:rect l="l" t="t" r="r" b="b"/>
                <a:pathLst>
                  <a:path w="134" h="720">
                    <a:moveTo>
                      <a:pt x="0" y="719"/>
                    </a:moveTo>
                    <a:lnTo>
                      <a:pt x="0" y="99"/>
                    </a:lnTo>
                    <a:lnTo>
                      <a:pt x="133" y="0"/>
                    </a:lnTo>
                    <a:lnTo>
                      <a:pt x="133" y="564"/>
                    </a:lnTo>
                    <a:lnTo>
                      <a:pt x="0" y="719"/>
                    </a:lnTo>
                  </a:path>
                </a:pathLst>
              </a:custGeom>
              <a:gradFill rotWithShape="0">
                <a:gsLst>
                  <a:gs pos="0">
                    <a:srgbClr val="919191"/>
                  </a:gs>
                  <a:gs pos="100000">
                    <a:srgbClr val="fefefe"/>
                  </a:gs>
                </a:gsLst>
                <a:lin ang="135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9" name=""/>
            <p:cNvSpPr/>
            <p:nvPr/>
          </p:nvSpPr>
          <p:spPr>
            <a:xfrm>
              <a:off x="4770360" y="4603680"/>
              <a:ext cx="905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5465880" y="4113360"/>
              <a:ext cx="385560" cy="769680"/>
              <a:chOff x="5465880" y="4113360"/>
              <a:chExt cx="385560" cy="769680"/>
            </a:xfrm>
          </p:grpSpPr>
          <p:sp>
            <p:nvSpPr>
              <p:cNvPr id="201" name=""/>
              <p:cNvSpPr/>
              <p:nvPr/>
            </p:nvSpPr>
            <p:spPr>
              <a:xfrm>
                <a:off x="5485680" y="4540320"/>
                <a:ext cx="74160" cy="19944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466960" y="4273560"/>
                <a:ext cx="255960" cy="2880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3" name=""/>
              <p:cNvGrpSpPr/>
              <p:nvPr/>
            </p:nvGrpSpPr>
            <p:grpSpPr>
              <a:xfrm>
                <a:off x="5466960" y="4303800"/>
                <a:ext cx="247320" cy="578880"/>
                <a:chOff x="5466960" y="4303800"/>
                <a:chExt cx="247320" cy="57888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5466960" y="4303800"/>
                  <a:ext cx="107280" cy="578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76767"/>
                    </a:gs>
                    <a:gs pos="100000">
                      <a:srgbClr val="767676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5568840" y="4303800"/>
                  <a:ext cx="145440" cy="578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76767"/>
                    </a:gs>
                    <a:gs pos="100000">
                      <a:srgbClr val="767676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6" name=""/>
              <p:cNvSpPr/>
              <p:nvPr/>
            </p:nvSpPr>
            <p:spPr>
              <a:xfrm>
                <a:off x="5485680" y="4327560"/>
                <a:ext cx="74160" cy="19944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501880" y="4350600"/>
                <a:ext cx="39240" cy="29160"/>
              </a:xfrm>
              <a:prstGeom prst="rect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8" name=""/>
              <p:cNvGrpSpPr/>
              <p:nvPr/>
            </p:nvGrpSpPr>
            <p:grpSpPr>
              <a:xfrm>
                <a:off x="5590800" y="4327560"/>
                <a:ext cx="107280" cy="85680"/>
                <a:chOff x="5590800" y="4327560"/>
                <a:chExt cx="107280" cy="8568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5590800" y="4327560"/>
                  <a:ext cx="107280" cy="85680"/>
                </a:xfrm>
                <a:prstGeom prst="rect">
                  <a:avLst/>
                </a:prstGeom>
                <a:solidFill>
                  <a:srgbClr val="919191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609520" y="4363560"/>
                  <a:ext cx="70920" cy="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1" name=""/>
              <p:cNvSpPr/>
              <p:nvPr/>
            </p:nvSpPr>
            <p:spPr>
              <a:xfrm>
                <a:off x="5590800" y="4433760"/>
                <a:ext cx="107280" cy="5976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608440" y="4458600"/>
                <a:ext cx="74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466960" y="4222440"/>
                <a:ext cx="248760" cy="55440"/>
              </a:xfrm>
              <a:prstGeom prst="rect">
                <a:avLst/>
              </a:prstGeom>
              <a:solidFill>
                <a:srgbClr val="676767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465880" y="4113360"/>
                <a:ext cx="385560" cy="109080"/>
              </a:xfrm>
              <a:custGeom>
                <a:avLst/>
                <a:gdLst/>
                <a:ahLst/>
                <a:rect l="l" t="t" r="r" b="b"/>
                <a:pathLst>
                  <a:path w="265" h="75">
                    <a:moveTo>
                      <a:pt x="0" y="74"/>
                    </a:moveTo>
                    <a:lnTo>
                      <a:pt x="121" y="0"/>
                    </a:lnTo>
                    <a:lnTo>
                      <a:pt x="264" y="0"/>
                    </a:lnTo>
                    <a:lnTo>
                      <a:pt x="173" y="74"/>
                    </a:lnTo>
                    <a:lnTo>
                      <a:pt x="0" y="74"/>
                    </a:lnTo>
                  </a:path>
                </a:pathLst>
              </a:custGeom>
              <a:gradFill rotWithShape="0">
                <a:gsLst>
                  <a:gs pos="0">
                    <a:srgbClr val="919191"/>
                  </a:gs>
                  <a:gs pos="100000">
                    <a:srgbClr val="fefefe"/>
                  </a:gs>
                </a:gsLst>
                <a:lin ang="135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717520" y="4113360"/>
                <a:ext cx="133560" cy="769680"/>
              </a:xfrm>
              <a:custGeom>
                <a:avLst/>
                <a:gdLst/>
                <a:ahLst/>
                <a:rect l="l" t="t" r="r" b="b"/>
                <a:pathLst>
                  <a:path w="92" h="528">
                    <a:moveTo>
                      <a:pt x="0" y="527"/>
                    </a:moveTo>
                    <a:lnTo>
                      <a:pt x="0" y="73"/>
                    </a:lnTo>
                    <a:lnTo>
                      <a:pt x="91" y="0"/>
                    </a:lnTo>
                    <a:lnTo>
                      <a:pt x="91" y="413"/>
                    </a:lnTo>
                    <a:lnTo>
                      <a:pt x="0" y="527"/>
                    </a:lnTo>
                  </a:path>
                </a:pathLst>
              </a:custGeom>
              <a:gradFill rotWithShape="0">
                <a:gsLst>
                  <a:gs pos="0">
                    <a:srgbClr val="919191"/>
                  </a:gs>
                  <a:gs pos="100000">
                    <a:srgbClr val="fefefe"/>
                  </a:gs>
                </a:gsLst>
                <a:lin ang="135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5715000" y="4799160"/>
              <a:ext cx="385920" cy="769680"/>
              <a:chOff x="5715000" y="4799160"/>
              <a:chExt cx="385920" cy="769680"/>
            </a:xfrm>
          </p:grpSpPr>
          <p:sp>
            <p:nvSpPr>
              <p:cNvPr id="217" name=""/>
              <p:cNvSpPr/>
              <p:nvPr/>
            </p:nvSpPr>
            <p:spPr>
              <a:xfrm>
                <a:off x="5734800" y="5226120"/>
                <a:ext cx="74160" cy="19944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716080" y="4959360"/>
                <a:ext cx="256320" cy="2880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5716080" y="4989600"/>
                <a:ext cx="247320" cy="578880"/>
                <a:chOff x="5716080" y="4989600"/>
                <a:chExt cx="247320" cy="57888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5716080" y="4989600"/>
                  <a:ext cx="107640" cy="578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76767"/>
                    </a:gs>
                    <a:gs pos="100000">
                      <a:srgbClr val="767676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5817960" y="4989600"/>
                  <a:ext cx="145440" cy="5788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76767"/>
                    </a:gs>
                    <a:gs pos="100000">
                      <a:srgbClr val="767676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2" name=""/>
              <p:cNvSpPr/>
              <p:nvPr/>
            </p:nvSpPr>
            <p:spPr>
              <a:xfrm>
                <a:off x="5734800" y="5013360"/>
                <a:ext cx="74160" cy="19944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751000" y="5036400"/>
                <a:ext cx="39240" cy="29160"/>
              </a:xfrm>
              <a:prstGeom prst="rect">
                <a:avLst/>
              </a:prstGeom>
              <a:solidFill>
                <a:srgbClr val="cecec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4" name=""/>
              <p:cNvGrpSpPr/>
              <p:nvPr/>
            </p:nvGrpSpPr>
            <p:grpSpPr>
              <a:xfrm>
                <a:off x="5839920" y="5013360"/>
                <a:ext cx="107640" cy="85680"/>
                <a:chOff x="5839920" y="5013360"/>
                <a:chExt cx="107640" cy="8568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839920" y="5013360"/>
                  <a:ext cx="107640" cy="85680"/>
                </a:xfrm>
                <a:prstGeom prst="rect">
                  <a:avLst/>
                </a:prstGeom>
                <a:solidFill>
                  <a:srgbClr val="919191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5858640" y="5049360"/>
                  <a:ext cx="71280" cy="0"/>
                </a:xfrm>
                <a:prstGeom prst="line">
                  <a:avLst/>
                </a:prstGeom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5839920" y="5119560"/>
                <a:ext cx="107640" cy="59760"/>
              </a:xfrm>
              <a:prstGeom prst="rect">
                <a:avLst/>
              </a:prstGeom>
              <a:solidFill>
                <a:srgbClr val="91919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857560" y="5144400"/>
                <a:ext cx="74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716080" y="4908240"/>
                <a:ext cx="249120" cy="55440"/>
              </a:xfrm>
              <a:prstGeom prst="rect">
                <a:avLst/>
              </a:prstGeom>
              <a:solidFill>
                <a:srgbClr val="676767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715000" y="4799160"/>
                <a:ext cx="385920" cy="109080"/>
              </a:xfrm>
              <a:custGeom>
                <a:avLst/>
                <a:gdLst/>
                <a:ahLst/>
                <a:rect l="l" t="t" r="r" b="b"/>
                <a:pathLst>
                  <a:path w="265" h="75">
                    <a:moveTo>
                      <a:pt x="0" y="74"/>
                    </a:moveTo>
                    <a:lnTo>
                      <a:pt x="121" y="0"/>
                    </a:lnTo>
                    <a:lnTo>
                      <a:pt x="264" y="0"/>
                    </a:lnTo>
                    <a:lnTo>
                      <a:pt x="173" y="74"/>
                    </a:lnTo>
                    <a:lnTo>
                      <a:pt x="0" y="74"/>
                    </a:lnTo>
                  </a:path>
                </a:pathLst>
              </a:custGeom>
              <a:gradFill rotWithShape="0">
                <a:gsLst>
                  <a:gs pos="0">
                    <a:srgbClr val="919191"/>
                  </a:gs>
                  <a:gs pos="100000">
                    <a:srgbClr val="fefefe"/>
                  </a:gs>
                </a:gsLst>
                <a:lin ang="135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967000" y="4799160"/>
                <a:ext cx="133560" cy="769680"/>
              </a:xfrm>
              <a:custGeom>
                <a:avLst/>
                <a:gdLst/>
                <a:ahLst/>
                <a:rect l="l" t="t" r="r" b="b"/>
                <a:pathLst>
                  <a:path w="92" h="528">
                    <a:moveTo>
                      <a:pt x="0" y="527"/>
                    </a:moveTo>
                    <a:lnTo>
                      <a:pt x="0" y="73"/>
                    </a:lnTo>
                    <a:lnTo>
                      <a:pt x="91" y="0"/>
                    </a:lnTo>
                    <a:lnTo>
                      <a:pt x="91" y="413"/>
                    </a:lnTo>
                    <a:lnTo>
                      <a:pt x="0" y="527"/>
                    </a:lnTo>
                  </a:path>
                </a:pathLst>
              </a:custGeom>
              <a:gradFill rotWithShape="0">
                <a:gsLst>
                  <a:gs pos="0">
                    <a:srgbClr val="919191"/>
                  </a:gs>
                  <a:gs pos="100000">
                    <a:srgbClr val="fefefe"/>
                  </a:gs>
                </a:gsLst>
                <a:lin ang="135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4770360" y="4687920"/>
              <a:ext cx="951120" cy="31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884920" y="4464000"/>
              <a:ext cx="19332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etwork Monitor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212520" y="4813200"/>
              <a:ext cx="17424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rouble Ticke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5958000" y="3068280"/>
              <a:ext cx="344520" cy="6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353360" y="4183200"/>
              <a:ext cx="12589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ta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1060560" y="4883040"/>
              <a:ext cx="1063080" cy="920160"/>
              <a:chOff x="1060560" y="4883040"/>
              <a:chExt cx="1063080" cy="920160"/>
            </a:xfrm>
          </p:grpSpPr>
          <p:sp>
            <p:nvSpPr>
              <p:cNvPr id="238" name=""/>
              <p:cNvSpPr/>
              <p:nvPr/>
            </p:nvSpPr>
            <p:spPr>
              <a:xfrm>
                <a:off x="1216080" y="5407560"/>
                <a:ext cx="907560" cy="103320"/>
              </a:xfrm>
              <a:custGeom>
                <a:avLst/>
                <a:gdLst/>
                <a:ahLst/>
                <a:rect l="l" t="t" r="r" b="b"/>
                <a:pathLst>
                  <a:path w="624" h="71">
                    <a:moveTo>
                      <a:pt x="525" y="70"/>
                    </a:moveTo>
                    <a:lnTo>
                      <a:pt x="0" y="70"/>
                    </a:lnTo>
                    <a:lnTo>
                      <a:pt x="180" y="0"/>
                    </a:lnTo>
                    <a:lnTo>
                      <a:pt x="623" y="0"/>
                    </a:lnTo>
                    <a:lnTo>
                      <a:pt x="525" y="70"/>
                    </a:lnTo>
                  </a:path>
                </a:pathLst>
              </a:custGeom>
              <a:gradFill rotWithShape="0">
                <a:gsLst>
                  <a:gs pos="0">
                    <a:srgbClr val="7b7b7b"/>
                  </a:gs>
                  <a:gs pos="100000">
                    <a:srgbClr val="cecece"/>
                  </a:gs>
                </a:gsLst>
                <a:lin ang="81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878120" y="5394240"/>
                <a:ext cx="98640" cy="92880"/>
              </a:xfrm>
              <a:custGeom>
                <a:avLst/>
                <a:gdLst/>
                <a:ahLst/>
                <a:rect l="l" t="t" r="r" b="b"/>
                <a:pathLst>
                  <a:path w="68" h="64">
                    <a:moveTo>
                      <a:pt x="0" y="43"/>
                    </a:moveTo>
                    <a:lnTo>
                      <a:pt x="67" y="0"/>
                    </a:lnTo>
                    <a:lnTo>
                      <a:pt x="67" y="17"/>
                    </a:lnTo>
                    <a:lnTo>
                      <a:pt x="0" y="63"/>
                    </a:lnTo>
                    <a:lnTo>
                      <a:pt x="0" y="4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980000" y="5409000"/>
                <a:ext cx="143640" cy="292680"/>
              </a:xfrm>
              <a:custGeom>
                <a:avLst/>
                <a:gdLst/>
                <a:ahLst/>
                <a:rect l="l" t="t" r="r" b="b"/>
                <a:pathLst>
                  <a:path w="99" h="201">
                    <a:moveTo>
                      <a:pt x="98" y="0"/>
                    </a:moveTo>
                    <a:lnTo>
                      <a:pt x="0" y="69"/>
                    </a:lnTo>
                    <a:lnTo>
                      <a:pt x="1" y="200"/>
                    </a:lnTo>
                    <a:lnTo>
                      <a:pt x="98" y="104"/>
                    </a:lnTo>
                    <a:lnTo>
                      <a:pt x="98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213200" y="5510880"/>
                <a:ext cx="766800" cy="189000"/>
              </a:xfrm>
              <a:prstGeom prst="rect">
                <a:avLst/>
              </a:prstGeom>
              <a:gradFill rotWithShape="0">
                <a:gsLst>
                  <a:gs pos="0">
                    <a:srgbClr val="919191"/>
                  </a:gs>
                  <a:gs pos="100000">
                    <a:srgbClr val="818181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230480" y="5534280"/>
                <a:ext cx="746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1753920" y="5555880"/>
                <a:ext cx="206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351440" y="5459760"/>
                <a:ext cx="526320" cy="24480"/>
              </a:xfrm>
              <a:prstGeom prst="rect">
                <a:avLst/>
              </a:prstGeom>
              <a:solidFill>
                <a:srgbClr val="676767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514520" y="5400000"/>
                <a:ext cx="290520" cy="48240"/>
              </a:xfrm>
              <a:custGeom>
                <a:avLst/>
                <a:gdLst/>
                <a:ahLst/>
                <a:rect l="l" t="t" r="r" b="b"/>
                <a:pathLst>
                  <a:path w="200" h="33">
                    <a:moveTo>
                      <a:pt x="0" y="18"/>
                    </a:moveTo>
                    <a:lnTo>
                      <a:pt x="0" y="0"/>
                    </a:lnTo>
                    <a:lnTo>
                      <a:pt x="199" y="0"/>
                    </a:lnTo>
                    <a:lnTo>
                      <a:pt x="199" y="18"/>
                    </a:lnTo>
                    <a:lnTo>
                      <a:pt x="197" y="20"/>
                    </a:lnTo>
                    <a:lnTo>
                      <a:pt x="196" y="22"/>
                    </a:lnTo>
                    <a:lnTo>
                      <a:pt x="192" y="23"/>
                    </a:lnTo>
                    <a:lnTo>
                      <a:pt x="187" y="24"/>
                    </a:lnTo>
                    <a:lnTo>
                      <a:pt x="182" y="25"/>
                    </a:lnTo>
                    <a:lnTo>
                      <a:pt x="177" y="27"/>
                    </a:lnTo>
                    <a:lnTo>
                      <a:pt x="170" y="28"/>
                    </a:lnTo>
                    <a:lnTo>
                      <a:pt x="163" y="28"/>
                    </a:lnTo>
                    <a:lnTo>
                      <a:pt x="156" y="29"/>
                    </a:lnTo>
                    <a:lnTo>
                      <a:pt x="146" y="30"/>
                    </a:lnTo>
                    <a:lnTo>
                      <a:pt x="137" y="31"/>
                    </a:lnTo>
                    <a:lnTo>
                      <a:pt x="129" y="32"/>
                    </a:lnTo>
                    <a:lnTo>
                      <a:pt x="119" y="32"/>
                    </a:lnTo>
                    <a:lnTo>
                      <a:pt x="108" y="32"/>
                    </a:lnTo>
                    <a:lnTo>
                      <a:pt x="94" y="32"/>
                    </a:lnTo>
                    <a:lnTo>
                      <a:pt x="82" y="32"/>
                    </a:lnTo>
                    <a:lnTo>
                      <a:pt x="68" y="32"/>
                    </a:lnTo>
                    <a:lnTo>
                      <a:pt x="57" y="31"/>
                    </a:lnTo>
                    <a:lnTo>
                      <a:pt x="49" y="30"/>
                    </a:lnTo>
                    <a:lnTo>
                      <a:pt x="41" y="29"/>
                    </a:lnTo>
                    <a:lnTo>
                      <a:pt x="33" y="28"/>
                    </a:lnTo>
                    <a:lnTo>
                      <a:pt x="24" y="27"/>
                    </a:lnTo>
                    <a:lnTo>
                      <a:pt x="19" y="26"/>
                    </a:lnTo>
                    <a:lnTo>
                      <a:pt x="11" y="24"/>
                    </a:lnTo>
                    <a:lnTo>
                      <a:pt x="7" y="24"/>
                    </a:lnTo>
                    <a:lnTo>
                      <a:pt x="4" y="23"/>
                    </a:lnTo>
                    <a:lnTo>
                      <a:pt x="3" y="21"/>
                    </a:lnTo>
                    <a:lnTo>
                      <a:pt x="0" y="20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333333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323720" y="4916160"/>
                <a:ext cx="635760" cy="492480"/>
              </a:xfrm>
              <a:prstGeom prst="rect">
                <a:avLst/>
              </a:prstGeom>
              <a:gradFill rotWithShape="0">
                <a:gsLst>
                  <a:gs pos="0">
                    <a:srgbClr val="ababab"/>
                  </a:gs>
                  <a:gs pos="50000">
                    <a:srgbClr val="c0c0c0"/>
                  </a:gs>
                  <a:gs pos="100000">
                    <a:srgbClr val="ababab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397880" y="4971600"/>
                <a:ext cx="490320" cy="38016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1866960" y="5382720"/>
                <a:ext cx="3960" cy="828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429920" y="4990680"/>
                <a:ext cx="434880" cy="335160"/>
              </a:xfrm>
              <a:prstGeom prst="rect">
                <a:avLst/>
              </a:prstGeom>
              <a:solidFill>
                <a:srgbClr val="00c3df"/>
              </a:solidFill>
              <a:ln w="12600">
                <a:solidFill>
                  <a:srgbClr val="a2c1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0" name=""/>
              <p:cNvGrpSpPr/>
              <p:nvPr/>
            </p:nvGrpSpPr>
            <p:grpSpPr>
              <a:xfrm>
                <a:off x="1060560" y="5681520"/>
                <a:ext cx="964440" cy="121680"/>
                <a:chOff x="1060560" y="5681520"/>
                <a:chExt cx="964440" cy="12168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1063080" y="5774400"/>
                  <a:ext cx="857160" cy="27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c0c0c0"/>
                    </a:gs>
                    <a:gs pos="100000">
                      <a:srgbClr val="ababab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060560" y="5681520"/>
                  <a:ext cx="964440" cy="94320"/>
                </a:xfrm>
                <a:custGeom>
                  <a:avLst/>
                  <a:gdLst/>
                  <a:ahLst/>
                  <a:rect l="l" t="t" r="r" b="b"/>
                  <a:pathLst>
                    <a:path w="663" h="65">
                      <a:moveTo>
                        <a:pt x="0" y="64"/>
                      </a:moveTo>
                      <a:lnTo>
                        <a:pt x="593" y="64"/>
                      </a:lnTo>
                      <a:lnTo>
                        <a:pt x="662" y="0"/>
                      </a:lnTo>
                      <a:lnTo>
                        <a:pt x="94" y="0"/>
                      </a:lnTo>
                      <a:lnTo>
                        <a:pt x="0" y="64"/>
                      </a:lnTo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ababab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21680" y="5682600"/>
                  <a:ext cx="102960" cy="120600"/>
                </a:xfrm>
                <a:custGeom>
                  <a:avLst/>
                  <a:gdLst/>
                  <a:ahLst/>
                  <a:rect l="l" t="t" r="r" b="b"/>
                  <a:pathLst>
                    <a:path w="71" h="83">
                      <a:moveTo>
                        <a:pt x="0" y="64"/>
                      </a:moveTo>
                      <a:lnTo>
                        <a:pt x="70" y="0"/>
                      </a:lnTo>
                      <a:lnTo>
                        <a:pt x="70" y="15"/>
                      </a:lnTo>
                      <a:lnTo>
                        <a:pt x="0" y="82"/>
                      </a:lnTo>
                      <a:lnTo>
                        <a:pt x="0" y="64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4" name=""/>
              <p:cNvSpPr/>
              <p:nvPr/>
            </p:nvSpPr>
            <p:spPr>
              <a:xfrm>
                <a:off x="1320840" y="4883040"/>
                <a:ext cx="711360" cy="36000"/>
              </a:xfrm>
              <a:custGeom>
                <a:avLst/>
                <a:gdLst/>
                <a:ahLst/>
                <a:rect l="l" t="t" r="r" b="b"/>
                <a:pathLst>
                  <a:path w="489" h="25">
                    <a:moveTo>
                      <a:pt x="0" y="24"/>
                    </a:moveTo>
                    <a:lnTo>
                      <a:pt x="78" y="0"/>
                    </a:lnTo>
                    <a:lnTo>
                      <a:pt x="488" y="0"/>
                    </a:lnTo>
                    <a:lnTo>
                      <a:pt x="438" y="24"/>
                    </a:lnTo>
                    <a:lnTo>
                      <a:pt x="0" y="24"/>
                    </a:lnTo>
                  </a:path>
                </a:pathLst>
              </a:custGeom>
              <a:gradFill rotWithShape="0">
                <a:gsLst>
                  <a:gs pos="0">
                    <a:srgbClr val="919191"/>
                  </a:gs>
                  <a:gs pos="100000">
                    <a:srgbClr val="fefefe"/>
                  </a:gs>
                </a:gsLst>
                <a:lin ang="135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958040" y="4884120"/>
                <a:ext cx="74160" cy="525960"/>
              </a:xfrm>
              <a:custGeom>
                <a:avLst/>
                <a:gdLst/>
                <a:ahLst/>
                <a:rect l="l" t="t" r="r" b="b"/>
                <a:pathLst>
                  <a:path w="51" h="361">
                    <a:moveTo>
                      <a:pt x="0" y="360"/>
                    </a:moveTo>
                    <a:lnTo>
                      <a:pt x="50" y="325"/>
                    </a:lnTo>
                    <a:lnTo>
                      <a:pt x="50" y="0"/>
                    </a:lnTo>
                    <a:lnTo>
                      <a:pt x="0" y="23"/>
                    </a:lnTo>
                    <a:lnTo>
                      <a:pt x="0" y="36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6" name=""/>
            <p:cNvSpPr/>
            <p:nvPr/>
          </p:nvSpPr>
          <p:spPr>
            <a:xfrm>
              <a:off x="568800" y="5065560"/>
              <a:ext cx="7488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A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1339920" y="689040"/>
              <a:ext cx="1064880" cy="919800"/>
              <a:chOff x="1339920" y="689040"/>
              <a:chExt cx="1064880" cy="919800"/>
            </a:xfrm>
          </p:grpSpPr>
          <p:sp>
            <p:nvSpPr>
              <p:cNvPr id="258" name=""/>
              <p:cNvSpPr/>
              <p:nvPr/>
            </p:nvSpPr>
            <p:spPr>
              <a:xfrm>
                <a:off x="1495800" y="1213200"/>
                <a:ext cx="909000" cy="103320"/>
              </a:xfrm>
              <a:custGeom>
                <a:avLst/>
                <a:gdLst/>
                <a:ahLst/>
                <a:rect l="l" t="t" r="r" b="b"/>
                <a:pathLst>
                  <a:path w="624" h="71">
                    <a:moveTo>
                      <a:pt x="525" y="70"/>
                    </a:moveTo>
                    <a:lnTo>
                      <a:pt x="0" y="70"/>
                    </a:lnTo>
                    <a:lnTo>
                      <a:pt x="180" y="0"/>
                    </a:lnTo>
                    <a:lnTo>
                      <a:pt x="623" y="0"/>
                    </a:lnTo>
                    <a:lnTo>
                      <a:pt x="525" y="70"/>
                    </a:lnTo>
                  </a:path>
                </a:pathLst>
              </a:custGeom>
              <a:gradFill rotWithShape="0">
                <a:gsLst>
                  <a:gs pos="0">
                    <a:srgbClr val="7b7b7b"/>
                  </a:gs>
                  <a:gs pos="100000">
                    <a:srgbClr val="cecece"/>
                  </a:gs>
                </a:gsLst>
                <a:lin ang="81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158920" y="1200240"/>
                <a:ext cx="98640" cy="92880"/>
              </a:xfrm>
              <a:custGeom>
                <a:avLst/>
                <a:gdLst/>
                <a:ahLst/>
                <a:rect l="l" t="t" r="r" b="b"/>
                <a:pathLst>
                  <a:path w="68" h="64">
                    <a:moveTo>
                      <a:pt x="0" y="43"/>
                    </a:moveTo>
                    <a:lnTo>
                      <a:pt x="67" y="0"/>
                    </a:lnTo>
                    <a:lnTo>
                      <a:pt x="67" y="17"/>
                    </a:lnTo>
                    <a:lnTo>
                      <a:pt x="0" y="63"/>
                    </a:lnTo>
                    <a:lnTo>
                      <a:pt x="0" y="4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260440" y="1214640"/>
                <a:ext cx="144360" cy="292320"/>
              </a:xfrm>
              <a:custGeom>
                <a:avLst/>
                <a:gdLst/>
                <a:ahLst/>
                <a:rect l="l" t="t" r="r" b="b"/>
                <a:pathLst>
                  <a:path w="99" h="201">
                    <a:moveTo>
                      <a:pt x="98" y="0"/>
                    </a:moveTo>
                    <a:lnTo>
                      <a:pt x="0" y="69"/>
                    </a:lnTo>
                    <a:lnTo>
                      <a:pt x="1" y="200"/>
                    </a:lnTo>
                    <a:lnTo>
                      <a:pt x="98" y="104"/>
                    </a:lnTo>
                    <a:lnTo>
                      <a:pt x="98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492560" y="1316880"/>
                <a:ext cx="767880" cy="189000"/>
              </a:xfrm>
              <a:prstGeom prst="rect">
                <a:avLst/>
              </a:prstGeom>
              <a:gradFill rotWithShape="0">
                <a:gsLst>
                  <a:gs pos="0">
                    <a:srgbClr val="919191"/>
                  </a:gs>
                  <a:gs pos="100000">
                    <a:srgbClr val="818181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1510200" y="1339920"/>
                <a:ext cx="74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2035080" y="1361520"/>
                <a:ext cx="206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631160" y="1265400"/>
                <a:ext cx="527400" cy="24480"/>
              </a:xfrm>
              <a:prstGeom prst="rect">
                <a:avLst/>
              </a:prstGeom>
              <a:solidFill>
                <a:srgbClr val="676767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794240" y="1205640"/>
                <a:ext cx="291240" cy="47880"/>
              </a:xfrm>
              <a:custGeom>
                <a:avLst/>
                <a:gdLst/>
                <a:ahLst/>
                <a:rect l="l" t="t" r="r" b="b"/>
                <a:pathLst>
                  <a:path w="200" h="33">
                    <a:moveTo>
                      <a:pt x="0" y="18"/>
                    </a:moveTo>
                    <a:lnTo>
                      <a:pt x="0" y="0"/>
                    </a:lnTo>
                    <a:lnTo>
                      <a:pt x="199" y="0"/>
                    </a:lnTo>
                    <a:lnTo>
                      <a:pt x="199" y="18"/>
                    </a:lnTo>
                    <a:lnTo>
                      <a:pt x="197" y="20"/>
                    </a:lnTo>
                    <a:lnTo>
                      <a:pt x="196" y="22"/>
                    </a:lnTo>
                    <a:lnTo>
                      <a:pt x="192" y="23"/>
                    </a:lnTo>
                    <a:lnTo>
                      <a:pt x="187" y="24"/>
                    </a:lnTo>
                    <a:lnTo>
                      <a:pt x="182" y="25"/>
                    </a:lnTo>
                    <a:lnTo>
                      <a:pt x="177" y="27"/>
                    </a:lnTo>
                    <a:lnTo>
                      <a:pt x="170" y="28"/>
                    </a:lnTo>
                    <a:lnTo>
                      <a:pt x="163" y="28"/>
                    </a:lnTo>
                    <a:lnTo>
                      <a:pt x="156" y="29"/>
                    </a:lnTo>
                    <a:lnTo>
                      <a:pt x="146" y="30"/>
                    </a:lnTo>
                    <a:lnTo>
                      <a:pt x="137" y="31"/>
                    </a:lnTo>
                    <a:lnTo>
                      <a:pt x="129" y="32"/>
                    </a:lnTo>
                    <a:lnTo>
                      <a:pt x="119" y="32"/>
                    </a:lnTo>
                    <a:lnTo>
                      <a:pt x="108" y="32"/>
                    </a:lnTo>
                    <a:lnTo>
                      <a:pt x="94" y="32"/>
                    </a:lnTo>
                    <a:lnTo>
                      <a:pt x="82" y="32"/>
                    </a:lnTo>
                    <a:lnTo>
                      <a:pt x="68" y="32"/>
                    </a:lnTo>
                    <a:lnTo>
                      <a:pt x="57" y="31"/>
                    </a:lnTo>
                    <a:lnTo>
                      <a:pt x="49" y="30"/>
                    </a:lnTo>
                    <a:lnTo>
                      <a:pt x="41" y="29"/>
                    </a:lnTo>
                    <a:lnTo>
                      <a:pt x="33" y="28"/>
                    </a:lnTo>
                    <a:lnTo>
                      <a:pt x="24" y="27"/>
                    </a:lnTo>
                    <a:lnTo>
                      <a:pt x="19" y="26"/>
                    </a:lnTo>
                    <a:lnTo>
                      <a:pt x="11" y="24"/>
                    </a:lnTo>
                    <a:lnTo>
                      <a:pt x="7" y="24"/>
                    </a:lnTo>
                    <a:lnTo>
                      <a:pt x="4" y="23"/>
                    </a:lnTo>
                    <a:lnTo>
                      <a:pt x="3" y="21"/>
                    </a:lnTo>
                    <a:lnTo>
                      <a:pt x="0" y="20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333333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603440" y="722160"/>
                <a:ext cx="636840" cy="492120"/>
              </a:xfrm>
              <a:prstGeom prst="rect">
                <a:avLst/>
              </a:prstGeom>
              <a:gradFill rotWithShape="0">
                <a:gsLst>
                  <a:gs pos="0">
                    <a:srgbClr val="ababab"/>
                  </a:gs>
                  <a:gs pos="50000">
                    <a:srgbClr val="c0c0c0"/>
                  </a:gs>
                  <a:gs pos="100000">
                    <a:srgbClr val="ababab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1677600" y="777600"/>
                <a:ext cx="490680" cy="38016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>
                <a:off x="2147760" y="1188720"/>
                <a:ext cx="3960" cy="828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709640" y="796680"/>
                <a:ext cx="435600" cy="335160"/>
              </a:xfrm>
              <a:prstGeom prst="rect">
                <a:avLst/>
              </a:prstGeom>
              <a:solidFill>
                <a:srgbClr val="00c3df"/>
              </a:solidFill>
              <a:ln w="12600">
                <a:solidFill>
                  <a:srgbClr val="a2c1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pPr>
                  <a:lnSpc>
                    <a:spcPct val="8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0" name=""/>
              <p:cNvGrpSpPr/>
              <p:nvPr/>
            </p:nvGrpSpPr>
            <p:grpSpPr>
              <a:xfrm>
                <a:off x="1339920" y="1487160"/>
                <a:ext cx="965880" cy="121680"/>
                <a:chOff x="1339920" y="1487160"/>
                <a:chExt cx="965880" cy="12168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1342800" y="1580040"/>
                  <a:ext cx="857880" cy="27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c0c0c0"/>
                    </a:gs>
                    <a:gs pos="100000">
                      <a:srgbClr val="ababab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440" bIns="-19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1339920" y="1487160"/>
                  <a:ext cx="965880" cy="94320"/>
                </a:xfrm>
                <a:custGeom>
                  <a:avLst/>
                  <a:gdLst/>
                  <a:ahLst/>
                  <a:rect l="l" t="t" r="r" b="b"/>
                  <a:pathLst>
                    <a:path w="663" h="65">
                      <a:moveTo>
                        <a:pt x="0" y="64"/>
                      </a:moveTo>
                      <a:lnTo>
                        <a:pt x="593" y="64"/>
                      </a:lnTo>
                      <a:lnTo>
                        <a:pt x="662" y="0"/>
                      </a:lnTo>
                      <a:lnTo>
                        <a:pt x="94" y="0"/>
                      </a:lnTo>
                      <a:lnTo>
                        <a:pt x="0" y="64"/>
                      </a:lnTo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ababab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2202120" y="1488240"/>
                  <a:ext cx="103320" cy="120600"/>
                </a:xfrm>
                <a:custGeom>
                  <a:avLst/>
                  <a:gdLst/>
                  <a:ahLst/>
                  <a:rect l="l" t="t" r="r" b="b"/>
                  <a:pathLst>
                    <a:path w="71" h="83">
                      <a:moveTo>
                        <a:pt x="0" y="64"/>
                      </a:moveTo>
                      <a:lnTo>
                        <a:pt x="70" y="0"/>
                      </a:lnTo>
                      <a:lnTo>
                        <a:pt x="70" y="15"/>
                      </a:lnTo>
                      <a:lnTo>
                        <a:pt x="0" y="82"/>
                      </a:lnTo>
                      <a:lnTo>
                        <a:pt x="0" y="64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4" name=""/>
              <p:cNvSpPr/>
              <p:nvPr/>
            </p:nvSpPr>
            <p:spPr>
              <a:xfrm>
                <a:off x="1600920" y="689040"/>
                <a:ext cx="712080" cy="36000"/>
              </a:xfrm>
              <a:custGeom>
                <a:avLst/>
                <a:gdLst/>
                <a:ahLst/>
                <a:rect l="l" t="t" r="r" b="b"/>
                <a:pathLst>
                  <a:path w="489" h="25">
                    <a:moveTo>
                      <a:pt x="0" y="24"/>
                    </a:moveTo>
                    <a:lnTo>
                      <a:pt x="78" y="0"/>
                    </a:lnTo>
                    <a:lnTo>
                      <a:pt x="488" y="0"/>
                    </a:lnTo>
                    <a:lnTo>
                      <a:pt x="438" y="24"/>
                    </a:lnTo>
                    <a:lnTo>
                      <a:pt x="0" y="24"/>
                    </a:lnTo>
                  </a:path>
                </a:pathLst>
              </a:custGeom>
              <a:gradFill rotWithShape="0">
                <a:gsLst>
                  <a:gs pos="0">
                    <a:srgbClr val="919191"/>
                  </a:gs>
                  <a:gs pos="100000">
                    <a:srgbClr val="fefefe"/>
                  </a:gs>
                </a:gsLst>
                <a:lin ang="135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238840" y="690120"/>
                <a:ext cx="74160" cy="525600"/>
              </a:xfrm>
              <a:custGeom>
                <a:avLst/>
                <a:gdLst/>
                <a:ahLst/>
                <a:rect l="l" t="t" r="r" b="b"/>
                <a:pathLst>
                  <a:path w="51" h="361">
                    <a:moveTo>
                      <a:pt x="0" y="360"/>
                    </a:moveTo>
                    <a:lnTo>
                      <a:pt x="50" y="325"/>
                    </a:lnTo>
                    <a:lnTo>
                      <a:pt x="50" y="0"/>
                    </a:lnTo>
                    <a:lnTo>
                      <a:pt x="0" y="23"/>
                    </a:lnTo>
                    <a:lnTo>
                      <a:pt x="0" y="36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276" name=""/>
            <p:cNvGraphicFramePr/>
            <p:nvPr/>
          </p:nvGraphicFramePr>
          <p:xfrm>
            <a:off x="2639880" y="898560"/>
            <a:ext cx="4721400" cy="1782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7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639880" y="898560"/>
                      <a:ext cx="4721400" cy="178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8" name=""/>
            <p:cNvGraphicFramePr/>
            <p:nvPr/>
          </p:nvGraphicFramePr>
          <p:xfrm>
            <a:off x="3898800" y="1247760"/>
            <a:ext cx="514440" cy="7174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7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898800" y="1247760"/>
                      <a:ext cx="514440" cy="71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0" name=""/>
            <p:cNvGraphicFramePr/>
            <p:nvPr/>
          </p:nvGraphicFramePr>
          <p:xfrm>
            <a:off x="2919240" y="1738440"/>
            <a:ext cx="874800" cy="3254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81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919240" y="1738440"/>
                      <a:ext cx="874800" cy="32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2" name=""/>
            <p:cNvGraphicFramePr/>
            <p:nvPr/>
          </p:nvGraphicFramePr>
          <p:xfrm>
            <a:off x="5648400" y="1317600"/>
            <a:ext cx="514440" cy="7174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83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648400" y="1317600"/>
                      <a:ext cx="514440" cy="71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4" name=""/>
            <p:cNvGraphicFramePr/>
            <p:nvPr/>
          </p:nvGraphicFramePr>
          <p:xfrm>
            <a:off x="4668840" y="1808280"/>
            <a:ext cx="514440" cy="7156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285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4668840" y="1808280"/>
                      <a:ext cx="514440" cy="715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6" name=""/>
            <p:cNvGraphicFramePr/>
            <p:nvPr/>
          </p:nvGraphicFramePr>
          <p:xfrm>
            <a:off x="6346800" y="1596960"/>
            <a:ext cx="874800" cy="32724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87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6346800" y="1596960"/>
                      <a:ext cx="874800" cy="327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8" name=""/>
            <p:cNvSpPr/>
            <p:nvPr/>
          </p:nvSpPr>
          <p:spPr>
            <a:xfrm>
              <a:off x="4183200" y="1531800"/>
              <a:ext cx="765000" cy="69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4951440" y="1530000"/>
              <a:ext cx="1184400" cy="625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113360" y="1531800"/>
              <a:ext cx="1954080" cy="6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3762360" y="1530000"/>
              <a:ext cx="344520" cy="34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 flipV="1">
              <a:off x="6070320" y="1530000"/>
              <a:ext cx="69516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689280" y="2227320"/>
              <a:ext cx="10494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 netw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847600" y="1809720"/>
              <a:ext cx="9410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atew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321600" y="1727280"/>
              <a:ext cx="9856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atew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388760" y="1177920"/>
              <a:ext cx="7138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ou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88960" y="2157480"/>
              <a:ext cx="7138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ou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138360" y="1247760"/>
              <a:ext cx="7138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ou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22200" y="766800"/>
              <a:ext cx="12686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raff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ngineer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0" name=""/>
            <p:cNvGrpSpPr/>
            <p:nvPr/>
          </p:nvGrpSpPr>
          <p:grpSpPr>
            <a:xfrm>
              <a:off x="6234120" y="2786040"/>
              <a:ext cx="910800" cy="496440"/>
              <a:chOff x="6234120" y="2786040"/>
              <a:chExt cx="910800" cy="496440"/>
            </a:xfrm>
          </p:grpSpPr>
          <p:sp>
            <p:nvSpPr>
              <p:cNvPr id="301" name=""/>
              <p:cNvSpPr/>
              <p:nvPr/>
            </p:nvSpPr>
            <p:spPr>
              <a:xfrm>
                <a:off x="6279120" y="2786040"/>
                <a:ext cx="864360" cy="146880"/>
              </a:xfrm>
              <a:custGeom>
                <a:avLst/>
                <a:gdLst/>
                <a:ahLst/>
                <a:rect l="l" t="t" r="r" b="b"/>
                <a:pathLst>
                  <a:path w="593" h="101">
                    <a:moveTo>
                      <a:pt x="463" y="97"/>
                    </a:moveTo>
                    <a:lnTo>
                      <a:pt x="0" y="100"/>
                    </a:lnTo>
                    <a:lnTo>
                      <a:pt x="197" y="0"/>
                    </a:lnTo>
                    <a:lnTo>
                      <a:pt x="592" y="0"/>
                    </a:lnTo>
                    <a:lnTo>
                      <a:pt x="463" y="97"/>
                    </a:lnTo>
                  </a:path>
                </a:pathLst>
              </a:custGeom>
              <a:gradFill rotWithShape="0">
                <a:gsLst>
                  <a:gs pos="0">
                    <a:srgbClr val="8d7c6f"/>
                  </a:gs>
                  <a:gs pos="100000">
                    <a:srgbClr val="ecd0bb"/>
                  </a:gs>
                </a:gsLst>
                <a:lin ang="81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234120" y="2953440"/>
                <a:ext cx="675000" cy="326160"/>
              </a:xfrm>
              <a:prstGeom prst="rect">
                <a:avLst/>
              </a:prstGeom>
              <a:gradFill rotWithShape="0">
                <a:gsLst>
                  <a:gs pos="0">
                    <a:srgbClr val="af8080"/>
                  </a:gs>
                  <a:gs pos="100000">
                    <a:srgbClr val="795959"/>
                  </a:gs>
                </a:gsLst>
                <a:lin ang="81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235200" y="2927160"/>
                <a:ext cx="718560" cy="25920"/>
              </a:xfrm>
              <a:custGeom>
                <a:avLst/>
                <a:gdLst/>
                <a:ahLst/>
                <a:rect l="l" t="t" r="r" b="b"/>
                <a:pathLst>
                  <a:path w="493" h="18">
                    <a:moveTo>
                      <a:pt x="0" y="17"/>
                    </a:moveTo>
                    <a:lnTo>
                      <a:pt x="461" y="17"/>
                    </a:lnTo>
                    <a:lnTo>
                      <a:pt x="492" y="0"/>
                    </a:lnTo>
                    <a:lnTo>
                      <a:pt x="35" y="0"/>
                    </a:lnTo>
                    <a:lnTo>
                      <a:pt x="0" y="17"/>
                    </a:lnTo>
                  </a:path>
                </a:pathLst>
              </a:custGeom>
              <a:gradFill rotWithShape="0">
                <a:gsLst>
                  <a:gs pos="0">
                    <a:srgbClr val="af8080"/>
                  </a:gs>
                  <a:gs pos="100000">
                    <a:srgbClr val="795959"/>
                  </a:gs>
                </a:gsLst>
                <a:lin ang="81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4" name=""/>
              <p:cNvGrpSpPr/>
              <p:nvPr/>
            </p:nvGrpSpPr>
            <p:grpSpPr>
              <a:xfrm>
                <a:off x="6626160" y="3036240"/>
                <a:ext cx="228240" cy="136080"/>
                <a:chOff x="6626160" y="3036240"/>
                <a:chExt cx="228240" cy="136080"/>
              </a:xfrm>
            </p:grpSpPr>
            <p:grpSp>
              <p:nvGrpSpPr>
                <p:cNvPr id="305" name=""/>
                <p:cNvGrpSpPr/>
                <p:nvPr/>
              </p:nvGrpSpPr>
              <p:grpSpPr>
                <a:xfrm>
                  <a:off x="6627600" y="3036240"/>
                  <a:ext cx="226800" cy="57960"/>
                  <a:chOff x="6627600" y="3036240"/>
                  <a:chExt cx="226800" cy="57960"/>
                </a:xfrm>
              </p:grpSpPr>
              <p:grpSp>
                <p:nvGrpSpPr>
                  <p:cNvPr id="306" name=""/>
                  <p:cNvGrpSpPr/>
                  <p:nvPr/>
                </p:nvGrpSpPr>
                <p:grpSpPr>
                  <a:xfrm>
                    <a:off x="6627600" y="3036240"/>
                    <a:ext cx="226800" cy="19080"/>
                    <a:chOff x="6627600" y="3036240"/>
                    <a:chExt cx="226800" cy="19080"/>
                  </a:xfrm>
                </p:grpSpPr>
                <p:sp>
                  <p:nvSpPr>
                    <p:cNvPr id="307" name=""/>
                    <p:cNvSpPr/>
                    <p:nvPr/>
                  </p:nvSpPr>
                  <p:spPr>
                    <a:xfrm>
                      <a:off x="6627600" y="3036240"/>
                      <a:ext cx="57960" cy="190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8" name=""/>
                    <p:cNvSpPr/>
                    <p:nvPr/>
                  </p:nvSpPr>
                  <p:spPr>
                    <a:xfrm>
                      <a:off x="6796080" y="3036240"/>
                      <a:ext cx="58320" cy="190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9" name=""/>
                    <p:cNvSpPr/>
                    <p:nvPr/>
                  </p:nvSpPr>
                  <p:spPr>
                    <a:xfrm>
                      <a:off x="6711480" y="3036240"/>
                      <a:ext cx="58320" cy="190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10" name=""/>
                  <p:cNvGrpSpPr/>
                  <p:nvPr/>
                </p:nvGrpSpPr>
                <p:grpSpPr>
                  <a:xfrm>
                    <a:off x="6627600" y="3075480"/>
                    <a:ext cx="226800" cy="18720"/>
                    <a:chOff x="6627600" y="3075480"/>
                    <a:chExt cx="226800" cy="18720"/>
                  </a:xfrm>
                </p:grpSpPr>
                <p:sp>
                  <p:nvSpPr>
                    <p:cNvPr id="311" name=""/>
                    <p:cNvSpPr/>
                    <p:nvPr/>
                  </p:nvSpPr>
                  <p:spPr>
                    <a:xfrm>
                      <a:off x="6627600" y="3075480"/>
                      <a:ext cx="57960" cy="187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080" bIns="-28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2" name=""/>
                    <p:cNvSpPr/>
                    <p:nvPr/>
                  </p:nvSpPr>
                  <p:spPr>
                    <a:xfrm>
                      <a:off x="6796080" y="3075480"/>
                      <a:ext cx="58320" cy="187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080" bIns="-28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3" name=""/>
                    <p:cNvSpPr/>
                    <p:nvPr/>
                  </p:nvSpPr>
                  <p:spPr>
                    <a:xfrm>
                      <a:off x="6711480" y="3075480"/>
                      <a:ext cx="58320" cy="187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080" bIns="-28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14" name=""/>
                <p:cNvGrpSpPr/>
                <p:nvPr/>
              </p:nvGrpSpPr>
              <p:grpSpPr>
                <a:xfrm>
                  <a:off x="6626160" y="3114720"/>
                  <a:ext cx="226800" cy="57600"/>
                  <a:chOff x="6626160" y="3114720"/>
                  <a:chExt cx="226800" cy="57600"/>
                </a:xfrm>
              </p:grpSpPr>
              <p:grpSp>
                <p:nvGrpSpPr>
                  <p:cNvPr id="315" name=""/>
                  <p:cNvGrpSpPr/>
                  <p:nvPr/>
                </p:nvGrpSpPr>
                <p:grpSpPr>
                  <a:xfrm>
                    <a:off x="6626160" y="3114720"/>
                    <a:ext cx="226800" cy="18720"/>
                    <a:chOff x="6626160" y="3114720"/>
                    <a:chExt cx="226800" cy="18720"/>
                  </a:xfrm>
                </p:grpSpPr>
                <p:sp>
                  <p:nvSpPr>
                    <p:cNvPr id="316" name=""/>
                    <p:cNvSpPr/>
                    <p:nvPr/>
                  </p:nvSpPr>
                  <p:spPr>
                    <a:xfrm>
                      <a:off x="6626160" y="3114720"/>
                      <a:ext cx="58320" cy="187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080" bIns="-28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7" name=""/>
                    <p:cNvSpPr/>
                    <p:nvPr/>
                  </p:nvSpPr>
                  <p:spPr>
                    <a:xfrm>
                      <a:off x="6795000" y="3114720"/>
                      <a:ext cx="57960" cy="187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080" bIns="-28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>
                      <a:off x="6710400" y="3114720"/>
                      <a:ext cx="57960" cy="187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080" bIns="-28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19" name=""/>
                  <p:cNvGrpSpPr/>
                  <p:nvPr/>
                </p:nvGrpSpPr>
                <p:grpSpPr>
                  <a:xfrm>
                    <a:off x="6626160" y="3153600"/>
                    <a:ext cx="226800" cy="18720"/>
                    <a:chOff x="6626160" y="3153600"/>
                    <a:chExt cx="226800" cy="18720"/>
                  </a:xfrm>
                </p:grpSpPr>
                <p:sp>
                  <p:nvSpPr>
                    <p:cNvPr id="320" name=""/>
                    <p:cNvSpPr/>
                    <p:nvPr/>
                  </p:nvSpPr>
                  <p:spPr>
                    <a:xfrm>
                      <a:off x="6626160" y="3153600"/>
                      <a:ext cx="58320" cy="187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080" bIns="-28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1" name=""/>
                    <p:cNvSpPr/>
                    <p:nvPr/>
                  </p:nvSpPr>
                  <p:spPr>
                    <a:xfrm>
                      <a:off x="6795000" y="3153600"/>
                      <a:ext cx="57960" cy="187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080" bIns="-28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2" name=""/>
                    <p:cNvSpPr/>
                    <p:nvPr/>
                  </p:nvSpPr>
                  <p:spPr>
                    <a:xfrm>
                      <a:off x="6710400" y="3153600"/>
                      <a:ext cx="57960" cy="187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080" bIns="-28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323" name=""/>
              <p:cNvSpPr/>
              <p:nvPr/>
            </p:nvSpPr>
            <p:spPr>
              <a:xfrm>
                <a:off x="6954120" y="2786040"/>
                <a:ext cx="190800" cy="445320"/>
              </a:xfrm>
              <a:custGeom>
                <a:avLst/>
                <a:gdLst/>
                <a:ahLst/>
                <a:rect l="l" t="t" r="r" b="b"/>
                <a:pathLst>
                  <a:path w="131" h="306">
                    <a:moveTo>
                      <a:pt x="130" y="0"/>
                    </a:moveTo>
                    <a:lnTo>
                      <a:pt x="0" y="97"/>
                    </a:lnTo>
                    <a:lnTo>
                      <a:pt x="0" y="305"/>
                    </a:lnTo>
                    <a:lnTo>
                      <a:pt x="130" y="161"/>
                    </a:lnTo>
                    <a:lnTo>
                      <a:pt x="130" y="0"/>
                    </a:lnTo>
                  </a:path>
                </a:pathLst>
              </a:custGeom>
              <a:gradFill rotWithShape="0">
                <a:gsLst>
                  <a:gs pos="0">
                    <a:srgbClr val="deae89"/>
                  </a:gs>
                  <a:gs pos="100000">
                    <a:srgbClr val="6e5643"/>
                  </a:gs>
                </a:gsLst>
                <a:lin ang="81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4" name=""/>
              <p:cNvGrpSpPr/>
              <p:nvPr/>
            </p:nvGrpSpPr>
            <p:grpSpPr>
              <a:xfrm>
                <a:off x="6296760" y="3071160"/>
                <a:ext cx="263520" cy="72720"/>
                <a:chOff x="6296760" y="3071160"/>
                <a:chExt cx="263520" cy="7272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6296760" y="3071160"/>
                  <a:ext cx="263520" cy="72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795959"/>
                    </a:gs>
                    <a:gs pos="100000">
                      <a:srgbClr val="af8080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920" bIns="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6325560" y="3092760"/>
                  <a:ext cx="202320" cy="31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af8080"/>
                    </a:gs>
                    <a:gs pos="100000">
                      <a:srgbClr val="3326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7" name=""/>
              <p:cNvSpPr/>
              <p:nvPr/>
            </p:nvSpPr>
            <p:spPr>
              <a:xfrm>
                <a:off x="6909120" y="2925720"/>
                <a:ext cx="46440" cy="356760"/>
              </a:xfrm>
              <a:custGeom>
                <a:avLst/>
                <a:gdLst/>
                <a:ahLst/>
                <a:rect l="l" t="t" r="r" b="b"/>
                <a:pathLst>
                  <a:path w="32" h="245">
                    <a:moveTo>
                      <a:pt x="31" y="0"/>
                    </a:moveTo>
                    <a:lnTo>
                      <a:pt x="0" y="19"/>
                    </a:lnTo>
                    <a:lnTo>
                      <a:pt x="0" y="244"/>
                    </a:lnTo>
                    <a:lnTo>
                      <a:pt x="31" y="209"/>
                    </a:lnTo>
                    <a:lnTo>
                      <a:pt x="31" y="0"/>
                    </a:lnTo>
                  </a:path>
                </a:pathLst>
              </a:custGeom>
              <a:gradFill rotWithShape="0">
                <a:gsLst>
                  <a:gs pos="0">
                    <a:srgbClr val="4b2f2f"/>
                  </a:gs>
                  <a:gs pos="100000">
                    <a:srgbClr val="6c4444"/>
                  </a:gs>
                </a:gsLst>
                <a:lin ang="81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6164280" y="3414600"/>
              <a:ext cx="1015560" cy="496800"/>
              <a:chOff x="6164280" y="3414600"/>
              <a:chExt cx="1015560" cy="496800"/>
            </a:xfrm>
          </p:grpSpPr>
          <p:sp>
            <p:nvSpPr>
              <p:cNvPr id="329" name=""/>
              <p:cNvSpPr/>
              <p:nvPr/>
            </p:nvSpPr>
            <p:spPr>
              <a:xfrm>
                <a:off x="6213600" y="3414600"/>
                <a:ext cx="964800" cy="146880"/>
              </a:xfrm>
              <a:custGeom>
                <a:avLst/>
                <a:gdLst/>
                <a:ahLst/>
                <a:rect l="l" t="t" r="r" b="b"/>
                <a:pathLst>
                  <a:path w="662" h="101">
                    <a:moveTo>
                      <a:pt x="517" y="97"/>
                    </a:moveTo>
                    <a:lnTo>
                      <a:pt x="0" y="100"/>
                    </a:lnTo>
                    <a:lnTo>
                      <a:pt x="220" y="0"/>
                    </a:lnTo>
                    <a:lnTo>
                      <a:pt x="661" y="0"/>
                    </a:lnTo>
                    <a:lnTo>
                      <a:pt x="517" y="97"/>
                    </a:lnTo>
                  </a:path>
                </a:pathLst>
              </a:custGeom>
              <a:gradFill rotWithShape="0">
                <a:gsLst>
                  <a:gs pos="0">
                    <a:srgbClr val="8d7c6f"/>
                  </a:gs>
                  <a:gs pos="100000">
                    <a:srgbClr val="ecd0bb"/>
                  </a:gs>
                </a:gsLst>
                <a:lin ang="81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164280" y="3582000"/>
                <a:ext cx="752040" cy="326520"/>
              </a:xfrm>
              <a:prstGeom prst="rect">
                <a:avLst/>
              </a:prstGeom>
              <a:gradFill rotWithShape="0">
                <a:gsLst>
                  <a:gs pos="0">
                    <a:srgbClr val="af8080"/>
                  </a:gs>
                  <a:gs pos="100000">
                    <a:srgbClr val="795959"/>
                  </a:gs>
                </a:gsLst>
                <a:lin ang="81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165720" y="3556080"/>
                <a:ext cx="801360" cy="25920"/>
              </a:xfrm>
              <a:custGeom>
                <a:avLst/>
                <a:gdLst/>
                <a:ahLst/>
                <a:rect l="l" t="t" r="r" b="b"/>
                <a:pathLst>
                  <a:path w="550" h="18">
                    <a:moveTo>
                      <a:pt x="0" y="17"/>
                    </a:moveTo>
                    <a:lnTo>
                      <a:pt x="514" y="17"/>
                    </a:lnTo>
                    <a:lnTo>
                      <a:pt x="549" y="0"/>
                    </a:lnTo>
                    <a:lnTo>
                      <a:pt x="40" y="0"/>
                    </a:lnTo>
                    <a:lnTo>
                      <a:pt x="0" y="17"/>
                    </a:lnTo>
                  </a:path>
                </a:pathLst>
              </a:custGeom>
              <a:gradFill rotWithShape="0">
                <a:gsLst>
                  <a:gs pos="0">
                    <a:srgbClr val="af8080"/>
                  </a:gs>
                  <a:gs pos="100000">
                    <a:srgbClr val="795959"/>
                  </a:gs>
                </a:gsLst>
                <a:lin ang="81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2" name=""/>
              <p:cNvGrpSpPr/>
              <p:nvPr/>
            </p:nvGrpSpPr>
            <p:grpSpPr>
              <a:xfrm>
                <a:off x="6601320" y="3665160"/>
                <a:ext cx="254160" cy="136440"/>
                <a:chOff x="6601320" y="3665160"/>
                <a:chExt cx="254160" cy="136440"/>
              </a:xfrm>
            </p:grpSpPr>
            <p:grpSp>
              <p:nvGrpSpPr>
                <p:cNvPr id="333" name=""/>
                <p:cNvGrpSpPr/>
                <p:nvPr/>
              </p:nvGrpSpPr>
              <p:grpSpPr>
                <a:xfrm>
                  <a:off x="6602760" y="3665160"/>
                  <a:ext cx="252720" cy="57960"/>
                  <a:chOff x="6602760" y="3665160"/>
                  <a:chExt cx="252720" cy="57960"/>
                </a:xfrm>
              </p:grpSpPr>
              <p:grpSp>
                <p:nvGrpSpPr>
                  <p:cNvPr id="334" name=""/>
                  <p:cNvGrpSpPr/>
                  <p:nvPr/>
                </p:nvGrpSpPr>
                <p:grpSpPr>
                  <a:xfrm>
                    <a:off x="6602760" y="3665160"/>
                    <a:ext cx="252720" cy="19080"/>
                    <a:chOff x="6602760" y="3665160"/>
                    <a:chExt cx="252720" cy="19080"/>
                  </a:xfrm>
                </p:grpSpPr>
                <p:sp>
                  <p:nvSpPr>
                    <p:cNvPr id="335" name=""/>
                    <p:cNvSpPr/>
                    <p:nvPr/>
                  </p:nvSpPr>
                  <p:spPr>
                    <a:xfrm>
                      <a:off x="6602760" y="3665160"/>
                      <a:ext cx="65160" cy="190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6" name=""/>
                    <p:cNvSpPr/>
                    <p:nvPr/>
                  </p:nvSpPr>
                  <p:spPr>
                    <a:xfrm>
                      <a:off x="6790320" y="3665160"/>
                      <a:ext cx="65160" cy="190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7" name=""/>
                    <p:cNvSpPr/>
                    <p:nvPr/>
                  </p:nvSpPr>
                  <p:spPr>
                    <a:xfrm>
                      <a:off x="6697080" y="3665160"/>
                      <a:ext cx="63720" cy="1908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7720" bIns="-27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38" name=""/>
                  <p:cNvGrpSpPr/>
                  <p:nvPr/>
                </p:nvGrpSpPr>
                <p:grpSpPr>
                  <a:xfrm>
                    <a:off x="6602760" y="3704400"/>
                    <a:ext cx="252720" cy="18720"/>
                    <a:chOff x="6602760" y="3704400"/>
                    <a:chExt cx="252720" cy="18720"/>
                  </a:xfrm>
                </p:grpSpPr>
                <p:sp>
                  <p:nvSpPr>
                    <p:cNvPr id="339" name=""/>
                    <p:cNvSpPr/>
                    <p:nvPr/>
                  </p:nvSpPr>
                  <p:spPr>
                    <a:xfrm>
                      <a:off x="6602760" y="3704400"/>
                      <a:ext cx="65160" cy="187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080" bIns="-28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0" name=""/>
                    <p:cNvSpPr/>
                    <p:nvPr/>
                  </p:nvSpPr>
                  <p:spPr>
                    <a:xfrm>
                      <a:off x="6790320" y="3704400"/>
                      <a:ext cx="65160" cy="187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080" bIns="-28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1" name=""/>
                    <p:cNvSpPr/>
                    <p:nvPr/>
                  </p:nvSpPr>
                  <p:spPr>
                    <a:xfrm>
                      <a:off x="6697080" y="3704400"/>
                      <a:ext cx="63720" cy="187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080" bIns="-28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42" name=""/>
                <p:cNvGrpSpPr/>
                <p:nvPr/>
              </p:nvGrpSpPr>
              <p:grpSpPr>
                <a:xfrm>
                  <a:off x="6601320" y="3744000"/>
                  <a:ext cx="253080" cy="57600"/>
                  <a:chOff x="6601320" y="3744000"/>
                  <a:chExt cx="253080" cy="57600"/>
                </a:xfrm>
              </p:grpSpPr>
              <p:grpSp>
                <p:nvGrpSpPr>
                  <p:cNvPr id="343" name=""/>
                  <p:cNvGrpSpPr/>
                  <p:nvPr/>
                </p:nvGrpSpPr>
                <p:grpSpPr>
                  <a:xfrm>
                    <a:off x="6601320" y="3744000"/>
                    <a:ext cx="253080" cy="18720"/>
                    <a:chOff x="6601320" y="3744000"/>
                    <a:chExt cx="253080" cy="18720"/>
                  </a:xfrm>
                </p:grpSpPr>
                <p:sp>
                  <p:nvSpPr>
                    <p:cNvPr id="344" name=""/>
                    <p:cNvSpPr/>
                    <p:nvPr/>
                  </p:nvSpPr>
                  <p:spPr>
                    <a:xfrm>
                      <a:off x="6601320" y="3744000"/>
                      <a:ext cx="65520" cy="187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080" bIns="-28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5" name=""/>
                    <p:cNvSpPr/>
                    <p:nvPr/>
                  </p:nvSpPr>
                  <p:spPr>
                    <a:xfrm>
                      <a:off x="6788880" y="3744000"/>
                      <a:ext cx="65520" cy="187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080" bIns="-28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6" name=""/>
                    <p:cNvSpPr/>
                    <p:nvPr/>
                  </p:nvSpPr>
                  <p:spPr>
                    <a:xfrm>
                      <a:off x="6696000" y="3744000"/>
                      <a:ext cx="63720" cy="187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080" bIns="-28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47" name=""/>
                  <p:cNvGrpSpPr/>
                  <p:nvPr/>
                </p:nvGrpSpPr>
                <p:grpSpPr>
                  <a:xfrm>
                    <a:off x="6601320" y="3782880"/>
                    <a:ext cx="253080" cy="18720"/>
                    <a:chOff x="6601320" y="3782880"/>
                    <a:chExt cx="253080" cy="18720"/>
                  </a:xfrm>
                </p:grpSpPr>
                <p:sp>
                  <p:nvSpPr>
                    <p:cNvPr id="348" name=""/>
                    <p:cNvSpPr/>
                    <p:nvPr/>
                  </p:nvSpPr>
                  <p:spPr>
                    <a:xfrm>
                      <a:off x="6601320" y="3782880"/>
                      <a:ext cx="65520" cy="187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080" bIns="-28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9" name=""/>
                    <p:cNvSpPr/>
                    <p:nvPr/>
                  </p:nvSpPr>
                  <p:spPr>
                    <a:xfrm>
                      <a:off x="6788880" y="3782880"/>
                      <a:ext cx="65520" cy="187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080" bIns="-28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0" name=""/>
                    <p:cNvSpPr/>
                    <p:nvPr/>
                  </p:nvSpPr>
                  <p:spPr>
                    <a:xfrm>
                      <a:off x="6696000" y="3782880"/>
                      <a:ext cx="63720" cy="187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080" bIns="-280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351" name=""/>
              <p:cNvSpPr/>
              <p:nvPr/>
            </p:nvSpPr>
            <p:spPr>
              <a:xfrm>
                <a:off x="6967080" y="3414600"/>
                <a:ext cx="212760" cy="445680"/>
              </a:xfrm>
              <a:custGeom>
                <a:avLst/>
                <a:gdLst/>
                <a:ahLst/>
                <a:rect l="l" t="t" r="r" b="b"/>
                <a:pathLst>
                  <a:path w="146" h="306">
                    <a:moveTo>
                      <a:pt x="145" y="0"/>
                    </a:moveTo>
                    <a:lnTo>
                      <a:pt x="0" y="97"/>
                    </a:lnTo>
                    <a:lnTo>
                      <a:pt x="0" y="305"/>
                    </a:lnTo>
                    <a:lnTo>
                      <a:pt x="145" y="161"/>
                    </a:lnTo>
                    <a:lnTo>
                      <a:pt x="145" y="0"/>
                    </a:lnTo>
                  </a:path>
                </a:pathLst>
              </a:custGeom>
              <a:gradFill rotWithShape="0">
                <a:gsLst>
                  <a:gs pos="0">
                    <a:srgbClr val="deae89"/>
                  </a:gs>
                  <a:gs pos="100000">
                    <a:srgbClr val="6e5643"/>
                  </a:gs>
                </a:gsLst>
                <a:lin ang="81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2" name=""/>
              <p:cNvGrpSpPr/>
              <p:nvPr/>
            </p:nvGrpSpPr>
            <p:grpSpPr>
              <a:xfrm>
                <a:off x="6234120" y="3700080"/>
                <a:ext cx="292680" cy="72720"/>
                <a:chOff x="6234120" y="3700080"/>
                <a:chExt cx="292680" cy="7272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6234120" y="3700080"/>
                  <a:ext cx="292680" cy="72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795959"/>
                    </a:gs>
                    <a:gs pos="100000">
                      <a:srgbClr val="af8080"/>
                    </a:gs>
                  </a:gsLst>
                  <a:lin ang="54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920" bIns="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6266160" y="3721680"/>
                  <a:ext cx="225720" cy="31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af8080"/>
                    </a:gs>
                    <a:gs pos="100000">
                      <a:srgbClr val="3326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5" name=""/>
              <p:cNvSpPr/>
              <p:nvPr/>
            </p:nvSpPr>
            <p:spPr>
              <a:xfrm>
                <a:off x="6917760" y="3554280"/>
                <a:ext cx="51120" cy="357120"/>
              </a:xfrm>
              <a:custGeom>
                <a:avLst/>
                <a:gdLst/>
                <a:ahLst/>
                <a:rect l="l" t="t" r="r" b="b"/>
                <a:pathLst>
                  <a:path w="35" h="245">
                    <a:moveTo>
                      <a:pt x="34" y="0"/>
                    </a:moveTo>
                    <a:lnTo>
                      <a:pt x="0" y="19"/>
                    </a:lnTo>
                    <a:lnTo>
                      <a:pt x="0" y="244"/>
                    </a:lnTo>
                    <a:lnTo>
                      <a:pt x="34" y="209"/>
                    </a:lnTo>
                    <a:lnTo>
                      <a:pt x="34" y="0"/>
                    </a:lnTo>
                  </a:path>
                </a:pathLst>
              </a:custGeom>
              <a:gradFill rotWithShape="0">
                <a:gsLst>
                  <a:gs pos="0">
                    <a:srgbClr val="4b2f2f"/>
                  </a:gs>
                  <a:gs pos="100000">
                    <a:srgbClr val="6c4444"/>
                  </a:gs>
                </a:gsLst>
                <a:lin ang="81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6303960" y="2506680"/>
              <a:ext cx="21319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application  serv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166080" y="3906720"/>
              <a:ext cx="20916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frastructure serv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095880" y="2508120"/>
              <a:ext cx="2444760" cy="174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124760" y="2716200"/>
              <a:ext cx="144288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IP Comm. Services, radius, etc.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129440" y="3471840"/>
              <a:ext cx="1302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atekeep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1" name=""/>
            <p:cNvGrpSpPr/>
            <p:nvPr/>
          </p:nvGrpSpPr>
          <p:grpSpPr>
            <a:xfrm>
              <a:off x="7423200" y="1457280"/>
              <a:ext cx="631440" cy="544320"/>
              <a:chOff x="7423200" y="1457280"/>
              <a:chExt cx="631440" cy="544320"/>
            </a:xfrm>
          </p:grpSpPr>
          <p:sp>
            <p:nvSpPr>
              <p:cNvPr id="362" name=""/>
              <p:cNvSpPr/>
              <p:nvPr/>
            </p:nvSpPr>
            <p:spPr>
              <a:xfrm>
                <a:off x="7440480" y="1502280"/>
                <a:ext cx="529560" cy="483120"/>
              </a:xfrm>
              <a:prstGeom prst="rect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8f8f8f"/>
                  </a:gs>
                </a:gsLst>
                <a:lin ang="81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426080" y="1457280"/>
                <a:ext cx="628560" cy="46440"/>
              </a:xfrm>
              <a:custGeom>
                <a:avLst/>
                <a:gdLst/>
                <a:ahLst/>
                <a:rect l="l" t="t" r="r" b="b"/>
                <a:pathLst>
                  <a:path w="431" h="32">
                    <a:moveTo>
                      <a:pt x="430" y="0"/>
                    </a:moveTo>
                    <a:lnTo>
                      <a:pt x="384" y="31"/>
                    </a:lnTo>
                    <a:lnTo>
                      <a:pt x="0" y="31"/>
                    </a:lnTo>
                    <a:lnTo>
                      <a:pt x="55" y="0"/>
                    </a:lnTo>
                    <a:lnTo>
                      <a:pt x="430" y="0"/>
                    </a:lnTo>
                  </a:path>
                </a:pathLst>
              </a:custGeom>
              <a:gradFill rotWithShape="0">
                <a:gsLst>
                  <a:gs pos="0">
                    <a:srgbClr val="7b7b7b"/>
                  </a:gs>
                  <a:gs pos="100000">
                    <a:srgbClr val="cecece"/>
                  </a:gs>
                </a:gsLst>
                <a:lin ang="81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985880" y="1457280"/>
                <a:ext cx="68760" cy="537120"/>
              </a:xfrm>
              <a:custGeom>
                <a:avLst/>
                <a:gdLst/>
                <a:ahLst/>
                <a:rect l="l" t="t" r="r" b="b"/>
                <a:pathLst>
                  <a:path w="47" h="369">
                    <a:moveTo>
                      <a:pt x="0" y="368"/>
                    </a:moveTo>
                    <a:lnTo>
                      <a:pt x="46" y="321"/>
                    </a:lnTo>
                    <a:lnTo>
                      <a:pt x="46" y="0"/>
                    </a:lnTo>
                    <a:lnTo>
                      <a:pt x="0" y="31"/>
                    </a:lnTo>
                    <a:lnTo>
                      <a:pt x="0" y="36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440480" y="1985760"/>
                <a:ext cx="529560" cy="15840"/>
              </a:xfrm>
              <a:prstGeom prst="rect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b8b8b8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802280" y="1540440"/>
                <a:ext cx="0" cy="44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7444800" y="1535760"/>
                <a:ext cx="525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9200" y="1518480"/>
                <a:ext cx="330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938000" y="1524240"/>
                <a:ext cx="5760" cy="7200"/>
              </a:xfrm>
              <a:prstGeom prst="rect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b8b8b8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920720" y="1524240"/>
                <a:ext cx="7200" cy="7200"/>
              </a:xfrm>
              <a:prstGeom prst="rect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b8b8b8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7907400" y="1525680"/>
                <a:ext cx="4320" cy="3960"/>
              </a:xfrm>
              <a:prstGeom prst="rect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b8b8b8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840" bIns="-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7895880" y="1525680"/>
                <a:ext cx="3960" cy="3960"/>
              </a:xfrm>
              <a:prstGeom prst="rect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b8b8b8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840" bIns="-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884000" y="1525680"/>
                <a:ext cx="3960" cy="3960"/>
              </a:xfrm>
              <a:prstGeom prst="rect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b8b8b8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840" bIns="-42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4" name=""/>
              <p:cNvGrpSpPr/>
              <p:nvPr/>
            </p:nvGrpSpPr>
            <p:grpSpPr>
              <a:xfrm>
                <a:off x="7783560" y="1607400"/>
                <a:ext cx="7200" cy="206280"/>
                <a:chOff x="7783560" y="1607400"/>
                <a:chExt cx="7200" cy="20628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7783560" y="1607400"/>
                  <a:ext cx="7200" cy="18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cecece"/>
                    </a:gs>
                    <a:gs pos="100000">
                      <a:srgbClr val="b8b8b8"/>
                    </a:gs>
                  </a:gsLst>
                  <a:lin ang="135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7783560" y="1794600"/>
                  <a:ext cx="7200" cy="19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cecece"/>
                    </a:gs>
                    <a:gs pos="100000">
                      <a:srgbClr val="b8b8b8"/>
                    </a:gs>
                  </a:gsLst>
                  <a:lin ang="135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" name=""/>
              <p:cNvGrpSpPr/>
              <p:nvPr/>
            </p:nvGrpSpPr>
            <p:grpSpPr>
              <a:xfrm>
                <a:off x="7598520" y="1609920"/>
                <a:ext cx="7200" cy="207720"/>
                <a:chOff x="7598520" y="1609920"/>
                <a:chExt cx="7200" cy="20772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7598520" y="1798920"/>
                  <a:ext cx="7200" cy="18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cecece"/>
                    </a:gs>
                    <a:gs pos="100000">
                      <a:srgbClr val="b8b8b8"/>
                    </a:gs>
                  </a:gsLst>
                  <a:lin ang="135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7598520" y="1609920"/>
                  <a:ext cx="7200" cy="19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cecece"/>
                    </a:gs>
                    <a:gs pos="100000">
                      <a:srgbClr val="b8b8b8"/>
                    </a:gs>
                  </a:gsLst>
                  <a:lin ang="135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0" name=""/>
              <p:cNvSpPr/>
              <p:nvPr/>
            </p:nvSpPr>
            <p:spPr>
              <a:xfrm>
                <a:off x="7617240" y="1502280"/>
                <a:ext cx="15840" cy="493200"/>
              </a:xfrm>
              <a:prstGeom prst="rect">
                <a:avLst/>
              </a:prstGeom>
              <a:gradFill rotWithShape="0">
                <a:gsLst>
                  <a:gs pos="0">
                    <a:srgbClr val="b8b8b8"/>
                  </a:gs>
                  <a:gs pos="50000">
                    <a:srgbClr val="cecece"/>
                  </a:gs>
                  <a:gs pos="100000">
                    <a:srgbClr val="b8b8b8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7423200" y="1502280"/>
                <a:ext cx="16200" cy="493200"/>
              </a:xfrm>
              <a:prstGeom prst="rect">
                <a:avLst/>
              </a:prstGeom>
              <a:gradFill rotWithShape="0">
                <a:gsLst>
                  <a:gs pos="0">
                    <a:srgbClr val="b8b8b8"/>
                  </a:gs>
                  <a:gs pos="50000">
                    <a:srgbClr val="cecece"/>
                  </a:gs>
                  <a:gs pos="100000">
                    <a:srgbClr val="b8b8b8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7971480" y="1502280"/>
                <a:ext cx="14400" cy="493200"/>
              </a:xfrm>
              <a:prstGeom prst="rect">
                <a:avLst/>
              </a:prstGeom>
              <a:gradFill rotWithShape="0">
                <a:gsLst>
                  <a:gs pos="0">
                    <a:srgbClr val="b8b8b8"/>
                  </a:gs>
                  <a:gs pos="50000">
                    <a:srgbClr val="cecece"/>
                  </a:gs>
                  <a:gs pos="100000">
                    <a:srgbClr val="b8b8b8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3" name=""/>
            <p:cNvSpPr/>
            <p:nvPr/>
          </p:nvSpPr>
          <p:spPr>
            <a:xfrm flipV="1">
              <a:off x="7213680" y="1561680"/>
              <a:ext cx="207720" cy="13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072560" y="1946160"/>
              <a:ext cx="13478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STN swit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5" name=""/>
            <p:cNvGrpSpPr/>
            <p:nvPr/>
          </p:nvGrpSpPr>
          <p:grpSpPr>
            <a:xfrm>
              <a:off x="2779560" y="685800"/>
              <a:ext cx="630000" cy="544680"/>
              <a:chOff x="2779560" y="685800"/>
              <a:chExt cx="630000" cy="544680"/>
            </a:xfrm>
          </p:grpSpPr>
          <p:sp>
            <p:nvSpPr>
              <p:cNvPr id="386" name=""/>
              <p:cNvSpPr/>
              <p:nvPr/>
            </p:nvSpPr>
            <p:spPr>
              <a:xfrm>
                <a:off x="2796840" y="730800"/>
                <a:ext cx="528120" cy="483480"/>
              </a:xfrm>
              <a:prstGeom prst="rect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8f8f8f"/>
                  </a:gs>
                </a:gsLst>
                <a:lin ang="81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782440" y="685800"/>
                <a:ext cx="627120" cy="46440"/>
              </a:xfrm>
              <a:custGeom>
                <a:avLst/>
                <a:gdLst/>
                <a:ahLst/>
                <a:rect l="l" t="t" r="r" b="b"/>
                <a:pathLst>
                  <a:path w="431" h="32">
                    <a:moveTo>
                      <a:pt x="430" y="0"/>
                    </a:moveTo>
                    <a:lnTo>
                      <a:pt x="384" y="31"/>
                    </a:lnTo>
                    <a:lnTo>
                      <a:pt x="0" y="31"/>
                    </a:lnTo>
                    <a:lnTo>
                      <a:pt x="55" y="0"/>
                    </a:lnTo>
                    <a:lnTo>
                      <a:pt x="430" y="0"/>
                    </a:lnTo>
                  </a:path>
                </a:pathLst>
              </a:custGeom>
              <a:gradFill rotWithShape="0">
                <a:gsLst>
                  <a:gs pos="0">
                    <a:srgbClr val="7b7b7b"/>
                  </a:gs>
                  <a:gs pos="100000">
                    <a:srgbClr val="cecece"/>
                  </a:gs>
                </a:gsLst>
                <a:lin ang="8100000"/>
              </a:gra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341160" y="685800"/>
                <a:ext cx="68400" cy="537120"/>
              </a:xfrm>
              <a:custGeom>
                <a:avLst/>
                <a:gdLst/>
                <a:ahLst/>
                <a:rect l="l" t="t" r="r" b="b"/>
                <a:pathLst>
                  <a:path w="47" h="369">
                    <a:moveTo>
                      <a:pt x="0" y="368"/>
                    </a:moveTo>
                    <a:lnTo>
                      <a:pt x="46" y="321"/>
                    </a:lnTo>
                    <a:lnTo>
                      <a:pt x="46" y="0"/>
                    </a:lnTo>
                    <a:lnTo>
                      <a:pt x="0" y="31"/>
                    </a:lnTo>
                    <a:lnTo>
                      <a:pt x="0" y="36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796840" y="1214640"/>
                <a:ext cx="528120" cy="15840"/>
              </a:xfrm>
              <a:prstGeom prst="rect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b8b8b8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157920" y="768960"/>
                <a:ext cx="0" cy="44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801160" y="764280"/>
                <a:ext cx="523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994840" y="746640"/>
                <a:ext cx="330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3293280" y="752760"/>
                <a:ext cx="5400" cy="7200"/>
              </a:xfrm>
              <a:prstGeom prst="rect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b8b8b8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275640" y="752760"/>
                <a:ext cx="7200" cy="7200"/>
              </a:xfrm>
              <a:prstGeom prst="rect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b8b8b8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262680" y="753840"/>
                <a:ext cx="3960" cy="4320"/>
              </a:xfrm>
              <a:prstGeom prst="rect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b8b8b8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251160" y="753840"/>
                <a:ext cx="3960" cy="4320"/>
              </a:xfrm>
              <a:prstGeom prst="rect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b8b8b8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239640" y="753840"/>
                <a:ext cx="3960" cy="4320"/>
              </a:xfrm>
              <a:prstGeom prst="rect">
                <a:avLst/>
              </a:prstGeom>
              <a:gradFill rotWithShape="0">
                <a:gsLst>
                  <a:gs pos="0">
                    <a:srgbClr val="cecece"/>
                  </a:gs>
                  <a:gs pos="100000">
                    <a:srgbClr val="b8b8b8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8" name=""/>
              <p:cNvGrpSpPr/>
              <p:nvPr/>
            </p:nvGrpSpPr>
            <p:grpSpPr>
              <a:xfrm>
                <a:off x="3138840" y="835560"/>
                <a:ext cx="7200" cy="206640"/>
                <a:chOff x="3138840" y="835560"/>
                <a:chExt cx="7200" cy="20664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3138840" y="835560"/>
                  <a:ext cx="7200" cy="19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cecece"/>
                    </a:gs>
                    <a:gs pos="100000">
                      <a:srgbClr val="b8b8b8"/>
                    </a:gs>
                  </a:gsLst>
                  <a:lin ang="135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3138840" y="1023120"/>
                  <a:ext cx="7200" cy="19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cecece"/>
                    </a:gs>
                    <a:gs pos="100000">
                      <a:srgbClr val="b8b8b8"/>
                    </a:gs>
                  </a:gsLst>
                  <a:lin ang="135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1" name=""/>
              <p:cNvGrpSpPr/>
              <p:nvPr/>
            </p:nvGrpSpPr>
            <p:grpSpPr>
              <a:xfrm>
                <a:off x="2953800" y="838440"/>
                <a:ext cx="7200" cy="207720"/>
                <a:chOff x="2953800" y="838440"/>
                <a:chExt cx="7200" cy="207720"/>
              </a:xfrm>
            </p:grpSpPr>
            <p:sp>
              <p:nvSpPr>
                <p:cNvPr id="402" name=""/>
                <p:cNvSpPr/>
                <p:nvPr/>
              </p:nvSpPr>
              <p:spPr>
                <a:xfrm>
                  <a:off x="2953800" y="1027080"/>
                  <a:ext cx="7200" cy="19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cecece"/>
                    </a:gs>
                    <a:gs pos="100000">
                      <a:srgbClr val="b8b8b8"/>
                    </a:gs>
                  </a:gsLst>
                  <a:lin ang="135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2953800" y="838440"/>
                  <a:ext cx="7200" cy="19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cecece"/>
                    </a:gs>
                    <a:gs pos="100000">
                      <a:srgbClr val="b8b8b8"/>
                    </a:gs>
                  </a:gsLst>
                  <a:lin ang="135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4" name=""/>
              <p:cNvSpPr/>
              <p:nvPr/>
            </p:nvSpPr>
            <p:spPr>
              <a:xfrm>
                <a:off x="2973240" y="730800"/>
                <a:ext cx="15840" cy="493560"/>
              </a:xfrm>
              <a:prstGeom prst="rect">
                <a:avLst/>
              </a:prstGeom>
              <a:gradFill rotWithShape="0">
                <a:gsLst>
                  <a:gs pos="0">
                    <a:srgbClr val="b8b8b8"/>
                  </a:gs>
                  <a:gs pos="50000">
                    <a:srgbClr val="cecece"/>
                  </a:gs>
                  <a:gs pos="100000">
                    <a:srgbClr val="b8b8b8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2779560" y="730800"/>
                <a:ext cx="15840" cy="493560"/>
              </a:xfrm>
              <a:prstGeom prst="rect">
                <a:avLst/>
              </a:prstGeom>
              <a:gradFill rotWithShape="0">
                <a:gsLst>
                  <a:gs pos="0">
                    <a:srgbClr val="b8b8b8"/>
                  </a:gs>
                  <a:gs pos="50000">
                    <a:srgbClr val="cecece"/>
                  </a:gs>
                  <a:gs pos="100000">
                    <a:srgbClr val="b8b8b8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3326760" y="730800"/>
                <a:ext cx="14400" cy="493560"/>
              </a:xfrm>
              <a:prstGeom prst="rect">
                <a:avLst/>
              </a:prstGeom>
              <a:gradFill rotWithShape="0">
                <a:gsLst>
                  <a:gs pos="0">
                    <a:srgbClr val="b8b8b8"/>
                  </a:gs>
                  <a:gs pos="50000">
                    <a:srgbClr val="cecece"/>
                  </a:gs>
                  <a:gs pos="100000">
                    <a:srgbClr val="b8b8b8"/>
                  </a:gs>
                </a:gsLst>
                <a:lin ang="135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7" name=""/>
            <p:cNvSpPr/>
            <p:nvPr/>
          </p:nvSpPr>
          <p:spPr>
            <a:xfrm flipH="1" flipV="1">
              <a:off x="3390480" y="958680"/>
              <a:ext cx="111240" cy="19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3595680" y="5767560"/>
            <a:ext cx="5305320" cy="6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9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t Proprietary Network Configuration and Management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42440" y="794880"/>
            <a:ext cx="7867800" cy="7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IT -- Configuration Management for Internet Telephony Features..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42440" y="2070000"/>
            <a:ext cx="7867800" cy="344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- PSTN Rou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23148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s PSTN Number Plan--allows for unlimited DID provisioning in under an h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23148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s E.164 addresse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ircuit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ateway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P Addr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23148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ries: local calling scope, service availability, service degra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23148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ic management of area-code splits and overl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39360" y="880920"/>
            <a:ext cx="7867800" cy="3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IT Featur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42440" y="1898280"/>
            <a:ext cx="7867800" cy="31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l-time network configuration (gw, gk, app platform, radius, usage mediation, …..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phisticated router config. management tool se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2360" indent="-22896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(in-service) configuration changes,  full configuration downlo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2360" indent="-22896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audit / data consistency chec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2360" indent="-22896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uration version manag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39360" y="880920"/>
            <a:ext cx="7867800" cy="3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uity Voice over IP Presentation Outline: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4" name=""/>
          <p:cNvSpPr/>
          <p:nvPr/>
        </p:nvSpPr>
        <p:spPr>
          <a:xfrm>
            <a:off x="1197000" y="2728800"/>
            <a:ext cx="6697800" cy="534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ctr">
              <a:lnSpc>
                <a:spcPct val="9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 Architecture Over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179360" y="1884240"/>
            <a:ext cx="6697800" cy="534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ctr">
              <a:lnSpc>
                <a:spcPct val="9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uity Voice over IP Infrastructure Object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222200" y="3546360"/>
            <a:ext cx="6697800" cy="534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ctr">
              <a:lnSpc>
                <a:spcPct val="9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ce Implementation--Challenges and Iss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193760" y="5222880"/>
            <a:ext cx="6697800" cy="534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ctr">
              <a:lnSpc>
                <a:spcPct val="9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king Forwar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195560" y="4432320"/>
            <a:ext cx="6697440" cy="5349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ctr">
              <a:lnSpc>
                <a:spcPct val="9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uity Voice over IP Current 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66168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uity is the leading VoIP service provider in the world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5000"/>
              </a:lnSpc>
              <a:spcBef>
                <a:spcPts val="1874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4110120"/>
                <a:tab algn="r" pos="759456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ly handling well over 100 million minutes per mo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4110120"/>
                <a:tab algn="r" pos="759456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en ability to scale rapid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4110120"/>
                <a:tab algn="r" pos="759456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n numerous awards for VoIP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4110120"/>
                <a:tab algn="r" pos="759456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ncial Times 1999 Global Telecom Award for “Best Use of Internet Technology.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4110120"/>
                <a:tab algn="r" pos="759456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 Telephony Magazine’s Product of the Year Award in the services categor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  <a:tabLst>
                <a:tab algn="l" pos="4110120"/>
                <a:tab algn="r" pos="759456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e.com Ovation award in the category of Access Network Design and Engineering for Dr. Robert Olshansky’s, Genuity Director of Engineering, individual achievement in engineer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2057400" y="5257800"/>
            <a:ext cx="1415880" cy="100188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3736800" y="5113440"/>
            <a:ext cx="1824120" cy="145872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3"/>
          <a:stretch/>
        </p:blipFill>
        <p:spPr>
          <a:xfrm>
            <a:off x="5925960" y="5116680"/>
            <a:ext cx="1825920" cy="93492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1493280" y="6093000"/>
            <a:ext cx="2396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st Use of Internet Telephony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263920" y="5799240"/>
            <a:ext cx="3056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ation Awar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ss Network Design and Engineering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79000" y="750600"/>
            <a:ext cx="848844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Quality VoIP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7" name=""/>
          <p:cNvSpPr/>
          <p:nvPr/>
        </p:nvSpPr>
        <p:spPr>
          <a:xfrm>
            <a:off x="380880" y="1295280"/>
            <a:ext cx="8518680" cy="41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ity of Service (Q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174600">
              <a:lnSpc>
                <a:spcPct val="100000"/>
              </a:lnSpc>
              <a:spcBef>
                <a:spcPts val="499"/>
              </a:spcBef>
              <a:buClr>
                <a:srgbClr val="99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9.9% network availability outside of planned out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174600">
              <a:lnSpc>
                <a:spcPct val="100000"/>
              </a:lnSpc>
              <a:spcBef>
                <a:spcPts val="499"/>
              </a:spcBef>
              <a:buClr>
                <a:srgbClr val="99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-way latency delay of less than 100ms between any two points on GENUiTY VoIP network (Currently delivering around 40ms del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174600">
              <a:lnSpc>
                <a:spcPct val="100000"/>
              </a:lnSpc>
              <a:spcBef>
                <a:spcPts val="499"/>
              </a:spcBef>
              <a:buClr>
                <a:srgbClr val="99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-way jitter of less than 15ms between any two points on GENUiTY IP Voice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7800" indent="-174600">
              <a:lnSpc>
                <a:spcPct val="100000"/>
              </a:lnSpc>
              <a:spcBef>
                <a:spcPts val="499"/>
              </a:spcBef>
              <a:buClr>
                <a:srgbClr val="99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et loss of less than 1% between any two points on GENUiTY IP Voice network (actual packet loss near 0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Voice over IP Carrier to Implement Low Latency Priority Queuing on the Tail Circui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14080" y="5529240"/>
            <a:ext cx="25855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3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No Tail Circuit Q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568400" y="5529240"/>
            <a:ext cx="32346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7000"/>
              </a:lnSpc>
              <a:spcBef>
                <a:spcPts val="1375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9900"/>
                </a:solidFill>
                <a:uFillTx/>
                <a:latin typeface="Arial"/>
              </a:rPr>
              <a:t>QoS Enabled Tail Circu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39360" y="880920"/>
            <a:ext cx="7867800" cy="3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rier Quality Back-End Suppor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39360" y="1879200"/>
            <a:ext cx="7867800" cy="42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x7 Network Monitor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231480">
              <a:lnSpc>
                <a:spcPct val="90000"/>
              </a:lnSpc>
              <a:spcBef>
                <a:spcPts val="499"/>
              </a:spcBef>
              <a:buClr>
                <a:srgbClr val="99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UiTY’s Network Operations Center (NOC) is available to customers 24x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231480">
              <a:lnSpc>
                <a:spcPct val="90000"/>
              </a:lnSpc>
              <a:spcBef>
                <a:spcPts val="499"/>
              </a:spcBef>
              <a:buClr>
                <a:srgbClr val="99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al monitoring, testing and diagnoses of all components of the network including partners’ network connections and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x7 Customer Ca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231480">
              <a:lnSpc>
                <a:spcPct val="90000"/>
              </a:lnSpc>
              <a:spcBef>
                <a:spcPts val="499"/>
              </a:spcBef>
              <a:buClr>
                <a:srgbClr val="99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er II through IV customer care via telephone with reliable escalation and response processe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231480">
              <a:lnSpc>
                <a:spcPct val="90000"/>
              </a:lnSpc>
              <a:spcBef>
                <a:spcPts val="499"/>
              </a:spcBef>
              <a:buClr>
                <a:srgbClr val="99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-line customer support system with access to network status, call detail records, and trouble ticket trac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39360" y="882360"/>
            <a:ext cx="78678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-service network deployed to 54 LATA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39360" y="1607760"/>
            <a:ext cx="7867800" cy="36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lvl="1" marL="342360" indent="-22896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l inbound access to over 80% US metro 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2360" indent="-22896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ld-wide egr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2360" indent="-22896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Central Office” with local calling from 100 million telephone 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2360" indent="-22896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services on every P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2360" indent="-22896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ily scaled by adding PRIs and gatew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2360" indent="-22896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customers and services by activating local access nu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2360" indent="-22896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pid deployment of new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39360" y="880920"/>
            <a:ext cx="7867800" cy="3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ion Topics: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"/>
          <p:cNvSpPr/>
          <p:nvPr/>
        </p:nvSpPr>
        <p:spPr>
          <a:xfrm>
            <a:off x="1197000" y="2728800"/>
            <a:ext cx="6697800" cy="534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ctr">
              <a:lnSpc>
                <a:spcPct val="9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 Architecture Over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79360" y="1884240"/>
            <a:ext cx="6697800" cy="5349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ctr">
              <a:lnSpc>
                <a:spcPct val="9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uity Voice over IP Infrastructure Object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22200" y="3546360"/>
            <a:ext cx="6697800" cy="534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ctr">
              <a:lnSpc>
                <a:spcPct val="9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ce Implementation--Challenges and Iss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93760" y="5222880"/>
            <a:ext cx="6697800" cy="534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ctr">
              <a:lnSpc>
                <a:spcPct val="9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king Forwar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95560" y="4432320"/>
            <a:ext cx="6697440" cy="534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ctr">
              <a:lnSpc>
                <a:spcPct val="9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uity Voice over IP Current 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39360" y="934560"/>
            <a:ext cx="78678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Genuity Voice over IP Presentation Outline: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5" name=""/>
          <p:cNvSpPr/>
          <p:nvPr/>
        </p:nvSpPr>
        <p:spPr>
          <a:xfrm>
            <a:off x="1197000" y="2728800"/>
            <a:ext cx="6697800" cy="534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ctr">
              <a:lnSpc>
                <a:spcPct val="9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 Architecture Over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179360" y="1884240"/>
            <a:ext cx="6697800" cy="534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ctr">
              <a:lnSpc>
                <a:spcPct val="9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uity Voice over IP Infrastructure Object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222200" y="3546360"/>
            <a:ext cx="6697800" cy="534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ctr">
              <a:lnSpc>
                <a:spcPct val="9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ce Implementation--Challenges and Iss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193760" y="5222880"/>
            <a:ext cx="6697800" cy="5349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ctr">
              <a:lnSpc>
                <a:spcPct val="9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king Forwar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195560" y="4432320"/>
            <a:ext cx="6697440" cy="534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ctr">
              <a:lnSpc>
                <a:spcPct val="9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uity Voice over IP Current 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42440" y="637920"/>
            <a:ext cx="7867800" cy="3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ing forward..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42440" y="1333440"/>
            <a:ext cx="8129880" cy="35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2120" indent="-22212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anding egress capacity to approximately 1Billion MMoUs by year en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igating deployment of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23148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nd to end PC to Phone Q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23148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ext generation IP Communication Infrastructure Cap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231480">
              <a:lnSpc>
                <a:spcPct val="90000"/>
              </a:lnSpc>
              <a:spcBef>
                <a:spcPts val="18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egrated Enterprise voice/data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212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732200" y="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r" pos="771516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42440" y="831960"/>
            <a:ext cx="7867800" cy="7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ummary, Genuity offers reliable, scalable VoIP ..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844200" y="1879560"/>
            <a:ext cx="7867800" cy="470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ingle Point of Fail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Standards Based Infrastru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onal Central Office Cap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aranteed Quality of Serv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onal, local inbound dial reach in major metr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Transport and Termin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oIP Service Provider Market Leader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803240" y="2538360"/>
            <a:ext cx="5112000" cy="3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7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9360" y="736560"/>
            <a:ext cx="822816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uity’s Voice over IP Service Infrastructure Objectives..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44200" y="1839600"/>
            <a:ext cx="7867800" cy="45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able, Scalable networ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aranteed Quality of Serv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ingle Point of Fail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Standards Based Infrastru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onal Central Office Cap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onal Local Inward Dial Rea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Transport and Termin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39360" y="880920"/>
            <a:ext cx="7867800" cy="3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uity Voice over IP Presentation Outline: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"/>
          <p:cNvSpPr/>
          <p:nvPr/>
        </p:nvSpPr>
        <p:spPr>
          <a:xfrm>
            <a:off x="1197000" y="2728800"/>
            <a:ext cx="6697800" cy="5349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ctr">
              <a:lnSpc>
                <a:spcPct val="9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 Architecture Over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79360" y="1884240"/>
            <a:ext cx="6697800" cy="534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ctr">
              <a:lnSpc>
                <a:spcPct val="9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uity Voice over IP Infrastructure Object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22200" y="3546360"/>
            <a:ext cx="6697800" cy="534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ctr">
              <a:lnSpc>
                <a:spcPct val="9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ce Implementation--Challenges and Iss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93760" y="5222880"/>
            <a:ext cx="6697800" cy="534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ctr">
              <a:lnSpc>
                <a:spcPct val="9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king Forwar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95560" y="4432320"/>
            <a:ext cx="6697440" cy="534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ctr">
              <a:lnSpc>
                <a:spcPct val="9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uity Voice over IP Current 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732200" y="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r" pos="771516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39360" y="887400"/>
            <a:ext cx="7867800" cy="3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chitecture Overview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7120" y="1360440"/>
            <a:ext cx="7867440" cy="502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2120" indent="-222120">
              <a:lnSpc>
                <a:spcPct val="87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standards, H.323 based VoIP network with guaranteed QoS, built on GENUiTY’s Global Network Infrastructur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87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pment configuration and network connectivity engineered to provide no single point of fail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87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P Gateways (Cisco AS5300s) located across the U.S. in 8 interconnected superPo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87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 dial inbound/outbound reach achieved through CLEC Interconnections - reaching top 54 U.S. metro are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120" indent="-222120">
              <a:lnSpc>
                <a:spcPct val="87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outbound transport and termination worldw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72960" y="968400"/>
            <a:ext cx="795024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22200" y="1249200"/>
            <a:ext cx="8001000" cy="52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voipdirectjune29" descr=""/>
          <p:cNvPicPr/>
          <p:nvPr/>
        </p:nvPicPr>
        <p:blipFill>
          <a:blip r:embed="rId1"/>
          <a:stretch/>
        </p:blipFill>
        <p:spPr>
          <a:xfrm>
            <a:off x="520560" y="923760"/>
            <a:ext cx="779004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39360" y="880920"/>
            <a:ext cx="7867800" cy="3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uity Voice over IP Presentation Outline: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"/>
          <p:cNvSpPr/>
          <p:nvPr/>
        </p:nvSpPr>
        <p:spPr>
          <a:xfrm>
            <a:off x="1197000" y="2728800"/>
            <a:ext cx="6697800" cy="534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ctr">
              <a:lnSpc>
                <a:spcPct val="9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 Architecture Over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179360" y="1884240"/>
            <a:ext cx="6697800" cy="534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ctr">
              <a:lnSpc>
                <a:spcPct val="9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uity Voice over IP Infrastructure Object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22200" y="3546360"/>
            <a:ext cx="6697800" cy="5349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ctr">
              <a:lnSpc>
                <a:spcPct val="9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ce Implementation--Challenges and Iss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93760" y="5222880"/>
            <a:ext cx="6697800" cy="534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ctr">
              <a:lnSpc>
                <a:spcPct val="9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king Forwar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95560" y="4432320"/>
            <a:ext cx="6697440" cy="534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ctr">
              <a:lnSpc>
                <a:spcPct val="9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uity Voice over IP Current St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27T20:21:06Z</dcterms:created>
  <dc:creator>Colleen Tierney</dc:creator>
  <dc:description/>
  <dc:language>en-US</dc:language>
  <cp:lastModifiedBy>Nick Damenti</cp:lastModifiedBy>
  <cp:lastPrinted>2000-06-28T18:35:36Z</cp:lastPrinted>
  <dcterms:modified xsi:type="dcterms:W3CDTF">2000-06-29T16:27:48Z</dcterms:modified>
  <cp:revision>38</cp:revision>
  <dc:subject/>
  <dc:title>Genuity Voice over IP Services  How We’re Delivering Reliable, Scalable Voice over IP Services in the Real World</dc:title>
</cp:coreProperties>
</file>