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2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943600"/>
            <a:ext cx="2895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* joint work with T. Chen, S. Han, and K. C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bility Support over IEEE 802.11 Wireless Access Network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nchieh Jay Y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cyang@ece.utexas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ed Multimedia Research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ll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aming into Foreign Subne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809880" y="1905120"/>
            <a:ext cx="920880" cy="463320"/>
            <a:chOff x="3809880" y="1905120"/>
            <a:chExt cx="920880" cy="463320"/>
          </a:xfrm>
        </p:grpSpPr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3809880" y="1905120"/>
              <a:ext cx="9208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3886200" y="1981080"/>
              <a:ext cx="644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90920" y="3733920"/>
            <a:ext cx="539640" cy="387360"/>
            <a:chOff x="2590920" y="3733920"/>
            <a:chExt cx="539640" cy="38736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2590920" y="37339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689200" y="3840120"/>
              <a:ext cx="2635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486400" y="3733920"/>
            <a:ext cx="539640" cy="387360"/>
            <a:chOff x="5486400" y="3733920"/>
            <a:chExt cx="539640" cy="38736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tretch/>
          </p:blipFill>
          <p:spPr>
            <a:xfrm>
              <a:off x="5486400" y="37339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584680" y="3840120"/>
              <a:ext cx="2635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819520" y="3211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54200" y="4890960"/>
            <a:ext cx="603360" cy="298440"/>
            <a:chOff x="2554200" y="4890960"/>
            <a:chExt cx="603360" cy="298440"/>
          </a:xfrm>
        </p:grpSpPr>
        <p:pic>
          <p:nvPicPr>
            <p:cNvPr id="382" name="" descr=""/>
            <p:cNvPicPr/>
            <p:nvPr/>
          </p:nvPicPr>
          <p:blipFill>
            <a:blip r:embed="rId4"/>
            <a:stretch/>
          </p:blipFill>
          <p:spPr>
            <a:xfrm>
              <a:off x="2554200" y="4890960"/>
              <a:ext cx="603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705040" y="5017680"/>
              <a:ext cx="23508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4419720" y="2362320"/>
            <a:ext cx="12952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0" y="3200400"/>
            <a:ext cx="106668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819520" y="23623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410080" y="4876920"/>
            <a:ext cx="603360" cy="298440"/>
            <a:chOff x="5410080" y="4876920"/>
            <a:chExt cx="603360" cy="298440"/>
          </a:xfrm>
        </p:grpSpPr>
        <p:pic>
          <p:nvPicPr>
            <p:cNvPr id="388" name="" descr=""/>
            <p:cNvPicPr/>
            <p:nvPr/>
          </p:nvPicPr>
          <p:blipFill>
            <a:blip r:embed="rId5"/>
            <a:stretch/>
          </p:blipFill>
          <p:spPr>
            <a:xfrm>
              <a:off x="5410080" y="4876920"/>
              <a:ext cx="603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560920" y="5004000"/>
              <a:ext cx="2350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433240" y="2655720"/>
            <a:ext cx="2970720" cy="1076400"/>
            <a:chOff x="2433240" y="2655720"/>
            <a:chExt cx="2970720" cy="1076400"/>
          </a:xfrm>
        </p:grpSpPr>
        <p:sp>
          <p:nvSpPr>
            <p:cNvPr id="391" name=""/>
            <p:cNvSpPr/>
            <p:nvPr/>
          </p:nvSpPr>
          <p:spPr>
            <a:xfrm>
              <a:off x="3200400" y="2655720"/>
              <a:ext cx="2203560" cy="1076400"/>
            </a:xfrm>
            <a:custGeom>
              <a:avLst/>
              <a:gdLst/>
              <a:ahLst/>
              <a:rect l="l" t="t" r="r" b="b"/>
              <a:pathLst>
                <a:path w="1388" h="678">
                  <a:moveTo>
                    <a:pt x="1388" y="678"/>
                  </a:moveTo>
                  <a:lnTo>
                    <a:pt x="1166" y="272"/>
                  </a:lnTo>
                  <a:lnTo>
                    <a:pt x="663" y="0"/>
                  </a:lnTo>
                  <a:lnTo>
                    <a:pt x="208" y="248"/>
                  </a:lnTo>
                  <a:lnTo>
                    <a:pt x="0" y="66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33240" y="266688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unnel regis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429000" y="5029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81480" y="3200400"/>
            <a:ext cx="106704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75480" y="4191120"/>
            <a:ext cx="1607400" cy="608040"/>
            <a:chOff x="4875480" y="4191120"/>
            <a:chExt cx="1607400" cy="608040"/>
          </a:xfrm>
        </p:grpSpPr>
        <p:grpSp>
          <p:nvGrpSpPr>
            <p:cNvPr id="396" name=""/>
            <p:cNvGrpSpPr/>
            <p:nvPr/>
          </p:nvGrpSpPr>
          <p:grpSpPr>
            <a:xfrm>
              <a:off x="4875480" y="4218120"/>
              <a:ext cx="761760" cy="581040"/>
              <a:chOff x="4875480" y="4218120"/>
              <a:chExt cx="761760" cy="581040"/>
            </a:xfrm>
          </p:grpSpPr>
          <p:sp>
            <p:nvSpPr>
              <p:cNvPr id="397" name=""/>
              <p:cNvSpPr/>
              <p:nvPr/>
            </p:nvSpPr>
            <p:spPr>
              <a:xfrm>
                <a:off x="5637240" y="4218120"/>
                <a:ext cx="0" cy="5810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5480" y="4356360"/>
                <a:ext cx="689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eac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V="1">
              <a:off x="5789520" y="4191120"/>
              <a:ext cx="0" cy="565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74040" y="4341960"/>
              <a:ext cx="70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ass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200400" y="3251160"/>
            <a:ext cx="2133720" cy="637200"/>
            <a:chOff x="3200400" y="3251160"/>
            <a:chExt cx="2133720" cy="637200"/>
          </a:xfrm>
        </p:grpSpPr>
        <p:sp>
          <p:nvSpPr>
            <p:cNvPr id="402" name=""/>
            <p:cNvSpPr/>
            <p:nvPr/>
          </p:nvSpPr>
          <p:spPr>
            <a:xfrm>
              <a:off x="3200400" y="3251160"/>
              <a:ext cx="2133720" cy="636480"/>
            </a:xfrm>
            <a:custGeom>
              <a:avLst/>
              <a:gdLst/>
              <a:ahLst/>
              <a:rect l="l" t="t" r="r" b="b"/>
              <a:pathLst>
                <a:path w="1344" h="401">
                  <a:moveTo>
                    <a:pt x="1344" y="400"/>
                  </a:moveTo>
                  <a:lnTo>
                    <a:pt x="663" y="0"/>
                  </a:lnTo>
                  <a:lnTo>
                    <a:pt x="0" y="401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80560" y="358128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doff (HA,F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82320" y="2362320"/>
            <a:ext cx="8319240" cy="2395440"/>
            <a:chOff x="382320" y="2362320"/>
            <a:chExt cx="8319240" cy="2395440"/>
          </a:xfrm>
        </p:grpSpPr>
        <p:sp>
          <p:nvSpPr>
            <p:cNvPr id="405" name=""/>
            <p:cNvSpPr/>
            <p:nvPr/>
          </p:nvSpPr>
          <p:spPr>
            <a:xfrm>
              <a:off x="5638680" y="4191120"/>
              <a:ext cx="154080" cy="56664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48" y="0"/>
                  </a:moveTo>
                  <a:lnTo>
                    <a:pt x="0" y="128"/>
                  </a:lnTo>
                  <a:lnTo>
                    <a:pt x="97" y="73"/>
                  </a:lnTo>
                  <a:lnTo>
                    <a:pt x="48" y="213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76720" y="3733920"/>
              <a:ext cx="1981080" cy="228600"/>
            </a:xfrm>
            <a:custGeom>
              <a:avLst/>
              <a:gdLst/>
              <a:ahLst/>
              <a:rect l="l" t="t" r="r" b="b"/>
              <a:pathLst>
                <a:path w="528" h="113">
                  <a:moveTo>
                    <a:pt x="0" y="112"/>
                  </a:moveTo>
                  <a:lnTo>
                    <a:pt x="257" y="0"/>
                  </a:lnTo>
                  <a:lnTo>
                    <a:pt x="528" y="113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09240" y="380988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2320" y="3276720"/>
              <a:ext cx="215280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proxy ARP for 10.0.1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IP tunnel to FA(AS3)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ient 10.0.1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9920" y="3276720"/>
              <a:ext cx="268164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IP tunnel from HA(AS2)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ient 10.0.1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route to 10.0.1.139 via RF 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5480" y="2362320"/>
              <a:ext cx="990720" cy="1295280"/>
            </a:xfrm>
            <a:custGeom>
              <a:avLst/>
              <a:gdLst/>
              <a:ahLst/>
              <a:rect l="l" t="t" r="r" b="b"/>
              <a:pathLst>
                <a:path w="624" h="816">
                  <a:moveTo>
                    <a:pt x="624" y="0"/>
                  </a:moveTo>
                  <a:lnTo>
                    <a:pt x="0" y="373"/>
                  </a:lnTo>
                  <a:lnTo>
                    <a:pt x="0" y="81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957400" y="4100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06960" y="40384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724280" y="3200400"/>
            <a:ext cx="259092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aming within Foreign Subne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920520" cy="463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352680" y="1981080"/>
            <a:ext cx="6447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2209680" y="3733920"/>
            <a:ext cx="540000" cy="3873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308320" y="3840120"/>
            <a:ext cx="26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4800600" y="3733920"/>
            <a:ext cx="539640" cy="387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898880" y="3840120"/>
            <a:ext cx="26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3211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2920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800600" y="4876920"/>
            <a:ext cx="603360" cy="298440"/>
            <a:chOff x="4800600" y="4876920"/>
            <a:chExt cx="603360" cy="298440"/>
          </a:xfrm>
        </p:grpSpPr>
        <p:pic>
          <p:nvPicPr>
            <p:cNvPr id="424" name="" descr=""/>
            <p:cNvPicPr/>
            <p:nvPr/>
          </p:nvPicPr>
          <p:blipFill>
            <a:blip r:embed="rId4"/>
            <a:stretch/>
          </p:blipFill>
          <p:spPr>
            <a:xfrm>
              <a:off x="4800600" y="4876920"/>
              <a:ext cx="603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4951440" y="5004000"/>
              <a:ext cx="2350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3886200" y="2362320"/>
            <a:ext cx="21337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3200400"/>
            <a:ext cx="106668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438280" y="2362320"/>
            <a:ext cx="9907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645240" y="4878360"/>
            <a:ext cx="603360" cy="298440"/>
            <a:chOff x="6645240" y="4878360"/>
            <a:chExt cx="603360" cy="298440"/>
          </a:xfrm>
        </p:grpSpPr>
        <p:pic>
          <p:nvPicPr>
            <p:cNvPr id="430" name="" descr=""/>
            <p:cNvPicPr/>
            <p:nvPr/>
          </p:nvPicPr>
          <p:blipFill>
            <a:blip r:embed="rId5"/>
            <a:stretch/>
          </p:blipFill>
          <p:spPr>
            <a:xfrm>
              <a:off x="6645240" y="4878360"/>
              <a:ext cx="603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6796080" y="5005080"/>
              <a:ext cx="23508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486400" y="50292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10280" y="4192560"/>
            <a:ext cx="1607760" cy="608040"/>
            <a:chOff x="6110280" y="4192560"/>
            <a:chExt cx="1607760" cy="608040"/>
          </a:xfrm>
        </p:grpSpPr>
        <p:sp>
          <p:nvSpPr>
            <p:cNvPr id="434" name=""/>
            <p:cNvSpPr/>
            <p:nvPr/>
          </p:nvSpPr>
          <p:spPr>
            <a:xfrm>
              <a:off x="6872400" y="4219560"/>
              <a:ext cx="0" cy="581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10280" y="4357800"/>
              <a:ext cx="68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024680" y="4192560"/>
              <a:ext cx="0" cy="565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09200" y="4343400"/>
              <a:ext cx="708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ass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895480" y="3657600"/>
            <a:ext cx="1712880" cy="228600"/>
          </a:xfrm>
          <a:custGeom>
            <a:avLst/>
            <a:gdLst/>
            <a:ahLst/>
            <a:rect l="l" t="t" r="r" b="b"/>
            <a:pathLst>
              <a:path w="528" h="113">
                <a:moveTo>
                  <a:pt x="0" y="112"/>
                </a:moveTo>
                <a:lnTo>
                  <a:pt x="257" y="0"/>
                </a:lnTo>
                <a:lnTo>
                  <a:pt x="528" y="113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8280" y="36576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40160" y="2362320"/>
            <a:ext cx="888840" cy="1322280"/>
          </a:xfrm>
          <a:custGeom>
            <a:avLst/>
            <a:gdLst/>
            <a:ahLst/>
            <a:rect l="l" t="t" r="r" b="b"/>
            <a:pathLst>
              <a:path w="848" h="833">
                <a:moveTo>
                  <a:pt x="848" y="0"/>
                </a:moveTo>
                <a:lnTo>
                  <a:pt x="0" y="366"/>
                </a:lnTo>
                <a:lnTo>
                  <a:pt x="0" y="833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6705720" y="3733920"/>
            <a:ext cx="539640" cy="3873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804000" y="3840120"/>
            <a:ext cx="26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333400" y="3886200"/>
            <a:ext cx="1428840" cy="307080"/>
            <a:chOff x="5333400" y="3886200"/>
            <a:chExt cx="1428840" cy="307080"/>
          </a:xfrm>
        </p:grpSpPr>
        <p:sp>
          <p:nvSpPr>
            <p:cNvPr id="445" name=""/>
            <p:cNvSpPr/>
            <p:nvPr/>
          </p:nvSpPr>
          <p:spPr>
            <a:xfrm>
              <a:off x="5333400" y="388620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doff (HA,F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88620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332680" y="3276720"/>
            <a:ext cx="1368000" cy="458640"/>
            <a:chOff x="5332680" y="3276720"/>
            <a:chExt cx="1368000" cy="458640"/>
          </a:xfrm>
        </p:grpSpPr>
        <p:sp>
          <p:nvSpPr>
            <p:cNvPr id="448" name=""/>
            <p:cNvSpPr/>
            <p:nvPr/>
          </p:nvSpPr>
          <p:spPr>
            <a:xfrm>
              <a:off x="5410080" y="3530520"/>
              <a:ext cx="1219320" cy="204840"/>
            </a:xfrm>
            <a:custGeom>
              <a:avLst/>
              <a:gdLst/>
              <a:ahLst/>
              <a:rect l="l" t="t" r="r" b="b"/>
              <a:pathLst>
                <a:path w="768" h="129">
                  <a:moveTo>
                    <a:pt x="0" y="128"/>
                  </a:moveTo>
                  <a:lnTo>
                    <a:pt x="386" y="0"/>
                  </a:lnTo>
                  <a:lnTo>
                    <a:pt x="768" y="129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32680" y="3276720"/>
              <a:ext cx="136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g route to M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82320" y="3048120"/>
            <a:ext cx="8502480" cy="1827000"/>
            <a:chOff x="382320" y="3048120"/>
            <a:chExt cx="8502480" cy="1827000"/>
          </a:xfrm>
        </p:grpSpPr>
        <p:sp>
          <p:nvSpPr>
            <p:cNvPr id="451" name=""/>
            <p:cNvSpPr/>
            <p:nvPr/>
          </p:nvSpPr>
          <p:spPr>
            <a:xfrm>
              <a:off x="382320" y="4141800"/>
              <a:ext cx="215280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proxy ARP for 10.0.1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IP tunnel to FA(AS3)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ient 10.0.1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7280" y="4141800"/>
              <a:ext cx="231732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IP tunnel from HA(AS2)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ient 10.0.1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route to 10.0.1.139 via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A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73840" y="4219560"/>
              <a:ext cx="154080" cy="56664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48" y="0"/>
                  </a:moveTo>
                  <a:lnTo>
                    <a:pt x="0" y="128"/>
                  </a:lnTo>
                  <a:lnTo>
                    <a:pt x="97" y="73"/>
                  </a:lnTo>
                  <a:lnTo>
                    <a:pt x="48" y="213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05520" y="3048120"/>
              <a:ext cx="1755720" cy="637920"/>
            </a:xfrm>
            <a:custGeom>
              <a:avLst/>
              <a:gdLst/>
              <a:ahLst/>
              <a:rect l="l" t="t" r="r" b="b"/>
              <a:pathLst>
                <a:path w="1106" h="402">
                  <a:moveTo>
                    <a:pt x="0" y="401"/>
                  </a:moveTo>
                  <a:lnTo>
                    <a:pt x="2" y="0"/>
                  </a:lnTo>
                  <a:lnTo>
                    <a:pt x="1106" y="0"/>
                  </a:lnTo>
                  <a:lnTo>
                    <a:pt x="1104" y="40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41040" y="3456000"/>
              <a:ext cx="1643760" cy="52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 route to 10.0.1.1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ia RF 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2668320" y="35053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1160" y="35053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implicit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light weight extension/addition in Access Server (AS) (neither router nor client needs to be chang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71800" y="4495680"/>
            <a:ext cx="3048120" cy="533520"/>
          </a:xfrm>
          <a:prstGeom prst="rect">
            <a:avLst/>
          </a:prstGeom>
          <a:solidFill>
            <a:srgbClr val="f0f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 2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71800" y="2971800"/>
            <a:ext cx="1523880" cy="1523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5680" y="2971800"/>
            <a:ext cx="1524240" cy="15238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3600" y="3352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00800" y="4038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81800" y="4343400"/>
            <a:ext cx="21178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elay 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other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37339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40" y="4038480"/>
            <a:ext cx="184176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hand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t HA/FA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hange FA 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6000" y="5334120"/>
            <a:ext cx="23007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beacon/re-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FA 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38480" y="6019920"/>
            <a:ext cx="914400" cy="457200"/>
          </a:xfrm>
          <a:prstGeom prst="ellipse">
            <a:avLst/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43800" y="3809880"/>
            <a:ext cx="914400" cy="457200"/>
          </a:xfrm>
          <a:prstGeom prst="ellipse">
            <a:avLst/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3505320"/>
            <a:ext cx="1066680" cy="457200"/>
          </a:xfrm>
          <a:prstGeom prst="ellipse">
            <a:avLst/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43800" y="3048120"/>
            <a:ext cx="914400" cy="457200"/>
          </a:xfrm>
          <a:prstGeom prst="ellipse">
            <a:avLst/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05840" y="2514600"/>
            <a:ext cx="1989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unnel reg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32767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43400" y="5105520"/>
            <a:ext cx="228600" cy="838080"/>
          </a:xfrm>
          <a:custGeom>
            <a:avLst/>
            <a:gdLst/>
            <a:ahLst/>
            <a:rect l="l" t="t" r="r" b="b"/>
            <a:pathLst>
              <a:path w="97" h="213">
                <a:moveTo>
                  <a:pt x="48" y="0"/>
                </a:moveTo>
                <a:lnTo>
                  <a:pt x="0" y="128"/>
                </a:lnTo>
                <a:lnTo>
                  <a:pt x="97" y="73"/>
                </a:lnTo>
                <a:lnTo>
                  <a:pt x="48" y="213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00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mpatibilit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both non-mobile- and mobile-IP cl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re-association and handoff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3880" y="4267080"/>
            <a:ext cx="3048120" cy="533520"/>
          </a:xfrm>
          <a:prstGeom prst="rect">
            <a:avLst/>
          </a:prstGeom>
          <a:solidFill>
            <a:srgbClr val="f0f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 2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2743200"/>
            <a:ext cx="1524240" cy="1523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8120" y="2743200"/>
            <a:ext cx="1523880" cy="15238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ni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5680" y="312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81080" y="6019920"/>
            <a:ext cx="1828800" cy="457200"/>
          </a:xfrm>
          <a:prstGeom prst="ellipse">
            <a:avLst/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4952880"/>
            <a:ext cx="190440" cy="914400"/>
          </a:xfrm>
          <a:custGeom>
            <a:avLst/>
            <a:gdLst/>
            <a:ahLst/>
            <a:rect l="l" t="t" r="r" b="b"/>
            <a:pathLst>
              <a:path w="97" h="213">
                <a:moveTo>
                  <a:pt x="48" y="0"/>
                </a:moveTo>
                <a:lnTo>
                  <a:pt x="0" y="128"/>
                </a:lnTo>
                <a:lnTo>
                  <a:pt x="97" y="73"/>
                </a:lnTo>
                <a:lnTo>
                  <a:pt x="48" y="213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6600" y="3733920"/>
            <a:ext cx="914400" cy="457200"/>
          </a:xfrm>
          <a:prstGeom prst="ellipse">
            <a:avLst/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352680" y="3581280"/>
            <a:ext cx="3657600" cy="2265480"/>
            <a:chOff x="3352680" y="3581280"/>
            <a:chExt cx="3657600" cy="2265480"/>
          </a:xfrm>
        </p:grpSpPr>
        <p:sp>
          <p:nvSpPr>
            <p:cNvPr id="490" name=""/>
            <p:cNvSpPr/>
            <p:nvPr/>
          </p:nvSpPr>
          <p:spPr>
            <a:xfrm>
              <a:off x="4800600" y="3962520"/>
              <a:ext cx="22096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34840" y="358128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 tu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3352680" y="4952880"/>
              <a:ext cx="1815840" cy="893880"/>
              <a:chOff x="3352680" y="4952880"/>
              <a:chExt cx="1815840" cy="893880"/>
            </a:xfrm>
          </p:grpSpPr>
          <p:sp>
            <p:nvSpPr>
              <p:cNvPr id="493" name=""/>
              <p:cNvSpPr/>
              <p:nvPr/>
            </p:nvSpPr>
            <p:spPr>
              <a:xfrm>
                <a:off x="3352680" y="5334120"/>
                <a:ext cx="181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A advertis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352680" y="4952880"/>
                <a:ext cx="127080" cy="893880"/>
              </a:xfrm>
              <a:custGeom>
                <a:avLst/>
                <a:gdLst/>
                <a:ahLst/>
                <a:rect l="l" t="t" r="r" b="b"/>
                <a:pathLst>
                  <a:path w="80" h="563">
                    <a:moveTo>
                      <a:pt x="0" y="563"/>
                    </a:moveTo>
                    <a:lnTo>
                      <a:pt x="80" y="0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3127320" y="2514600"/>
            <a:ext cx="4517280" cy="3335400"/>
            <a:chOff x="3127320" y="2514600"/>
            <a:chExt cx="4517280" cy="3335400"/>
          </a:xfrm>
        </p:grpSpPr>
        <p:sp>
          <p:nvSpPr>
            <p:cNvPr id="496" name=""/>
            <p:cNvSpPr/>
            <p:nvPr/>
          </p:nvSpPr>
          <p:spPr>
            <a:xfrm>
              <a:off x="3127320" y="2924280"/>
              <a:ext cx="2097000" cy="2925720"/>
            </a:xfrm>
            <a:custGeom>
              <a:avLst/>
              <a:gdLst/>
              <a:ahLst/>
              <a:rect l="l" t="t" r="r" b="b"/>
              <a:pathLst>
                <a:path w="1321" h="1843">
                  <a:moveTo>
                    <a:pt x="0" y="1843"/>
                  </a:moveTo>
                  <a:lnTo>
                    <a:pt x="200" y="3"/>
                  </a:lnTo>
                  <a:lnTo>
                    <a:pt x="1321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3196440" y="4800600"/>
              <a:ext cx="3525840" cy="444240"/>
              <a:chOff x="3196440" y="4800600"/>
              <a:chExt cx="3525840" cy="444240"/>
            </a:xfrm>
          </p:grpSpPr>
          <p:sp>
            <p:nvSpPr>
              <p:cNvPr id="498" name=""/>
              <p:cNvSpPr/>
              <p:nvPr/>
            </p:nvSpPr>
            <p:spPr>
              <a:xfrm>
                <a:off x="3196440" y="4876560"/>
                <a:ext cx="352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lient solicitation/FA  advertis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106960" y="48006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5257800" y="2514600"/>
              <a:ext cx="914400" cy="609480"/>
              <a:chOff x="5257800" y="2514600"/>
              <a:chExt cx="914400" cy="609480"/>
            </a:xfrm>
          </p:grpSpPr>
          <p:sp>
            <p:nvSpPr>
              <p:cNvPr id="501" name=""/>
              <p:cNvSpPr/>
              <p:nvPr/>
            </p:nvSpPr>
            <p:spPr>
              <a:xfrm>
                <a:off x="5257800" y="2666880"/>
                <a:ext cx="914400" cy="457200"/>
              </a:xfrm>
              <a:prstGeom prst="ellipse">
                <a:avLst/>
              </a:prstGeom>
              <a:solidFill>
                <a:srgbClr val="ff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792400" y="2514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6215040" y="3011400"/>
              <a:ext cx="1100160" cy="646200"/>
            </a:xfrm>
            <a:custGeom>
              <a:avLst/>
              <a:gdLst/>
              <a:ahLst/>
              <a:rect l="l" t="t" r="r" b="b"/>
              <a:pathLst>
                <a:path w="693" h="407">
                  <a:moveTo>
                    <a:pt x="0" y="0"/>
                  </a:moveTo>
                  <a:lnTo>
                    <a:pt x="693" y="407"/>
                  </a:lnTo>
                </a:path>
              </a:pathLst>
            </a:custGeom>
            <a:noFill/>
            <a:ln w="7632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30120" y="297180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 tu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erformance : Micro-Mobilit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ing pa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 intra-domain handoff in foreign subne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n = # hops between FA and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PP+ : 1(handoff) + 1(chg_rt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 : 1(handoff) + n(tunnel) =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A : 1(handoff) +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unnel)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Pa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hop (FA) more than Mobile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858000" y="3581280"/>
            <a:ext cx="1523880" cy="1676520"/>
            <a:chOff x="6858000" y="3581280"/>
            <a:chExt cx="1523880" cy="1676520"/>
          </a:xfrm>
        </p:grpSpPr>
        <p:sp>
          <p:nvSpPr>
            <p:cNvPr id="508" name=""/>
            <p:cNvSpPr/>
            <p:nvPr/>
          </p:nvSpPr>
          <p:spPr>
            <a:xfrm flipH="1">
              <a:off x="7162200" y="37339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67480" y="3733920"/>
              <a:ext cx="3808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009920" y="4038480"/>
              <a:ext cx="1522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7695720" y="4038480"/>
              <a:ext cx="1522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848360" y="403848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91160" y="36576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72400" y="3962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01000" y="4267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86600" y="3962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3396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9760" y="4267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24680" y="4800600"/>
              <a:ext cx="152280" cy="1522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24680" y="46483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76960" y="441972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001000" y="4647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29600" y="4800600"/>
              <a:ext cx="152280" cy="1522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05560" y="4647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58000" y="46483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10280" y="441972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86600" y="4800600"/>
              <a:ext cx="152280" cy="1522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162560" y="4647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64000" y="4876920"/>
              <a:ext cx="4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97160" y="487692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51400" y="3925800"/>
              <a:ext cx="808200" cy="800280"/>
            </a:xfrm>
            <a:custGeom>
              <a:avLst/>
              <a:gdLst/>
              <a:ahLst/>
              <a:rect l="l" t="t" r="r" b="b"/>
              <a:pathLst>
                <a:path w="509" h="504">
                  <a:moveTo>
                    <a:pt x="439" y="503"/>
                  </a:moveTo>
                  <a:lnTo>
                    <a:pt x="509" y="303"/>
                  </a:lnTo>
                  <a:lnTo>
                    <a:pt x="394" y="145"/>
                  </a:lnTo>
                  <a:lnTo>
                    <a:pt x="206" y="0"/>
                  </a:lnTo>
                  <a:lnTo>
                    <a:pt x="73" y="121"/>
                  </a:lnTo>
                  <a:lnTo>
                    <a:pt x="0" y="278"/>
                  </a:lnTo>
                  <a:lnTo>
                    <a:pt x="103" y="50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50160" y="358128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=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7619400" y="373392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62840" y="5181480"/>
              <a:ext cx="76320" cy="763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267760" y="5181480"/>
              <a:ext cx="75960" cy="763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76960" y="5219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705720" y="2502000"/>
            <a:ext cx="473040" cy="88920"/>
          </a:xfrm>
          <a:custGeom>
            <a:avLst/>
            <a:gdLst/>
            <a:ahLst/>
            <a:rect l="l" t="t" r="r" b="b"/>
            <a:pathLst>
              <a:path w="298" h="56">
                <a:moveTo>
                  <a:pt x="0" y="56"/>
                </a:moveTo>
                <a:lnTo>
                  <a:pt x="2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erformance : Macro-Mobilit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 Server (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ing path: background signaling to establish a shortcut tunnel to F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th : compromise between Mobile IP and optimal route update, e.g. HAWA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ings over Mobile 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+1 = # hops between MS &amp; H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-2 for traffic go through the router MS attach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126120" y="2556000"/>
            <a:ext cx="56376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89880" y="2556000"/>
            <a:ext cx="70452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845320" y="3097080"/>
            <a:ext cx="28080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113600" y="3097080"/>
            <a:ext cx="28080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94400" y="3097080"/>
            <a:ext cx="42408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0200" y="2421000"/>
            <a:ext cx="280800" cy="269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54720" y="2960640"/>
            <a:ext cx="281160" cy="27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677000" y="3502080"/>
            <a:ext cx="282600" cy="270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85000" y="2960640"/>
            <a:ext cx="282600" cy="27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03840" y="3502080"/>
            <a:ext cx="281160" cy="270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72480" y="3502080"/>
            <a:ext cx="282240" cy="270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535880" y="4446720"/>
            <a:ext cx="282600" cy="2714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535880" y="417672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18480" y="3772080"/>
            <a:ext cx="141120" cy="40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677000" y="41767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99280" y="4446720"/>
            <a:ext cx="282600" cy="2714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240760" y="41767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62720" y="417672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845320" y="3772080"/>
            <a:ext cx="139680" cy="40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985000" y="4446720"/>
            <a:ext cx="282600" cy="2714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126120" y="41767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8400" y="4191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17000" y="41911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0120" y="5181480"/>
            <a:ext cx="139680" cy="13500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7088040" y="2286000"/>
            <a:ext cx="485640" cy="380880"/>
            <a:chOff x="7088040" y="2286000"/>
            <a:chExt cx="485640" cy="380880"/>
          </a:xfrm>
        </p:grpSpPr>
        <p:sp>
          <p:nvSpPr>
            <p:cNvPr id="565" name=""/>
            <p:cNvSpPr/>
            <p:nvPr/>
          </p:nvSpPr>
          <p:spPr>
            <a:xfrm>
              <a:off x="7140600" y="2286000"/>
              <a:ext cx="380880" cy="380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88040" y="23083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6400800" y="4329000"/>
            <a:ext cx="990720" cy="244440"/>
          </a:xfrm>
          <a:custGeom>
            <a:avLst/>
            <a:gdLst/>
            <a:ahLst/>
            <a:rect l="l" t="t" r="r" b="b"/>
            <a:pathLst>
              <a:path w="624" h="154">
                <a:moveTo>
                  <a:pt x="0" y="153"/>
                </a:moveTo>
                <a:lnTo>
                  <a:pt x="302" y="0"/>
                </a:lnTo>
                <a:lnTo>
                  <a:pt x="624" y="154"/>
                </a:ln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55960" y="44197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91520" y="2666880"/>
            <a:ext cx="287280" cy="1524240"/>
          </a:xfrm>
          <a:custGeom>
            <a:avLst/>
            <a:gdLst/>
            <a:ahLst/>
            <a:rect l="l" t="t" r="r" b="b"/>
            <a:pathLst>
              <a:path w="181" h="960">
                <a:moveTo>
                  <a:pt x="0" y="0"/>
                </a:moveTo>
                <a:lnTo>
                  <a:pt x="181" y="362"/>
                </a:lnTo>
                <a:lnTo>
                  <a:pt x="96" y="960"/>
                </a:ln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23000" y="29718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0120" y="4800600"/>
            <a:ext cx="74520" cy="304920"/>
          </a:xfrm>
          <a:custGeom>
            <a:avLst/>
            <a:gdLst/>
            <a:ahLst/>
            <a:rect l="l" t="t" r="r" b="b"/>
            <a:pathLst>
              <a:path w="97" h="213">
                <a:moveTo>
                  <a:pt x="48" y="0"/>
                </a:moveTo>
                <a:lnTo>
                  <a:pt x="0" y="128"/>
                </a:lnTo>
                <a:lnTo>
                  <a:pt x="97" y="73"/>
                </a:lnTo>
                <a:lnTo>
                  <a:pt x="48" y="21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51560" y="2376360"/>
            <a:ext cx="1973160" cy="2789280"/>
          </a:xfrm>
          <a:custGeom>
            <a:avLst/>
            <a:gdLst/>
            <a:ahLst/>
            <a:rect l="l" t="t" r="r" b="b"/>
            <a:pathLst>
              <a:path w="1243" h="1757">
                <a:moveTo>
                  <a:pt x="600" y="0"/>
                </a:moveTo>
                <a:lnTo>
                  <a:pt x="224" y="376"/>
                </a:lnTo>
                <a:lnTo>
                  <a:pt x="0" y="836"/>
                </a:lnTo>
                <a:lnTo>
                  <a:pt x="237" y="1248"/>
                </a:lnTo>
                <a:lnTo>
                  <a:pt x="394" y="848"/>
                </a:lnTo>
                <a:lnTo>
                  <a:pt x="528" y="533"/>
                </a:lnTo>
                <a:lnTo>
                  <a:pt x="794" y="297"/>
                </a:lnTo>
                <a:lnTo>
                  <a:pt x="1049" y="473"/>
                </a:lnTo>
                <a:lnTo>
                  <a:pt x="1231" y="782"/>
                </a:lnTo>
                <a:lnTo>
                  <a:pt x="1146" y="1182"/>
                </a:lnTo>
                <a:lnTo>
                  <a:pt x="1243" y="175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67040" y="16765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16880" y="2347920"/>
            <a:ext cx="1211040" cy="2760480"/>
          </a:xfrm>
          <a:custGeom>
            <a:avLst/>
            <a:gdLst/>
            <a:ahLst/>
            <a:rect l="l" t="t" r="r" b="b"/>
            <a:pathLst>
              <a:path w="763" h="1739">
                <a:moveTo>
                  <a:pt x="0" y="0"/>
                </a:moveTo>
                <a:lnTo>
                  <a:pt x="224" y="72"/>
                </a:lnTo>
                <a:lnTo>
                  <a:pt x="24" y="297"/>
                </a:lnTo>
                <a:lnTo>
                  <a:pt x="303" y="533"/>
                </a:lnTo>
                <a:lnTo>
                  <a:pt x="618" y="939"/>
                </a:lnTo>
                <a:lnTo>
                  <a:pt x="763" y="1460"/>
                </a:lnTo>
                <a:lnTo>
                  <a:pt x="672" y="173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060960" y="2637000"/>
            <a:ext cx="1011240" cy="1760400"/>
            <a:chOff x="6060960" y="2637000"/>
            <a:chExt cx="1011240" cy="1760400"/>
          </a:xfrm>
        </p:grpSpPr>
        <p:sp>
          <p:nvSpPr>
            <p:cNvPr id="576" name=""/>
            <p:cNvSpPr/>
            <p:nvPr/>
          </p:nvSpPr>
          <p:spPr>
            <a:xfrm>
              <a:off x="6060960" y="2637000"/>
              <a:ext cx="1011240" cy="1760400"/>
            </a:xfrm>
            <a:custGeom>
              <a:avLst/>
              <a:gdLst/>
              <a:ahLst/>
              <a:rect l="l" t="t" r="r" b="b"/>
              <a:pathLst>
                <a:path w="637" h="1109">
                  <a:moveTo>
                    <a:pt x="0" y="1109"/>
                  </a:moveTo>
                  <a:lnTo>
                    <a:pt x="0" y="654"/>
                  </a:lnTo>
                  <a:lnTo>
                    <a:pt x="170" y="327"/>
                  </a:lnTo>
                  <a:lnTo>
                    <a:pt x="637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75800" y="327672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6324480" y="198108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 flipH="1">
            <a:off x="3809880" y="4419720"/>
            <a:ext cx="4572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uture Work (I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 Serv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location to install MS(s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selection of MS(s) to regis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 between "benefit to more traffic"  and ”more savings in terms of hop coun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62720" y="4330800"/>
            <a:ext cx="473040" cy="88920"/>
          </a:xfrm>
          <a:custGeom>
            <a:avLst/>
            <a:gdLst/>
            <a:ahLst/>
            <a:rect l="l" t="t" r="r" b="b"/>
            <a:pathLst>
              <a:path w="298" h="56">
                <a:moveTo>
                  <a:pt x="0" y="56"/>
                </a:moveTo>
                <a:lnTo>
                  <a:pt x="2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297320" y="3851280"/>
            <a:ext cx="56376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61080" y="3851280"/>
            <a:ext cx="70452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016520" y="4392720"/>
            <a:ext cx="28080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84800" y="4392720"/>
            <a:ext cx="28080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565600" y="4392720"/>
            <a:ext cx="42408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21400" y="3716280"/>
            <a:ext cx="280800" cy="270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25920" y="4255920"/>
            <a:ext cx="281160" cy="2718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848200" y="4797360"/>
            <a:ext cx="282600" cy="270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56200" y="4255920"/>
            <a:ext cx="282600" cy="2718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75040" y="4797360"/>
            <a:ext cx="281160" cy="270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3680" y="4797360"/>
            <a:ext cx="282240" cy="270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7080" y="5742000"/>
            <a:ext cx="282600" cy="2714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7080" y="547200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89680" y="5067360"/>
            <a:ext cx="141120" cy="40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5848200" y="547200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270480" y="5742000"/>
            <a:ext cx="282600" cy="2714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411960" y="547200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547200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016520" y="5067360"/>
            <a:ext cx="139680" cy="40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56200" y="5742000"/>
            <a:ext cx="282600" cy="2714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297320" y="547200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69600" y="5486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88200" y="548640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91320" y="6477120"/>
            <a:ext cx="139680" cy="13464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944680" y="4114800"/>
            <a:ext cx="587520" cy="380880"/>
            <a:chOff x="5944680" y="4114800"/>
            <a:chExt cx="587520" cy="380880"/>
          </a:xfrm>
        </p:grpSpPr>
        <p:sp>
          <p:nvSpPr>
            <p:cNvPr id="608" name=""/>
            <p:cNvSpPr/>
            <p:nvPr/>
          </p:nvSpPr>
          <p:spPr>
            <a:xfrm>
              <a:off x="6008040" y="4114800"/>
              <a:ext cx="456840" cy="380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4680" y="413712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572000" y="5624640"/>
            <a:ext cx="990720" cy="244440"/>
          </a:xfrm>
          <a:custGeom>
            <a:avLst/>
            <a:gdLst/>
            <a:ahLst/>
            <a:rect l="l" t="t" r="r" b="b"/>
            <a:pathLst>
              <a:path w="624" h="154">
                <a:moveTo>
                  <a:pt x="0" y="153"/>
                </a:moveTo>
                <a:lnTo>
                  <a:pt x="302" y="0"/>
                </a:lnTo>
                <a:lnTo>
                  <a:pt x="624" y="154"/>
                </a:lnTo>
              </a:path>
            </a:pathLst>
          </a:custGeom>
          <a:noFill/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7160" y="57150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91320" y="6095880"/>
            <a:ext cx="74520" cy="304920"/>
          </a:xfrm>
          <a:custGeom>
            <a:avLst/>
            <a:gdLst/>
            <a:ahLst/>
            <a:rect l="l" t="t" r="r" b="b"/>
            <a:pathLst>
              <a:path w="97" h="213">
                <a:moveTo>
                  <a:pt x="48" y="0"/>
                </a:moveTo>
                <a:lnTo>
                  <a:pt x="0" y="128"/>
                </a:lnTo>
                <a:lnTo>
                  <a:pt x="97" y="73"/>
                </a:lnTo>
                <a:lnTo>
                  <a:pt x="48" y="21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354120" y="4343400"/>
            <a:ext cx="587520" cy="380880"/>
            <a:chOff x="3354120" y="4343400"/>
            <a:chExt cx="587520" cy="380880"/>
          </a:xfrm>
        </p:grpSpPr>
        <p:sp>
          <p:nvSpPr>
            <p:cNvPr id="614" name=""/>
            <p:cNvSpPr/>
            <p:nvPr/>
          </p:nvSpPr>
          <p:spPr>
            <a:xfrm>
              <a:off x="3413520" y="4343400"/>
              <a:ext cx="429480" cy="380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54120" y="436572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823480" y="373392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0%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86200" y="403848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95280" y="365760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%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714640" y="39625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uture Work (II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operational mod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Mobile-IP mode : Interne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-IP mode : private network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taneous sessions for both type of ac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/FA selec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HA and 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balanc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 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posal which integ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P (macro-mobility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handoff capability (micro-mobili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posal aiming at a combin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city, compatibility, and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doo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obility over 802.11 Network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1604880" cy="120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1604880" cy="1206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4267080" y="1523880"/>
            <a:ext cx="920520" cy="463680"/>
            <a:chOff x="4267080" y="1523880"/>
            <a:chExt cx="920520" cy="46368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4267080" y="1523880"/>
              <a:ext cx="9205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65360" y="1630440"/>
              <a:ext cx="644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455840" y="3122640"/>
            <a:ext cx="539640" cy="38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54120" y="3228840"/>
            <a:ext cx="26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438280" y="3112920"/>
            <a:ext cx="540000" cy="38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36920" y="3219480"/>
            <a:ext cx="263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886200" y="3124080"/>
            <a:ext cx="539640" cy="387360"/>
            <a:chOff x="3886200" y="3124080"/>
            <a:chExt cx="539640" cy="387360"/>
          </a:xfrm>
        </p:grpSpPr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3886200" y="312408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984480" y="323064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897440" y="3129120"/>
            <a:ext cx="539640" cy="387360"/>
            <a:chOff x="4897440" y="3129120"/>
            <a:chExt cx="539640" cy="387360"/>
          </a:xfrm>
        </p:grpSpPr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4897440" y="31291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995720" y="323532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438280" y="3962520"/>
            <a:ext cx="603360" cy="298440"/>
            <a:chOff x="2438280" y="3962520"/>
            <a:chExt cx="603360" cy="298440"/>
          </a:xfrm>
        </p:grpSpPr>
        <p:pic>
          <p:nvPicPr>
            <p:cNvPr id="62" name="" descr=""/>
            <p:cNvPicPr/>
            <p:nvPr/>
          </p:nvPicPr>
          <p:blipFill>
            <a:blip r:embed="rId8"/>
            <a:stretch/>
          </p:blipFill>
          <p:spPr>
            <a:xfrm>
              <a:off x="2438280" y="3962520"/>
              <a:ext cx="603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589120" y="4089240"/>
              <a:ext cx="23508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6248520" y="2514600"/>
            <a:ext cx="1604880" cy="120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6248520" y="3124080"/>
            <a:ext cx="539640" cy="387360"/>
            <a:chOff x="6248520" y="3124080"/>
            <a:chExt cx="539640" cy="387360"/>
          </a:xfrm>
        </p:grpSpPr>
        <p:pic>
          <p:nvPicPr>
            <p:cNvPr id="66" name="" descr=""/>
            <p:cNvPicPr/>
            <p:nvPr/>
          </p:nvPicPr>
          <p:blipFill>
            <a:blip r:embed="rId10"/>
            <a:stretch/>
          </p:blipFill>
          <p:spPr>
            <a:xfrm>
              <a:off x="6248520" y="312408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346800" y="323064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259760" y="3129120"/>
            <a:ext cx="539640" cy="387360"/>
            <a:chOff x="7259760" y="3129120"/>
            <a:chExt cx="539640" cy="387360"/>
          </a:xfrm>
        </p:grpSpPr>
        <p:pic>
          <p:nvPicPr>
            <p:cNvPr id="69" name="" descr=""/>
            <p:cNvPicPr/>
            <p:nvPr/>
          </p:nvPicPr>
          <p:blipFill>
            <a:blip r:embed="rId11"/>
            <a:stretch/>
          </p:blipFill>
          <p:spPr>
            <a:xfrm>
              <a:off x="7259760" y="31291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358040" y="323532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725480" y="2590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590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64120" y="2590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2590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26080" y="2590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2590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981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209320" y="1981080"/>
            <a:ext cx="22100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1981080"/>
            <a:ext cx="21333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3578400"/>
            <a:ext cx="154080" cy="338040"/>
          </a:xfrm>
          <a:custGeom>
            <a:avLst/>
            <a:gdLst/>
            <a:ahLst/>
            <a:rect l="l" t="t" r="r" b="b"/>
            <a:pathLst>
              <a:path w="97" h="213">
                <a:moveTo>
                  <a:pt x="48" y="0"/>
                </a:moveTo>
                <a:lnTo>
                  <a:pt x="0" y="128"/>
                </a:lnTo>
                <a:lnTo>
                  <a:pt x="97" y="73"/>
                </a:lnTo>
                <a:lnTo>
                  <a:pt x="48" y="21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00200" y="4495680"/>
            <a:ext cx="6019920" cy="703800"/>
            <a:chOff x="1600200" y="4495680"/>
            <a:chExt cx="6019920" cy="703800"/>
          </a:xfrm>
        </p:grpSpPr>
        <p:sp>
          <p:nvSpPr>
            <p:cNvPr id="82" name=""/>
            <p:cNvSpPr/>
            <p:nvPr/>
          </p:nvSpPr>
          <p:spPr>
            <a:xfrm>
              <a:off x="1600200" y="449568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38480" y="449568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800" y="449568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79040" y="4800600"/>
              <a:ext cx="421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cro-mobility (intra-domain roam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579400" y="4495680"/>
            <a:ext cx="4258800" cy="703800"/>
            <a:chOff x="2579400" y="4495680"/>
            <a:chExt cx="4258800" cy="703800"/>
          </a:xfrm>
        </p:grpSpPr>
        <p:sp>
          <p:nvSpPr>
            <p:cNvPr id="87" name=""/>
            <p:cNvSpPr/>
            <p:nvPr/>
          </p:nvSpPr>
          <p:spPr>
            <a:xfrm>
              <a:off x="2666880" y="4495680"/>
              <a:ext cx="1524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05520" y="4495680"/>
              <a:ext cx="1523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79400" y="4800600"/>
              <a:ext cx="425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ro-mobility (inter-domain roam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740960" y="6019920"/>
            <a:ext cx="54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fixed IP address for MH =&gt; continuous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7600" y="213372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0.1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5880" y="213372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0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8200" y="213372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0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6200" y="373392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0.1.1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4200" y="5334120"/>
            <a:ext cx="56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Access Server (AS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yer 2 bridge + IP forwarding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4920" y="1752480"/>
            <a:ext cx="13449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93240" y="1752480"/>
            <a:ext cx="1497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56236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21337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blem Statemen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t micro- and macro-mobility support for clients on IEEE 802.11 wireless access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erformance enh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802.11 Access Network (PubLAN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14800" y="2057400"/>
            <a:ext cx="920520" cy="463680"/>
            <a:chOff x="4114800" y="2057400"/>
            <a:chExt cx="920520" cy="4636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114800" y="2057400"/>
              <a:ext cx="9205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3080" y="2163960"/>
              <a:ext cx="644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29000" y="3657600"/>
            <a:ext cx="539640" cy="387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27280" y="3763800"/>
            <a:ext cx="26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029200" y="3657600"/>
            <a:ext cx="539640" cy="387360"/>
            <a:chOff x="5029200" y="3657600"/>
            <a:chExt cx="539640" cy="38736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5029200" y="365760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127480" y="376416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477120" y="3657600"/>
            <a:ext cx="539640" cy="387360"/>
            <a:chOff x="6477120" y="3657600"/>
            <a:chExt cx="539640" cy="387360"/>
          </a:xfrm>
        </p:grpSpPr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6477120" y="365760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575400" y="376380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657600" y="31352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71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3119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514600"/>
            <a:ext cx="12956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81080" y="3657600"/>
            <a:ext cx="539640" cy="387360"/>
            <a:chOff x="1981080" y="3657600"/>
            <a:chExt cx="539640" cy="387360"/>
          </a:xfrm>
        </p:grpSpPr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1981080" y="365760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079360" y="376380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65480" y="3119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971800" y="2514600"/>
            <a:ext cx="1371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124080"/>
            <a:ext cx="213336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124080"/>
            <a:ext cx="213372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89840" y="2514600"/>
            <a:ext cx="1448280" cy="2293920"/>
            <a:chOff x="2589840" y="2514600"/>
            <a:chExt cx="1448280" cy="2293920"/>
          </a:xfrm>
        </p:grpSpPr>
        <p:grpSp>
          <p:nvGrpSpPr>
            <p:cNvPr id="126" name=""/>
            <p:cNvGrpSpPr/>
            <p:nvPr/>
          </p:nvGrpSpPr>
          <p:grpSpPr>
            <a:xfrm>
              <a:off x="3392280" y="4510080"/>
              <a:ext cx="603000" cy="298440"/>
              <a:chOff x="3392280" y="4510080"/>
              <a:chExt cx="603000" cy="298440"/>
            </a:xfrm>
          </p:grpSpPr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92280" y="4510080"/>
                <a:ext cx="603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542760" y="4636800"/>
                <a:ext cx="23472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581280" y="4125960"/>
              <a:ext cx="153720" cy="33804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48" y="0"/>
                  </a:moveTo>
                  <a:lnTo>
                    <a:pt x="0" y="128"/>
                  </a:lnTo>
                  <a:lnTo>
                    <a:pt x="97" y="73"/>
                  </a:lnTo>
                  <a:lnTo>
                    <a:pt x="48" y="2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46479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52640" y="2514600"/>
              <a:ext cx="285480" cy="1062000"/>
            </a:xfrm>
            <a:custGeom>
              <a:avLst/>
              <a:gdLst/>
              <a:ahLst/>
              <a:rect l="l" t="t" r="r" b="b"/>
              <a:pathLst>
                <a:path w="180" h="669">
                  <a:moveTo>
                    <a:pt x="180" y="0"/>
                  </a:moveTo>
                  <a:lnTo>
                    <a:pt x="0" y="209"/>
                  </a:lnTo>
                  <a:lnTo>
                    <a:pt x="0" y="6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7040" y="3429000"/>
              <a:ext cx="5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90920" y="383544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89840" y="3581280"/>
              <a:ext cx="73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A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do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160" y="2438280"/>
            <a:ext cx="2515320" cy="2370240"/>
            <a:chOff x="1523160" y="2438280"/>
            <a:chExt cx="2515320" cy="2370240"/>
          </a:xfrm>
        </p:grpSpPr>
        <p:grpSp>
          <p:nvGrpSpPr>
            <p:cNvPr id="136" name=""/>
            <p:cNvGrpSpPr/>
            <p:nvPr/>
          </p:nvGrpSpPr>
          <p:grpSpPr>
            <a:xfrm>
              <a:off x="1904760" y="4510080"/>
              <a:ext cx="603360" cy="298440"/>
              <a:chOff x="1904760" y="4510080"/>
              <a:chExt cx="603360" cy="2984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4760" y="4510080"/>
                <a:ext cx="60336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055600" y="4636800"/>
                <a:ext cx="23508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093760" y="4125960"/>
              <a:ext cx="154080" cy="33804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48" y="0"/>
                  </a:moveTo>
                  <a:lnTo>
                    <a:pt x="0" y="128"/>
                  </a:lnTo>
                  <a:lnTo>
                    <a:pt x="97" y="73"/>
                  </a:lnTo>
                  <a:lnTo>
                    <a:pt x="48" y="2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3160" y="3429000"/>
              <a:ext cx="5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57280" y="2438280"/>
              <a:ext cx="1681200" cy="1143000"/>
            </a:xfrm>
            <a:custGeom>
              <a:avLst/>
              <a:gdLst/>
              <a:ahLst/>
              <a:rect l="l" t="t" r="r" b="b"/>
              <a:pathLst>
                <a:path w="1059" h="720">
                  <a:moveTo>
                    <a:pt x="1059" y="0"/>
                  </a:moveTo>
                  <a:lnTo>
                    <a:pt x="0" y="269"/>
                  </a:lnTo>
                  <a:lnTo>
                    <a:pt x="3" y="7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374120" y="2514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sub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22800" y="251460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ign sub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51880" y="548640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unable to roam to foreign subnet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214000" y="2057400"/>
            <a:ext cx="5208840" cy="3004200"/>
            <a:chOff x="2214000" y="2057400"/>
            <a:chExt cx="5208840" cy="3004200"/>
          </a:xfrm>
        </p:grpSpPr>
        <p:sp>
          <p:nvSpPr>
            <p:cNvPr id="146" name=""/>
            <p:cNvSpPr/>
            <p:nvPr/>
          </p:nvSpPr>
          <p:spPr>
            <a:xfrm>
              <a:off x="2590920" y="33526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??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952880" y="4495680"/>
              <a:ext cx="603360" cy="298440"/>
              <a:chOff x="4952880" y="4495680"/>
              <a:chExt cx="603360" cy="298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2880" y="4495680"/>
                <a:ext cx="60336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5103720" y="4622400"/>
                <a:ext cx="23508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456240" y="4491000"/>
              <a:ext cx="603360" cy="298440"/>
              <a:chOff x="6456240" y="4491000"/>
              <a:chExt cx="603360" cy="298440"/>
            </a:xfrm>
          </p:grpSpPr>
          <p:pic>
            <p:nvPicPr>
              <p:cNvPr id="15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56240" y="4491000"/>
                <a:ext cx="60336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607080" y="4617720"/>
                <a:ext cx="23508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562720" y="46483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14800" y="4648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4120" y="41911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??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419112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??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95480" y="2286000"/>
              <a:ext cx="1067040" cy="106668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672" y="0"/>
                  </a:moveTo>
                  <a:lnTo>
                    <a:pt x="3" y="242"/>
                  </a:lnTo>
                  <a:lnTo>
                    <a:pt x="0" y="7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14000" y="2057400"/>
              <a:ext cx="179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ffic to 10.0.1.1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480" y="472428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0.1.1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obile IP: IP tunneling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1604880" cy="1206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86200" y="1828800"/>
            <a:ext cx="920520" cy="463680"/>
            <a:chOff x="3886200" y="1828800"/>
            <a:chExt cx="920520" cy="46368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886200" y="1828800"/>
              <a:ext cx="9205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984480" y="1935360"/>
              <a:ext cx="644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895480" y="3429000"/>
            <a:ext cx="540000" cy="387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994120" y="3535200"/>
            <a:ext cx="26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00600" y="3429000"/>
            <a:ext cx="539640" cy="387360"/>
            <a:chOff x="4800600" y="3429000"/>
            <a:chExt cx="539640" cy="387360"/>
          </a:xfrm>
        </p:grpSpPr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4800600" y="342900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898880" y="353556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811840" y="3433680"/>
            <a:ext cx="539640" cy="387360"/>
            <a:chOff x="5811840" y="3433680"/>
            <a:chExt cx="539640" cy="387360"/>
          </a:xfrm>
        </p:grpSpPr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5811840" y="343368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910120" y="353988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124080" y="29066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785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859120" y="3897360"/>
            <a:ext cx="603360" cy="682200"/>
            <a:chOff x="2859120" y="3897360"/>
            <a:chExt cx="603360" cy="682200"/>
          </a:xfrm>
        </p:grpSpPr>
        <p:grpSp>
          <p:nvGrpSpPr>
            <p:cNvPr id="179" name=""/>
            <p:cNvGrpSpPr/>
            <p:nvPr/>
          </p:nvGrpSpPr>
          <p:grpSpPr>
            <a:xfrm>
              <a:off x="2859120" y="4281120"/>
              <a:ext cx="603360" cy="298440"/>
              <a:chOff x="2859120" y="4281120"/>
              <a:chExt cx="603360" cy="298440"/>
            </a:xfrm>
          </p:grpSpPr>
          <p:pic>
            <p:nvPicPr>
              <p:cNvPr id="1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59120" y="4281120"/>
                <a:ext cx="60336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3009960" y="4407840"/>
                <a:ext cx="23508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048120" y="3897360"/>
              <a:ext cx="154080" cy="33804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48" y="0"/>
                  </a:moveTo>
                  <a:lnTo>
                    <a:pt x="0" y="128"/>
                  </a:lnTo>
                  <a:lnTo>
                    <a:pt x="97" y="73"/>
                  </a:lnTo>
                  <a:lnTo>
                    <a:pt x="48" y="2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495680" y="22860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2895480"/>
            <a:ext cx="106668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124080" y="22860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7480" y="5181480"/>
            <a:ext cx="73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intra-domain roaming in foreign subnet still needs to re-regi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solves macro-mobility but inefficient for micro-mo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969280" y="2362320"/>
            <a:ext cx="2358360" cy="2202840"/>
            <a:chOff x="2969280" y="2362320"/>
            <a:chExt cx="2358360" cy="2202840"/>
          </a:xfrm>
        </p:grpSpPr>
        <p:grpSp>
          <p:nvGrpSpPr>
            <p:cNvPr id="188" name=""/>
            <p:cNvGrpSpPr/>
            <p:nvPr/>
          </p:nvGrpSpPr>
          <p:grpSpPr>
            <a:xfrm>
              <a:off x="4724280" y="4267080"/>
              <a:ext cx="603360" cy="298080"/>
              <a:chOff x="4724280" y="4267080"/>
              <a:chExt cx="603360" cy="298080"/>
            </a:xfrm>
          </p:grpSpPr>
          <p:pic>
            <p:nvPicPr>
              <p:cNvPr id="18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724280" y="4267080"/>
                <a:ext cx="603360" cy="29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875120" y="4393440"/>
                <a:ext cx="235080" cy="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1400" bIns="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913280" y="3882960"/>
              <a:ext cx="154080" cy="33768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48" y="0"/>
                  </a:moveTo>
                  <a:lnTo>
                    <a:pt x="0" y="128"/>
                  </a:lnTo>
                  <a:lnTo>
                    <a:pt x="97" y="73"/>
                  </a:lnTo>
                  <a:lnTo>
                    <a:pt x="48" y="2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5320" y="2420640"/>
              <a:ext cx="1218960" cy="1846080"/>
            </a:xfrm>
            <a:custGeom>
              <a:avLst/>
              <a:gdLst/>
              <a:ahLst/>
              <a:rect l="l" t="t" r="r" b="b"/>
              <a:pathLst>
                <a:path w="576" h="1163">
                  <a:moveTo>
                    <a:pt x="576" y="1163"/>
                  </a:moveTo>
                  <a:lnTo>
                    <a:pt x="505" y="291"/>
                  </a:lnTo>
                  <a:lnTo>
                    <a:pt x="287" y="0"/>
                  </a:lnTo>
                  <a:lnTo>
                    <a:pt x="63" y="291"/>
                  </a:lnTo>
                  <a:lnTo>
                    <a:pt x="0" y="63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5320" y="3504960"/>
              <a:ext cx="1218960" cy="228240"/>
            </a:xfrm>
            <a:custGeom>
              <a:avLst/>
              <a:gdLst/>
              <a:ahLst/>
              <a:rect l="l" t="t" r="r" b="b"/>
              <a:pathLst>
                <a:path w="528" h="113">
                  <a:moveTo>
                    <a:pt x="0" y="112"/>
                  </a:moveTo>
                  <a:lnTo>
                    <a:pt x="257" y="0"/>
                  </a:lnTo>
                  <a:lnTo>
                    <a:pt x="528" y="113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69280" y="23623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9160" y="3581280"/>
              <a:ext cx="6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u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5320" y="44193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2362320"/>
            <a:ext cx="2889000" cy="2202840"/>
            <a:chOff x="3505320" y="2362320"/>
            <a:chExt cx="2889000" cy="2202840"/>
          </a:xfrm>
        </p:grpSpPr>
        <p:grpSp>
          <p:nvGrpSpPr>
            <p:cNvPr id="198" name=""/>
            <p:cNvGrpSpPr/>
            <p:nvPr/>
          </p:nvGrpSpPr>
          <p:grpSpPr>
            <a:xfrm>
              <a:off x="3505320" y="2362320"/>
              <a:ext cx="2889000" cy="2202840"/>
              <a:chOff x="3505320" y="2362320"/>
              <a:chExt cx="2889000" cy="2202840"/>
            </a:xfrm>
          </p:grpSpPr>
          <p:sp>
            <p:nvSpPr>
              <p:cNvPr id="199" name=""/>
              <p:cNvSpPr/>
              <p:nvPr/>
            </p:nvSpPr>
            <p:spPr>
              <a:xfrm>
                <a:off x="4645800" y="236232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gist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5791320" y="4267080"/>
                <a:ext cx="603000" cy="298080"/>
                <a:chOff x="5791320" y="4267080"/>
                <a:chExt cx="603000" cy="29808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791320" y="4267080"/>
                  <a:ext cx="603000" cy="29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" name=""/>
                <p:cNvSpPr/>
                <p:nvPr/>
              </p:nvSpPr>
              <p:spPr>
                <a:xfrm>
                  <a:off x="5941800" y="4393440"/>
                  <a:ext cx="234720" cy="8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1400" bIns="41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979960" y="3882960"/>
                <a:ext cx="154080" cy="33768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48" y="0"/>
                    </a:moveTo>
                    <a:lnTo>
                      <a:pt x="0" y="128"/>
                    </a:lnTo>
                    <a:lnTo>
                      <a:pt x="97" y="73"/>
                    </a:lnTo>
                    <a:lnTo>
                      <a:pt x="48" y="2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57600" y="2420640"/>
                <a:ext cx="2057400" cy="1922040"/>
              </a:xfrm>
              <a:custGeom>
                <a:avLst/>
                <a:gdLst/>
                <a:ahLst/>
                <a:rect l="l" t="t" r="r" b="b"/>
                <a:pathLst>
                  <a:path w="1152" h="1211">
                    <a:moveTo>
                      <a:pt x="1152" y="1211"/>
                    </a:moveTo>
                    <a:lnTo>
                      <a:pt x="1081" y="364"/>
                    </a:lnTo>
                    <a:lnTo>
                      <a:pt x="391" y="0"/>
                    </a:lnTo>
                    <a:lnTo>
                      <a:pt x="136" y="279"/>
                    </a:lnTo>
                    <a:lnTo>
                      <a:pt x="0" y="63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05320" y="3152520"/>
                <a:ext cx="2286000" cy="429840"/>
              </a:xfrm>
              <a:custGeom>
                <a:avLst/>
                <a:gdLst/>
                <a:ahLst/>
                <a:rect l="l" t="t" r="r" b="b"/>
                <a:pathLst>
                  <a:path w="1248" h="271">
                    <a:moveTo>
                      <a:pt x="0" y="270"/>
                    </a:moveTo>
                    <a:lnTo>
                      <a:pt x="614" y="0"/>
                    </a:lnTo>
                    <a:lnTo>
                      <a:pt x="1248" y="271"/>
                    </a:lnTo>
                  </a:path>
                </a:pathLst>
              </a:custGeom>
              <a:noFill/>
              <a:ln w="7632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61800" y="297144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unn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334120" y="4419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obile IP + IAPP Extens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191120" y="1905120"/>
            <a:ext cx="920520" cy="463320"/>
            <a:chOff x="4191120" y="1905120"/>
            <a:chExt cx="920520" cy="46332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4191120" y="1905120"/>
              <a:ext cx="9205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9400" y="2011320"/>
              <a:ext cx="6444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05320" y="3505320"/>
            <a:ext cx="539640" cy="387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603600" y="3611520"/>
            <a:ext cx="26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105520" y="3505320"/>
            <a:ext cx="539640" cy="387360"/>
            <a:chOff x="5105520" y="3505320"/>
            <a:chExt cx="539640" cy="38736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05520" y="35053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203800" y="361188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553080" y="3505320"/>
            <a:ext cx="539640" cy="387360"/>
            <a:chOff x="6553080" y="3505320"/>
            <a:chExt cx="539640" cy="387360"/>
          </a:xfrm>
        </p:grpSpPr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6553080" y="35053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51360" y="361152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733920" y="2982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3080" y="2971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1160" y="2967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2362320"/>
            <a:ext cx="12952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057400" y="3505320"/>
            <a:ext cx="539640" cy="387360"/>
            <a:chOff x="2057400" y="3505320"/>
            <a:chExt cx="539640" cy="387360"/>
          </a:xfrm>
        </p:grpSpPr>
        <p:pic>
          <p:nvPicPr>
            <p:cNvPr id="225" name="" descr=""/>
            <p:cNvPicPr/>
            <p:nvPr/>
          </p:nvPicPr>
          <p:blipFill>
            <a:blip r:embed="rId5"/>
            <a:stretch/>
          </p:blipFill>
          <p:spPr>
            <a:xfrm>
              <a:off x="2057400" y="35053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155680" y="361152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341440" y="2967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048120" y="2362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2971800"/>
            <a:ext cx="213372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2971800"/>
            <a:ext cx="213372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3886200"/>
            <a:ext cx="263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886200"/>
            <a:ext cx="263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50440" y="236232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sub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8760" y="23623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ign sub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06600" y="2362320"/>
            <a:ext cx="6389640" cy="3065760"/>
            <a:chOff x="1506600" y="2362320"/>
            <a:chExt cx="6389640" cy="3065760"/>
          </a:xfrm>
        </p:grpSpPr>
        <p:grpSp>
          <p:nvGrpSpPr>
            <p:cNvPr id="236" name=""/>
            <p:cNvGrpSpPr/>
            <p:nvPr/>
          </p:nvGrpSpPr>
          <p:grpSpPr>
            <a:xfrm>
              <a:off x="2666160" y="2362320"/>
              <a:ext cx="1448640" cy="2293560"/>
              <a:chOff x="2666160" y="2362320"/>
              <a:chExt cx="1448640" cy="229356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3468600" y="3973680"/>
                <a:ext cx="603360" cy="682200"/>
                <a:chOff x="3468600" y="3973680"/>
                <a:chExt cx="603360" cy="68220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3468600" y="4357440"/>
                  <a:ext cx="603360" cy="298440"/>
                  <a:chOff x="3468600" y="4357440"/>
                  <a:chExt cx="603360" cy="298440"/>
                </a:xfrm>
              </p:grpSpPr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4357440"/>
                    <a:ext cx="6033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0" name=""/>
                  <p:cNvSpPr/>
                  <p:nvPr/>
                </p:nvSpPr>
                <p:spPr>
                  <a:xfrm>
                    <a:off x="3619440" y="4484160"/>
                    <a:ext cx="235080" cy="86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1760" bIns="41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" name=""/>
                <p:cNvSpPr/>
                <p:nvPr/>
              </p:nvSpPr>
              <p:spPr>
                <a:xfrm>
                  <a:off x="3657600" y="3973680"/>
                  <a:ext cx="154080" cy="338040"/>
                </a:xfrm>
                <a:custGeom>
                  <a:avLst/>
                  <a:gdLst/>
                  <a:ahLst/>
                  <a:rect l="l" t="t" r="r" b="b"/>
                  <a:pathLst>
                    <a:path w="97" h="213">
                      <a:moveTo>
                        <a:pt x="48" y="0"/>
                      </a:moveTo>
                      <a:lnTo>
                        <a:pt x="0" y="128"/>
                      </a:lnTo>
                      <a:lnTo>
                        <a:pt x="97" y="73"/>
                      </a:lnTo>
                      <a:lnTo>
                        <a:pt x="48" y="21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2666880" y="449568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52920" y="2362320"/>
                <a:ext cx="461880" cy="1066680"/>
              </a:xfrm>
              <a:custGeom>
                <a:avLst/>
                <a:gdLst/>
                <a:ahLst/>
                <a:rect l="l" t="t" r="r" b="b"/>
                <a:pathLst>
                  <a:path w="291" h="672">
                    <a:moveTo>
                      <a:pt x="291" y="0"/>
                    </a:moveTo>
                    <a:lnTo>
                      <a:pt x="0" y="206"/>
                    </a:lnTo>
                    <a:lnTo>
                      <a:pt x="3" y="67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47400" y="3276720"/>
                <a:ext cx="59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66880" y="365760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66160" y="3657600"/>
                <a:ext cx="7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ndof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506600" y="5029200"/>
              <a:ext cx="638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* roaming in the home subnet: set proxy to attract traf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513080" y="2362320"/>
            <a:ext cx="4874760" cy="3446640"/>
            <a:chOff x="1513080" y="2362320"/>
            <a:chExt cx="4874760" cy="3446640"/>
          </a:xfrm>
        </p:grpSpPr>
        <p:sp>
          <p:nvSpPr>
            <p:cNvPr id="249" name=""/>
            <p:cNvSpPr/>
            <p:nvPr/>
          </p:nvSpPr>
          <p:spPr>
            <a:xfrm>
              <a:off x="1513080" y="5410080"/>
              <a:ext cx="48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* macro-mobility: Mobile IP (IP tunne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123720" y="2362320"/>
              <a:ext cx="2508840" cy="2279520"/>
              <a:chOff x="3123720" y="2362320"/>
              <a:chExt cx="2508840" cy="22795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5029200" y="4343400"/>
                <a:ext cx="603360" cy="298440"/>
                <a:chOff x="5029200" y="4343400"/>
                <a:chExt cx="603360" cy="298440"/>
              </a:xfrm>
            </p:grpSpPr>
            <p:pic>
              <p:nvPicPr>
                <p:cNvPr id="25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29200" y="4343400"/>
                  <a:ext cx="603360" cy="29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5180040" y="4470120"/>
                  <a:ext cx="235080" cy="8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5218200" y="3959280"/>
                <a:ext cx="154080" cy="33804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48" y="0"/>
                    </a:moveTo>
                    <a:lnTo>
                      <a:pt x="0" y="128"/>
                    </a:lnTo>
                    <a:lnTo>
                      <a:pt x="97" y="73"/>
                    </a:lnTo>
                    <a:lnTo>
                      <a:pt x="48" y="2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38480" y="3581280"/>
                <a:ext cx="990720" cy="228600"/>
              </a:xfrm>
              <a:custGeom>
                <a:avLst/>
                <a:gdLst/>
                <a:ahLst/>
                <a:rect l="l" t="t" r="r" b="b"/>
                <a:pathLst>
                  <a:path w="528" h="113">
                    <a:moveTo>
                      <a:pt x="0" y="112"/>
                    </a:moveTo>
                    <a:lnTo>
                      <a:pt x="257" y="0"/>
                    </a:lnTo>
                    <a:lnTo>
                      <a:pt x="528" y="113"/>
                    </a:lnTo>
                  </a:path>
                </a:pathLst>
              </a:custGeom>
              <a:noFill/>
              <a:ln w="7632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190400" y="365760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unn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23720" y="3276720"/>
                <a:ext cx="59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x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57760" y="2362320"/>
                <a:ext cx="1338120" cy="1082520"/>
              </a:xfrm>
              <a:custGeom>
                <a:avLst/>
                <a:gdLst/>
                <a:ahLst/>
                <a:rect l="l" t="t" r="r" b="b"/>
                <a:pathLst>
                  <a:path w="843" h="682">
                    <a:moveTo>
                      <a:pt x="402" y="0"/>
                    </a:moveTo>
                    <a:lnTo>
                      <a:pt x="0" y="215"/>
                    </a:lnTo>
                    <a:lnTo>
                      <a:pt x="0" y="682"/>
                    </a:lnTo>
                    <a:lnTo>
                      <a:pt x="843" y="68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14800" y="449568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509120" y="2362320"/>
            <a:ext cx="6391080" cy="4132800"/>
            <a:chOff x="1509120" y="2362320"/>
            <a:chExt cx="6391080" cy="4132800"/>
          </a:xfrm>
        </p:grpSpPr>
        <p:sp>
          <p:nvSpPr>
            <p:cNvPr id="261" name=""/>
            <p:cNvSpPr/>
            <p:nvPr/>
          </p:nvSpPr>
          <p:spPr>
            <a:xfrm>
              <a:off x="1509120" y="5791320"/>
              <a:ext cx="639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* micro-mobility: extend IAPP handoff to redirect traf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en roaming within a sub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857760" y="2362320"/>
              <a:ext cx="3598200" cy="2274840"/>
              <a:chOff x="3857760" y="2362320"/>
              <a:chExt cx="3598200" cy="22748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532560" y="4338720"/>
                <a:ext cx="603360" cy="298440"/>
                <a:chOff x="6532560" y="4338720"/>
                <a:chExt cx="603360" cy="298440"/>
              </a:xfrm>
            </p:grpSpPr>
            <p:pic>
              <p:nvPicPr>
                <p:cNvPr id="26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32560" y="4338720"/>
                  <a:ext cx="603360" cy="29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>
                  <a:off x="6683400" y="4465440"/>
                  <a:ext cx="235080" cy="8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6721560" y="3954600"/>
                <a:ext cx="154080" cy="33804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48" y="0"/>
                    </a:moveTo>
                    <a:lnTo>
                      <a:pt x="0" y="128"/>
                    </a:lnTo>
                    <a:lnTo>
                      <a:pt x="97" y="73"/>
                    </a:lnTo>
                    <a:lnTo>
                      <a:pt x="48" y="2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8680" y="4495680"/>
                <a:ext cx="8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15000" y="365760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4280" y="3657600"/>
                <a:ext cx="7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ndof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638680" y="3209760"/>
                <a:ext cx="914400" cy="297000"/>
              </a:xfrm>
              <a:custGeom>
                <a:avLst/>
                <a:gdLst/>
                <a:ahLst/>
                <a:rect l="l" t="t" r="r" b="b"/>
                <a:pathLst>
                  <a:path w="576" h="187">
                    <a:moveTo>
                      <a:pt x="0" y="186"/>
                    </a:moveTo>
                    <a:lnTo>
                      <a:pt x="271" y="0"/>
                    </a:lnTo>
                    <a:lnTo>
                      <a:pt x="576" y="18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46360" y="3124080"/>
                <a:ext cx="120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direct traff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57760" y="2362320"/>
                <a:ext cx="1319040" cy="1082520"/>
              </a:xfrm>
              <a:custGeom>
                <a:avLst/>
                <a:gdLst/>
                <a:ahLst/>
                <a:rect l="l" t="t" r="r" b="b"/>
                <a:pathLst>
                  <a:path w="831" h="682">
                    <a:moveTo>
                      <a:pt x="402" y="0"/>
                    </a:moveTo>
                    <a:lnTo>
                      <a:pt x="0" y="215"/>
                    </a:lnTo>
                    <a:lnTo>
                      <a:pt x="0" y="682"/>
                    </a:lnTo>
                    <a:lnTo>
                      <a:pt x="831" y="68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038480" y="3589200"/>
              <a:ext cx="990720" cy="222480"/>
            </a:xfrm>
            <a:custGeom>
              <a:avLst/>
              <a:gdLst/>
              <a:ahLst/>
              <a:rect l="l" t="t" r="r" b="b"/>
              <a:pathLst>
                <a:path w="624" h="140">
                  <a:moveTo>
                    <a:pt x="0" y="139"/>
                  </a:moveTo>
                  <a:lnTo>
                    <a:pt x="305" y="0"/>
                  </a:lnTo>
                  <a:lnTo>
                    <a:pt x="624" y="14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obile IP + IAPP Extens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191120" y="1905120"/>
            <a:ext cx="920520" cy="463320"/>
            <a:chOff x="4191120" y="1905120"/>
            <a:chExt cx="920520" cy="4633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4191120" y="1905120"/>
              <a:ext cx="9205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289400" y="2011320"/>
              <a:ext cx="6444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505320" y="3505320"/>
            <a:ext cx="539640" cy="387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603600" y="3611520"/>
            <a:ext cx="26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105520" y="3505320"/>
            <a:ext cx="539640" cy="387360"/>
            <a:chOff x="5105520" y="3505320"/>
            <a:chExt cx="539640" cy="387360"/>
          </a:xfrm>
        </p:grpSpPr>
        <p:pic>
          <p:nvPicPr>
            <p:cNvPr id="281" name="" descr=""/>
            <p:cNvPicPr/>
            <p:nvPr/>
          </p:nvPicPr>
          <p:blipFill>
            <a:blip r:embed="rId3"/>
            <a:stretch/>
          </p:blipFill>
          <p:spPr>
            <a:xfrm>
              <a:off x="5105520" y="35053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203800" y="361188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553080" y="3505320"/>
            <a:ext cx="539640" cy="387360"/>
            <a:chOff x="6553080" y="3505320"/>
            <a:chExt cx="539640" cy="387360"/>
          </a:xfrm>
        </p:grpSpPr>
        <p:pic>
          <p:nvPicPr>
            <p:cNvPr id="284" name="" descr=""/>
            <p:cNvPicPr/>
            <p:nvPr/>
          </p:nvPicPr>
          <p:blipFill>
            <a:blip r:embed="rId4"/>
            <a:stretch/>
          </p:blipFill>
          <p:spPr>
            <a:xfrm>
              <a:off x="6553080" y="35053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6651360" y="361152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733920" y="2982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83080" y="2971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61160" y="2967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2362320"/>
            <a:ext cx="12952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057400" y="3505320"/>
            <a:ext cx="539640" cy="387360"/>
            <a:chOff x="2057400" y="3505320"/>
            <a:chExt cx="539640" cy="387360"/>
          </a:xfrm>
        </p:grpSpPr>
        <p:pic>
          <p:nvPicPr>
            <p:cNvPr id="291" name="" descr=""/>
            <p:cNvPicPr/>
            <p:nvPr/>
          </p:nvPicPr>
          <p:blipFill>
            <a:blip r:embed="rId5"/>
            <a:stretch/>
          </p:blipFill>
          <p:spPr>
            <a:xfrm>
              <a:off x="2057400" y="350532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155680" y="361152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341440" y="2967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048120" y="2362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81080" y="2971800"/>
            <a:ext cx="213372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2971800"/>
            <a:ext cx="213372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886200"/>
            <a:ext cx="263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52880" y="3886200"/>
            <a:ext cx="263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0440" y="236232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 sub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8760" y="23623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ign sub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468600" y="3973680"/>
            <a:ext cx="603360" cy="682200"/>
            <a:chOff x="3468600" y="3973680"/>
            <a:chExt cx="603360" cy="682200"/>
          </a:xfrm>
        </p:grpSpPr>
        <p:grpSp>
          <p:nvGrpSpPr>
            <p:cNvPr id="302" name=""/>
            <p:cNvGrpSpPr/>
            <p:nvPr/>
          </p:nvGrpSpPr>
          <p:grpSpPr>
            <a:xfrm>
              <a:off x="3468600" y="4357440"/>
              <a:ext cx="603360" cy="298440"/>
              <a:chOff x="3468600" y="4357440"/>
              <a:chExt cx="603360" cy="298440"/>
            </a:xfrm>
          </p:grpSpPr>
          <p:pic>
            <p:nvPicPr>
              <p:cNvPr id="3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68600" y="4357440"/>
                <a:ext cx="60336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3619440" y="4484160"/>
                <a:ext cx="235080" cy="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1760" bIns="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M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3657600" y="3973680"/>
              <a:ext cx="154080" cy="33804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48" y="0"/>
                  </a:moveTo>
                  <a:lnTo>
                    <a:pt x="0" y="128"/>
                  </a:lnTo>
                  <a:lnTo>
                    <a:pt x="97" y="73"/>
                  </a:lnTo>
                  <a:lnTo>
                    <a:pt x="48" y="2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6668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7400" y="32767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66160" y="36576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nd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06600" y="5029200"/>
            <a:ext cx="63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roaming in the home subnet: set proxy to attrac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13080" y="5410080"/>
            <a:ext cx="48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macro-mobility: Mobile IP (IP tunne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29200" y="4343400"/>
            <a:ext cx="603360" cy="298440"/>
            <a:chOff x="5029200" y="4343400"/>
            <a:chExt cx="603360" cy="298440"/>
          </a:xfrm>
        </p:grpSpPr>
        <p:pic>
          <p:nvPicPr>
            <p:cNvPr id="313" name="" descr=""/>
            <p:cNvPicPr/>
            <p:nvPr/>
          </p:nvPicPr>
          <p:blipFill>
            <a:blip r:embed="rId7"/>
            <a:stretch/>
          </p:blipFill>
          <p:spPr>
            <a:xfrm>
              <a:off x="5029200" y="4343400"/>
              <a:ext cx="603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80040" y="4470120"/>
              <a:ext cx="23508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218200" y="3959280"/>
            <a:ext cx="154080" cy="338040"/>
          </a:xfrm>
          <a:custGeom>
            <a:avLst/>
            <a:gdLst/>
            <a:ahLst/>
            <a:rect l="l" t="t" r="r" b="b"/>
            <a:pathLst>
              <a:path w="97" h="213">
                <a:moveTo>
                  <a:pt x="48" y="0"/>
                </a:moveTo>
                <a:lnTo>
                  <a:pt x="0" y="128"/>
                </a:lnTo>
                <a:lnTo>
                  <a:pt x="97" y="73"/>
                </a:lnTo>
                <a:lnTo>
                  <a:pt x="48" y="2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3581280"/>
            <a:ext cx="990720" cy="228600"/>
          </a:xfrm>
          <a:custGeom>
            <a:avLst/>
            <a:gdLst/>
            <a:ahLst/>
            <a:rect l="l" t="t" r="r" b="b"/>
            <a:pathLst>
              <a:path w="528" h="113">
                <a:moveTo>
                  <a:pt x="0" y="112"/>
                </a:moveTo>
                <a:lnTo>
                  <a:pt x="257" y="0"/>
                </a:lnTo>
                <a:lnTo>
                  <a:pt x="528" y="113"/>
                </a:ln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0400" y="36576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57760" y="2362320"/>
            <a:ext cx="1338120" cy="1082520"/>
          </a:xfrm>
          <a:custGeom>
            <a:avLst/>
            <a:gdLst/>
            <a:ahLst/>
            <a:rect l="l" t="t" r="r" b="b"/>
            <a:pathLst>
              <a:path w="843" h="682">
                <a:moveTo>
                  <a:pt x="402" y="0"/>
                </a:moveTo>
                <a:lnTo>
                  <a:pt x="0" y="215"/>
                </a:lnTo>
                <a:lnTo>
                  <a:pt x="0" y="682"/>
                </a:lnTo>
                <a:lnTo>
                  <a:pt x="843" y="6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4495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09120" y="5791320"/>
            <a:ext cx="639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micro-mobility: extend IAPP handoff to redirec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roaming within a 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532560" y="4338720"/>
            <a:ext cx="603360" cy="298440"/>
            <a:chOff x="6532560" y="4338720"/>
            <a:chExt cx="603360" cy="298440"/>
          </a:xfrm>
        </p:grpSpPr>
        <p:pic>
          <p:nvPicPr>
            <p:cNvPr id="322" name="" descr=""/>
            <p:cNvPicPr/>
            <p:nvPr/>
          </p:nvPicPr>
          <p:blipFill>
            <a:blip r:embed="rId8"/>
            <a:stretch/>
          </p:blipFill>
          <p:spPr>
            <a:xfrm>
              <a:off x="6532560" y="4338720"/>
              <a:ext cx="603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683400" y="4465440"/>
              <a:ext cx="23508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721560" y="3954600"/>
            <a:ext cx="154080" cy="338040"/>
          </a:xfrm>
          <a:custGeom>
            <a:avLst/>
            <a:gdLst/>
            <a:ahLst/>
            <a:rect l="l" t="t" r="r" b="b"/>
            <a:pathLst>
              <a:path w="97" h="213">
                <a:moveTo>
                  <a:pt x="48" y="0"/>
                </a:moveTo>
                <a:lnTo>
                  <a:pt x="0" y="128"/>
                </a:lnTo>
                <a:lnTo>
                  <a:pt x="97" y="73"/>
                </a:lnTo>
                <a:lnTo>
                  <a:pt x="48" y="2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4956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1500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14280" y="36576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nd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3209760"/>
            <a:ext cx="914400" cy="297000"/>
          </a:xfrm>
          <a:custGeom>
            <a:avLst/>
            <a:gdLst/>
            <a:ahLst/>
            <a:rect l="l" t="t" r="r" b="b"/>
            <a:pathLst>
              <a:path w="576" h="187">
                <a:moveTo>
                  <a:pt x="0" y="186"/>
                </a:moveTo>
                <a:lnTo>
                  <a:pt x="271" y="0"/>
                </a:lnTo>
                <a:lnTo>
                  <a:pt x="576" y="18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46360" y="312408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irect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upporting Micro/Macro Mobilit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 cases*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ming within home su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ming into foreign su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ming within foreign su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for supporting non-mobile-IP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aming within Home Subne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124080" y="2133720"/>
            <a:ext cx="920520" cy="463320"/>
            <a:chOff x="3124080" y="2133720"/>
            <a:chExt cx="920520" cy="46332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3124080" y="2133720"/>
              <a:ext cx="9205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222360" y="2239920"/>
              <a:ext cx="6444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362320" y="4038480"/>
            <a:ext cx="539640" cy="387360"/>
            <a:chOff x="2362320" y="4038480"/>
            <a:chExt cx="539640" cy="387360"/>
          </a:xfrm>
        </p:grpSpPr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2362320" y="403848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460600" y="4145040"/>
              <a:ext cx="263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495680" y="4038480"/>
            <a:ext cx="539640" cy="387360"/>
            <a:chOff x="4495680" y="4038480"/>
            <a:chExt cx="539640" cy="387360"/>
          </a:xfrm>
        </p:grpSpPr>
        <p:pic>
          <p:nvPicPr>
            <p:cNvPr id="340" name="" descr=""/>
            <p:cNvPicPr/>
            <p:nvPr/>
          </p:nvPicPr>
          <p:blipFill>
            <a:blip r:embed="rId3"/>
            <a:stretch/>
          </p:blipFill>
          <p:spPr>
            <a:xfrm>
              <a:off x="4495680" y="4038480"/>
              <a:ext cx="5396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593960" y="4144680"/>
              <a:ext cx="2635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V="1">
            <a:off x="2592360" y="3320640"/>
            <a:ext cx="0" cy="70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726080" y="3320640"/>
            <a:ext cx="0" cy="70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286000" y="5105520"/>
            <a:ext cx="603360" cy="298440"/>
            <a:chOff x="2286000" y="5105520"/>
            <a:chExt cx="603360" cy="298440"/>
          </a:xfrm>
        </p:grpSpPr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2286000" y="5105520"/>
              <a:ext cx="60336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436840" y="5232240"/>
              <a:ext cx="23508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887640" y="4464000"/>
            <a:ext cx="1678320" cy="608040"/>
            <a:chOff x="3887640" y="4464000"/>
            <a:chExt cx="1678320" cy="608040"/>
          </a:xfrm>
        </p:grpSpPr>
        <p:grpSp>
          <p:nvGrpSpPr>
            <p:cNvPr id="348" name=""/>
            <p:cNvGrpSpPr/>
            <p:nvPr/>
          </p:nvGrpSpPr>
          <p:grpSpPr>
            <a:xfrm>
              <a:off x="3887640" y="4491000"/>
              <a:ext cx="760320" cy="581040"/>
              <a:chOff x="3887640" y="4491000"/>
              <a:chExt cx="760320" cy="581040"/>
            </a:xfrm>
          </p:grpSpPr>
          <p:sp>
            <p:nvSpPr>
              <p:cNvPr id="349" name=""/>
              <p:cNvSpPr/>
              <p:nvPr/>
            </p:nvSpPr>
            <p:spPr>
              <a:xfrm>
                <a:off x="4647960" y="4491000"/>
                <a:ext cx="0" cy="5810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7640" y="4629240"/>
                <a:ext cx="757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eac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 flipV="1">
              <a:off x="4800600" y="4464000"/>
              <a:ext cx="0" cy="565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7280" y="4614840"/>
              <a:ext cx="77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ss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17920" y="5105520"/>
            <a:ext cx="603000" cy="298440"/>
            <a:chOff x="4417920" y="5105520"/>
            <a:chExt cx="603000" cy="298440"/>
          </a:xfrm>
        </p:grpSpPr>
        <p:pic>
          <p:nvPicPr>
            <p:cNvPr id="354" name="" descr=""/>
            <p:cNvPicPr/>
            <p:nvPr/>
          </p:nvPicPr>
          <p:blipFill>
            <a:blip r:embed="rId5"/>
            <a:stretch/>
          </p:blipFill>
          <p:spPr>
            <a:xfrm>
              <a:off x="4417920" y="5105520"/>
              <a:ext cx="6030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568760" y="5232600"/>
              <a:ext cx="2347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581280" y="2590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33720" y="3276720"/>
            <a:ext cx="3047760" cy="360"/>
          </a:xfrm>
          <a:prstGeom prst="lin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52578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895480" y="3505320"/>
            <a:ext cx="1962720" cy="941760"/>
            <a:chOff x="2895480" y="3505320"/>
            <a:chExt cx="1962720" cy="941760"/>
          </a:xfrm>
        </p:grpSpPr>
        <p:sp>
          <p:nvSpPr>
            <p:cNvPr id="360" name=""/>
            <p:cNvSpPr/>
            <p:nvPr/>
          </p:nvSpPr>
          <p:spPr>
            <a:xfrm>
              <a:off x="2895480" y="3608280"/>
              <a:ext cx="1524240" cy="507960"/>
            </a:xfrm>
            <a:custGeom>
              <a:avLst/>
              <a:gdLst/>
              <a:ahLst/>
              <a:rect l="l" t="t" r="r" b="b"/>
              <a:pathLst>
                <a:path w="960" h="320">
                  <a:moveTo>
                    <a:pt x="960" y="319"/>
                  </a:moveTo>
                  <a:lnTo>
                    <a:pt x="450" y="0"/>
                  </a:lnTo>
                  <a:lnTo>
                    <a:pt x="0" y="3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95480" y="3809880"/>
              <a:ext cx="1524240" cy="507960"/>
            </a:xfrm>
            <a:custGeom>
              <a:avLst/>
              <a:gdLst/>
              <a:ahLst/>
              <a:rect l="l" t="t" r="r" b="b"/>
              <a:pathLst>
                <a:path w="960" h="320">
                  <a:moveTo>
                    <a:pt x="960" y="319"/>
                  </a:moveTo>
                  <a:lnTo>
                    <a:pt x="450" y="0"/>
                  </a:lnTo>
                  <a:lnTo>
                    <a:pt x="0" y="3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35000" y="3505320"/>
              <a:ext cx="1123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ndoff re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48840" y="4114800"/>
              <a:ext cx="1146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ndoff 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875480" y="52578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0.1.1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733920" y="2590920"/>
            <a:ext cx="4391280" cy="2395440"/>
            <a:chOff x="3733920" y="2590920"/>
            <a:chExt cx="4391280" cy="2395440"/>
          </a:xfrm>
        </p:grpSpPr>
        <p:sp>
          <p:nvSpPr>
            <p:cNvPr id="366" name=""/>
            <p:cNvSpPr/>
            <p:nvPr/>
          </p:nvSpPr>
          <p:spPr>
            <a:xfrm>
              <a:off x="5106240" y="3733920"/>
              <a:ext cx="3018960" cy="57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proxy ARP for 10.0.1.1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route to 10.0.1.139 via RF 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48320" y="4495680"/>
              <a:ext cx="153720" cy="490680"/>
            </a:xfrm>
            <a:custGeom>
              <a:avLst/>
              <a:gdLst/>
              <a:ahLst/>
              <a:rect l="l" t="t" r="r" b="b"/>
              <a:pathLst>
                <a:path w="97" h="213">
                  <a:moveTo>
                    <a:pt x="48" y="0"/>
                  </a:moveTo>
                  <a:lnTo>
                    <a:pt x="0" y="128"/>
                  </a:lnTo>
                  <a:lnTo>
                    <a:pt x="97" y="73"/>
                  </a:lnTo>
                  <a:lnTo>
                    <a:pt x="48" y="213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33920" y="2590920"/>
              <a:ext cx="1144440" cy="1371600"/>
            </a:xfrm>
            <a:custGeom>
              <a:avLst/>
              <a:gdLst/>
              <a:ahLst/>
              <a:rect l="l" t="t" r="r" b="b"/>
              <a:pathLst>
                <a:path w="721" h="864">
                  <a:moveTo>
                    <a:pt x="0" y="0"/>
                  </a:moveTo>
                  <a:lnTo>
                    <a:pt x="721" y="307"/>
                  </a:lnTo>
                  <a:lnTo>
                    <a:pt x="720" y="86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35:22Z</dcterms:created>
  <dc:creator>S. Jay Yang</dc:creator>
  <dc:description/>
  <dc:language>en-US</dc:language>
  <cp:lastModifiedBy>S. Jay Yang</cp:lastModifiedBy>
  <cp:lastPrinted>2000-08-03T21:03:49Z</cp:lastPrinted>
  <dcterms:modified xsi:type="dcterms:W3CDTF">2000-08-04T12:23:29Z</dcterms:modified>
  <cp:revision>32</cp:revision>
  <dc:subject/>
  <dc:title>Roaming Support Enhancement (ROSE) in AS-2000 Networks</dc:title>
</cp:coreProperties>
</file>