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003-FD74-45A8-8974-7EB5BE85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45B-F17B-467F-B6AB-CE896BA3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F5D-576E-4464-A6AA-80993B49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B80-BC70-4A5F-BCF3-402B8634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29F-2A6E-496C-A194-163A7C8E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3EB-2FF0-4F56-A591-933E0FD0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F25-3C3A-468C-A2BC-A0762872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B0C-918F-4B2A-A413-1861F8A0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E55-C1E5-44EF-ACC1-3E4EFA0B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996-0327-45DA-9523-BEA7F250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D69-BA26-43E0-BF9E-E6AA4640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15F-EDB6-4BC7-84BA-FF43E018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F517-A753-4D0B-9ACE-6553E14DB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Telephony Market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0 - 3001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 W. McKnight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tcher School of Law and Diplomacy                           Tufts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 Internet and Telecoms Convergence Consortium (I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engo Research L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cknigh@tufts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0880"/>
            <a:ext cx="64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Carrier Class IP Telephon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18-19, 2000                 San Diego,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xican ITSP Mode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066680"/>
            <a:ext cx="31240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structure remains the same as the baseline 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 use of internet telephony increases 10% tota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813200" cy="5371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1981080"/>
            <a:ext cx="335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100%=24M U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6920" y="6553080"/>
            <a:ext cx="6105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ource:  Students of TPP127-Itel Model for Latin America and Europe,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and Drivers for Global Network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ies are Largely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are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e, Incomes, Industrial History, and Regulation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Factors Matter M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’s Who in Internet Telephony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IP Telephony, or VoIP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 Market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Com, Cisco, Lucent, Motorola, Nokia, Nor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s a cast of 100’s (see list of exhibitors at Spring 2000 VON Conference – a mix of newbies, niche players, and giants playing catch-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mention: Brooktrout, Dialogic, Polycom, Vienna Systems, Vocal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Market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i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ta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2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i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’s Hot    –    Who’s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rt-up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, Zephyr, Cyber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rt-up Internet appliance 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, Universal Talk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P app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cordia and others able to provide ‘carrier class’ IP network management and IP/OSS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BOCs (at least not yet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umbering giants – Alcatel, Ericsson, Sie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nopo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 Telephony Market Seg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ances (computers, PDAs, ph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s (servers of various ty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(most importantly, network manag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Class’ equipment for carriers and large enterp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’ class equipment such as iPBXs and i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: Microsoft’s NetMeeting, etc., for public Internet teleph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pid Transi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Voice to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Passed Voice in the US in 1999 - or 1998  - or maybe in 1996 - it Depends on How and What You Co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ce Traffic will be 2 - 10% of Total Traffic by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3001, We Will Not Be Speaking To Each Other – I guarantee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to Data Cross-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76560" y="1981080"/>
            <a:ext cx="4790880" cy="2895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48040" y="6031080"/>
            <a:ext cx="30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utooni &amp; Tennenhouse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CI POP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962600" cy="392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33640" y="6183360"/>
            <a:ext cx="30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utooni &amp; Tennenhouse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CI Traffic Tran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1680" y="2057400"/>
            <a:ext cx="4400640" cy="2743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66800" y="5802480"/>
            <a:ext cx="30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utooni &amp; Tennenhouse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&amp;T IS A DATA PROV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62320" y="2043000"/>
            <a:ext cx="4419360" cy="2772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48040" y="5802480"/>
            <a:ext cx="30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utooni &amp; Tennenhouse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 Internet &amp; Telecoms Convergence Consort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band Access Systems, BT, H-P, MediaOne/AT&amp;T, Motorola, Nokia, Sprint, Telecom Italia, Telefonica, Zephy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T, Tufts University, Carnegie Mellon University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 debating club with public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insights through business – academic – government di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future research, product development and corporate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elepho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ook from MIT Press is based on ITC’s greatest hits from 1996-1998; available to the public by fall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 OF TELECOMS I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DATA BUSINES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USED TO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410000" cy="2762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0360" y="5410080"/>
            <a:ext cx="30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utooni &amp; Tennenhouse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33360" y="1614600"/>
            <a:ext cx="6477120" cy="36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9760" y="45720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 What if Your Customers Waited Up t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usand Days to Make Another Telephone C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30080" y="5802480"/>
            <a:ext cx="27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cKnight &amp; Shust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19040" y="1371600"/>
            <a:ext cx="65059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82800" y="5802480"/>
            <a:ext cx="27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cKnight &amp; Shust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the MB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r service is too hard to use, noone will use it – not even g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r network cannot support the service, noone will us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omething better comes along, people WILL use it instead.  But do not feel bad - they may try your service again in 1000 day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95480" y="1328760"/>
            <a:ext cx="6953040" cy="4200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25600" y="5802480"/>
            <a:ext cx="27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cKnight &amp; Shust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Your Forecast for 2008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P Telephony Us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illion IP Telephony Us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 Million IP Telephony Us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 Million IP Telephony Us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 Million IP Telephony Us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57280" y="1704960"/>
            <a:ext cx="6229440" cy="3448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8080" y="53352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UESS IS PROBABLY BETTER THAN OURS: 40 MILLION IN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30160" y="5802480"/>
            <a:ext cx="27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cKnight &amp; Shust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 Telephony Market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rospect &amp; Forec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62120" y="6324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: Frost &amp; Sullivan, IDC, Nokia, Pu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Telephony Markets 2000-3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1981080"/>
          <a:ext cx="7848720" cy="41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848720" cy="41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905120" y="57913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: Lee McKnight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Travelling Consultant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5562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l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Telephony is here to stay – at least for the next Millenn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it will be called Internet Telephony or VoIP or IP Telephony or whatever in 2020 we can only gu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Hard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right features and applications customers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ing to Provide those features and applications at the quality level customers exp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s for Residential and Business IP Teleph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of Convergence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and Acceptance of IP Telephony Applications in the Re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Forecast to 3001(well, ok, how about 2008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Knight, L.W., W. Lehr, D. Clark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rnet Telepho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MIT Press, (in press)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man, W.R., L.McKnight, R.J. Solomo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Gordian Knot: Political Gridlock on the Information Highw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MIT Press, 1997, paperback 1999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Knight, L.W. and J. Bailey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rnet Econom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MIT Press, 1997, paperback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Knight, L. W. and M. Shuster, “After the Web: Diffusion of Internet Telephony and Multimedia,” in in L.W. McKnight, D. Clark, W. Lehr, ed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rnet Telepho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MIT Press, (in press)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tooni, P. K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elecommunications @ Crossroads: The Transition from a Voice-Centric to a Data-Centric Communication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Massachuset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itute of Technology Thesis, 199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tooni, P. K. and D. Tennenhouse, “The Transition to Data-Centric Networks: Implications for Internet Telephony,” in L.W. McKnight, D. Clark, W. Lehr, ed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rnet Telepho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MIT Press, (in press)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-54000" y="0"/>
          <a:ext cx="9198000" cy="689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000" y="0"/>
                    <a:ext cx="9198000" cy="68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Telephony Marke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level of integration/convergence do customers w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 voice + ISDN-grade-web (DoCoMo/2.5G/WAP model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 voice + packet voice for desktop least cost routing (e.g., Cisco/Sony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voice to phone voice (e.g., Net2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ize everything all the time - “Pure” IP, wired and wireless (e.g., Level 3 on the wired side, Tachyon.net on the satellite side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r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 want services, do not care about technolog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to figure it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Telephony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telephony circa 1997 was twice as expensive as circuit-switched. (see McKnight &amp; Lei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2000, competitive pressure from Internet telephony and new entrants in deregulated telco markets is driving prices lower: eg the 5 cent deals.  Can IP telephony compe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margins are still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costs of ‘telephony’ are .1 - .2 cents/minute – creating opportunities and risks for new entrants and incumbents alike as prices continue to f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features of an IP-based ‘phone’ network are the principal benefit of Internet telephony – and we have just begun to scratch the surface at the seemingly limitless possibilities for advanced human-mediated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Example: Mexican ISP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371600"/>
            <a:ext cx="3124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gh tariffs for T1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ortant T1 user b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G&amp;A costs are determined in great part by reven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w labor c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w on-line 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813560" cy="5010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2286000"/>
            <a:ext cx="335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100%=22M U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6920" y="6553080"/>
            <a:ext cx="6105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ource:  Students of TPP127-Itel Model for Latin America and Europe,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1T16:32:05Z</dcterms:created>
  <dc:creator>Lee McKnight</dc:creator>
  <dc:description/>
  <dc:language>en-US</dc:language>
  <cp:lastModifiedBy>Erin Walsh</cp:lastModifiedBy>
  <dcterms:modified xsi:type="dcterms:W3CDTF">2000-04-27T00:09:15Z</dcterms:modified>
  <cp:revision>15</cp:revision>
  <dc:subject/>
  <dc:title>PowerPoint Presentation</dc:title>
</cp:coreProperties>
</file>