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601200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12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304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12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304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79880" y="291600"/>
            <a:ext cx="86407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012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304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8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012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2304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9880" y="291600"/>
            <a:ext cx="86407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2440" y="203040"/>
            <a:ext cx="8293320" cy="635400"/>
            <a:chOff x="622440" y="203040"/>
            <a:chExt cx="8293320" cy="635400"/>
          </a:xfrm>
        </p:grpSpPr>
        <p:sp>
          <p:nvSpPr>
            <p:cNvPr id="1" name=""/>
            <p:cNvSpPr/>
            <p:nvPr/>
          </p:nvSpPr>
          <p:spPr>
            <a:xfrm>
              <a:off x="622440" y="203040"/>
              <a:ext cx="71640" cy="635400"/>
            </a:xfrm>
            <a:custGeom>
              <a:avLst/>
              <a:gdLst/>
              <a:ahLst/>
              <a:rect l="0" t="0" r="r" b="b"/>
              <a:pathLst>
                <a:path w="199" h="1765">
                  <a:moveTo>
                    <a:pt x="0" y="0"/>
                  </a:moveTo>
                  <a:lnTo>
                    <a:pt x="199" y="117"/>
                  </a:lnTo>
                  <a:lnTo>
                    <a:pt x="199" y="1648"/>
                  </a:lnTo>
                  <a:lnTo>
                    <a:pt x="0" y="17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440" y="203040"/>
              <a:ext cx="8293320" cy="43200"/>
            </a:xfrm>
            <a:custGeom>
              <a:avLst/>
              <a:gdLst/>
              <a:ahLst/>
              <a:rect l="0" t="0" r="r" b="b"/>
              <a:pathLst>
                <a:path w="23037" h="120">
                  <a:moveTo>
                    <a:pt x="0" y="0"/>
                  </a:moveTo>
                  <a:lnTo>
                    <a:pt x="198" y="120"/>
                  </a:lnTo>
                  <a:lnTo>
                    <a:pt x="22838" y="120"/>
                  </a:lnTo>
                  <a:lnTo>
                    <a:pt x="230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44120" y="203040"/>
              <a:ext cx="71640" cy="635400"/>
            </a:xfrm>
            <a:custGeom>
              <a:avLst/>
              <a:gdLst/>
              <a:ahLst/>
              <a:rect l="0" t="0" r="r" b="b"/>
              <a:pathLst>
                <a:path w="199" h="1765">
                  <a:moveTo>
                    <a:pt x="199" y="0"/>
                  </a:moveTo>
                  <a:lnTo>
                    <a:pt x="0" y="117"/>
                  </a:lnTo>
                  <a:lnTo>
                    <a:pt x="0" y="1648"/>
                  </a:lnTo>
                  <a:lnTo>
                    <a:pt x="199" y="176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440" y="795240"/>
              <a:ext cx="8293320" cy="43200"/>
            </a:xfrm>
            <a:custGeom>
              <a:avLst/>
              <a:gdLst/>
              <a:ahLst/>
              <a:rect l="0" t="0" r="r" b="b"/>
              <a:pathLst>
                <a:path w="23037" h="120">
                  <a:moveTo>
                    <a:pt x="23037" y="120"/>
                  </a:moveTo>
                  <a:lnTo>
                    <a:pt x="22838" y="0"/>
                  </a:lnTo>
                  <a:lnTo>
                    <a:pt x="198" y="0"/>
                  </a:lnTo>
                  <a:lnTo>
                    <a:pt x="0" y="120"/>
                  </a:lnTo>
                  <a:lnTo>
                    <a:pt x="23037" y="12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4360" y="260280"/>
              <a:ext cx="8150400" cy="549360"/>
            </a:xfrm>
            <a:prstGeom prst="rect">
              <a:avLst/>
            </a:prstGeom>
            <a:gradFill rotWithShape="0">
              <a:gsLst>
                <a:gs pos="0">
                  <a:srgbClr val="b36600"/>
                </a:gs>
                <a:gs pos="50000">
                  <a:srgbClr val="e08000"/>
                </a:gs>
                <a:gs pos="100000">
                  <a:srgbClr val="b36600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 txBox="1"/>
          <p:nvPr/>
        </p:nvSpPr>
        <p:spPr>
          <a:xfrm>
            <a:off x="0" y="7124760"/>
            <a:ext cx="406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pyright © 1995 A.M.Rutko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22400" y="217440"/>
            <a:ext cx="9264960" cy="4364280"/>
            <a:chOff x="122400" y="217440"/>
            <a:chExt cx="9264960" cy="4364280"/>
          </a:xfrm>
        </p:grpSpPr>
        <p:sp>
          <p:nvSpPr>
            <p:cNvPr id="82" name=""/>
            <p:cNvSpPr/>
            <p:nvPr/>
          </p:nvSpPr>
          <p:spPr>
            <a:xfrm>
              <a:off x="122400" y="217440"/>
              <a:ext cx="79560" cy="4364280"/>
            </a:xfrm>
            <a:custGeom>
              <a:avLst/>
              <a:gdLst/>
              <a:ahLst/>
              <a:rect l="0" t="0" r="r" b="b"/>
              <a:pathLst>
                <a:path w="221" h="12123">
                  <a:moveTo>
                    <a:pt x="0" y="0"/>
                  </a:moveTo>
                  <a:lnTo>
                    <a:pt x="221" y="808"/>
                  </a:lnTo>
                  <a:lnTo>
                    <a:pt x="221" y="11315"/>
                  </a:lnTo>
                  <a:lnTo>
                    <a:pt x="0" y="12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2400" y="217440"/>
              <a:ext cx="9264960" cy="295560"/>
            </a:xfrm>
            <a:custGeom>
              <a:avLst/>
              <a:gdLst/>
              <a:ahLst/>
              <a:rect l="0" t="0" r="r" b="b"/>
              <a:pathLst>
                <a:path w="25736" h="821">
                  <a:moveTo>
                    <a:pt x="0" y="0"/>
                  </a:moveTo>
                  <a:lnTo>
                    <a:pt x="221" y="821"/>
                  </a:lnTo>
                  <a:lnTo>
                    <a:pt x="25514" y="821"/>
                  </a:lnTo>
                  <a:lnTo>
                    <a:pt x="257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307440" y="217440"/>
              <a:ext cx="79560" cy="4364280"/>
            </a:xfrm>
            <a:custGeom>
              <a:avLst/>
              <a:gdLst/>
              <a:ahLst/>
              <a:rect l="0" t="0" r="r" b="b"/>
              <a:pathLst>
                <a:path w="221" h="12123">
                  <a:moveTo>
                    <a:pt x="221" y="0"/>
                  </a:moveTo>
                  <a:lnTo>
                    <a:pt x="0" y="808"/>
                  </a:lnTo>
                  <a:lnTo>
                    <a:pt x="0" y="11315"/>
                  </a:lnTo>
                  <a:lnTo>
                    <a:pt x="221" y="12123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2400" y="4286160"/>
              <a:ext cx="9264960" cy="295560"/>
            </a:xfrm>
            <a:custGeom>
              <a:avLst/>
              <a:gdLst/>
              <a:ahLst/>
              <a:rect l="0" t="0" r="r" b="b"/>
              <a:pathLst>
                <a:path w="25736" h="821">
                  <a:moveTo>
                    <a:pt x="25736" y="821"/>
                  </a:moveTo>
                  <a:lnTo>
                    <a:pt x="25514" y="0"/>
                  </a:lnTo>
                  <a:lnTo>
                    <a:pt x="221" y="0"/>
                  </a:lnTo>
                  <a:lnTo>
                    <a:pt x="0" y="821"/>
                  </a:lnTo>
                  <a:lnTo>
                    <a:pt x="25736" y="82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512640"/>
              <a:ext cx="9105840" cy="3773520"/>
            </a:xfrm>
            <a:prstGeom prst="rect">
              <a:avLst/>
            </a:prstGeom>
            <a:gradFill rotWithShape="0">
              <a:gsLst>
                <a:gs pos="0">
                  <a:srgbClr val="b36600"/>
                </a:gs>
                <a:gs pos="50000">
                  <a:srgbClr val="e08000"/>
                </a:gs>
                <a:gs pos="100000">
                  <a:srgbClr val="b36600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0" y="790560"/>
            <a:ext cx="9550440" cy="373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 algn="ctr">
              <a:lnSpc>
                <a:spcPct val="90000"/>
              </a:lnSpc>
              <a:spcBef>
                <a:spcPts val="720"/>
              </a:spcBef>
            </a:pPr>
            <a:r>
              <a:rPr b="1" lang="en-US" sz="80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Present and Future of Internetworking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90440" y="4987800"/>
            <a:ext cx="3884760" cy="1247040"/>
          </a:xfrm>
          <a:prstGeom prst="rect">
            <a:avLst/>
          </a:prstGeom>
          <a:gradFill rotWithShape="0">
            <a:gsLst>
              <a:gs pos="0">
                <a:srgbClr val="767900"/>
              </a:gs>
              <a:gs pos="100000">
                <a:srgbClr val="2324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itannic Bold"/>
                <a:ea typeface="Britannic Bold"/>
              </a:rPr>
              <a:t>Internet @Telecom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ritannic Bold"/>
                <a:ea typeface="Britannic Bold"/>
              </a:rPr>
              <a:t>Genè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ritannic Bold"/>
                <a:ea typeface="Britannic Bold"/>
              </a:rPr>
              <a:t>7-8 Oct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57720" y="5033880"/>
            <a:ext cx="96192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346720" y="5105520"/>
            <a:ext cx="4046400" cy="11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thony M. Rutk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t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Herndon VA  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6997680"/>
            <a:ext cx="2806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pyright 1995 A.M. Rutkows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312840"/>
            <a:ext cx="8153280" cy="5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mand for Global Domain N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240" y="1006560"/>
            <a:ext cx="9252000" cy="5937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434960" y="2637000"/>
            <a:ext cx="3929040" cy="639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ercial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42080" y="3975120"/>
            <a:ext cx="736560" cy="203040"/>
          </a:xfrm>
          <a:prstGeom prst="line">
            <a:avLst/>
          </a:prstGeom>
          <a:ln w="25560">
            <a:solidFill>
              <a:srgbClr val="767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829480" y="4241880"/>
            <a:ext cx="736560" cy="20304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65760" y="4610160"/>
            <a:ext cx="762120" cy="12600"/>
          </a:xfrm>
          <a:prstGeom prst="line">
            <a:avLst/>
          </a:prstGeom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760" y="6554880"/>
            <a:ext cx="2819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ource: Mike Walsh, N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22800" y="3159000"/>
            <a:ext cx="3298680" cy="557280"/>
          </a:xfrm>
          <a:prstGeom prst="rect">
            <a:avLst/>
          </a:prstGeom>
          <a:solidFill>
            <a:srgbClr val="767900"/>
          </a:solidFill>
          <a:ln w="12600">
            <a:solidFill>
              <a:srgbClr val="7679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-Profit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1360" y="5051520"/>
            <a:ext cx="2595600" cy="4460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twork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24560" y="987480"/>
            <a:ext cx="2028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gist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47760" y="4186080"/>
            <a:ext cx="1785960" cy="557280"/>
          </a:xfrm>
          <a:prstGeom prst="rect">
            <a:avLst/>
          </a:prstGeom>
          <a:solidFill>
            <a:srgbClr val="51dc00"/>
          </a:solidFill>
          <a:ln w="12600">
            <a:solidFill>
              <a:srgbClr val="7679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.M.Rutkowski</dc:creator>
  <dc:description/>
  <dc:language>en-US</dc:language>
  <cp:lastModifiedBy>AUTHORIZED GATEWAY CUSTOMER</cp:lastModifiedBy>
  <cp:revision>0</cp:revision>
  <dc:subject>Presentation</dc:subject>
  <dc:title>Global Domain Growth</dc:title>
</cp:coreProperties>
</file>