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2.png" ContentType="image/png"/>
  <Override PartName="/ppt/media/image5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109D-8B37-462D-83EC-788CD76B661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e-defined varia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ystem information: system.bandwid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User information: user.presence user.activity, user.mood, user.location, user.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gent information: agent.number-of-calls agent.media-cap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igger information: trigger.origin trigger.destination trigger.timest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ction information: action.last-action-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ny action will have a ‘next’ output for sequential follow-up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xs:complexType name="ActionType" abstract="true" mixed="true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xs:al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xs:element name="next" minOccurs="0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xs:complexTyp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xs:group ref="Node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/xs:complexTyp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/xs:elemen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/xs:al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/xs:complexTyp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Semantic warning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address-switch field=“origin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address subdomain-of=“cs.columbia.edu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address-switch field=“origin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address is=“foo@nyu.edu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asahide Nakamura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ara Institute of Science and Technolog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iqun Xu, University of Ottaw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Action conflict tabl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check pre-condition and expected results of all actions, with defined execution or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check the interactions between action A and action B, we first check the sit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where A is performed before B. The checking consists of two parts: one is to 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whether action A’s result changes or conflicts with the pre-condition of action B, the other 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o check whether action B’s result changes the expected result of action A. We then check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nteractions with a different execution order with action B performed first and do the s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check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ree merging algorithm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check switch overlap and merge two tre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he leave nodes are actions, based on action conflict table, check feature inter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f there are feature interactions, report to users about the condition (overlap between switches) feature interactions may hap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TI: learning is an incremental process, use virtual prune to cut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ervice risk 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uto-reject: lose conn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lert, auto-accept: lose privacy, lose money, distract at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f we perform ITI, we can get the quantitative evaluation of risk pos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f we check switch parameters, we can get qualitative risk possibility: e.g., domain based call handling has higher risk than URI-based call hand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mpact: connection and privacy is more important than at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voidance: use attributes with specific value, not wildcard, use URI instead of domain if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fer: transfer risks to secre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eduction: reduce risks with higher impact, even though may introduce risks with lower impact, the overall risk get low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tingency plan: call log, and easy to retrieve call 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xpected number of tests = All tests need to classify examples/# of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inimum description length = Number of bits to encode the tree, for a leaf node, 1+log(c)+x(log(i)+log(c-1))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: this is a le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: number of classes, log(c) to identify the default class for the node, log(c-1) to identify a non-defaul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: number of examples in the node, log(i) to identify 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x: number of exception (misclassific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e tested 40 ex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ervices, each applied to 300 simulated calls. The tests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at 80% of the learning results exactly match their ex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ervices, 10% of the learning results represent the ex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ervices in different ways, and 10% of the learning results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ot match the expected services. The mismatch comes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randomness of the simulation data. For example, if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xpected service is "accept all emergency cal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however, since only 0.1% of calls are emergency, there m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ot be emergency calls in the simulated call set, th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lgorithm cannot infer the expected servi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eparate modifier from action parameter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wo smaller concepts might be simpler and more flexible than one more powerful but complicated conce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0882-15E6-4799-A9A4-2F6ACB44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97F7-5C4F-4987-8B49-309799FE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23DA-82E1-4E48-B117-D1ED1B0F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2BFA-89AD-4129-9E6E-921C383D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2C1C-8393-4217-BAF7-30CF43C5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144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B267-876B-40F8-BF00-54781BC7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B6F7-4C2D-45DF-A087-E07E4AFC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4CC7-9FFD-42A1-8219-FDBC9263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DB0B-4EA7-4A98-B9E4-CC96ABCF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0A06-F36C-4A24-97DE-F192242F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F642-8C1A-43C1-A04E-3883F69E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B1DB-CF3A-43B4-B150-E7898242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1680" y="51768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4360" y="51768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5520" y="93996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95240" y="93996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160" y="8668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46200" y="409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8001000" y="5918040"/>
            <a:ext cx="1143000" cy="93996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26880" y="1200240"/>
            <a:ext cx="822672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947720" y="62895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5767-19FF-437E-861A-1CCC404CD8F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2387520" y="6199200"/>
            <a:ext cx="4762440" cy="46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 flipV="1">
            <a:off x="1295280" y="1752120"/>
            <a:ext cx="762012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712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6FC8-03EA-433F-A490-2EFF3AA6B7BD}" type="slidenum"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798480"/>
            <a:ext cx="1143000" cy="939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392640" y="1905120"/>
            <a:ext cx="2358720" cy="2201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387520" y="6199200"/>
            <a:ext cx="4762440" cy="46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153040" y="2004840"/>
            <a:ext cx="3733920" cy="3380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577960" y="1994040"/>
            <a:ext cx="1743120" cy="1697040"/>
          </a:xfrm>
          <a:prstGeom prst="wedgeRectCallout">
            <a:avLst>
              <a:gd name="adj1" fmla="val 104916"/>
              <a:gd name="adj2" fmla="val 443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rvices on en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727360" y="4397400"/>
            <a:ext cx="1566720" cy="117648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2827440" y="2117880"/>
            <a:ext cx="1272960" cy="1385640"/>
            <a:chOff x="2827440" y="2117880"/>
            <a:chExt cx="1272960" cy="1385640"/>
          </a:xfrm>
        </p:grpSpPr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2827440" y="2117880"/>
              <a:ext cx="1272960" cy="13856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05" name=""/>
            <p:cNvGraphicFramePr/>
            <p:nvPr/>
          </p:nvGraphicFramePr>
          <p:xfrm>
            <a:off x="3038400" y="2279880"/>
            <a:ext cx="807840" cy="650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038400" y="2279880"/>
                      <a:ext cx="807840" cy="65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7" name=""/>
          <p:cNvSpPr/>
          <p:nvPr/>
        </p:nvSpPr>
        <p:spPr>
          <a:xfrm>
            <a:off x="378000" y="2184480"/>
            <a:ext cx="1800000" cy="1361880"/>
          </a:xfrm>
          <a:prstGeom prst="wedgeRectCallout">
            <a:avLst>
              <a:gd name="adj1" fmla="val 96648"/>
              <a:gd name="adj2" fmla="val -17833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9720" y="2863800"/>
            <a:ext cx="1818000" cy="349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P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9440" y="2517840"/>
            <a:ext cx="1814400" cy="3492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9440" y="1979640"/>
            <a:ext cx="1814400" cy="5526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8280" y="3205080"/>
            <a:ext cx="1827360" cy="3492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44840" y="3432240"/>
            <a:ext cx="0" cy="1104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39800" y="37926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878040" y="4389480"/>
            <a:ext cx="1538280" cy="1076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H="1">
            <a:off x="2009880" y="3444840"/>
            <a:ext cx="901440" cy="10922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96880" y="38718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65400" y="5535720"/>
            <a:ext cx="27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P – no infra-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on en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45320" y="1281240"/>
            <a:ext cx="467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’s easy for a softphone to perform servic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lso offer services for other pe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3360" y="5535720"/>
            <a:ext cx="50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only controlled by a centralized serv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phone can also be controlled by a P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LESS el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Trigg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incoming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incoming cal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outgoing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user invoked outgoing cal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imer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timer triggered a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UI:comman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user interaction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IM:message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incoming instant messa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Event:subscriptio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incoming sub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Event:notificatio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incoming 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LESS element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time-switch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make decisions based 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ddress-switch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make decisions based on caller, call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priority-switch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make decisions based on call prio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string-switch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make decisions based on subject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language-switch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make decisions based on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status-switch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make decisions based on users’ status (remote user or local user, status includes presence, activity, mood, …, as listed in RPI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Event:event-switch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check values in event notif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LOC:where-switch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check users’ physical location information (remote or local u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LOC:where-relation-switch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check relative physical locations between two peo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LESS element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accept: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ccept an incoming c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reject: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eject an incoming c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redirect: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edirect an incoming c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authenticate: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uthenticate a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coming requ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call: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ake an outgoing c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terminate: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isconnect a c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wait: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wait for a certain time before next ac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mail: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nd emai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log: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og request handling proce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Media:mediaupdate: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update media attribu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Midcall:transfer: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transfer a cal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4038480" y="1905120"/>
            <a:ext cx="4953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Midcall:merge: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erge multiple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UI:alert: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lert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UI:getinput: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get user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IM:sendmsg: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nd an instant me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Event:approve: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pprove sub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Event:deny: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eny event sub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Event:defer: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efer the decision on event sub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Event:subscribe: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nd subscription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Event:notify: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nd notification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Queue:enqueue: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ut a call and its context into a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Queue:dequeue: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get a call and its context from a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LESS element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Two smaller concepts might be simpler and more flexible than one more powerful but complicated conce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Modifi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location: to which a request to be dir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lookup: lookup locations from a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remove-location: remove locations from location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Media:media: provide media attrib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PL/LESS edi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82760" y="1247760"/>
            <a:ext cx="748008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46466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914400" y="2743200"/>
            <a:ext cx="1800360" cy="1847880"/>
            <a:chOff x="914400" y="2743200"/>
            <a:chExt cx="1800360" cy="1847880"/>
          </a:xfrm>
        </p:grpSpPr>
        <p:graphicFrame>
          <p:nvGraphicFramePr>
            <p:cNvPr id="208" name=""/>
            <p:cNvGraphicFramePr/>
            <p:nvPr/>
          </p:nvGraphicFramePr>
          <p:xfrm>
            <a:off x="914400" y="2743200"/>
            <a:ext cx="1800360" cy="184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2743200"/>
                      <a:ext cx="1800360" cy="184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0" name=""/>
            <p:cNvSpPr/>
            <p:nvPr/>
          </p:nvSpPr>
          <p:spPr>
            <a:xfrm>
              <a:off x="1800360" y="3800520"/>
              <a:ext cx="57132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1" name=""/>
            <p:cNvGraphicFramePr/>
            <p:nvPr/>
          </p:nvGraphicFramePr>
          <p:xfrm>
            <a:off x="2028960" y="4029120"/>
            <a:ext cx="95040" cy="9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28960" y="4029120"/>
                      <a:ext cx="95040" cy="9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3" name=""/>
          <p:cNvSpPr/>
          <p:nvPr/>
        </p:nvSpPr>
        <p:spPr>
          <a:xfrm>
            <a:off x="7753320" y="3790800"/>
            <a:ext cx="609480" cy="228600"/>
          </a:xfrm>
          <a:prstGeom prst="rect">
            <a:avLst/>
          </a:prstGeom>
          <a:solidFill>
            <a:srgbClr val="fbe2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ac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867280" y="2362320"/>
            <a:ext cx="2095560" cy="2361960"/>
            <a:chOff x="5867280" y="2362320"/>
            <a:chExt cx="2095560" cy="2361960"/>
          </a:xfrm>
        </p:grpSpPr>
        <p:graphicFrame>
          <p:nvGraphicFramePr>
            <p:cNvPr id="215" name=""/>
            <p:cNvGraphicFramePr/>
            <p:nvPr/>
          </p:nvGraphicFramePr>
          <p:xfrm>
            <a:off x="5867280" y="2362320"/>
            <a:ext cx="1667160" cy="2361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867280" y="2362320"/>
                      <a:ext cx="1667160" cy="23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7" name=""/>
            <p:cNvSpPr/>
            <p:nvPr/>
          </p:nvSpPr>
          <p:spPr>
            <a:xfrm>
              <a:off x="7391520" y="3209760"/>
              <a:ext cx="57132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" descr=""/>
            <p:cNvPicPr/>
            <p:nvPr/>
          </p:nvPicPr>
          <p:blipFill>
            <a:blip r:embed="rId7"/>
            <a:stretch/>
          </p:blipFill>
          <p:spPr>
            <a:xfrm>
              <a:off x="7601040" y="3390840"/>
              <a:ext cx="95040" cy="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"/>
          <p:cNvSpPr/>
          <p:nvPr/>
        </p:nvSpPr>
        <p:spPr>
          <a:xfrm>
            <a:off x="2162160" y="4381560"/>
            <a:ext cx="609480" cy="228600"/>
          </a:xfrm>
          <a:prstGeom prst="rect">
            <a:avLst/>
          </a:prstGeom>
          <a:solidFill>
            <a:srgbClr val="fbe2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ac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宋体"/>
              </a:rPr>
              <a:t>Feature interaction handl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Tree mer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429000" y="2743200"/>
          <a:ext cx="1447920" cy="1743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29000" y="2743200"/>
                    <a:ext cx="144792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2438280" y="3581280"/>
            <a:ext cx="4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36000" y="342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276720"/>
            <a:ext cx="1600200" cy="380880"/>
          </a:xfrm>
          <a:prstGeom prst="rect">
            <a:avLst/>
          </a:prstGeom>
          <a:solidFill>
            <a:srgbClr val="fbe2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If time is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10:00AM and 11:00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3200400"/>
            <a:ext cx="1143000" cy="304920"/>
          </a:xfrm>
          <a:prstGeom prst="rect">
            <a:avLst/>
          </a:prstGeom>
          <a:solidFill>
            <a:srgbClr val="fbe2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If address is h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4572000"/>
            <a:ext cx="1143000" cy="304920"/>
          </a:xfrm>
          <a:prstGeom prst="rect">
            <a:avLst/>
          </a:prstGeom>
          <a:solidFill>
            <a:srgbClr val="fbe2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Forward to 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2590920"/>
            <a:ext cx="1066680" cy="228600"/>
          </a:xfrm>
          <a:prstGeom prst="rect">
            <a:avLst/>
          </a:prstGeom>
          <a:solidFill>
            <a:srgbClr val="fbe2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Incoming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2590920"/>
            <a:ext cx="1066680" cy="304560"/>
          </a:xfrm>
          <a:prstGeom prst="rect">
            <a:avLst/>
          </a:prstGeom>
          <a:solidFill>
            <a:srgbClr val="fbe2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Incoming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162920" y="2057400"/>
            <a:ext cx="1066680" cy="304920"/>
          </a:xfrm>
          <a:prstGeom prst="rect">
            <a:avLst/>
          </a:prstGeom>
          <a:solidFill>
            <a:srgbClr val="fbe2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Incoming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43800" y="2743200"/>
            <a:ext cx="1600200" cy="457200"/>
          </a:xfrm>
          <a:prstGeom prst="rect">
            <a:avLst/>
          </a:prstGeom>
          <a:solidFill>
            <a:srgbClr val="fbe2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If time is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10:00AM and 11:00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19760" y="3209760"/>
            <a:ext cx="952560" cy="419400"/>
          </a:xfrm>
          <a:prstGeom prst="rect">
            <a:avLst/>
          </a:prstGeom>
          <a:solidFill>
            <a:srgbClr val="fbe2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If addr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is h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34320" y="4724280"/>
            <a:ext cx="609480" cy="2286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re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4648320"/>
            <a:ext cx="1143000" cy="2286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Forward to 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419720"/>
            <a:ext cx="609480" cy="228600"/>
          </a:xfrm>
          <a:prstGeom prst="rect">
            <a:avLst/>
          </a:prstGeom>
          <a:solidFill>
            <a:srgbClr val="fbe2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re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352680" y="4343400"/>
            <a:ext cx="609840" cy="228600"/>
          </a:xfrm>
          <a:prstGeom prst="rect">
            <a:avLst/>
          </a:prstGeom>
          <a:solidFill>
            <a:srgbClr val="fbe28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ac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4876920"/>
            <a:ext cx="4572000" cy="546120"/>
          </a:xfrm>
          <a:custGeom>
            <a:avLst/>
            <a:gdLst/>
            <a:ahLst/>
            <a:rect l="l" t="t" r="r" b="b"/>
            <a:pathLst>
              <a:path w="2880" h="344">
                <a:moveTo>
                  <a:pt x="0" y="48"/>
                </a:moveTo>
                <a:cubicBezTo>
                  <a:pt x="504" y="196"/>
                  <a:pt x="1008" y="344"/>
                  <a:pt x="1488" y="336"/>
                </a:cubicBezTo>
                <a:cubicBezTo>
                  <a:pt x="1968" y="328"/>
                  <a:pt x="2648" y="56"/>
                  <a:pt x="2880" y="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876920" y="4648320"/>
            <a:ext cx="2438280" cy="1358640"/>
          </a:xfrm>
          <a:custGeom>
            <a:avLst/>
            <a:gdLst/>
            <a:ahLst/>
            <a:rect l="l" t="t" r="r" b="b"/>
            <a:pathLst>
              <a:path w="1536" h="856">
                <a:moveTo>
                  <a:pt x="0" y="0"/>
                </a:moveTo>
                <a:cubicBezTo>
                  <a:pt x="176" y="296"/>
                  <a:pt x="352" y="592"/>
                  <a:pt x="576" y="720"/>
                </a:cubicBezTo>
                <a:cubicBezTo>
                  <a:pt x="800" y="848"/>
                  <a:pt x="1184" y="856"/>
                  <a:pt x="1344" y="768"/>
                </a:cubicBezTo>
                <a:cubicBezTo>
                  <a:pt x="1504" y="680"/>
                  <a:pt x="1504" y="288"/>
                  <a:pt x="1536" y="192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76800" y="6019920"/>
            <a:ext cx="6779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Take actions from both scripts. Simply se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precedence rules cannot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3809880"/>
            <a:ext cx="53316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81280" y="3657600"/>
            <a:ext cx="53352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191120" y="3733920"/>
            <a:ext cx="53316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0" y="649116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宋体"/>
              </a:rPr>
              <a:t>ICFI’05 (FI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250" autoRev="1" fill="hold"/>
                                        <p:tgtEl>
                                          <p:spTgt spid="2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be285"/>
                                      </p:to>
                                    </p:animClr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  <p:set>
                                      <p:cBhvr>
                                        <p:cTn id="1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250" autoRev="1" fill="hold"/>
                                        <p:tgtEl>
                                          <p:spTgt spid="2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宋体"/>
              </a:rPr>
              <a:t>Feature interaction handl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FI handling between multiple CPL/LESS scrip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Action conflict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ree merg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Multi-component feature inte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e.g., parallel forking with all end systems automatically accept an incoming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宋体"/>
              </a:rPr>
              <a:t>Related work of CPL FI handl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Related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Syntax correct, semantic warn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e.g., parent switch and child switch mutually exclu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ranslate to formal languages to check FI with other complex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宋体"/>
              </a:rPr>
              <a:t>Pre-condition and expected resul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630360" y="1611360"/>
          <a:ext cx="7619760" cy="4459320"/>
        </p:xfrm>
        <a:graphic>
          <a:graphicData uri="http://schemas.openxmlformats.org/drawingml/2006/table">
            <a:tbl>
              <a:tblPr/>
              <a:tblGrid>
                <a:gridCol w="1510920"/>
                <a:gridCol w="2679840"/>
                <a:gridCol w="34290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pre-cond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expected resul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acce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he call setup is pending. The audio device is availab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he call setup is finalize. The communication session is setup. The audio device is occupi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rej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he call setup is pend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he call setup is finaliz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redir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he call setup is pend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he call setup is finalized on the current end syst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c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he audio device is availab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f the callee side accepts the call, a communication session is setup and audio device is occupi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Action conflict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033560" y="1273320"/>
          <a:ext cx="7315200" cy="4063680"/>
        </p:xfrm>
        <a:graphic>
          <a:graphicData uri="http://schemas.openxmlformats.org/drawingml/2006/table">
            <a:tbl>
              <a:tblPr/>
              <a:tblGrid>
                <a:gridCol w="1400040"/>
                <a:gridCol w="1479600"/>
                <a:gridCol w="1476360"/>
                <a:gridCol w="1479600"/>
                <a:gridCol w="1479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acce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rej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redir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c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acce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A(medi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rej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A(reas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redir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A(targe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c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A(targe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1531800" y="5481720"/>
            <a:ext cx="6705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: no interaction, A: attribute conflict, C: action conflic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: enabling, R: resource compe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d system service cre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P Servlet – Good for Java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CXML – Good for IVR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P CGI – Do whatever you w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PL/LESS – Limited in power, bu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a wide range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underst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analy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Tree merg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set base-rule-set emp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foreach LESS-tree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convert the LESS-tree into a rul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foreach rule in the rule set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normalize the r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merge the normalized rule set into base-rule-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convert base-rule-set into a decision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Tree merging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if (two rules have different triggers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no rule conflict except timer trig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} else if actions in two rules do not conflict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no rule confli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} else if no overlap between rule path in two rules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no rule confli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two rules conflict with each other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return the rule path overlap and action conflict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prompt to the script owner to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Service 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What is service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Automatically generate user desired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Help users, not bypass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Services on both proxy servers and end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What is service risk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Risk caused by auto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How to reduce the overall ri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1800" y="649116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宋体"/>
              </a:rPr>
              <a:t>IEEE ICC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Causal relationship between call inform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and call dec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SIP hea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Other Internet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Learning burden caused by new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Not named services, but programmable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hat and h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Spam filtering, calendar-based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Service ri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Lose connectivity, lose privacy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Desig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Using decision tree induction for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In CPL/LESS terms: find switches that can best partition 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What algorith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Incremen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Pru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Quality measur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826160" y="2971800"/>
            <a:ext cx="4095720" cy="2610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386960" y="559584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*3+10*2+7=117   30*2+3*2+10*3+4*3=1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Incremental Tree In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Incorpora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rans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Virtual pru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Direct metr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Expected number of 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Leaf cou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Minimum descript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Expected misclassication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1146240" y="4600440"/>
            <a:ext cx="2163600" cy="538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4400" y="2263680"/>
            <a:ext cx="5220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554280" y="1573200"/>
          <a:ext cx="221004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4280" y="1573200"/>
                    <a:ext cx="221004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6534000" y="1603440"/>
          <a:ext cx="2610000" cy="17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34000" y="1603440"/>
                    <a:ext cx="261000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943600" y="5486400"/>
            <a:ext cx="23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Sim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0" y="-4680"/>
          <a:ext cx="9144000" cy="686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4680"/>
                    <a:ext cx="9144000" cy="68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0" name=""/>
          <p:cNvGraphicFramePr/>
          <p:nvPr/>
        </p:nvGraphicFramePr>
        <p:xfrm>
          <a:off x="0" y="3240"/>
          <a:ext cx="9144000" cy="685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240"/>
                    <a:ext cx="914400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5250600" y="3201840"/>
            <a:ext cx="21099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0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ach for 300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0% 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% different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% mis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103400" y="6313320"/>
            <a:ext cx="6646680" cy="54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1613520" y="6400800"/>
            <a:ext cx="6249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ast vs. incremental (20 samples)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531720" y="1200240"/>
          <a:ext cx="6107040" cy="509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1200240"/>
                    <a:ext cx="6107040" cy="50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6400800" y="3494160"/>
            <a:ext cx="252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BM ThinkPad, Linu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GHz PIII Mo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56MB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Integ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Gather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ransaction his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Calend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Location sen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Idle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Communication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imesta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Alert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Service risk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Service risk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Lose connection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宋体"/>
              </a:rPr>
              <a:t>reject, redirect, transfer, accept on wrong bran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Lose privacy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宋体"/>
              </a:rPr>
              <a:t>accept, call, notif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Lose money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宋体"/>
              </a:rPr>
              <a:t>accept, transfer to higher rate endpoi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Lose attention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宋体"/>
              </a:rPr>
              <a:t>alert, accept, applianc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Possibility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宋体"/>
              </a:rPr>
              <a:t>number of occurrence in the decision tree, switch attribu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Impact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宋体"/>
              </a:rPr>
              <a:t>(connection, privacy) &gt; money &gt; attention, customiz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Overall risk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宋体"/>
              </a:rPr>
              <a:t> avoiding high impact risks, though may cause low impact ris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Resol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Change communication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Transf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Reduce overall ri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ontingency p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Back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P Servlet example (blocking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void doInvite(SipServletRequest a_Reque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ows ServletException, IO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/ Establish session sta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pApplicationSession appSession 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_Request.getApplicationSessi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pSession sipSession = a_Request.getSessi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// Act as a terminating UA and return a 403 Forbidden respon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(a_Request.getFrom().getURI().toString(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als("sip:tom@example.com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pServletResponse response 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_Request.createRespon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ipServletResponse.SC_FORBIDDE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e.send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5591160" y="2135160"/>
            <a:ext cx="32652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r Java program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CXML example (blocking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?xml version="1.0" encoding="UTF-8"?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cxml xmlns="..."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var name="in_connectionid" expr="’’" 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var name="currentstate" expr="’initial’" 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eventprocessor statevariable="currentstate"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ransition state="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initi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 event="connection.alerting" name="evt"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assign name="in_connectionid“ expr="evt.connectionid" 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assign name="uri“ expr="evt.connection.remote.uri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if cond="uri == ’sip:tom@example.com’"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assign name="currentstate" expr="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’fail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’" 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reject connectionid="in_connectionid" 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else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assign name="currentstate" expr="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’alert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’" 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if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ransition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eventprocesso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cx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530520"/>
            <a:ext cx="2209680" cy="1244520"/>
          </a:xfrm>
          <a:prstGeom prst="wedgeRectCallout">
            <a:avLst>
              <a:gd name="adj1" fmla="val 26365"/>
              <a:gd name="adj2" fmla="val -7385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plicit transi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derstand and remember CCXML call F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P CGI example (blocking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@ECHO O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T "%REQUEST_METHOD%"=="INVITE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TO EX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"%SIP_FROM%"=="sip:tom@example.com" GOTO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TO EX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cho SIP/2.0 403 Forbid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EX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865680" y="4078440"/>
            <a:ext cx="27028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now SIP h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PL example (blocking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?xml version="1.0" encoding="UTF-8"?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cpl xmlns="..."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incoming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address-switch field="origin"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address is="sip:tom@example.com"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reject status="403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son="Forbidden"/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/address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/address-switc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/incoming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/cpl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617360" y="4979880"/>
            <a:ext cx="31082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gh-level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Easy service creation (CPL/LES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Using a tree-like structure to represent communication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170720" y="2728800"/>
            <a:ext cx="57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atural thinking of call decision making – a rul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76240" y="3135240"/>
            <a:ext cx="51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an incoming call, if I am in a conferen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 will reject all the calls that are not from my bo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76080" y="3995640"/>
            <a:ext cx="22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decision tree t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present a rul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28320" y="5450040"/>
            <a:ext cx="38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PL and 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(LESS extended from CP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89600" y="4776840"/>
            <a:ext cx="14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comi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855880" y="5119200"/>
            <a:ext cx="6523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22240" y="4754520"/>
            <a:ext cx="14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I am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c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932360" y="4543560"/>
            <a:ext cx="465120" cy="45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848640" y="4092480"/>
            <a:ext cx="479160" cy="46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40040" y="3824280"/>
            <a:ext cx="120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Vib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y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54720" y="4890960"/>
            <a:ext cx="493920" cy="49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0400" y="527688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13280" y="4643280"/>
            <a:ext cx="641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00760" y="4213080"/>
            <a:ext cx="641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7280" y="5024520"/>
            <a:ext cx="538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23040" y="4202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the call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om my b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LESS el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4383000" y="1249200"/>
            <a:ext cx="914400" cy="84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r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4"/>
            <a:endCxn id="155" idx="0"/>
          </p:cNvCxnSpPr>
          <p:nvPr/>
        </p:nvCxnSpPr>
        <p:spPr>
          <a:xfrm>
            <a:off x="4839840" y="2090520"/>
            <a:ext cx="19800" cy="39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stCxn id="157" idx="2"/>
            <a:endCxn id="158" idx="1"/>
          </p:cNvCxnSpPr>
          <p:nvPr/>
        </p:nvCxnSpPr>
        <p:spPr>
          <a:xfrm flipH="1" rot="16200000">
            <a:off x="1008720" y="4797000"/>
            <a:ext cx="694440" cy="275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5351400" y="150192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 incomi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162320" y="2271600"/>
            <a:ext cx="2957760" cy="820800"/>
            <a:chOff x="4162320" y="2271600"/>
            <a:chExt cx="2957760" cy="820800"/>
          </a:xfrm>
        </p:grpSpPr>
        <p:sp>
          <p:nvSpPr>
            <p:cNvPr id="155" name=""/>
            <p:cNvSpPr/>
            <p:nvPr/>
          </p:nvSpPr>
          <p:spPr>
            <a:xfrm>
              <a:off x="4162320" y="2482920"/>
              <a:ext cx="1393920" cy="609480"/>
            </a:xfrm>
            <a:prstGeom prst="diamond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54280" y="2271600"/>
              <a:ext cx="176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heck the cal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432160" y="3301920"/>
            <a:ext cx="2436120" cy="741600"/>
            <a:chOff x="2432160" y="3301920"/>
            <a:chExt cx="2436120" cy="741600"/>
          </a:xfrm>
        </p:grpSpPr>
        <p:sp>
          <p:nvSpPr>
            <p:cNvPr id="163" name=""/>
            <p:cNvSpPr/>
            <p:nvPr/>
          </p:nvSpPr>
          <p:spPr>
            <a:xfrm>
              <a:off x="2432160" y="3433680"/>
              <a:ext cx="1393560" cy="609840"/>
            </a:xfrm>
            <a:prstGeom prst="diamond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96400" y="3301920"/>
              <a:ext cx="12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heck 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899320" y="3214800"/>
            <a:ext cx="2560680" cy="826920"/>
            <a:chOff x="5899320" y="3214800"/>
            <a:chExt cx="2560680" cy="826920"/>
          </a:xfrm>
        </p:grpSpPr>
        <p:sp>
          <p:nvSpPr>
            <p:cNvPr id="166" name=""/>
            <p:cNvSpPr/>
            <p:nvPr/>
          </p:nvSpPr>
          <p:spPr>
            <a:xfrm>
              <a:off x="5899320" y="3432240"/>
              <a:ext cx="1393560" cy="609480"/>
            </a:xfrm>
            <a:prstGeom prst="diamond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35040" y="3214800"/>
              <a:ext cx="152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heck prior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494000" y="5027760"/>
            <a:ext cx="983160" cy="877680"/>
            <a:chOff x="1494000" y="5027760"/>
            <a:chExt cx="983160" cy="877680"/>
          </a:xfrm>
        </p:grpSpPr>
        <p:sp>
          <p:nvSpPr>
            <p:cNvPr id="158" name=""/>
            <p:cNvSpPr/>
            <p:nvPr/>
          </p:nvSpPr>
          <p:spPr>
            <a:xfrm>
              <a:off x="1494000" y="5027760"/>
              <a:ext cx="942840" cy="5079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36120" y="553716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edir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838680" y="5027760"/>
            <a:ext cx="942840" cy="892080"/>
            <a:chOff x="3838680" y="5027760"/>
            <a:chExt cx="942840" cy="892080"/>
          </a:xfrm>
        </p:grpSpPr>
        <p:sp>
          <p:nvSpPr>
            <p:cNvPr id="171" name=""/>
            <p:cNvSpPr/>
            <p:nvPr/>
          </p:nvSpPr>
          <p:spPr>
            <a:xfrm>
              <a:off x="3838680" y="5027760"/>
              <a:ext cx="942840" cy="5079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44080" y="55515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cce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7524720" y="5027760"/>
            <a:ext cx="942840" cy="893520"/>
            <a:chOff x="7524720" y="5027760"/>
            <a:chExt cx="942840" cy="893520"/>
          </a:xfrm>
        </p:grpSpPr>
        <p:sp>
          <p:nvSpPr>
            <p:cNvPr id="174" name=""/>
            <p:cNvSpPr/>
            <p:nvPr/>
          </p:nvSpPr>
          <p:spPr>
            <a:xfrm>
              <a:off x="7524720" y="5027760"/>
              <a:ext cx="942840" cy="5079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87360" y="555300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e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739800" y="3854520"/>
            <a:ext cx="958680" cy="733320"/>
            <a:chOff x="739800" y="3854520"/>
            <a:chExt cx="958680" cy="733320"/>
          </a:xfrm>
        </p:grpSpPr>
        <p:sp>
          <p:nvSpPr>
            <p:cNvPr id="157" name=""/>
            <p:cNvSpPr/>
            <p:nvPr/>
          </p:nvSpPr>
          <p:spPr>
            <a:xfrm>
              <a:off x="739800" y="4238640"/>
              <a:ext cx="958680" cy="3492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if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95600" y="385452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o Bo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129120" y="2736720"/>
            <a:ext cx="1033200" cy="696960"/>
            <a:chOff x="3129120" y="2736720"/>
            <a:chExt cx="1033200" cy="696960"/>
          </a:xfrm>
        </p:grpSpPr>
        <p:cxnSp>
          <p:nvCxnSpPr>
            <p:cNvPr id="179" name=""/>
            <p:cNvCxnSpPr>
              <a:stCxn id="155" idx="1"/>
              <a:endCxn id="163" idx="0"/>
            </p:cNvCxnSpPr>
            <p:nvPr/>
          </p:nvCxnSpPr>
          <p:spPr>
            <a:xfrm flipH="1">
              <a:off x="3129120" y="2787120"/>
              <a:ext cx="1033560" cy="64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0" name=""/>
            <p:cNvSpPr/>
            <p:nvPr/>
          </p:nvSpPr>
          <p:spPr>
            <a:xfrm>
              <a:off x="3451320" y="2736720"/>
              <a:ext cx="41832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ff00"/>
                  </a:solidFill>
                  <a:latin typeface="Arial"/>
                  <a:ea typeface="宋体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556240" y="2787120"/>
            <a:ext cx="1040040" cy="645120"/>
            <a:chOff x="5556240" y="2787120"/>
            <a:chExt cx="1040040" cy="645120"/>
          </a:xfrm>
        </p:grpSpPr>
        <p:cxnSp>
          <p:nvCxnSpPr>
            <p:cNvPr id="182" name=""/>
            <p:cNvCxnSpPr>
              <a:stCxn id="155" idx="3"/>
              <a:endCxn id="166" idx="0"/>
            </p:cNvCxnSpPr>
            <p:nvPr/>
          </p:nvCxnSpPr>
          <p:spPr>
            <a:xfrm>
              <a:off x="5556240" y="2787120"/>
              <a:ext cx="1040400" cy="645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3" name=""/>
            <p:cNvSpPr/>
            <p:nvPr/>
          </p:nvSpPr>
          <p:spPr>
            <a:xfrm>
              <a:off x="5824440" y="2787480"/>
              <a:ext cx="40464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964520" y="3738240"/>
            <a:ext cx="467280" cy="1289520"/>
            <a:chOff x="1964520" y="3738240"/>
            <a:chExt cx="467280" cy="1289520"/>
          </a:xfrm>
        </p:grpSpPr>
        <p:cxnSp>
          <p:nvCxnSpPr>
            <p:cNvPr id="185" name=""/>
            <p:cNvCxnSpPr>
              <a:stCxn id="163" idx="1"/>
              <a:endCxn id="158" idx="0"/>
            </p:cNvCxnSpPr>
            <p:nvPr/>
          </p:nvCxnSpPr>
          <p:spPr>
            <a:xfrm flipH="1">
              <a:off x="1964520" y="3738240"/>
              <a:ext cx="467640" cy="128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6" name=""/>
            <p:cNvSpPr/>
            <p:nvPr/>
          </p:nvSpPr>
          <p:spPr>
            <a:xfrm>
              <a:off x="2006640" y="4079880"/>
              <a:ext cx="41832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ff00"/>
                  </a:solidFill>
                  <a:latin typeface="Arial"/>
                  <a:ea typeface="宋体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825360" y="3738240"/>
            <a:ext cx="484560" cy="1289520"/>
            <a:chOff x="3825360" y="3738240"/>
            <a:chExt cx="484560" cy="1289520"/>
          </a:xfrm>
        </p:grpSpPr>
        <p:cxnSp>
          <p:nvCxnSpPr>
            <p:cNvPr id="188" name=""/>
            <p:cNvCxnSpPr>
              <a:stCxn id="163" idx="3"/>
              <a:endCxn id="171" idx="0"/>
            </p:cNvCxnSpPr>
            <p:nvPr/>
          </p:nvCxnSpPr>
          <p:spPr>
            <a:xfrm>
              <a:off x="3825360" y="3738240"/>
              <a:ext cx="484920" cy="128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9" name=""/>
            <p:cNvSpPr/>
            <p:nvPr/>
          </p:nvSpPr>
          <p:spPr>
            <a:xfrm>
              <a:off x="3857760" y="4173480"/>
              <a:ext cx="40464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7292880" y="3736800"/>
            <a:ext cx="703800" cy="1290960"/>
            <a:chOff x="7292880" y="3736800"/>
            <a:chExt cx="703800" cy="1290960"/>
          </a:xfrm>
        </p:grpSpPr>
        <p:cxnSp>
          <p:nvCxnSpPr>
            <p:cNvPr id="191" name=""/>
            <p:cNvCxnSpPr>
              <a:stCxn id="166" idx="3"/>
              <a:endCxn id="174" idx="0"/>
            </p:cNvCxnSpPr>
            <p:nvPr/>
          </p:nvCxnSpPr>
          <p:spPr>
            <a:xfrm>
              <a:off x="7292880" y="3736800"/>
              <a:ext cx="704160" cy="1291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2" name=""/>
            <p:cNvSpPr/>
            <p:nvPr/>
          </p:nvSpPr>
          <p:spPr>
            <a:xfrm>
              <a:off x="7456320" y="4116240"/>
              <a:ext cx="40464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CPL and L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CPL: Call Processing Languag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LESS: Language for End System Servic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Four kinds of elements: trigger, switch, action, modifi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Tree-like structure, easy for feature interaction analys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Type safety: XML-based, no user defined variab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Control flow safety: tree-like structure without back-refer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No direct memory ac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Default behavior for every tree bran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Port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Handle user interactions and media op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Beyond call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presence, IM, Web, lo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1800" y="621648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宋体"/>
              </a:rPr>
              <a:t>IEEE ICC’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宋体"/>
              </a:rPr>
              <a:t>RFC38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4:02:41Z</dcterms:created>
  <dc:creator>xiaotao</dc:creator>
  <dc:description/>
  <dc:language>en-US</dc:language>
  <cp:lastModifiedBy>Xiaotao Wu</cp:lastModifiedBy>
  <dcterms:modified xsi:type="dcterms:W3CDTF">2005-12-11T19:27:54Z</dcterms:modified>
  <cp:revision>314</cp:revision>
  <dc:subject/>
  <dc:title>Less efforts, More services</dc:title>
</cp:coreProperties>
</file>