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8327-4D37-4932-92A0-675B61D3A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7FA4-6F7A-4567-8FC6-A2A12EB7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133D-E5DA-4ED8-B338-830E8085C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EF83-0B40-4878-A7E1-E761C5CA0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2BD0-DAA8-42C6-A299-783456F3D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8BD3-A81B-4825-B6E6-1C21FEE1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9E82-8FA0-40A6-BC13-6E8FC0C4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38E1-69F0-4BE4-B0CE-962050C1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437E-616B-440D-96E7-48F5326D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67F7-A98B-46CD-B0E9-5E5655BA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2ADA-FBF6-47B9-8AE8-941D8AF9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04A7-A0B2-4DDC-B8C5-4AFD835C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0D9C-F6D0-4DDD-AF57-7C5FBEE5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1372-FE41-4A78-8C20-3EE079DD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E9C26-F1B3-455D-A5C1-36E02450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06BA-902A-459B-9A64-C224CC7F9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AA44-95A8-4650-BB88-88893982B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1BFA-615F-4278-8059-630B2C2B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9583-49F7-4075-AFB3-7D91390F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6F5C-B73F-4F92-9EA5-109F6187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18C1-1853-4C3B-88E2-C1160EF3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8427-D439-4906-AD47-FE2C4A87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24B8-3AF9-4FCB-9161-F1648B66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C61F-CF0B-40CE-BDD5-11D742B4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713D-9F6A-4AE2-96BF-9B832D6277D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098A-DF52-459C-BA2F-E4DE0F15E8C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Wicca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90720" y="249876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exible and Powerful Aspect-Oriented Programming using Hybrid Wea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44197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rc Eaddy, Boriana Ditcheva, Rajesh Ramakrishnan, Adam Vartanian, and Vibhav Ga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5410080"/>
            <a:ext cx="7315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lumbia Univer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629400" y="380880"/>
          <a:ext cx="2104920" cy="19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380880"/>
                    <a:ext cx="2104920" cy="19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457200" y="995400"/>
          <a:ext cx="8229600" cy="54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5400"/>
                    <a:ext cx="8229600" cy="54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6094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0000"/>
                </a:solidFill>
                <a:latin typeface="Tahoma"/>
              </a:rPr>
              <a:t>Dynamic weaving using Wicc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2971800"/>
            <a:ext cx="1371600" cy="10666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83afdb">
                  <a:alpha val="49019"/>
                </a:srgbClr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Phx.Morp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362320" y="4191120"/>
            <a:ext cx="1371600" cy="457200"/>
          </a:xfrm>
          <a:prstGeom prst="rect">
            <a:avLst/>
          </a:prstGeom>
          <a:gradFill rotWithShape="0">
            <a:gsLst>
              <a:gs pos="0">
                <a:srgbClr val="ffffcc">
                  <a:alpha val="50196"/>
                </a:srgbClr>
              </a:gs>
              <a:gs pos="100000">
                <a:srgbClr val="dbdbaf">
                  <a:alpha val="49019"/>
                </a:srgbClr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w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3429000"/>
            <a:ext cx="1219320" cy="1219320"/>
          </a:xfrm>
          <a:prstGeom prst="rect">
            <a:avLst/>
          </a:prstGeom>
          <a:gradFill rotWithShape="0">
            <a:gsLst>
              <a:gs pos="0">
                <a:srgbClr val="ffffcc">
                  <a:alpha val="50196"/>
                </a:srgbClr>
              </a:gs>
              <a:gs pos="100000">
                <a:srgbClr val="dbdbaf">
                  <a:alpha val="49019"/>
                </a:srgbClr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w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emo: SimpleDra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mpleDraw draws Shapes on a Displ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rove modularity by separating the Shape and Display concer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397188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ublic SimpleDraw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 = new Shape[3]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[0] = new Point(10, 10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[1] = new Point(5, 5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[2] = new Line(new Point(1, 9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w Point(9, 1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r (int i = 0; i &lt; s.Length; i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splay.instance().addShape(s[i]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splay.instance()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14800" y="38386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ublic void moveBy(int dx, int d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 += d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+= d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splay.instance()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876920" y="5438880"/>
            <a:ext cx="396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ublic void moveBy(int dx, int d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.moveBy(dx, d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.moveBy(dx, d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splay.instance()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36100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impleDraw.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36100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oint.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76920" y="52102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ine.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emo: SimpleDra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mpleDraw draws Shapes on a Displ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rove modularity by separating the Shape and Display concer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380880" y="397188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ublic SimpleDraw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 = new Shape[3]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[0] = new Point(10, 10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[1] = new Point(5, 5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[2] = new Line(new Point(1, 9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w Point(9, 1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for (int i = 0; i &lt; s.Length; i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Display.instance().addShape(s[i]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Display.instance()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38386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ublic void moveBy(int dx, int d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 += d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+= d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Display.instance()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76920" y="5438880"/>
            <a:ext cx="396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ublic void moveBy(int dx, int d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.moveBy(dx, d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.moveBy(dx, d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Display.instance()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36100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impleDraw.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6100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oint.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76920" y="52102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ine.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209680" y="4495680"/>
            <a:ext cx="4038840" cy="16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rosscutt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spect-Oriented Programm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ularizes crosscutting concer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roves separation of concer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roves modular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proves parallel development, comprehensibility, maintenance/evo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omates repetitive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duces tedious programm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roves consisten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pports unanticipated software evol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icca: hybrid weav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av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urce weav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yte code weav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eakpoint weav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al: interchangeable and functionally equival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ile time (Static AOP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t effici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urce and byte code weav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ntime (Dynamic AOP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t flexi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urce (soon), byte code, and breakpoint weav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736800" y="3141720"/>
            <a:ext cx="1517760" cy="5713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83afdb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w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835600" y="3112920"/>
            <a:ext cx="1265400" cy="68580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db4444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Woven</a:t>
            </a:r>
            <a:br>
              <a:rPr sz="2000"/>
            </a:b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4317840" y="2658960"/>
            <a:ext cx="399960" cy="380880"/>
          </a:xfrm>
          <a:prstGeom prst="rightArrow">
            <a:avLst>
              <a:gd name="adj1" fmla="val 50000"/>
              <a:gd name="adj2" fmla="val 26252"/>
            </a:avLst>
          </a:prstGeom>
          <a:solidFill>
            <a:srgbClr val="3366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urce weaving using w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 flipH="1" rot="10800000">
            <a:off x="2057400" y="2838600"/>
            <a:ext cx="914400" cy="11239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db8300"/>
              </a:gs>
              <a:gs pos="100000">
                <a:srgbClr val="ff9933"/>
              </a:gs>
            </a:gsLst>
            <a:lin ang="162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rot="10800000">
            <a:off x="2209680" y="2990880"/>
            <a:ext cx="914400" cy="11239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db8300"/>
              </a:gs>
              <a:gs pos="100000">
                <a:srgbClr val="ff9933"/>
              </a:gs>
            </a:gsLst>
            <a:lin ang="162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C#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F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6480" y="3279600"/>
            <a:ext cx="442800" cy="343080"/>
          </a:xfrm>
          <a:prstGeom prst="rightArrow">
            <a:avLst>
              <a:gd name="adj1" fmla="val 50000"/>
              <a:gd name="adj2" fmla="val 32267"/>
            </a:avLst>
          </a:prstGeom>
          <a:solidFill>
            <a:srgbClr val="3366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21160" y="3287880"/>
            <a:ext cx="443160" cy="342720"/>
          </a:xfrm>
          <a:prstGeom prst="rightArrow">
            <a:avLst>
              <a:gd name="adj1" fmla="val 50000"/>
              <a:gd name="adj2" fmla="val 32327"/>
            </a:avLst>
          </a:prstGeom>
          <a:solidFill>
            <a:srgbClr val="ff505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rot="10800000">
            <a:off x="3732840" y="1371240"/>
            <a:ext cx="1137960" cy="10666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db8300"/>
              </a:gs>
              <a:gs pos="100000">
                <a:srgbClr val="ff9933"/>
              </a:gs>
            </a:gsLst>
            <a:lin ang="162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rot="10800000">
            <a:off x="3886200" y="1523520"/>
            <a:ext cx="1138320" cy="11430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db8300"/>
              </a:gs>
              <a:gs pos="100000">
                <a:srgbClr val="ff9933"/>
              </a:gs>
            </a:gsLst>
            <a:lin ang="162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F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4343040"/>
            <a:ext cx="4419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public SimpleDraw() {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//[Note("Creating a line")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line = new Line(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736800" y="3141720"/>
            <a:ext cx="1517760" cy="5713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83afdb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w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835600" y="3112920"/>
            <a:ext cx="1265400" cy="68580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db4444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Woven</a:t>
            </a:r>
            <a:br>
              <a:rPr sz="2000"/>
            </a:b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4317840" y="2658960"/>
            <a:ext cx="399960" cy="380880"/>
          </a:xfrm>
          <a:prstGeom prst="rightArrow">
            <a:avLst>
              <a:gd name="adj1" fmla="val 50000"/>
              <a:gd name="adj2" fmla="val 26252"/>
            </a:avLst>
          </a:prstGeom>
          <a:solidFill>
            <a:srgbClr val="3366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rot="10800000">
            <a:off x="2057400" y="2838600"/>
            <a:ext cx="914400" cy="11239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db8300"/>
              </a:gs>
              <a:gs pos="100000">
                <a:srgbClr val="ff9933"/>
              </a:gs>
            </a:gsLst>
            <a:lin ang="162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rot="10800000">
            <a:off x="2209680" y="2990880"/>
            <a:ext cx="914400" cy="11239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db8300"/>
              </a:gs>
              <a:gs pos="100000">
                <a:srgbClr val="ff9933"/>
              </a:gs>
            </a:gsLst>
            <a:lin ang="162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C#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F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6480" y="3279600"/>
            <a:ext cx="442800" cy="343080"/>
          </a:xfrm>
          <a:prstGeom prst="rightArrow">
            <a:avLst>
              <a:gd name="adj1" fmla="val 50000"/>
              <a:gd name="adj2" fmla="val 32267"/>
            </a:avLst>
          </a:prstGeom>
          <a:solidFill>
            <a:srgbClr val="3366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21160" y="3287880"/>
            <a:ext cx="443160" cy="342720"/>
          </a:xfrm>
          <a:prstGeom prst="rightArrow">
            <a:avLst>
              <a:gd name="adj1" fmla="val 50000"/>
              <a:gd name="adj2" fmla="val 32327"/>
            </a:avLst>
          </a:prstGeom>
          <a:solidFill>
            <a:srgbClr val="ff505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rot="10800000">
            <a:off x="3732840" y="1371240"/>
            <a:ext cx="1137960" cy="10666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db8300"/>
              </a:gs>
              <a:gs pos="100000">
                <a:srgbClr val="ff9933"/>
              </a:gs>
            </a:gsLst>
            <a:lin ang="162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rot="10800000">
            <a:off x="3886200" y="1523520"/>
            <a:ext cx="1138320" cy="11430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db8300"/>
              </a:gs>
              <a:gs pos="100000">
                <a:srgbClr val="ff9933"/>
              </a:gs>
            </a:gsLst>
            <a:lin ang="162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F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28240" y="4343040"/>
            <a:ext cx="4419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public SimpleDraw() {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//[Note("Creating a line")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line = new Line(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3505320" y="5334120"/>
            <a:ext cx="5638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[Statement(9, "Note", "Creating a line")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public SimpleDraw(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line = new Lin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372800">
            <a:off x="4038120" y="4343400"/>
            <a:ext cx="2057400" cy="685800"/>
          </a:xfrm>
          <a:custGeom>
            <a:avLst/>
            <a:gdLst>
              <a:gd name="textAreaLeft" fmla="*/ 354600 w 2057400"/>
              <a:gd name="textAreaRight" fmla="*/ 1496880 w 205740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50" hR="21600" stAng="10800000" swAng="5400000"/>
                <a:lnTo>
                  <a:pt x="11991" y="0"/>
                </a:lnTo>
                <a:arcTo wR="7450" hR="21600" stAng="-5400000" swAng="2657332"/>
                <a:lnTo>
                  <a:pt x="21174" y="14400"/>
                </a:lnTo>
                <a:lnTo>
                  <a:pt x="17170" y="21600"/>
                </a:lnTo>
                <a:lnTo>
                  <a:pt x="12313" y="14400"/>
                </a:lnTo>
                <a:lnTo>
                  <a:pt x="14473" y="14400"/>
                </a:lnTo>
                <a:arcTo wR="7450" hR="21600" stAng="-2742668" swAng="-2279448"/>
                <a:lnTo>
                  <a:pt x="9720" y="1028"/>
                </a:lnTo>
                <a:arcTo wR="7450" hR="21600" stAng="-5777884" swAng="-5022116"/>
                <a:close/>
              </a:path>
              <a:path fill="darkenLess" w="21600" h="21600">
                <a:moveTo>
                  <a:pt x="0" y="21600"/>
                </a:moveTo>
                <a:arcTo wR="7450" hR="21600" stAng="10800000" swAng="5400000"/>
                <a:lnTo>
                  <a:pt x="7450" y="0"/>
                </a:lnTo>
                <a:arcTo wR="7450" hR="21600" stAng="-5400000" swAng="377884"/>
                <a:lnTo>
                  <a:pt x="9720" y="1028"/>
                </a:lnTo>
                <a:arcTo wR="7450" hR="21600" stAng="-5777884" swAng="-5022116"/>
                <a:close/>
              </a:path>
            </a:pathLst>
          </a:cu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038120" y="4267080"/>
            <a:ext cx="2667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Legaliz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urce weaving using w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28760" y="3890880"/>
            <a:ext cx="442800" cy="343080"/>
          </a:xfrm>
          <a:prstGeom prst="rightArrow">
            <a:avLst>
              <a:gd name="adj1" fmla="val 50000"/>
              <a:gd name="adj2" fmla="val 32267"/>
            </a:avLst>
          </a:prstGeom>
          <a:solidFill>
            <a:srgbClr val="ff99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30240" y="3782880"/>
            <a:ext cx="1265400" cy="5716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da8200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Compi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37080" y="3751200"/>
            <a:ext cx="1517760" cy="5716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83afdb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Phx.Morp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35880" y="3722760"/>
            <a:ext cx="1265400" cy="68580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db4444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Woven</a:t>
            </a:r>
            <a:br>
              <a:rPr sz="2000"/>
            </a:b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44960" y="3890880"/>
            <a:ext cx="442800" cy="343080"/>
          </a:xfrm>
          <a:prstGeom prst="rightArrow">
            <a:avLst>
              <a:gd name="adj1" fmla="val 50000"/>
              <a:gd name="adj2" fmla="val 32267"/>
            </a:avLst>
          </a:prstGeom>
          <a:solidFill>
            <a:srgbClr val="ff99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33840" y="2438280"/>
            <a:ext cx="1328760" cy="5716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83afdb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53000" y="2557440"/>
            <a:ext cx="1328760" cy="5716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83afdb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Assembl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6018120" y="3268440"/>
            <a:ext cx="399960" cy="380880"/>
          </a:xfrm>
          <a:prstGeom prst="rightArrow">
            <a:avLst>
              <a:gd name="adj1" fmla="val 50000"/>
              <a:gd name="adj2" fmla="val 26252"/>
            </a:avLst>
          </a:prstGeom>
          <a:solidFill>
            <a:srgbClr val="3366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yte code weaving using Phx.Morp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3639960" y="3676680"/>
            <a:ext cx="1265400" cy="7700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da8200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Orig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rot="10800000">
            <a:off x="219240" y="3446280"/>
            <a:ext cx="909360" cy="10285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db8300"/>
              </a:gs>
              <a:gs pos="100000">
                <a:srgbClr val="ff9933"/>
              </a:gs>
            </a:gsLst>
            <a:lin ang="162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rot="10800000">
            <a:off x="370440" y="3598560"/>
            <a:ext cx="909720" cy="10285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db8300"/>
              </a:gs>
              <a:gs pos="100000">
                <a:srgbClr val="ff9933"/>
              </a:gs>
            </a:gsLst>
            <a:lin ang="162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F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46760" y="3889440"/>
            <a:ext cx="442800" cy="342720"/>
          </a:xfrm>
          <a:prstGeom prst="rightArrow">
            <a:avLst>
              <a:gd name="adj1" fmla="val 50000"/>
              <a:gd name="adj2" fmla="val 32300"/>
            </a:avLst>
          </a:prstGeom>
          <a:solidFill>
            <a:srgbClr val="3366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021440" y="3897360"/>
            <a:ext cx="443160" cy="342720"/>
          </a:xfrm>
          <a:prstGeom prst="rightArrow">
            <a:avLst>
              <a:gd name="adj1" fmla="val 50000"/>
              <a:gd name="adj2" fmla="val 32327"/>
            </a:avLst>
          </a:prstGeom>
          <a:solidFill>
            <a:srgbClr val="ff505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hx.Morph architectu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852720" y="1371600"/>
            <a:ext cx="4886640" cy="273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83afdb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Phx.Mor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005360" y="1905120"/>
            <a:ext cx="4592520" cy="6937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83afdb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Edi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80808"/>
                </a:solidFill>
                <a:latin typeface="Arial"/>
              </a:rPr>
              <a:t>Open Classes, binary and breakpoint weav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05360" y="2689200"/>
            <a:ext cx="4592520" cy="611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83afdb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Phoenix-specific A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05360" y="3390840"/>
            <a:ext cx="4592520" cy="611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83afdb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Attribute Handl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5760" y="4235400"/>
            <a:ext cx="5321160" cy="18543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dbaf57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Phoe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7720" y="1379520"/>
            <a:ext cx="1990800" cy="27194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dbaf57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PER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80808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80808"/>
                </a:solidFill>
                <a:latin typeface="Arial"/>
              </a:rPr>
              <a:t>Re-Wri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883120" y="4227480"/>
            <a:ext cx="2870280" cy="1862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83afdb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Phx.A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45120" y="4710240"/>
            <a:ext cx="2583000" cy="5857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83afdb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A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80808"/>
                </a:solidFill>
                <a:latin typeface="Arial"/>
              </a:rPr>
              <a:t>Joinpoints, pointcuts,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45120" y="5375160"/>
            <a:ext cx="2583000" cy="611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83afdb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80808"/>
                </a:solidFill>
                <a:latin typeface="Arial"/>
              </a:rPr>
              <a:t>Custom AOP annot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5760" y="6195960"/>
            <a:ext cx="8307360" cy="43344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db4444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.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65360" y="1378080"/>
            <a:ext cx="1185840" cy="27241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83afdb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Mor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Plug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ynamic AO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ent program hosted by the Microsoft Managed Debugg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x.Morph and wcs produce new woven assembl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emblyDiff produces delta fi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yte code del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tadata del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ly deltas using Edit-and-Continue AP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ynamic AO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t-and-Contin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tch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457200" y="995400"/>
          <a:ext cx="8229600" cy="54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5400"/>
                    <a:ext cx="8229600" cy="54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6094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0000"/>
                </a:solidFill>
                <a:latin typeface="Tahoma"/>
              </a:rPr>
              <a:t>Dynamic weaving using Wicc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06:02:25Z</dcterms:created>
  <dc:creator>Marc Eaddy</dc:creator>
  <dc:description/>
  <dc:language>en-US</dc:language>
  <cp:lastModifiedBy>Marc Eaddy</cp:lastModifiedBy>
  <dcterms:modified xsi:type="dcterms:W3CDTF">2006-05-12T08:28:30Z</dcterms:modified>
  <cp:revision>3</cp:revision>
  <dc:subject/>
  <dc:title>Wicca</dc:title>
</cp:coreProperties>
</file>