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BA5-5D17-4D98-955F-F37D88B5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D19-5415-4CAC-902E-AB50358C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1EF-2D7A-4852-AB90-92406ED1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867-AFE1-439F-9683-946221A3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34C0-720D-487D-AA21-69032582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3733-B04F-4E60-972C-047FA642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B325-51A7-4903-9E51-7EF3E3B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58E-81A3-49FA-81B9-469542F1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83B-AE6E-44C4-AA92-2F6F396E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C07-D0D8-4E4A-A6F3-5C3F60A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5BA-FD4E-4A40-AB87-81D27C6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5D0-8D86-4E52-A89A-4CE0400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643-DE33-446E-8522-1001A9B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25D-B53B-43CD-B783-A796C11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929E-0D41-4F16-BA8F-66089C4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C5B-A12C-4374-92F8-2156BF6B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051-0744-44A5-B2A5-4FA6456F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899-9E90-471B-AD65-DAB3A4D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97B-4E76-46D6-9697-CCFF544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5D4-638F-4C4D-B770-2E29C21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FA6-D1BA-47FC-B2CD-1FFA7BF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DE0-8B45-4A2B-9632-9BB64EA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1A6-0FD6-4EAC-98CC-924214A1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933-F441-4D04-95AD-40D4159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e4e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D46C-04A2-4E87-B7DA-77838CE9F6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E260-D8C9-4DE9-A23E-24DC2FFDB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e4e4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 Black"/>
              </a:rPr>
              <a:t>Demo 9: Phx.Morp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Arial Black"/>
              </a:rPr>
              <a:t>Byte code </a:t>
            </a:r>
            <a:r>
              <a:rPr b="0" lang="en-US" sz="3600" spc="-1" strike="noStrike">
                <a:solidFill>
                  <a:srgbClr val="336699"/>
                </a:solidFill>
                <a:latin typeface="Arial Black"/>
              </a:rPr>
              <a:t>weaving using Microsoft’s Phoenix compiler</a:t>
            </a:r>
            <a:endParaRPr b="0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727160"/>
            <a:ext cx="9144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Marc Eaddy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olumbia University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286840" y="5864400"/>
          <a:ext cx="73332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86840" y="5864400"/>
                    <a:ext cx="733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232760" y="5937120"/>
            <a:ext cx="849240" cy="8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Original class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4320" y="695160"/>
          <a:ext cx="4403880" cy="593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695160"/>
                    <a:ext cx="4403880" cy="59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C42-A7BD-43D1-A75A-B0E8D1EE11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3360" y="1081080"/>
          <a:ext cx="9096480" cy="54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1081080"/>
                    <a:ext cx="90964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Adding the Visitor pattern: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Traditional OOD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480" y="2384280"/>
            <a:ext cx="3943080" cy="4078440"/>
            <a:chOff x="114480" y="2384280"/>
            <a:chExt cx="3943080" cy="4078440"/>
          </a:xfrm>
        </p:grpSpPr>
        <p:sp>
          <p:nvSpPr>
            <p:cNvPr id="143" name=""/>
            <p:cNvSpPr/>
            <p:nvPr/>
          </p:nvSpPr>
          <p:spPr>
            <a:xfrm>
              <a:off x="1057320" y="6186600"/>
              <a:ext cx="2981160" cy="27612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76400" y="4770360"/>
              <a:ext cx="2981160" cy="2764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57320" y="3565440"/>
              <a:ext cx="2638440" cy="2764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480" y="2384280"/>
              <a:ext cx="2643120" cy="23832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00920" y="2973240"/>
            <a:ext cx="1952640" cy="804960"/>
            <a:chOff x="7000920" y="2973240"/>
            <a:chExt cx="1952640" cy="804960"/>
          </a:xfrm>
        </p:grpSpPr>
        <p:sp>
          <p:nvSpPr>
            <p:cNvPr id="148" name=""/>
            <p:cNvSpPr/>
            <p:nvPr/>
          </p:nvSpPr>
          <p:spPr>
            <a:xfrm>
              <a:off x="7000920" y="2973240"/>
              <a:ext cx="423720" cy="1666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0920" y="3182760"/>
              <a:ext cx="1952640" cy="1666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0920" y="3397320"/>
              <a:ext cx="1281240" cy="1666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920" y="3611520"/>
              <a:ext cx="928800" cy="166680"/>
            </a:xfrm>
            <a:prstGeom prst="rect">
              <a:avLst/>
            </a:prstGeom>
            <a:solidFill>
              <a:srgbClr val="ff5050">
                <a:alpha val="52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00440" y="1626480"/>
            <a:ext cx="3901680" cy="4425120"/>
            <a:chOff x="2800440" y="1626480"/>
            <a:chExt cx="3901680" cy="4425120"/>
          </a:xfrm>
        </p:grpSpPr>
        <p:sp>
          <p:nvSpPr>
            <p:cNvPr id="153" name=""/>
            <p:cNvSpPr/>
            <p:nvPr/>
          </p:nvSpPr>
          <p:spPr>
            <a:xfrm rot="853200">
              <a:off x="2839680" y="1960200"/>
              <a:ext cx="2803680" cy="671400"/>
            </a:xfrm>
            <a:prstGeom prst="leftRightArrow">
              <a:avLst>
                <a:gd name="adj1" fmla="val 50000"/>
                <a:gd name="adj2" fmla="val 83131"/>
              </a:avLst>
            </a:prstGeom>
            <a:solidFill>
              <a:srgbClr val="ff505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Depends On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036000">
              <a:off x="3798360" y="2941200"/>
              <a:ext cx="1893960" cy="671400"/>
            </a:xfrm>
            <a:prstGeom prst="leftRightArrow">
              <a:avLst>
                <a:gd name="adj1" fmla="val 50000"/>
                <a:gd name="adj2" fmla="val 56157"/>
              </a:avLst>
            </a:prstGeom>
            <a:solidFill>
              <a:srgbClr val="ff505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Depends On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84400">
              <a:off x="4039920" y="3947760"/>
              <a:ext cx="1763640" cy="671400"/>
            </a:xfrm>
            <a:prstGeom prst="leftRightArrow">
              <a:avLst>
                <a:gd name="adj1" fmla="val 50000"/>
                <a:gd name="adj2" fmla="val 52293"/>
              </a:avLst>
            </a:prstGeom>
            <a:solidFill>
              <a:srgbClr val="ff505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Depends On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368000">
              <a:off x="3767040" y="4528800"/>
              <a:ext cx="3041640" cy="671400"/>
            </a:xfrm>
            <a:prstGeom prst="leftRightArrow">
              <a:avLst>
                <a:gd name="adj1" fmla="val 45630"/>
                <a:gd name="adj2" fmla="val 84104"/>
              </a:avLst>
            </a:prstGeom>
            <a:solidFill>
              <a:srgbClr val="ff505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Depends On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38880" y="5073480"/>
            <a:ext cx="3395520" cy="1268640"/>
          </a:xfrm>
          <a:prstGeom prst="wedgeRoundRectCallout">
            <a:avLst>
              <a:gd name="adj1" fmla="val -68888"/>
              <a:gd name="adj2" fmla="val -156384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O design is tightly coupled and hard to maintai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45E-5B49-45C6-B212-A61BE4FED1B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42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Adding the Visitor pattern: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Open Clas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73600" y="1446120"/>
          <a:ext cx="3461040" cy="45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3600" y="1446120"/>
                    <a:ext cx="346104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54600" y="2168640"/>
            <a:ext cx="1550880" cy="2614320"/>
          </a:xfrm>
          <a:prstGeom prst="leftArrow">
            <a:avLst>
              <a:gd name="adj1" fmla="val 40889"/>
              <a:gd name="adj2" fmla="val 39713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epend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On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5440" y="1055520"/>
          <a:ext cx="4050000" cy="545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40" y="1055520"/>
                    <a:ext cx="4050000" cy="54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239920" y="984240"/>
            <a:ext cx="3575160" cy="1595520"/>
          </a:xfrm>
          <a:prstGeom prst="wedgeRoundRectCallout">
            <a:avLst>
              <a:gd name="adj1" fmla="val 51245"/>
              <a:gd name="adj2" fmla="val 88509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pen Classes design breaks the circular dependency and centralizes the cod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778-462A-4A7C-BAF1-DEE823EF705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AOP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bility to inject code at specific points in a program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profil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logging and trac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log field get/set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dirty bit (persistence, synchronization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hange notification (undo/redo/rollback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enforce invariants (non-null, const, data flow, Design by Contract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error checking/handl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fault injection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aching/memoization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proxies/delegation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asynchronous method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design patterns (visitor, adaptor, factory, …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Quality of Service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etc. etc.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245-CAF9-4C7A-9F70-FD774F5415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Demo: Logging reflection usage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Want to log a message whenever we use the Reflection API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elf-weave Phx.Morph.dll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FE2-AB6E-43D1-BC31-B92CD94D49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Reflection logging aspec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using Ph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op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using Phx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.Attributes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[Advice(AdviceType.before, "call(* System.Reflection.*.*(..))")]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flection(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[Signature]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string signature,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[WithinSignature]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string withinSignature,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[Fil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me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string 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[Line]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uint line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ystem.Console.WriteLine("Called 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ignature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ystem.Console.WriteLine("   inside 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ithinSignature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ystem.Console.WriteLine("   [File: {0}, Line: {1}]"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eName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line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6C3-3E0A-4F17-A0B9-43EECE02DA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Statement annotations for AOP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520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public void transferFundsTo(float amount,</a:t>
            </a:r>
            <a:br>
              <a:rPr sz="2400"/>
            </a:b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BankAccount destination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{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e4e44"/>
                </a:solidFill>
                <a:latin typeface="Courier New"/>
              </a:rPr>
              <a:t>[Trace]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 AuthorizationRequest ar = new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AuthorizationRequest(this, destination);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4e4e44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e4e44"/>
                </a:solidFill>
                <a:latin typeface="Courier New"/>
              </a:rPr>
              <a:t>[Trace]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 destination.deposit(amount);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4e4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4e4e44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e4e44"/>
                </a:solidFill>
                <a:latin typeface="Courier New"/>
              </a:rPr>
              <a:t>[Log("Obtaining authorization. This could take awhile...")]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e4e44"/>
                </a:solidFill>
                <a:latin typeface="Courier New"/>
              </a:rPr>
              <a:t>bool result = ar.authorizeTransferOfFunds(amount);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4e4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4e4e44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21C-AC64-48C8-9036-D965C12565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Using statement annotations in pointcuts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074240"/>
            <a:ext cx="860904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[Advice(AdviceType.afterReturning, 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"call(</a:t>
            </a:r>
            <a:r>
              <a:rPr b="1" lang="en-US" sz="2000" spc="-1" strike="noStrike">
                <a:solidFill>
                  <a:srgbClr val="4e4e44"/>
                </a:solidFill>
                <a:latin typeface="Courier New"/>
              </a:rPr>
              <a:t>[Trace]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 *.new(..)"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static void InstanceTrace([This] object o) 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instances.add(o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[Advice(AdviceType.before, "</a:t>
            </a:r>
            <a:r>
              <a:rPr b="1" lang="en-US" sz="2000" spc="-1" strike="noStrike">
                <a:solidFill>
                  <a:srgbClr val="4e4e44"/>
                </a:solidFill>
                <a:latin typeface="Courier New"/>
              </a:rPr>
              <a:t>call([Trace] * *(..))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"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static void StatementTrace([Signature] string sig) 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System.Console.WriteLine("Calling " + sig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[Advice(AdviceType.before, "</a:t>
            </a:r>
            <a:r>
              <a:rPr b="1" lang="en-US" sz="2000" spc="-1" strike="noStrike">
                <a:solidFill>
                  <a:srgbClr val="4e4e44"/>
                </a:solidFill>
                <a:latin typeface="Courier New"/>
              </a:rPr>
              <a:t>annotation([Log])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"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static void LogAdvice(</a:t>
            </a:r>
            <a:br>
              <a:rPr sz="2000"/>
            </a:b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e4e44"/>
                </a:solidFill>
                <a:latin typeface="Courier New"/>
              </a:rPr>
              <a:t>[Attribute1]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 LogAttribute logAttr) 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System.Console.WriteLine(logAttr.value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e44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351-AE69-45F4-96DC-6652646DAB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Current limitations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Imported methods cannot access private member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annot weave signed cod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Limited aspect instantiation model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Instance advice methods are importe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Static advice methods are reference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Not yet implemented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an’t import methods with multiple return statement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Around advice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Many pointcuts not implemented (including cflow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Only execution pointcuts can access the </a:t>
            </a:r>
            <a:r>
              <a:rPr b="1" i="1" lang="en-US" sz="2400" spc="-1" strike="noStrike">
                <a:solidFill>
                  <a:srgbClr val="4e4e44"/>
                </a:solidFill>
                <a:latin typeface="Arial"/>
              </a:rPr>
              <a:t>args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4e4e44"/>
                </a:solidFill>
                <a:latin typeface="Arial"/>
              </a:rPr>
              <a:t>target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 context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6D2-5023-4152-9607-3FA1B4F8AB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 Black"/>
              </a:rPr>
              <a:t>Microsoft and AOP</a:t>
            </a:r>
            <a:endParaRPr b="0" lang="en-US" sz="4400" spc="-1" strike="noStrike">
              <a:solidFill>
                <a:srgbClr val="336699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Phx.Morph overview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Phoenix background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Phx.Morph implementation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Demos: Open Classes and AOP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tatement annotations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Microsoft and AOP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68D-465B-474B-9AC3-8F600B1DB5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2920" y="0"/>
            <a:ext cx="8215200" cy="685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0600" y="4076640"/>
            <a:ext cx="3314880" cy="23148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1080" y="2728800"/>
            <a:ext cx="2284200" cy="1581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57600" y="2814480"/>
            <a:ext cx="3314880" cy="31575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00240" y="200160"/>
            <a:ext cx="5371920" cy="29858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4320" y="438120"/>
            <a:ext cx="2871720" cy="2428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0240" y="628560"/>
            <a:ext cx="17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spectJ</a:t>
            </a:r>
            <a:r>
              <a:rPr b="1" lang="en-US" sz="20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™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2240" y="10000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ROS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6680" y="46911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Hyper/J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92240" y="11588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AsCo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4240" y="17524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EAOP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3352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Mangler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0160" y="3371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C++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67080" y="20383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easerJ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71720" y="308772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C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43080" y="1824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Steamlo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38440" y="42670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3320" y="3633840"/>
            <a:ext cx="14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FeatureC++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2240" y="154476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ynAOP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38480" y="46101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postl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90840" y="59626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R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2960" y="2192400"/>
            <a:ext cx="10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Spring (J2EE)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43760" y="500544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emeterJ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86720" y="5875200"/>
            <a:ext cx="145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oncern Manipulation Environmen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4880" y="150480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Eclips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86040" y="557280"/>
            <a:ext cx="15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IBM WebSphere HyperProbe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09920" y="1395360"/>
            <a:ext cx="10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Boss (J2EE)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48200" y="647640"/>
            <a:ext cx="10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BEA JRockit JV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86080" y="5372280"/>
            <a:ext cx="169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Schem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24280" y="42386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62480" y="45766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OPHP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15160" y="531828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omposition Filter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49840" y="2000160"/>
            <a:ext cx="119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akarta Hivemind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20858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AM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9680" y="3895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XWeaver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2800" y="5149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EAK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1640" y="5075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ythiu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0320" y="490068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HPaspec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33880" y="5419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71640" y="57434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Cocoa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19880" y="3462480"/>
            <a:ext cx="13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Loom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22760" y="380052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eave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70720" y="3867120"/>
            <a:ext cx="12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</a:rPr>
              <a:t>Meta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91120" y="321948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Rapier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11840" y="33415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#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67320" y="41814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</a:rPr>
              <a:t>Aspect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62400" y="356220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DNG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7920" y="44434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</a:rPr>
              <a:t>SetPoin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38920" y="45385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LAW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9600" y="4297320"/>
            <a:ext cx="14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ostSharp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1576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Eo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24480" y="45957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ompose*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62640" y="52912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72160" y="5529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OP-Engin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95920" y="482436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SourceWeave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7960" y="5006880"/>
            <a:ext cx="11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opDotNetAddin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52920" y="292428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hx.Morph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9200" y="3895560"/>
            <a:ext cx="1176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 Black"/>
              </a:rPr>
              <a:t>Other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433600"/>
            <a:ext cx="121932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Java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06640" y="3311640"/>
            <a:ext cx="8334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 Black"/>
              </a:rPr>
              <a:t>C++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51800" y="2855880"/>
            <a:ext cx="1004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 Black"/>
              </a:rPr>
              <a:t>.NE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86240" y="1504800"/>
            <a:ext cx="120492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 Black"/>
              </a:rPr>
              <a:t>Products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AOP technologie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5152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alics = Microsoft-sponsored (although none are shipped)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43520" y="510048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OP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22840" y="3882960"/>
            <a:ext cx="12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oo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2640" y="4856040"/>
            <a:ext cx="14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spectCOO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76400" y="260028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AC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33360" y="13352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Nanning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87840" y="404820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AsCo.NE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73760" y="3400560"/>
            <a:ext cx="2171880" cy="1204920"/>
          </a:xfrm>
          <a:prstGeom prst="wedgeRoundRectCallout">
            <a:avLst>
              <a:gd name="adj1" fmla="val -71708"/>
              <a:gd name="adj2" fmla="val 20486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 “real” product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05440" y="19591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SiteVision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7960" y="10065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xon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2120" y="28386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rachne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7040" y="23544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Jiazzi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7840" y="46213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Poly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7200" y="311004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inyC</a:t>
            </a:r>
            <a:r>
              <a:rPr b="1" lang="en-US" sz="16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00680" y="313200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icca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B6A-1EBA-4E11-8D11-4C1201C0355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Why is Microsoft waiting?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omprehensibility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Must be able to predict behavior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Must be easy to understand (Einstein, Elvis, Mort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Integration into existing tools and software processe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Aspects in-the-large (reuse, composition, mining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Debuggability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Source-level debugging is critica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Both obliviousness and intimate AOP debugging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Debugging injected code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Testability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AOP introduces new fault model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Serviceability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EXE/DLL boundary no longer signifies ownership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How to isolate faults and assign blame?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Version currently linked to size/date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How to patch woven programs?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74E-1600-4165-B6CA-5746EC1D6A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AOP support in .NE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tatic weaving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Limited byte code instrumentation tool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odeDOM API not fully implemented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Parsing not implemente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an’t access/weave byte code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AST can’t represent all of C#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Dynamic weaving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Discouraged in general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an’t specify custom class loader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Edit-and-Continue API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Debug only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Inefficient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Hard to specify patche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093-9207-4F96-BE5D-6BBFD5823C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Conclusion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Our goal was to determine if AOP would improve Phoenix developmen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Re-implemented a Phoenix plug-in to use Open Classe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Grafted adapter interfaces onto Phoenix classe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Validated the feasibility of using Phx.Morph on Phoenix itself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Learned why Microsoft is timid about using AOP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CD2-0249-4F8E-9401-44556BE40B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Future work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Address barriers to adoption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omprehensibility, Debuggability, Testability, Serviceability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Lobby for more AOP support in .NE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tatement annotations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Dynamic weaving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8C0-5A94-4565-AF7F-35BB0EDD0A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8353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Contact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359712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Marc Eaddy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eaddy@cs.columbia.edu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70344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Try it out!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4652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ww.columbia.edu/~me13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4e44"/>
                </a:solidFill>
                <a:latin typeface="Arial"/>
              </a:rPr>
              <a:t>(includes source)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7960" y="53737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Arial Black"/>
              </a:rPr>
              <a:t>Questions?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044-710D-40B8-919B-EA067083FDB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 Black"/>
              </a:rPr>
              <a:t>Extra slides</a:t>
            </a:r>
            <a:endParaRPr b="0" lang="en-US" sz="4400" spc="-1" strike="noStrike">
              <a:solidFill>
                <a:srgbClr val="336699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Demo: Adding foreach sugar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2803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</a:rPr>
              <a:t>using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System.Collections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</a:rPr>
              <a:t>using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Phx.Morph.Attributes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[Extends(</a:t>
            </a:r>
            <a:r>
              <a:rPr b="1" sz="2800" spc="-1" strike="noStrike">
                <a:solidFill>
                  <a:srgbClr val="cc3300"/>
                </a:solidFill>
                <a:latin typeface="Arial"/>
              </a:rPr>
              <a:t>"Node"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)]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</a:rPr>
              <a:t>class </a:t>
            </a:r>
            <a:r>
              <a:rPr b="1" sz="2400" spc="-1" strike="noStrike">
                <a:solidFill>
                  <a:srgbClr val="008080"/>
                </a:solidFill>
                <a:latin typeface="Arial"/>
              </a:rPr>
              <a:t>NodeEnumerator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spect</a:t>
            </a:r>
            <a:r>
              <a:rPr b="1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No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sz="2800" spc="-1" strike="noStrike">
                <a:solidFill>
                  <a:srgbClr val="008080"/>
                </a:solidFill>
                <a:latin typeface="Arial"/>
              </a:rPr>
              <a:t>IEnumerabl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[Add]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1" sz="2800" spc="-1" strike="noStrike">
                <a:solidFill>
                  <a:srgbClr val="0000ff"/>
                </a:solidFill>
                <a:latin typeface="Arial"/>
              </a:rPr>
              <a:t>public </a:t>
            </a:r>
            <a:r>
              <a:rPr b="1" sz="2800" spc="-1" strike="noStrike">
                <a:solidFill>
                  <a:srgbClr val="008080"/>
                </a:solidFill>
                <a:latin typeface="Arial"/>
              </a:rPr>
              <a:t>IEnumerator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GetEnumerator()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sz="2800" spc="-1" strike="noStrike">
                <a:solidFill>
                  <a:srgbClr val="0000ff"/>
                </a:solidFill>
                <a:latin typeface="Arial"/>
              </a:rPr>
              <a:t>return new </a:t>
            </a:r>
            <a:r>
              <a:rPr b="1" sz="2800" spc="-1" strike="noStrike">
                <a:solidFill>
                  <a:srgbClr val="008080"/>
                </a:solidFill>
                <a:latin typeface="Arial"/>
              </a:rPr>
              <a:t>NodeEnumerator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(this)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sz="28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84720" y="1144440"/>
            <a:ext cx="3581280" cy="640080"/>
          </a:xfrm>
          <a:prstGeom prst="wedgeRoundRectCallout">
            <a:avLst>
              <a:gd name="adj1" fmla="val -101773"/>
              <a:gd name="adj2" fmla="val 157194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ass to exten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01960" y="5545080"/>
            <a:ext cx="2286000" cy="1143000"/>
          </a:xfrm>
          <a:prstGeom prst="wedgeRoundRectCallout">
            <a:avLst>
              <a:gd name="adj1" fmla="val -69444"/>
              <a:gd name="adj2" fmla="val -183333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d this method”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03840" y="3125880"/>
            <a:ext cx="2286000" cy="1143000"/>
          </a:xfrm>
          <a:prstGeom prst="wedgeRoundRectCallout">
            <a:avLst>
              <a:gd name="adj1" fmla="val 104652"/>
              <a:gd name="adj2" fmla="val -51944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d this iface”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FF3-992F-4D62-8F68-51C070005D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NodeEnumerator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7848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public class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NodeEnumerator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: 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IEnumerator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Node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node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index = -1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NodeEnumerator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Node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node)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this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.node = node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public object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Current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node.GetChild(index);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public bool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MoveNext()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 ++index &lt; node.ChildCount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ff"/>
                </a:solidFill>
                <a:latin typeface="Arial"/>
              </a:rPr>
              <a:t>public void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Reset()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{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index = -1;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13A-103E-4D27-819E-8F3EFDADAA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foreach clien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701640"/>
            <a:ext cx="792468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tatic void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DumpNode(</a:t>
            </a:r>
            <a:r>
              <a:rPr b="1" sz="2400" spc="-1" strike="noStrike">
                <a:solidFill>
                  <a:srgbClr val="008080"/>
                </a:solidFill>
                <a:latin typeface="Arial"/>
              </a:rPr>
              <a:t>Node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root,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tring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indent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if (root ==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ystem.</a:t>
            </a:r>
            <a:r>
              <a:rPr b="1" sz="2400" spc="-1" strike="noStrike">
                <a:solidFill>
                  <a:srgbClr val="008080"/>
                </a:solidFill>
                <a:latin typeface="Arial"/>
              </a:rPr>
              <a:t>Console.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WriteLine(indent + root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foreach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Node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child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 in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root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DumpNode(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child, indent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 + </a:t>
            </a:r>
            <a:r>
              <a:rPr b="1" sz="2400" spc="-1" strike="noStrike">
                <a:solidFill>
                  <a:srgbClr val="800000"/>
                </a:solidFill>
                <a:latin typeface="Arial"/>
              </a:rPr>
              <a:t>"  "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1600200"/>
            <a:ext cx="3514680" cy="685800"/>
          </a:xfrm>
          <a:prstGeom prst="wedgeRoundRectCallout">
            <a:avLst>
              <a:gd name="adj1" fmla="val -96657"/>
              <a:gd name="adj2" fmla="val 198842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w capability!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E29-661D-4E8D-A5ED-FAF5D6DBB9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Why our work is interesting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Built using Phoenix – Microsoft’s production-grade compiler, analysis and tools infrastructur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apable of weaving very large program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Produces debug information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4e44"/>
                </a:solidFill>
                <a:latin typeface="Arial"/>
              </a:rPr>
              <a:t>And soon...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Distributed with Phoenix SDK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Statement-level advising using </a:t>
            </a:r>
            <a:r>
              <a:rPr b="1" i="1" lang="en-US" sz="2800" spc="-1" strike="noStrike">
                <a:solidFill>
                  <a:srgbClr val="4e4e44"/>
                </a:solidFill>
                <a:latin typeface="Arial"/>
              </a:rPr>
              <a:t>statement annotation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Dynamic weaving using Microsoft’s new Debugger APIs and our </a:t>
            </a:r>
            <a:r>
              <a:rPr b="1" i="1" lang="en-US" sz="2800" spc="-1" strike="noStrike">
                <a:solidFill>
                  <a:srgbClr val="4e4e44"/>
                </a:solidFill>
                <a:latin typeface="Arial"/>
              </a:rPr>
              <a:t>Wicca</a:t>
            </a: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 system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Byte code weav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Breakpoint weav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Source weaving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787-BA94-476F-9D09-0AE404CA6D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600" y="1035000"/>
            <a:ext cx="78487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lient wants to attach custom data to an object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Example: IR-Longevity plug-in tracks compiler phase when an instruction is create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70000" y="2166840"/>
          <a:ext cx="7323120" cy="46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0" y="2166840"/>
                    <a:ext cx="732312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130880" y="3451320"/>
            <a:ext cx="1779840" cy="1236600"/>
          </a:xfrm>
          <a:prstGeom prst="wedgeRoundRectCallout">
            <a:avLst>
              <a:gd name="adj1" fmla="val -93175"/>
              <a:gd name="adj2" fmla="val 130486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ent’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5651640"/>
            <a:ext cx="2449440" cy="352440"/>
          </a:xfrm>
          <a:prstGeom prst="rect">
            <a:avLst/>
          </a:prstGeom>
          <a:solidFill>
            <a:srgbClr val="ff5050">
              <a:alpha val="5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8600" y="142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Phoenix client extensibility: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Traditional OOD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5ED-09F0-48E4-B86B-DEA800E3EE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90440" y="392436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Empowers clients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High performanc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ype saf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Don’t have to wait for RDK drop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Don’t require help from Phoenix team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28600" y="142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Phoenix client extensibility: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 Black"/>
              </a:rPr>
              <a:t>Open Classes</a:t>
            </a:r>
            <a:endParaRPr b="1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035000"/>
            <a:ext cx="8272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Weave Phx.dl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o add BirthPhase field directly to Instr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351160" y="2109960"/>
          <a:ext cx="3247920" cy="17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1160" y="2109960"/>
                    <a:ext cx="324792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546280" y="2809800"/>
            <a:ext cx="2892600" cy="352440"/>
          </a:xfrm>
          <a:prstGeom prst="rect">
            <a:avLst/>
          </a:prstGeom>
          <a:solidFill>
            <a:srgbClr val="ff5050">
              <a:alpha val="5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6480" y="2097000"/>
            <a:ext cx="1779480" cy="1236600"/>
          </a:xfrm>
          <a:prstGeom prst="wedgeRoundRectCallout">
            <a:avLst>
              <a:gd name="adj1" fmla="val -131888"/>
              <a:gd name="adj2" fmla="val 21759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81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ent’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B0D-1C76-49CF-922A-7BE08C8250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Demo: Enforcing invariants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upporting const-ness at runtime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Person teacher = new Person()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eacher.Salary = 25000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eacher.IsConst = true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eacher.Salary = 1000000;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Caveat: Must weave all clients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438280"/>
            <a:ext cx="1523880" cy="685800"/>
          </a:xfrm>
          <a:prstGeom prst="wedgeRoundRectCallout">
            <a:avLst>
              <a:gd name="adj1" fmla="val -248749"/>
              <a:gd name="adj2" fmla="val 143287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w!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3352680"/>
            <a:ext cx="2438640" cy="1143000"/>
          </a:xfrm>
          <a:prstGeom prst="wedgeRoundRectCallout">
            <a:avLst>
              <a:gd name="adj1" fmla="val -168620"/>
              <a:gd name="adj2" fmla="val 61805"/>
              <a:gd name="adj3" fmla="val 16667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variant violated!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7B4-06BD-425F-9204-D1C12C4C2B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Invariant aspec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[Extends(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"Person"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)]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variantAspect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[Add]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ublic bool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IsConst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[Advice(AdviceType.before,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"set(* Person.*)"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)]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CheckIsConst(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ourceLocation.WithinSignature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withinSignature,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is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This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if (IsConst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ystem.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ole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WriteLine(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"Person '{0}' violated IsConst constraint inside {1}"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This, withinSignature);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EAF-6154-4FB5-8900-A65E877ED8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CLR wish lis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New </a:t>
            </a:r>
            <a:r>
              <a:rPr b="1" i="1" lang="en-US" sz="2400" spc="-1" strike="noStrike">
                <a:solidFill>
                  <a:srgbClr val="4e4e44"/>
                </a:solidFill>
                <a:latin typeface="Arial"/>
              </a:rPr>
              <a:t>partial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 metadata keywor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Extend C# Partial Classes to post-compilation and make it language neutral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Compiler support: Class definition = class source files + partial class source files + </a:t>
            </a:r>
            <a:r>
              <a:rPr b="1" i="1" lang="en-US" sz="2000" spc="-1" strike="noStrike">
                <a:solidFill>
                  <a:srgbClr val="4e4e44"/>
                </a:solidFill>
                <a:latin typeface="Arial"/>
              </a:rPr>
              <a:t>partial classes defined in referenced assemblie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Merge partial classes at load-time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odeDOM API is incomplete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Express all C# and C++/CLI language construct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Express complete syntax tree (including comments and whitespace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Parsers for C# and C++/CLI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Weaving at runtime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Ability to add fields, methods, etc. </a:t>
            </a:r>
            <a:r>
              <a:rPr b="1" i="1" lang="en-US" sz="2000" spc="-1" strike="noStrike">
                <a:solidFill>
                  <a:srgbClr val="4e4e44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 load-time (ModuleLoadFinished)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Statement annotation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Ability to identify statement-level join point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Ability to </a:t>
            </a:r>
            <a:r>
              <a:rPr b="1" i="1" lang="en-US" sz="2000" spc="-1" strike="noStrike">
                <a:solidFill>
                  <a:srgbClr val="4e4e44"/>
                </a:solidFill>
                <a:latin typeface="Arial"/>
              </a:rPr>
              <a:t>mark</a:t>
            </a: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 injected code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7D5-C201-45F5-B1AB-337FC9682C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Before weaving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66996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2080" indent="0"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65:  ldarg.0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432080" indent="0"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66:  call class System.Reflection.Assembly System.Reflection.Assembly::Load(string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432080" indent="0"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51F-86E7-43A6-91DE-95990E92D7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Woven result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65:  ldarg.0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66:  ldst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"System.Reflection.Assembly.Load"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6b:  ldst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"Phx.Morph.ReflectionHelpers.LoadAssembly"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70:  ldst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“c:\\phx\\rdk\\samples\\Morpher\\Phx.Morph\\ReflectionHelpers.cs"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75:  ldc.i4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0xfb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7a:  call void LogReflectionExt::LogReflection(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int32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L_007f:  call class System.Reflection.Assembly System.Reflection.Assembly::Load(string)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12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66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600" y="76320"/>
            <a:ext cx="8763120" cy="5181480"/>
            <a:chOff x="228600" y="76320"/>
            <a:chExt cx="8763120" cy="5181480"/>
          </a:xfrm>
        </p:grpSpPr>
        <p:sp>
          <p:nvSpPr>
            <p:cNvPr id="306" name=""/>
            <p:cNvSpPr/>
            <p:nvPr/>
          </p:nvSpPr>
          <p:spPr>
            <a:xfrm>
              <a:off x="228600" y="1066680"/>
              <a:ext cx="8763120" cy="4191120"/>
            </a:xfrm>
            <a:prstGeom prst="rect">
              <a:avLst/>
            </a:prstGeom>
            <a:solidFill>
              <a:srgbClr val="ffcc66">
                <a:alpha val="2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1320" y="76320"/>
              <a:ext cx="3124080" cy="761760"/>
            </a:xfrm>
            <a:prstGeom prst="wedgeRoundRectCallout">
              <a:avLst>
                <a:gd name="adj1" fmla="val -60620"/>
                <a:gd name="adj2" fmla="val 7979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Injected code</a:t>
              </a:r>
              <a:endParaRPr b="0" lang="en-US" sz="32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90F-E20A-496F-85BC-36FD0E3DA5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Background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The Phoenix Projec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Microsoft’s production-grade </a:t>
            </a:r>
            <a:br>
              <a:rPr sz="2800"/>
            </a:b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ompiler, analysis,</a:t>
            </a:r>
            <a:br>
              <a:rPr sz="2800"/>
            </a:b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and tools infrastructure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Will become backend for all Microsoft compilers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Massive software project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Currentl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8M LOC</a:t>
            </a: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 (318K hand-written)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430-CAD2-4400-8B67-40AD6975E9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Problem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Many Phoenix requirements cannot be cleanly separated using traditional OO techniques (inheritance and aggregation)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Multiple clients and scenario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Orthogonal requirement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4e44"/>
                </a:solidFill>
                <a:latin typeface="Arial"/>
              </a:rPr>
              <a:t>Unanticipated requirements</a:t>
            </a:r>
            <a:endParaRPr b="1" lang="en-US" sz="20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Operational” (nonfunctional) requirements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raditional OO solutions result in increased software complexity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Designs ar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mplex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ighly coupled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Code i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uttered </a:t>
            </a: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ifficult to write and maintain</a:t>
            </a:r>
            <a:endParaRPr b="1" lang="en-US" sz="2400" spc="-1" strike="noStrike">
              <a:solidFill>
                <a:srgbClr val="4e4e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Many other groups at Microsoft are also struggling with this problem</a:t>
            </a:r>
            <a:endParaRPr b="1" lang="en-US" sz="28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DE9-ECC4-4107-8C5F-A7C53FAC6B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Our initial goal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Determine if Aspect-Oriented Programming (AOP) can improve Phoenix development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81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 Black"/>
              </a:rPr>
              <a:t>Our approach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3434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e4e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Use Phoenix to develop an AOP solutio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e4e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Then turn around and use the AOP solution to help develop Phoeni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763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Phx.Morph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E1A-5DB4-4CFB-90B9-5805F0B384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28760" y="3130560"/>
            <a:ext cx="442800" cy="342720"/>
          </a:xfrm>
          <a:prstGeom prst="rightArrow">
            <a:avLst>
              <a:gd name="adj1" fmla="val 50000"/>
              <a:gd name="adj2" fmla="val 32300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3022560"/>
            <a:ext cx="1265400" cy="571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2990880"/>
            <a:ext cx="1517760" cy="571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hx.Morph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35880" y="2962440"/>
            <a:ext cx="1265400" cy="6858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Woven</a:t>
            </a:r>
            <a:br>
              <a:rPr sz="2000"/>
            </a:b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44960" y="3130560"/>
            <a:ext cx="442800" cy="342720"/>
          </a:xfrm>
          <a:prstGeom prst="rightArrow">
            <a:avLst>
              <a:gd name="adj1" fmla="val 50000"/>
              <a:gd name="adj2" fmla="val 32300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3840" y="1677960"/>
            <a:ext cx="1328760" cy="571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53000" y="1797120"/>
            <a:ext cx="1328760" cy="571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spect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ssembli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018120" y="2508120"/>
            <a:ext cx="399960" cy="380880"/>
          </a:xfrm>
          <a:prstGeom prst="rightArrow">
            <a:avLst>
              <a:gd name="adj1" fmla="val 50000"/>
              <a:gd name="adj2" fmla="val 26252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Weaving using Phx.Morph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639960" y="2916360"/>
            <a:ext cx="1265400" cy="769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Origina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10800000">
            <a:off x="219240" y="2685960"/>
            <a:ext cx="909360" cy="1028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rot="10800000">
            <a:off x="370440" y="2838240"/>
            <a:ext cx="909720" cy="1028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b8300"/>
              </a:gs>
              <a:gs pos="100000">
                <a:srgbClr val="ff9933"/>
              </a:gs>
            </a:gsLst>
            <a:lin ang="162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46760" y="3129120"/>
            <a:ext cx="442800" cy="342720"/>
          </a:xfrm>
          <a:prstGeom prst="rightArrow">
            <a:avLst>
              <a:gd name="adj1" fmla="val 50000"/>
              <a:gd name="adj2" fmla="val 32300"/>
            </a:avLst>
          </a:prstGeom>
          <a:solidFill>
            <a:srgbClr val="33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34200" y="4172040"/>
            <a:ext cx="1473120" cy="654120"/>
          </a:xfrm>
          <a:prstGeom prst="rect">
            <a:avLst/>
          </a:prstGeom>
          <a:gradFill rotWithShape="0">
            <a:gsLst>
              <a:gs pos="0">
                <a:srgbClr val="ff2929"/>
              </a:gs>
              <a:gs pos="100000">
                <a:srgbClr val="db2323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reakpoint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99160" y="4173480"/>
            <a:ext cx="1363680" cy="652680"/>
          </a:xfrm>
          <a:prstGeom prst="rect">
            <a:avLst/>
          </a:prstGeom>
          <a:gradFill rotWithShape="0">
            <a:gsLst>
              <a:gs pos="0">
                <a:srgbClr val="ff2929"/>
              </a:gs>
              <a:gs pos="100000">
                <a:srgbClr val="db2323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elta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1440" y="3137040"/>
            <a:ext cx="443160" cy="342720"/>
          </a:xfrm>
          <a:prstGeom prst="rightArrow">
            <a:avLst>
              <a:gd name="adj1" fmla="val 50000"/>
              <a:gd name="adj2" fmla="val 32327"/>
            </a:avLst>
          </a:prstGeom>
          <a:solidFill>
            <a:srgbClr val="ff505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6466800">
            <a:off x="5642280" y="3696120"/>
            <a:ext cx="442800" cy="343080"/>
          </a:xfrm>
          <a:prstGeom prst="rightArrow">
            <a:avLst>
              <a:gd name="adj1" fmla="val 50000"/>
              <a:gd name="adj2" fmla="val 32267"/>
            </a:avLst>
          </a:prstGeom>
          <a:solidFill>
            <a:srgbClr val="ff292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15133200">
            <a:off x="6338160" y="3692880"/>
            <a:ext cx="443160" cy="343080"/>
          </a:xfrm>
          <a:prstGeom prst="rightArrow">
            <a:avLst>
              <a:gd name="adj1" fmla="val 50000"/>
              <a:gd name="adj2" fmla="val 32293"/>
            </a:avLst>
          </a:prstGeom>
          <a:solidFill>
            <a:srgbClr val="ff292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97600" y="360504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Static Weaving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7360" y="480384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Dynamic Weaving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BDE-BE38-400F-A735-29DDA782AF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Phx.Morph architecture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740040" y="906480"/>
            <a:ext cx="4886280" cy="273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hx.Morp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2680" y="1440000"/>
            <a:ext cx="4592520" cy="693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</a:rPr>
              <a:t>Open Classes, binary and breakpoint weaving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92680" y="2224080"/>
            <a:ext cx="459252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Phoenix-specific AOP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92680" y="2925720"/>
            <a:ext cx="459252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ttribute Handler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080" y="3770280"/>
            <a:ext cx="5321160" cy="1854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baf57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Phoeni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914400"/>
            <a:ext cx="1990800" cy="2719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baf57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PEREW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"/>
              </a:rPr>
              <a:t>Re-Writer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70440" y="3762360"/>
            <a:ext cx="2870280" cy="1862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hx.Aop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32440" y="4245120"/>
            <a:ext cx="2583000" cy="585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OP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0808"/>
                </a:solidFill>
                <a:latin typeface="Arial"/>
              </a:rPr>
              <a:t>Joinpoints, pointcuts, …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32440" y="4910040"/>
            <a:ext cx="2583000" cy="611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0808"/>
                </a:solidFill>
                <a:latin typeface="Arial"/>
              </a:rPr>
              <a:t>Custom AOP annotations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" y="5730840"/>
            <a:ext cx="8307360" cy="4334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db444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52680" y="912960"/>
            <a:ext cx="1185840" cy="2724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3afdb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orp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lugi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B3F-746B-4696-8147-35A27ABED7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Black"/>
              </a:rPr>
              <a:t>Open Classes</a:t>
            </a:r>
            <a:endParaRPr b="1" lang="en-US" sz="36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bility to split a class definition into separate modules</a:t>
            </a:r>
            <a:endParaRPr b="1" lang="en-US" sz="3200" spc="-1" strike="noStrike">
              <a:solidFill>
                <a:srgbClr val="4e4e4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4440" y="1752480"/>
            <a:ext cx="78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aka “intertype declarations”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Similar to </a:t>
            </a:r>
            <a:r>
              <a:rPr b="1" i="1" lang="en-US" sz="3200" spc="-1" strike="noStrike">
                <a:solidFill>
                  <a:srgbClr val="4e4e44"/>
                </a:solidFill>
                <a:latin typeface="Arial"/>
              </a:rPr>
              <a:t>partial classes</a:t>
            </a: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 in C# excep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extends classes after they’ve been compiled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4e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Arial"/>
              </a:rPr>
              <a:t>works on assemblie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no source req’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e4e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Arial"/>
              </a:rPr>
              <a:t>language agnost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e4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"/>
              </a:rPr>
              <a:t>We support adding fields, properties, methods, base interfaces and clas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OSD 2006 Dem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3C4-291D-4201-9E60-31206AA415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(C) Marc Eadd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9:16:20Z</dcterms:created>
  <dc:creator>t-marcea</dc:creator>
  <dc:description/>
  <dc:language>en-US</dc:language>
  <cp:lastModifiedBy>Marc Eaddy</cp:lastModifiedBy>
  <dcterms:modified xsi:type="dcterms:W3CDTF">2006-03-24T09:13:06Z</dcterms:modified>
  <cp:revision>73</cp:revision>
  <dc:subject/>
  <dc:title>Aspect-Oriented Programming and Open Classes using Phoen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