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6E4A-5636-4C55-A93B-6A0870305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7C0F-00DF-416E-9C80-054E7CA6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D42C-B978-4F73-A6AB-0F51E88B7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1CD5-3D28-4C87-92F8-90F85AD28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0A7B-4C35-47B9-A524-04C14FA4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232B-75A7-4725-8901-06FAB140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EF87-F7AF-46C0-85D6-6F8696D7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CE27-534A-4653-9CE9-AFD8C7DC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6DA8-7ADA-49A5-8377-D9216796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B962-47A8-457A-A817-DEA8258A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777E-814C-4D35-BF46-8CB4BDA4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B529-E048-43F6-A0A1-26670E2A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8E01-7531-4EE1-8DE1-7E8BEFFD6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2520" y="658332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6-01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1T00:36:33Z</dcterms:created>
  <dc:creator>Mik Kersten</dc:creator>
  <dc:description/>
  <dc:language>en-US</dc:language>
  <cp:lastModifiedBy>Mik Kersten</cp:lastModifiedBy>
  <dcterms:modified xsi:type="dcterms:W3CDTF">2006-01-31T18:06:08Z</dcterms:modified>
  <cp:revision>2</cp:revision>
  <dc:subject/>
  <dc:title>Slide 1</dc:title>
</cp:coreProperties>
</file>