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DAA-6846-4741-B4E8-A071651C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196-75D5-4E60-9542-31A313A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58-4548-48EF-919E-35AD1227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858-4A69-419A-855C-706DD97A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3E3-F75C-4550-9F68-D24A9E83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422A-83BC-42AF-A3B3-DEEAC35B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5E34-A1E8-4F92-99B8-6F58F29E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C01B-D0B7-47AF-BB98-5A77EA2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7355-6DD7-44FA-BDDA-8A1E6369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E5AD-41E7-469F-9DC6-9D1056E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108-5363-42C3-AB93-49FB9B0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3CE-8272-43F1-A7A2-2ACF743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EF2D-4C66-4E83-B5D4-C2DD629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2C7-3251-470F-8C55-E999754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7A3-A66A-4021-B3A8-92408AE3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D6E-9158-4A44-977F-2728724C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A79D-AA7E-447D-A47E-16A00DBF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FFD-FE30-46C9-AC9C-523CCFF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A3B-E476-4EE9-A944-6B6E96E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650-85D1-4E0B-97C0-BC28A39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4D8-ECDD-432D-AAA6-E4C2A3B7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6FF-E725-4EF3-A000-25B3D62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FA8-43A3-4FE5-95FD-417CC2C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A8B-5E42-4F0E-896A-64BCE5B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AD9-C7F5-4445-9649-E9D1505389F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E30-CE94-43A3-8381-73351B11550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9160" y="736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360 x 360 Mosa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64600" y="2908440"/>
            <a:ext cx="51638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hree K. Nayar  and Amruta Karmark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uter  Science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umbia 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EE CVPR 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une 2000, Hilton Head Island, 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ons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NR  MURI ,  Packard  Foundatio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73400" y="3987720"/>
            <a:ext cx="533160" cy="53352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0"/>
                </a:moveTo>
                <a:cubicBezTo>
                  <a:pt x="30" y="39"/>
                  <a:pt x="60" y="79"/>
                  <a:pt x="96" y="104"/>
                </a:cubicBezTo>
                <a:cubicBezTo>
                  <a:pt x="132" y="129"/>
                  <a:pt x="163" y="135"/>
                  <a:pt x="216" y="152"/>
                </a:cubicBezTo>
                <a:cubicBezTo>
                  <a:pt x="269" y="169"/>
                  <a:pt x="356" y="176"/>
                  <a:pt x="416" y="208"/>
                </a:cubicBezTo>
                <a:cubicBezTo>
                  <a:pt x="476" y="240"/>
                  <a:pt x="526" y="292"/>
                  <a:pt x="576" y="344"/>
                </a:cubicBezTo>
              </a:path>
            </a:pathLst>
          </a:custGeom>
          <a:noFill/>
          <a:ln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76080" y="4282920"/>
            <a:ext cx="2738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riving Sheet Cameras :  Formulation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87600" y="140976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89120" y="1870200"/>
            <a:ext cx="1596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9120" y="2558880"/>
            <a:ext cx="159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5005440"/>
            <a:ext cx="2747880" cy="1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587600" y="4090680"/>
            <a:ext cx="0" cy="920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87600" y="5011560"/>
            <a:ext cx="871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04960" y="3249720"/>
            <a:ext cx="0" cy="1301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604960" y="3292560"/>
            <a:ext cx="547920" cy="952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1152000" y="1869840"/>
            <a:ext cx="1452600" cy="237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50880" y="2521080"/>
            <a:ext cx="7308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57360" y="4960800"/>
            <a:ext cx="730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9400" y="499752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view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6320" y="258300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in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62000" y="29844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orm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065320" y="3363480"/>
            <a:ext cx="133200" cy="211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78480" y="154152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8200" y="450360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irror 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</a:rPr>
              <a:t>z(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15440" y="4076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69600" y="4952880"/>
            <a:ext cx="2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690640" y="3476520"/>
            <a:ext cx="155880" cy="201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908000" y="3963960"/>
            <a:ext cx="203400" cy="1983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75080" y="4238640"/>
            <a:ext cx="712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04960" y="4321080"/>
            <a:ext cx="0" cy="690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25560" y="4013280"/>
            <a:ext cx="239760" cy="293760"/>
          </a:xfrm>
          <a:custGeom>
            <a:avLst/>
            <a:gdLst/>
            <a:ahLst/>
            <a:rect l="l" t="t" r="r" b="b"/>
            <a:pathLst>
              <a:path w="148" h="200">
                <a:moveTo>
                  <a:pt x="0" y="0"/>
                </a:moveTo>
                <a:cubicBezTo>
                  <a:pt x="45" y="25"/>
                  <a:pt x="91" y="51"/>
                  <a:pt x="116" y="84"/>
                </a:cubicBezTo>
                <a:cubicBezTo>
                  <a:pt x="141" y="117"/>
                  <a:pt x="144" y="158"/>
                  <a:pt x="148" y="2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01680" y="3838680"/>
            <a:ext cx="249480" cy="419040"/>
          </a:xfrm>
          <a:custGeom>
            <a:avLst/>
            <a:gdLst/>
            <a:ahLst/>
            <a:rect l="l" t="t" r="r" b="b"/>
            <a:pathLst>
              <a:path w="324" h="308">
                <a:moveTo>
                  <a:pt x="0" y="308"/>
                </a:moveTo>
                <a:cubicBezTo>
                  <a:pt x="1" y="284"/>
                  <a:pt x="2" y="261"/>
                  <a:pt x="12" y="228"/>
                </a:cubicBezTo>
                <a:cubicBezTo>
                  <a:pt x="22" y="195"/>
                  <a:pt x="35" y="145"/>
                  <a:pt x="60" y="112"/>
                </a:cubicBezTo>
                <a:cubicBezTo>
                  <a:pt x="85" y="79"/>
                  <a:pt x="120" y="47"/>
                  <a:pt x="164" y="28"/>
                </a:cubicBezTo>
                <a:cubicBezTo>
                  <a:pt x="208" y="9"/>
                  <a:pt x="266" y="4"/>
                  <a:pt x="32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2880" y="356868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heet of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5360" y="25779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00" y="361800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00280" y="3706920"/>
            <a:ext cx="206280" cy="144360"/>
          </a:xfrm>
          <a:custGeom>
            <a:avLst/>
            <a:gdLst/>
            <a:ahLst/>
            <a:rect l="l" t="t" r="r" b="b"/>
            <a:pathLst>
              <a:path w="66" h="35">
                <a:moveTo>
                  <a:pt x="0" y="5"/>
                </a:moveTo>
                <a:cubicBezTo>
                  <a:pt x="12" y="2"/>
                  <a:pt x="25" y="0"/>
                  <a:pt x="36" y="5"/>
                </a:cubicBezTo>
                <a:cubicBezTo>
                  <a:pt x="47" y="10"/>
                  <a:pt x="56" y="22"/>
                  <a:pt x="66" y="3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908440" y="3879720"/>
                <a:ext cx="201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46520" y="4114800"/>
            <a:ext cx="622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46520" y="4229280"/>
            <a:ext cx="622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46520" y="4343400"/>
            <a:ext cx="622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46520" y="4457880"/>
            <a:ext cx="622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302080" y="1908000"/>
            <a:ext cx="3330720" cy="3560760"/>
            <a:chOff x="5302080" y="1908000"/>
            <a:chExt cx="3330720" cy="3560760"/>
          </a:xfrm>
        </p:grpSpPr>
        <p:grpSp>
          <p:nvGrpSpPr>
            <p:cNvPr id="458" name=""/>
            <p:cNvGrpSpPr/>
            <p:nvPr/>
          </p:nvGrpSpPr>
          <p:grpSpPr>
            <a:xfrm>
              <a:off x="5302080" y="1908000"/>
              <a:ext cx="3330720" cy="1052640"/>
              <a:chOff x="5302080" y="1908000"/>
              <a:chExt cx="3330720" cy="1052640"/>
            </a:xfrm>
          </p:grpSpPr>
          <p:pic>
            <p:nvPicPr>
              <p:cNvPr id="4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13440" y="2392200"/>
                <a:ext cx="171936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5302080" y="1908000"/>
                <a:ext cx="245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Perspective  Projection 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349240" y="4416480"/>
              <a:ext cx="3196440" cy="1052280"/>
              <a:chOff x="5349240" y="4416480"/>
              <a:chExt cx="3196440" cy="1052280"/>
            </a:xfrm>
          </p:grpSpPr>
          <p:pic>
            <p:nvPicPr>
              <p:cNvPr id="4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95960" y="4884840"/>
                <a:ext cx="1449720" cy="5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5349240" y="4416480"/>
                <a:ext cx="212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Local  Mirror  Slope 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339520" y="3189240"/>
              <a:ext cx="2813760" cy="851040"/>
              <a:chOff x="5339520" y="3189240"/>
              <a:chExt cx="2813760" cy="85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5339520" y="3189240"/>
                <a:ext cx="21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Specular  Reflection 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6" name=""/>
                  <p:cNvSpPr txBox="1"/>
                  <p:nvPr/>
                </p:nvSpPr>
                <p:spPr>
                  <a:xfrm>
                    <a:off x="7359480" y="3718080"/>
                    <a:ext cx="793800" cy="32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riving Sheet Cameras :  Formulation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134000" y="1641600"/>
            <a:ext cx="3582360" cy="1698480"/>
            <a:chOff x="1134000" y="1641600"/>
            <a:chExt cx="3582360" cy="1698480"/>
          </a:xfrm>
        </p:grpSpPr>
        <p:sp>
          <p:nvSpPr>
            <p:cNvPr id="470" name=""/>
            <p:cNvSpPr/>
            <p:nvPr/>
          </p:nvSpPr>
          <p:spPr>
            <a:xfrm>
              <a:off x="1134000" y="1641600"/>
              <a:ext cx="225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ifferential Equation 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3181320" y="2200320"/>
                  <a:ext cx="1535040" cy="11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z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r</m:t>
                              </m:r>
                            </m:den>
                          </m:f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sSup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r</m:t>
                                  </m:r>
                                </m:den>
                              </m:f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"/>
          <p:cNvGrpSpPr/>
          <p:nvPr/>
        </p:nvGrpSpPr>
        <p:grpSpPr>
          <a:xfrm>
            <a:off x="1149120" y="3760920"/>
            <a:ext cx="4121280" cy="1331640"/>
            <a:chOff x="1149120" y="3760920"/>
            <a:chExt cx="4121280" cy="1331640"/>
          </a:xfrm>
        </p:grpSpPr>
        <p:sp>
          <p:nvSpPr>
            <p:cNvPr id="473" name=""/>
            <p:cNvSpPr/>
            <p:nvPr/>
          </p:nvSpPr>
          <p:spPr>
            <a:xfrm>
              <a:off x="1149120" y="376092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Mirror Shape 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603520" y="4394160"/>
              <a:ext cx="2666880" cy="698400"/>
              <a:chOff x="2603520" y="4394160"/>
              <a:chExt cx="2666880" cy="698400"/>
            </a:xfrm>
          </p:grpSpPr>
          <mc:AlternateContent>
            <mc:Choice xmlns:a14="http://schemas.microsoft.com/office/drawing/2010/main" Requires="a14">
              <p:sp>
                <p:nvSpPr>
                  <p:cNvPr id="475" name=""/>
                  <p:cNvSpPr txBox="1"/>
                  <p:nvPr/>
                </p:nvSpPr>
                <p:spPr>
                  <a:xfrm>
                    <a:off x="2830320" y="4524120"/>
                    <a:ext cx="213012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6" name=""/>
              <p:cNvSpPr/>
              <p:nvPr/>
            </p:nvSpPr>
            <p:spPr>
              <a:xfrm>
                <a:off x="2603520" y="4394160"/>
                <a:ext cx="2666880" cy="698400"/>
              </a:xfrm>
              <a:prstGeom prst="rect">
                <a:avLst/>
              </a:prstGeom>
              <a:noFill/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60  Slice  Cameras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46200" y="1859040"/>
            <a:ext cx="0" cy="3222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554120" y="2293560"/>
            <a:ext cx="17542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27040" y="20210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244600" y="2309400"/>
            <a:ext cx="409680" cy="2001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2577960" y="4000680"/>
            <a:ext cx="76320" cy="326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2117520" y="2290320"/>
            <a:ext cx="704520" cy="216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2698560" y="4066920"/>
            <a:ext cx="114120" cy="384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19960" y="425304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at 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74640" y="460044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arallel  Sheet 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90760" y="3219480"/>
            <a:ext cx="9540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790640" y="5511960"/>
                <a:ext cx="13334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rad>
                      <m:deg/>
                      <m:e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1704960" y="5438880"/>
            <a:ext cx="1552680" cy="399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8440" y="119232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erspective  Lens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76120" y="1182600"/>
            <a:ext cx="4064400" cy="4646880"/>
            <a:chOff x="4776120" y="1182600"/>
            <a:chExt cx="4064400" cy="4646880"/>
          </a:xfrm>
        </p:grpSpPr>
        <p:sp>
          <p:nvSpPr>
            <p:cNvPr id="493" name=""/>
            <p:cNvSpPr/>
            <p:nvPr/>
          </p:nvSpPr>
          <p:spPr>
            <a:xfrm flipH="1">
              <a:off x="6519960" y="1889280"/>
              <a:ext cx="9360" cy="3174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646600" y="2295000"/>
              <a:ext cx="175428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30600" y="2003400"/>
              <a:ext cx="108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Image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994440" y="2301480"/>
              <a:ext cx="0" cy="224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994440" y="3173040"/>
              <a:ext cx="0" cy="384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678640" y="4389480"/>
              <a:ext cx="1707480" cy="688680"/>
              <a:chOff x="5678640" y="4389480"/>
              <a:chExt cx="1707480" cy="688680"/>
            </a:xfrm>
          </p:grpSpPr>
          <p:sp>
            <p:nvSpPr>
              <p:cNvPr id="499" name=""/>
              <p:cNvSpPr/>
              <p:nvPr/>
            </p:nvSpPr>
            <p:spPr>
              <a:xfrm>
                <a:off x="6185520" y="4389480"/>
                <a:ext cx="686880" cy="0"/>
              </a:xfrm>
              <a:prstGeom prst="line">
                <a:avLst/>
              </a:prstGeom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78640" y="4389480"/>
                <a:ext cx="506880" cy="679680"/>
              </a:xfrm>
              <a:prstGeom prst="line">
                <a:avLst/>
              </a:prstGeom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79240" y="4398480"/>
                <a:ext cx="506880" cy="679680"/>
              </a:xfrm>
              <a:prstGeom prst="line">
                <a:avLst/>
              </a:prstGeom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V="1">
              <a:off x="7115040" y="2311200"/>
              <a:ext cx="0" cy="242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115040" y="3173040"/>
              <a:ext cx="0" cy="384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86520" y="4530600"/>
              <a:ext cx="1652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07120" y="4703760"/>
              <a:ext cx="152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633800" y="4530600"/>
              <a:ext cx="35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633800" y="4703760"/>
              <a:ext cx="35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0720" y="411156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onical  mirr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36360" y="41925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llel  Sheet  R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219720" y="5546880"/>
                  <a:ext cx="64764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|</m:t>
                      </m:r>
                      <m:r>
                        <m:t xml:space="preserve">r</m:t>
                      </m:r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1" name=""/>
            <p:cNvSpPr/>
            <p:nvPr/>
          </p:nvSpPr>
          <p:spPr>
            <a:xfrm>
              <a:off x="6114960" y="5467320"/>
              <a:ext cx="885960" cy="3621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76120" y="1182600"/>
              <a:ext cx="16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elecentric  Lens 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399680" y="4124160"/>
            <a:ext cx="2076480" cy="717480"/>
            <a:chOff x="1399680" y="4124160"/>
            <a:chExt cx="2076480" cy="717480"/>
          </a:xfrm>
        </p:grpSpPr>
        <p:sp>
          <p:nvSpPr>
            <p:cNvPr id="514" name=""/>
            <p:cNvSpPr/>
            <p:nvPr/>
          </p:nvSpPr>
          <p:spPr>
            <a:xfrm>
              <a:off x="2433600" y="4124160"/>
              <a:ext cx="1042560" cy="708840"/>
            </a:xfrm>
            <a:custGeom>
              <a:avLst/>
              <a:gdLst/>
              <a:ahLst/>
              <a:rect l="l" t="t" r="r" b="b"/>
              <a:pathLst>
                <a:path w="690" h="470">
                  <a:moveTo>
                    <a:pt x="0" y="0"/>
                  </a:moveTo>
                  <a:cubicBezTo>
                    <a:pt x="25" y="24"/>
                    <a:pt x="110" y="105"/>
                    <a:pt x="154" y="142"/>
                  </a:cubicBezTo>
                  <a:cubicBezTo>
                    <a:pt x="198" y="179"/>
                    <a:pt x="222" y="193"/>
                    <a:pt x="266" y="222"/>
                  </a:cubicBezTo>
                  <a:cubicBezTo>
                    <a:pt x="310" y="251"/>
                    <a:pt x="347" y="277"/>
                    <a:pt x="418" y="318"/>
                  </a:cubicBezTo>
                  <a:cubicBezTo>
                    <a:pt x="489" y="359"/>
                    <a:pt x="633" y="438"/>
                    <a:pt x="690" y="47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99320" y="4133160"/>
              <a:ext cx="1042200" cy="708480"/>
            </a:xfrm>
            <a:custGeom>
              <a:avLst/>
              <a:gdLst/>
              <a:ahLst/>
              <a:rect l="l" t="t" r="r" b="b"/>
              <a:pathLst>
                <a:path w="690" h="470">
                  <a:moveTo>
                    <a:pt x="0" y="0"/>
                  </a:moveTo>
                  <a:cubicBezTo>
                    <a:pt x="25" y="24"/>
                    <a:pt x="110" y="105"/>
                    <a:pt x="154" y="142"/>
                  </a:cubicBezTo>
                  <a:cubicBezTo>
                    <a:pt x="198" y="179"/>
                    <a:pt x="222" y="193"/>
                    <a:pt x="266" y="222"/>
                  </a:cubicBezTo>
                  <a:cubicBezTo>
                    <a:pt x="310" y="251"/>
                    <a:pt x="347" y="277"/>
                    <a:pt x="418" y="318"/>
                  </a:cubicBezTo>
                  <a:cubicBezTo>
                    <a:pt x="489" y="359"/>
                    <a:pt x="633" y="438"/>
                    <a:pt x="690" y="47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638440" y="4330800"/>
            <a:ext cx="1841400" cy="257040"/>
            <a:chOff x="2638440" y="4330800"/>
            <a:chExt cx="1841400" cy="257040"/>
          </a:xfrm>
        </p:grpSpPr>
        <p:sp>
          <p:nvSpPr>
            <p:cNvPr id="517" name=""/>
            <p:cNvSpPr/>
            <p:nvPr/>
          </p:nvSpPr>
          <p:spPr>
            <a:xfrm>
              <a:off x="2833560" y="4454640"/>
              <a:ext cx="1646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417480" y="4330800"/>
              <a:ext cx="35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38440" y="4334040"/>
              <a:ext cx="1828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427200" y="4454640"/>
              <a:ext cx="35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3080" y="4587840"/>
              <a:ext cx="142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427200" y="4587840"/>
              <a:ext cx="35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H="1" flipV="1">
            <a:off x="1983960" y="2309400"/>
            <a:ext cx="1066680" cy="22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2860200" y="4209840"/>
            <a:ext cx="190440" cy="393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384560" y="1127880"/>
            <a:ext cx="3457080" cy="3748680"/>
            <a:chOff x="1384560" y="1127880"/>
            <a:chExt cx="3457080" cy="3748680"/>
          </a:xfrm>
        </p:grpSpPr>
        <p:grpSp>
          <p:nvGrpSpPr>
            <p:cNvPr id="526" name=""/>
            <p:cNvGrpSpPr/>
            <p:nvPr/>
          </p:nvGrpSpPr>
          <p:grpSpPr>
            <a:xfrm>
              <a:off x="1384560" y="1127880"/>
              <a:ext cx="3457080" cy="3748680"/>
              <a:chOff x="1384560" y="1127880"/>
              <a:chExt cx="3457080" cy="374868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1384560" y="1127880"/>
                <a:ext cx="2661480" cy="3748680"/>
                <a:chOff x="1384560" y="1127880"/>
                <a:chExt cx="2661480" cy="3748680"/>
              </a:xfrm>
            </p:grpSpPr>
            <p:sp>
              <p:nvSpPr>
                <p:cNvPr id="528" name=""/>
                <p:cNvSpPr/>
                <p:nvPr/>
              </p:nvSpPr>
              <p:spPr>
                <a:xfrm rot="20096400">
                  <a:off x="2658240" y="115344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1384560" y="1440720"/>
                  <a:ext cx="2661480" cy="3435840"/>
                  <a:chOff x="1384560" y="1440720"/>
                  <a:chExt cx="2661480" cy="343584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1384560" y="1440720"/>
                    <a:ext cx="2661480" cy="3435840"/>
                    <a:chOff x="1384560" y="1440720"/>
                    <a:chExt cx="2661480" cy="34358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4696400">
                      <a:off x="1167120" y="2413080"/>
                      <a:ext cx="3095640" cy="149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4" h="1069">
                          <a:moveTo>
                            <a:pt x="0" y="1053"/>
                          </a:moveTo>
                          <a:cubicBezTo>
                            <a:pt x="45" y="994"/>
                            <a:pt x="172" y="811"/>
                            <a:pt x="270" y="697"/>
                          </a:cubicBezTo>
                          <a:cubicBezTo>
                            <a:pt x="368" y="583"/>
                            <a:pt x="465" y="467"/>
                            <a:pt x="588" y="367"/>
                          </a:cubicBezTo>
                          <a:cubicBezTo>
                            <a:pt x="711" y="267"/>
                            <a:pt x="865" y="160"/>
                            <a:pt x="1008" y="99"/>
                          </a:cubicBezTo>
                          <a:cubicBezTo>
                            <a:pt x="1151" y="38"/>
                            <a:pt x="1291" y="0"/>
                            <a:pt x="1446" y="2"/>
                          </a:cubicBezTo>
                          <a:cubicBezTo>
                            <a:pt x="1598" y="5"/>
                            <a:pt x="1777" y="48"/>
                            <a:pt x="1926" y="115"/>
                          </a:cubicBezTo>
                          <a:cubicBezTo>
                            <a:pt x="2075" y="182"/>
                            <a:pt x="2210" y="292"/>
                            <a:pt x="2340" y="403"/>
                          </a:cubicBezTo>
                          <a:cubicBezTo>
                            <a:pt x="2470" y="514"/>
                            <a:pt x="2607" y="670"/>
                            <a:pt x="2706" y="781"/>
                          </a:cubicBezTo>
                          <a:cubicBezTo>
                            <a:pt x="2805" y="892"/>
                            <a:pt x="2886" y="1009"/>
                            <a:pt x="2934" y="106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2025360" y="2892960"/>
                      <a:ext cx="1225080" cy="573120"/>
                    </a:xfrm>
                    <a:prstGeom prst="line">
                      <a:avLst/>
                    </a:prstGeom>
                    <a:ln w="19080">
                      <a:solidFill>
                        <a:srgbClr val="0099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 rot="20096400">
                    <a:off x="2399400" y="3229920"/>
                    <a:ext cx="74520" cy="7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3074760" y="3383640"/>
                <a:ext cx="1766880" cy="833040"/>
                <a:chOff x="3074760" y="3383640"/>
                <a:chExt cx="1766880" cy="83304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3302640" y="3487680"/>
                  <a:ext cx="1491120" cy="6973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3778920" y="3676320"/>
                  <a:ext cx="319320" cy="149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074760" y="3383640"/>
                  <a:ext cx="1656720" cy="774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3840480" y="3784320"/>
                  <a:ext cx="318960" cy="149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3548880" y="3612240"/>
                  <a:ext cx="1292760" cy="604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3896640" y="3904920"/>
                  <a:ext cx="319320" cy="149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" name=""/>
            <p:cNvSpPr/>
            <p:nvPr/>
          </p:nvSpPr>
          <p:spPr>
            <a:xfrm>
              <a:off x="2392200" y="115740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bo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67440" y="1193400"/>
            <a:ext cx="3201840" cy="3698640"/>
            <a:chOff x="1567440" y="1193400"/>
            <a:chExt cx="3201840" cy="3698640"/>
          </a:xfrm>
        </p:grpSpPr>
        <p:grpSp>
          <p:nvGrpSpPr>
            <p:cNvPr id="543" name=""/>
            <p:cNvGrpSpPr/>
            <p:nvPr/>
          </p:nvGrpSpPr>
          <p:grpSpPr>
            <a:xfrm>
              <a:off x="1567440" y="1193400"/>
              <a:ext cx="3201840" cy="3698640"/>
              <a:chOff x="1567440" y="1193400"/>
              <a:chExt cx="3201840" cy="3698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1567440" y="1193400"/>
                <a:ext cx="2323440" cy="3698640"/>
                <a:chOff x="1567440" y="1193400"/>
                <a:chExt cx="2323440" cy="3698640"/>
              </a:xfrm>
            </p:grpSpPr>
            <p:sp>
              <p:nvSpPr>
                <p:cNvPr id="545" name=""/>
                <p:cNvSpPr/>
                <p:nvPr/>
              </p:nvSpPr>
              <p:spPr>
                <a:xfrm rot="20589600">
                  <a:off x="2939040" y="121392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1567440" y="1497240"/>
                  <a:ext cx="2323440" cy="3394800"/>
                  <a:chOff x="1567440" y="1497240"/>
                  <a:chExt cx="2323440" cy="339480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1567440" y="1497240"/>
                    <a:ext cx="2323440" cy="3394800"/>
                    <a:chOff x="1567440" y="1497240"/>
                    <a:chExt cx="2323440" cy="339480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rot="15189600">
                      <a:off x="1181160" y="2449080"/>
                      <a:ext cx="3095640" cy="149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4" h="1069">
                          <a:moveTo>
                            <a:pt x="0" y="1053"/>
                          </a:moveTo>
                          <a:cubicBezTo>
                            <a:pt x="45" y="994"/>
                            <a:pt x="172" y="811"/>
                            <a:pt x="270" y="697"/>
                          </a:cubicBezTo>
                          <a:cubicBezTo>
                            <a:pt x="368" y="583"/>
                            <a:pt x="465" y="467"/>
                            <a:pt x="588" y="367"/>
                          </a:cubicBezTo>
                          <a:cubicBezTo>
                            <a:pt x="711" y="267"/>
                            <a:pt x="865" y="160"/>
                            <a:pt x="1008" y="99"/>
                          </a:cubicBezTo>
                          <a:cubicBezTo>
                            <a:pt x="1151" y="38"/>
                            <a:pt x="1291" y="0"/>
                            <a:pt x="1446" y="2"/>
                          </a:cubicBezTo>
                          <a:cubicBezTo>
                            <a:pt x="1598" y="5"/>
                            <a:pt x="1777" y="48"/>
                            <a:pt x="1926" y="115"/>
                          </a:cubicBezTo>
                          <a:cubicBezTo>
                            <a:pt x="2075" y="182"/>
                            <a:pt x="2210" y="292"/>
                            <a:pt x="2340" y="403"/>
                          </a:cubicBezTo>
                          <a:cubicBezTo>
                            <a:pt x="2470" y="514"/>
                            <a:pt x="2607" y="670"/>
                            <a:pt x="2706" y="781"/>
                          </a:cubicBezTo>
                          <a:cubicBezTo>
                            <a:pt x="2805" y="892"/>
                            <a:pt x="2886" y="1009"/>
                            <a:pt x="2934" y="106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2002680" y="3008520"/>
                      <a:ext cx="1294560" cy="391680"/>
                    </a:xfrm>
                    <a:prstGeom prst="line">
                      <a:avLst/>
                    </a:prstGeom>
                    <a:ln w="19080">
                      <a:solidFill>
                        <a:srgbClr val="0099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rot="20589600">
                    <a:off x="2400480" y="3225240"/>
                    <a:ext cx="74520" cy="7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"/>
              <p:cNvGrpSpPr/>
              <p:nvPr/>
            </p:nvGrpSpPr>
            <p:grpSpPr>
              <a:xfrm>
                <a:off x="2942280" y="3705840"/>
                <a:ext cx="1827000" cy="655560"/>
                <a:chOff x="2942280" y="3705840"/>
                <a:chExt cx="1827000" cy="655560"/>
              </a:xfrm>
            </p:grpSpPr>
            <p:sp>
              <p:nvSpPr>
                <p:cNvPr id="552" name=""/>
                <p:cNvSpPr/>
                <p:nvPr/>
              </p:nvSpPr>
              <p:spPr>
                <a:xfrm flipV="1">
                  <a:off x="3164040" y="3817440"/>
                  <a:ext cx="1575720" cy="477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3686760" y="3904560"/>
                  <a:ext cx="337320" cy="102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2942280" y="3705840"/>
                  <a:ext cx="1750320" cy="529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3732120" y="4020480"/>
                  <a:ext cx="337320" cy="101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3403080" y="3947760"/>
                  <a:ext cx="1366200" cy="413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H="1">
                  <a:off x="3770640" y="4147920"/>
                  <a:ext cx="337320" cy="101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2868480" y="129060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bo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981080" y="1461960"/>
            <a:ext cx="2498760" cy="3362040"/>
            <a:chOff x="1981080" y="1461960"/>
            <a:chExt cx="2498760" cy="3362040"/>
          </a:xfrm>
        </p:grpSpPr>
        <p:grpSp>
          <p:nvGrpSpPr>
            <p:cNvPr id="560" name=""/>
            <p:cNvGrpSpPr/>
            <p:nvPr/>
          </p:nvGrpSpPr>
          <p:grpSpPr>
            <a:xfrm>
              <a:off x="1981080" y="1461960"/>
              <a:ext cx="2498760" cy="3362040"/>
              <a:chOff x="1981080" y="1461960"/>
              <a:chExt cx="2498760" cy="336204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1981080" y="1461960"/>
                <a:ext cx="1671840" cy="3362040"/>
                <a:chOff x="1981080" y="1461960"/>
                <a:chExt cx="1671840" cy="33620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468600" y="1461960"/>
                  <a:ext cx="184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1981080" y="1728360"/>
                  <a:ext cx="1500480" cy="3095640"/>
                  <a:chOff x="1981080" y="1728360"/>
                  <a:chExt cx="1500480" cy="3095640"/>
                </a:xfrm>
              </p:grpSpPr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1981080" y="1728360"/>
                    <a:ext cx="1500480" cy="3095640"/>
                    <a:chOff x="1981080" y="1728360"/>
                    <a:chExt cx="1500480" cy="309564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6200000">
                      <a:off x="1188360" y="2530800"/>
                      <a:ext cx="3095640" cy="149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4" h="1069">
                          <a:moveTo>
                            <a:pt x="0" y="1053"/>
                          </a:moveTo>
                          <a:cubicBezTo>
                            <a:pt x="45" y="994"/>
                            <a:pt x="172" y="811"/>
                            <a:pt x="270" y="697"/>
                          </a:cubicBezTo>
                          <a:cubicBezTo>
                            <a:pt x="368" y="583"/>
                            <a:pt x="465" y="467"/>
                            <a:pt x="588" y="367"/>
                          </a:cubicBezTo>
                          <a:cubicBezTo>
                            <a:pt x="711" y="267"/>
                            <a:pt x="865" y="160"/>
                            <a:pt x="1008" y="99"/>
                          </a:cubicBezTo>
                          <a:cubicBezTo>
                            <a:pt x="1151" y="38"/>
                            <a:pt x="1291" y="0"/>
                            <a:pt x="1446" y="2"/>
                          </a:cubicBezTo>
                          <a:cubicBezTo>
                            <a:pt x="1598" y="5"/>
                            <a:pt x="1777" y="48"/>
                            <a:pt x="1926" y="115"/>
                          </a:cubicBezTo>
                          <a:cubicBezTo>
                            <a:pt x="2075" y="182"/>
                            <a:pt x="2210" y="292"/>
                            <a:pt x="2340" y="403"/>
                          </a:cubicBezTo>
                          <a:cubicBezTo>
                            <a:pt x="2470" y="514"/>
                            <a:pt x="2607" y="670"/>
                            <a:pt x="2706" y="781"/>
                          </a:cubicBezTo>
                          <a:cubicBezTo>
                            <a:pt x="2805" y="892"/>
                            <a:pt x="2886" y="1009"/>
                            <a:pt x="2934" y="106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1981080" y="3262320"/>
                      <a:ext cx="1352520" cy="0"/>
                    </a:xfrm>
                    <a:prstGeom prst="line">
                      <a:avLst/>
                    </a:prstGeom>
                    <a:ln w="19080">
                      <a:solidFill>
                        <a:srgbClr val="0099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7" name=""/>
                  <p:cNvSpPr/>
                  <p:nvPr/>
                </p:nvSpPr>
                <p:spPr>
                  <a:xfrm>
                    <a:off x="2400480" y="3219480"/>
                    <a:ext cx="74520" cy="7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2638440" y="4330800"/>
                <a:ext cx="1841400" cy="257040"/>
                <a:chOff x="2638440" y="4330800"/>
                <a:chExt cx="1841400" cy="25704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833560" y="4454640"/>
                  <a:ext cx="16462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3417480" y="4330800"/>
                  <a:ext cx="3524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2638440" y="4334040"/>
                  <a:ext cx="18288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3427200" y="4454640"/>
                  <a:ext cx="3524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43080" y="4587840"/>
                  <a:ext cx="1427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>
                  <a:off x="3427200" y="4587840"/>
                  <a:ext cx="3524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" name=""/>
            <p:cNvSpPr/>
            <p:nvPr/>
          </p:nvSpPr>
          <p:spPr>
            <a:xfrm>
              <a:off x="3411360" y="165276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bo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784520" y="1314720"/>
            <a:ext cx="2858400" cy="3562560"/>
            <a:chOff x="1784520" y="1314720"/>
            <a:chExt cx="2858400" cy="3562560"/>
          </a:xfrm>
        </p:grpSpPr>
        <p:grpSp>
          <p:nvGrpSpPr>
            <p:cNvPr id="577" name=""/>
            <p:cNvGrpSpPr/>
            <p:nvPr/>
          </p:nvGrpSpPr>
          <p:grpSpPr>
            <a:xfrm>
              <a:off x="1784520" y="1314720"/>
              <a:ext cx="2858400" cy="3562560"/>
              <a:chOff x="1784520" y="1314720"/>
              <a:chExt cx="2858400" cy="356256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1784520" y="1314720"/>
                <a:ext cx="1912680" cy="3562560"/>
                <a:chOff x="1784520" y="1314720"/>
                <a:chExt cx="1912680" cy="3562560"/>
              </a:xfrm>
            </p:grpSpPr>
            <p:sp>
              <p:nvSpPr>
                <p:cNvPr id="579" name=""/>
                <p:cNvSpPr/>
                <p:nvPr/>
              </p:nvSpPr>
              <p:spPr>
                <a:xfrm rot="21113400">
                  <a:off x="3227040" y="132624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1784520" y="1602360"/>
                  <a:ext cx="1912680" cy="3274920"/>
                  <a:chOff x="1784520" y="1602360"/>
                  <a:chExt cx="1912680" cy="3274920"/>
                </a:xfrm>
              </p:grpSpPr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1784520" y="1602360"/>
                    <a:ext cx="1912680" cy="3274920"/>
                    <a:chOff x="1784520" y="1602360"/>
                    <a:chExt cx="1912680" cy="327492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713400">
                      <a:off x="1192680" y="2494080"/>
                      <a:ext cx="3095640" cy="149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4" h="1069">
                          <a:moveTo>
                            <a:pt x="0" y="1053"/>
                          </a:moveTo>
                          <a:cubicBezTo>
                            <a:pt x="45" y="994"/>
                            <a:pt x="172" y="811"/>
                            <a:pt x="270" y="697"/>
                          </a:cubicBezTo>
                          <a:cubicBezTo>
                            <a:pt x="368" y="583"/>
                            <a:pt x="465" y="467"/>
                            <a:pt x="588" y="367"/>
                          </a:cubicBezTo>
                          <a:cubicBezTo>
                            <a:pt x="711" y="267"/>
                            <a:pt x="865" y="160"/>
                            <a:pt x="1008" y="99"/>
                          </a:cubicBezTo>
                          <a:cubicBezTo>
                            <a:pt x="1151" y="38"/>
                            <a:pt x="1291" y="0"/>
                            <a:pt x="1446" y="2"/>
                          </a:cubicBezTo>
                          <a:cubicBezTo>
                            <a:pt x="1598" y="5"/>
                            <a:pt x="1777" y="48"/>
                            <a:pt x="1926" y="115"/>
                          </a:cubicBezTo>
                          <a:cubicBezTo>
                            <a:pt x="2075" y="182"/>
                            <a:pt x="2210" y="292"/>
                            <a:pt x="2340" y="403"/>
                          </a:cubicBezTo>
                          <a:cubicBezTo>
                            <a:pt x="2470" y="514"/>
                            <a:pt x="2607" y="670"/>
                            <a:pt x="2706" y="781"/>
                          </a:cubicBezTo>
                          <a:cubicBezTo>
                            <a:pt x="2805" y="892"/>
                            <a:pt x="2886" y="1009"/>
                            <a:pt x="2934" y="106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flipV="1">
                      <a:off x="1991160" y="3141720"/>
                      <a:ext cx="1339200" cy="190800"/>
                    </a:xfrm>
                    <a:prstGeom prst="line">
                      <a:avLst/>
                    </a:prstGeom>
                    <a:ln w="19080">
                      <a:solidFill>
                        <a:srgbClr val="0099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 rot="21113400">
                    <a:off x="2405160" y="3225240"/>
                    <a:ext cx="74520" cy="7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5" name=""/>
              <p:cNvGrpSpPr/>
              <p:nvPr/>
            </p:nvGrpSpPr>
            <p:grpSpPr>
              <a:xfrm>
                <a:off x="2793240" y="4042800"/>
                <a:ext cx="1849680" cy="452160"/>
                <a:chOff x="2793240" y="4042800"/>
                <a:chExt cx="1849680" cy="452160"/>
              </a:xfrm>
            </p:grpSpPr>
            <p:sp>
              <p:nvSpPr>
                <p:cNvPr id="586" name=""/>
                <p:cNvSpPr/>
                <p:nvPr/>
              </p:nvSpPr>
              <p:spPr>
                <a:xfrm flipV="1">
                  <a:off x="3003480" y="4160520"/>
                  <a:ext cx="1629720" cy="232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3564000" y="4138200"/>
                  <a:ext cx="348840" cy="49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2793240" y="4042800"/>
                  <a:ext cx="1810440" cy="2581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3591000" y="4259160"/>
                  <a:ext cx="349200" cy="49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3229560" y="4293720"/>
                  <a:ext cx="1413360" cy="201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3610080" y="4391280"/>
                  <a:ext cx="348840" cy="49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" name=""/>
            <p:cNvSpPr/>
            <p:nvPr/>
          </p:nvSpPr>
          <p:spPr>
            <a:xfrm>
              <a:off x="3211560" y="145260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bo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ariants : Folded  Slice  Cameras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659520" y="2027160"/>
            <a:ext cx="3842280" cy="2984400"/>
            <a:chOff x="659520" y="2027160"/>
            <a:chExt cx="3842280" cy="2984400"/>
          </a:xfrm>
        </p:grpSpPr>
        <p:sp>
          <p:nvSpPr>
            <p:cNvPr id="596" name=""/>
            <p:cNvSpPr/>
            <p:nvPr/>
          </p:nvSpPr>
          <p:spPr>
            <a:xfrm flipH="1" flipV="1">
              <a:off x="2122200" y="2587320"/>
              <a:ext cx="966600" cy="154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52520" y="4057200"/>
              <a:ext cx="331920" cy="463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65480" y="3757320"/>
              <a:ext cx="318960" cy="299520"/>
            </a:xfrm>
            <a:custGeom>
              <a:avLst/>
              <a:gdLst>
                <a:gd name="textAreaLeft" fmla="*/ 70200 w 318960"/>
                <a:gd name="textAreaRight" fmla="*/ 248760 w 318960"/>
                <a:gd name="textAreaTop" fmla="*/ 65880 h 299520"/>
                <a:gd name="textAreaBottom" fmla="*/ 233640 h 29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00480" y="3825360"/>
              <a:ext cx="63360" cy="6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425680" y="2027160"/>
              <a:ext cx="0" cy="2984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1197000" y="3684240"/>
              <a:ext cx="2449080" cy="686880"/>
              <a:chOff x="1197000" y="3684240"/>
              <a:chExt cx="2449080" cy="686880"/>
            </a:xfrm>
          </p:grpSpPr>
          <p:sp>
            <p:nvSpPr>
              <p:cNvPr id="602" name=""/>
              <p:cNvSpPr/>
              <p:nvPr/>
            </p:nvSpPr>
            <p:spPr>
              <a:xfrm>
                <a:off x="1197000" y="3684240"/>
                <a:ext cx="1036800" cy="681840"/>
              </a:xfrm>
              <a:custGeom>
                <a:avLst/>
                <a:gdLst/>
                <a:ahLst/>
                <a:rect l="l" t="t" r="r" b="b"/>
                <a:pathLst>
                  <a:path w="718" h="673">
                    <a:moveTo>
                      <a:pt x="718" y="0"/>
                    </a:moveTo>
                    <a:cubicBezTo>
                      <a:pt x="683" y="72"/>
                      <a:pt x="648" y="145"/>
                      <a:pt x="600" y="218"/>
                    </a:cubicBezTo>
                    <a:cubicBezTo>
                      <a:pt x="552" y="291"/>
                      <a:pt x="498" y="372"/>
                      <a:pt x="428" y="436"/>
                    </a:cubicBezTo>
                    <a:cubicBezTo>
                      <a:pt x="358" y="500"/>
                      <a:pt x="253" y="561"/>
                      <a:pt x="182" y="600"/>
                    </a:cubicBezTo>
                    <a:cubicBezTo>
                      <a:pt x="111" y="639"/>
                      <a:pt x="55" y="656"/>
                      <a:pt x="0" y="673"/>
                    </a:cubicBezTo>
                  </a:path>
                </a:pathLst>
              </a:custGeom>
              <a:noFill/>
              <a:ln w="2844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609280" y="3689280"/>
                <a:ext cx="1036800" cy="681840"/>
              </a:xfrm>
              <a:custGeom>
                <a:avLst/>
                <a:gdLst/>
                <a:ahLst/>
                <a:rect l="l" t="t" r="r" b="b"/>
                <a:pathLst>
                  <a:path w="718" h="673">
                    <a:moveTo>
                      <a:pt x="718" y="0"/>
                    </a:moveTo>
                    <a:cubicBezTo>
                      <a:pt x="683" y="72"/>
                      <a:pt x="648" y="145"/>
                      <a:pt x="600" y="218"/>
                    </a:cubicBezTo>
                    <a:cubicBezTo>
                      <a:pt x="552" y="291"/>
                      <a:pt x="498" y="372"/>
                      <a:pt x="428" y="436"/>
                    </a:cubicBezTo>
                    <a:cubicBezTo>
                      <a:pt x="358" y="500"/>
                      <a:pt x="253" y="561"/>
                      <a:pt x="182" y="600"/>
                    </a:cubicBezTo>
                    <a:cubicBezTo>
                      <a:pt x="111" y="639"/>
                      <a:pt x="55" y="656"/>
                      <a:pt x="0" y="673"/>
                    </a:cubicBezTo>
                  </a:path>
                </a:pathLst>
              </a:custGeom>
              <a:noFill/>
              <a:ln w="2844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471680" y="2534760"/>
              <a:ext cx="1869840" cy="626400"/>
              <a:chOff x="1471680" y="2534760"/>
              <a:chExt cx="1869840" cy="626400"/>
            </a:xfrm>
          </p:grpSpPr>
          <p:sp>
            <p:nvSpPr>
              <p:cNvPr id="605" name=""/>
              <p:cNvSpPr/>
              <p:nvPr/>
            </p:nvSpPr>
            <p:spPr>
              <a:xfrm>
                <a:off x="1471680" y="2538720"/>
                <a:ext cx="956160" cy="622440"/>
              </a:xfrm>
              <a:custGeom>
                <a:avLst/>
                <a:gdLst/>
                <a:ahLst/>
                <a:rect l="l" t="t" r="r" b="b"/>
                <a:pathLst>
                  <a:path w="700" h="582">
                    <a:moveTo>
                      <a:pt x="0" y="582"/>
                    </a:moveTo>
                    <a:cubicBezTo>
                      <a:pt x="18" y="546"/>
                      <a:pt x="62" y="435"/>
                      <a:pt x="109" y="364"/>
                    </a:cubicBezTo>
                    <a:cubicBezTo>
                      <a:pt x="156" y="293"/>
                      <a:pt x="217" y="211"/>
                      <a:pt x="284" y="156"/>
                    </a:cubicBezTo>
                    <a:cubicBezTo>
                      <a:pt x="351" y="101"/>
                      <a:pt x="440" y="62"/>
                      <a:pt x="509" y="36"/>
                    </a:cubicBezTo>
                    <a:cubicBezTo>
                      <a:pt x="578" y="10"/>
                      <a:pt x="660" y="7"/>
                      <a:pt x="700" y="0"/>
                    </a:cubicBezTo>
                  </a:path>
                </a:pathLst>
              </a:custGeom>
              <a:noFill/>
              <a:ln w="2844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385360" y="2534760"/>
                <a:ext cx="956160" cy="622440"/>
              </a:xfrm>
              <a:custGeom>
                <a:avLst/>
                <a:gdLst/>
                <a:ahLst/>
                <a:rect l="l" t="t" r="r" b="b"/>
                <a:pathLst>
                  <a:path w="700" h="582">
                    <a:moveTo>
                      <a:pt x="0" y="582"/>
                    </a:moveTo>
                    <a:cubicBezTo>
                      <a:pt x="18" y="546"/>
                      <a:pt x="62" y="435"/>
                      <a:pt x="109" y="364"/>
                    </a:cubicBezTo>
                    <a:cubicBezTo>
                      <a:pt x="156" y="293"/>
                      <a:pt x="217" y="211"/>
                      <a:pt x="284" y="156"/>
                    </a:cubicBezTo>
                    <a:cubicBezTo>
                      <a:pt x="351" y="101"/>
                      <a:pt x="440" y="62"/>
                      <a:pt x="509" y="36"/>
                    </a:cubicBezTo>
                    <a:cubicBezTo>
                      <a:pt x="578" y="10"/>
                      <a:pt x="660" y="7"/>
                      <a:pt x="700" y="0"/>
                    </a:cubicBezTo>
                  </a:path>
                </a:pathLst>
              </a:custGeom>
              <a:noFill/>
              <a:ln w="2844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2395440" y="3034800"/>
              <a:ext cx="63720" cy="69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89160" y="4132080"/>
              <a:ext cx="134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71840" y="4327200"/>
              <a:ext cx="94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2020680" y="2629800"/>
              <a:ext cx="1515960" cy="170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92240" y="2630160"/>
              <a:ext cx="447840" cy="125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22560" y="2572920"/>
              <a:ext cx="317520" cy="131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2815920"/>
              <a:ext cx="90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ellipsoid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rr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9520" y="3849480"/>
              <a:ext cx="10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hat-shapp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rr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5080" y="455436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ame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796920" y="4127040"/>
              <a:ext cx="29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796920" y="4330440"/>
              <a:ext cx="29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16680" y="379692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llel  she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879080" y="2039760"/>
            <a:ext cx="3795120" cy="2984400"/>
            <a:chOff x="4879080" y="2039760"/>
            <a:chExt cx="3795120" cy="2984400"/>
          </a:xfrm>
        </p:grpSpPr>
        <p:sp>
          <p:nvSpPr>
            <p:cNvPr id="620" name=""/>
            <p:cNvSpPr/>
            <p:nvPr/>
          </p:nvSpPr>
          <p:spPr>
            <a:xfrm>
              <a:off x="6418440" y="4044600"/>
              <a:ext cx="331560" cy="4636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31040" y="3744720"/>
              <a:ext cx="318960" cy="299880"/>
            </a:xfrm>
            <a:custGeom>
              <a:avLst/>
              <a:gdLst>
                <a:gd name="textAreaLeft" fmla="*/ 70200 w 318960"/>
                <a:gd name="textAreaRight" fmla="*/ 248760 w 318960"/>
                <a:gd name="textAreaTop" fmla="*/ 65880 h 299880"/>
                <a:gd name="textAreaBottom" fmla="*/ 23400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66040" y="3812760"/>
              <a:ext cx="63360" cy="6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77240" y="4093920"/>
              <a:ext cx="1587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9120" y="4289040"/>
              <a:ext cx="140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79080" y="2803320"/>
              <a:ext cx="96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boloi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rr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89840" y="3862080"/>
              <a:ext cx="71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o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rr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6200" y="45414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ame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785000" y="4089240"/>
              <a:ext cx="29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785000" y="4292280"/>
              <a:ext cx="29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9640" y="378432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arallel  she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651640" y="3885840"/>
              <a:ext cx="660240" cy="660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5400" y="3885840"/>
              <a:ext cx="660240" cy="660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400" y="2693520"/>
              <a:ext cx="1892160" cy="544680"/>
            </a:xfrm>
            <a:custGeom>
              <a:avLst/>
              <a:gdLst/>
              <a:ahLst/>
              <a:rect l="l" t="t" r="r" b="b"/>
              <a:pathLst>
                <a:path w="2934" h="1069">
                  <a:moveTo>
                    <a:pt x="0" y="1053"/>
                  </a:moveTo>
                  <a:cubicBezTo>
                    <a:pt x="45" y="994"/>
                    <a:pt x="172" y="811"/>
                    <a:pt x="270" y="697"/>
                  </a:cubicBezTo>
                  <a:cubicBezTo>
                    <a:pt x="368" y="583"/>
                    <a:pt x="465" y="467"/>
                    <a:pt x="588" y="367"/>
                  </a:cubicBezTo>
                  <a:cubicBezTo>
                    <a:pt x="711" y="267"/>
                    <a:pt x="865" y="160"/>
                    <a:pt x="1008" y="99"/>
                  </a:cubicBezTo>
                  <a:cubicBezTo>
                    <a:pt x="1151" y="38"/>
                    <a:pt x="1291" y="0"/>
                    <a:pt x="1446" y="2"/>
                  </a:cubicBezTo>
                  <a:cubicBezTo>
                    <a:pt x="1598" y="5"/>
                    <a:pt x="1777" y="48"/>
                    <a:pt x="1926" y="115"/>
                  </a:cubicBezTo>
                  <a:cubicBezTo>
                    <a:pt x="2075" y="182"/>
                    <a:pt x="2210" y="292"/>
                    <a:pt x="2340" y="403"/>
                  </a:cubicBezTo>
                  <a:cubicBezTo>
                    <a:pt x="2470" y="514"/>
                    <a:pt x="2607" y="670"/>
                    <a:pt x="2706" y="781"/>
                  </a:cubicBezTo>
                  <a:cubicBezTo>
                    <a:pt x="2805" y="892"/>
                    <a:pt x="2886" y="1009"/>
                    <a:pt x="2934" y="1069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264440" y="2983680"/>
              <a:ext cx="0" cy="1320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061400" y="2844360"/>
              <a:ext cx="0" cy="124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604200" y="2844360"/>
              <a:ext cx="457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604200" y="3009600"/>
              <a:ext cx="66024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591240" y="2039760"/>
              <a:ext cx="0" cy="2984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01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9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60  Sheet  Camera  Rotation </a:t>
            </a:r>
            <a:endParaRPr b="0" lang="en-US" sz="2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5086440" y="251460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03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134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233360" y="1930320"/>
            <a:ext cx="6654960" cy="332892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60 x 360  Spherical  Mosaic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construction of Step Edge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>
            <a:lum contrast="12000"/>
          </a:blip>
          <a:srcRect l="0" t="15208" r="26312" b="31187"/>
          <a:stretch/>
        </p:blipFill>
        <p:spPr>
          <a:xfrm>
            <a:off x="1481040" y="2413080"/>
            <a:ext cx="2548080" cy="19666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rcRect l="0" t="-8554" r="-6275" b="-4820"/>
          <a:stretch/>
        </p:blipFill>
        <p:spPr>
          <a:xfrm>
            <a:off x="4962600" y="2236680"/>
            <a:ext cx="2684520" cy="231156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4081320" y="3287880"/>
            <a:ext cx="824040" cy="0"/>
          </a:xfrm>
          <a:prstGeom prst="line">
            <a:avLst/>
          </a:prstGeom>
          <a:ln w="93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82120" y="298116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261520" y="20019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 Pixel Dis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45960" y="202392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 Pixel Dis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60 x 360  Stereo  Mosaics</a:t>
            </a:r>
            <a:endParaRPr b="0" lang="en-US" sz="2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689040" y="99072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5800" y="1854360"/>
            <a:ext cx="277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lice  Camera  Rot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168560" y="2793960"/>
            <a:ext cx="2924640" cy="2222280"/>
            <a:chOff x="1168560" y="2793960"/>
            <a:chExt cx="2924640" cy="2222280"/>
          </a:xfrm>
        </p:grpSpPr>
        <p:sp>
          <p:nvSpPr>
            <p:cNvPr id="657" name=""/>
            <p:cNvSpPr/>
            <p:nvPr/>
          </p:nvSpPr>
          <p:spPr>
            <a:xfrm>
              <a:off x="2698920" y="3562200"/>
              <a:ext cx="631800" cy="298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24160" y="3655800"/>
              <a:ext cx="125280" cy="103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05200" y="4694040"/>
              <a:ext cx="755640" cy="109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387520" y="2882880"/>
              <a:ext cx="0" cy="2133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92640" y="3189240"/>
              <a:ext cx="239760" cy="1079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68560" y="3460680"/>
              <a:ext cx="2340000" cy="509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177920" y="3698640"/>
              <a:ext cx="1200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39800" y="3462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b /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27320" y="3035160"/>
              <a:ext cx="284040" cy="204840"/>
            </a:xfrm>
            <a:custGeom>
              <a:avLst/>
              <a:gdLst>
                <a:gd name="textAreaLeft" fmla="*/ 37800 w 284040"/>
                <a:gd name="textAreaRight" fmla="*/ 246240 w 284040"/>
                <a:gd name="textAreaTop" fmla="*/ 35640 h 204840"/>
                <a:gd name="textAreaBottom" fmla="*/ 14868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0080" y="3655800"/>
              <a:ext cx="266760" cy="93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27240" y="2793960"/>
              <a:ext cx="1065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360  Sl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731840" y="1828800"/>
            <a:ext cx="3591000" cy="3322080"/>
            <a:chOff x="4731840" y="1828800"/>
            <a:chExt cx="3591000" cy="3322080"/>
          </a:xfrm>
        </p:grpSpPr>
        <p:grpSp>
          <p:nvGrpSpPr>
            <p:cNvPr id="669" name=""/>
            <p:cNvGrpSpPr/>
            <p:nvPr/>
          </p:nvGrpSpPr>
          <p:grpSpPr>
            <a:xfrm>
              <a:off x="5816880" y="2514600"/>
              <a:ext cx="2505960" cy="2636280"/>
              <a:chOff x="5816880" y="2514600"/>
              <a:chExt cx="2505960" cy="2636280"/>
            </a:xfrm>
          </p:grpSpPr>
          <p:sp>
            <p:nvSpPr>
              <p:cNvPr id="670" name=""/>
              <p:cNvSpPr/>
              <p:nvPr/>
            </p:nvSpPr>
            <p:spPr>
              <a:xfrm>
                <a:off x="6076800" y="2974680"/>
                <a:ext cx="1839240" cy="1810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07400" y="3834360"/>
                <a:ext cx="1808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363360" y="354492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935400" y="3793320"/>
                <a:ext cx="12240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6853680" y="3711240"/>
                <a:ext cx="306360" cy="276120"/>
                <a:chOff x="6853680" y="3711240"/>
                <a:chExt cx="306360" cy="2761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853680" y="3711240"/>
                  <a:ext cx="306360" cy="276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6976080" y="3711240"/>
                  <a:ext cx="71280" cy="1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7926480" y="2821320"/>
                <a:ext cx="0" cy="195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76800" y="2841840"/>
                <a:ext cx="0" cy="195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36680" y="481500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Lef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18760" y="251460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Lef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16880" y="2555280"/>
                <a:ext cx="68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Righ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36320" y="4807080"/>
                <a:ext cx="68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Righ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4731840" y="1828800"/>
              <a:ext cx="266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eft  and  Right  Views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7640" y="5657760"/>
            <a:ext cx="3467160" cy="933480"/>
            <a:chOff x="647640" y="5657760"/>
            <a:chExt cx="3467160" cy="933480"/>
          </a:xfrm>
        </p:grpSpPr>
        <p:sp>
          <p:nvSpPr>
            <p:cNvPr id="685" name=""/>
            <p:cNvSpPr/>
            <p:nvPr/>
          </p:nvSpPr>
          <p:spPr>
            <a:xfrm>
              <a:off x="704880" y="5709960"/>
              <a:ext cx="34070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Stereo  Panorama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shiguro et al. 92,  Huang and Hung 9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Peleg and Ben-Ezra 99, Shum et al. 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7640" y="5657760"/>
              <a:ext cx="3467160" cy="93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930480" y="0"/>
            <a:ext cx="14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eft  Pano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98800" y="341136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ight  Pano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824120" y="425520"/>
            <a:ext cx="5607000" cy="28051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827360" y="3795840"/>
            <a:ext cx="560232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maller Fields of View  ( Panoramas )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284560" y="1440000"/>
            <a:ext cx="2847960" cy="45622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5086440" y="35686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 de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05320" y="1206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5 d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361760" y="59562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-45 d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08680" y="3378240"/>
            <a:ext cx="59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ix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415320" y="6286680"/>
            <a:ext cx="59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ix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324160" y="6311880"/>
            <a:ext cx="275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43280" y="1434960"/>
            <a:ext cx="12600" cy="4559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032520" y="3467160"/>
            <a:ext cx="2555640" cy="469800"/>
            <a:chOff x="6032520" y="3467160"/>
            <a:chExt cx="2555640" cy="469800"/>
          </a:xfrm>
        </p:grpSpPr>
        <p:sp>
          <p:nvSpPr>
            <p:cNvPr id="702" name=""/>
            <p:cNvSpPr/>
            <p:nvPr/>
          </p:nvSpPr>
          <p:spPr>
            <a:xfrm>
              <a:off x="6119640" y="3557520"/>
              <a:ext cx="24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ncrease in Resolution: </a:t>
              </a:r>
              <a:r>
                <a:rPr b="0" lang="en-US" sz="1400" spc="-1" strike="noStrike">
                  <a:solidFill>
                    <a:srgbClr val="ff9933"/>
                  </a:solidFill>
                  <a:latin typeface="Comic Sans MS"/>
                </a:rPr>
                <a:t>2:1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3467160"/>
              <a:ext cx="2502000" cy="4698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085760" y="2095560"/>
            <a:ext cx="3124440" cy="3105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44240" y="2922480"/>
            <a:ext cx="369612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asy  Capture 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se  a  Low  Resolution  CC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mpute a High Resolution Mosa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1160" y="1717560"/>
            <a:ext cx="2190240" cy="3101760"/>
            <a:chOff x="1181160" y="1717560"/>
            <a:chExt cx="2190240" cy="3101760"/>
          </a:xfrm>
        </p:grpSpPr>
        <p:grpSp>
          <p:nvGrpSpPr>
            <p:cNvPr id="128" name=""/>
            <p:cNvGrpSpPr/>
            <p:nvPr/>
          </p:nvGrpSpPr>
          <p:grpSpPr>
            <a:xfrm>
              <a:off x="2007000" y="3082680"/>
              <a:ext cx="1364400" cy="1736640"/>
              <a:chOff x="2007000" y="3082680"/>
              <a:chExt cx="1364400" cy="1736640"/>
            </a:xfrm>
          </p:grpSpPr>
          <p:sp>
            <p:nvSpPr>
              <p:cNvPr id="129" name=""/>
              <p:cNvSpPr/>
              <p:nvPr/>
            </p:nvSpPr>
            <p:spPr>
              <a:xfrm>
                <a:off x="2682000" y="3205440"/>
                <a:ext cx="689400" cy="1598400"/>
              </a:xfrm>
              <a:custGeom>
                <a:avLst/>
                <a:gdLst/>
                <a:ahLst/>
                <a:rect l="l" t="t" r="r" b="b"/>
                <a:pathLst>
                  <a:path w="564" h="1248">
                    <a:moveTo>
                      <a:pt x="0" y="0"/>
                    </a:moveTo>
                    <a:cubicBezTo>
                      <a:pt x="31" y="10"/>
                      <a:pt x="131" y="10"/>
                      <a:pt x="184" y="48"/>
                    </a:cubicBezTo>
                    <a:cubicBezTo>
                      <a:pt x="237" y="86"/>
                      <a:pt x="298" y="170"/>
                      <a:pt x="316" y="227"/>
                    </a:cubicBezTo>
                    <a:cubicBezTo>
                      <a:pt x="334" y="284"/>
                      <a:pt x="311" y="345"/>
                      <a:pt x="290" y="393"/>
                    </a:cubicBezTo>
                    <a:cubicBezTo>
                      <a:pt x="269" y="440"/>
                      <a:pt x="217" y="484"/>
                      <a:pt x="189" y="512"/>
                    </a:cubicBezTo>
                    <a:cubicBezTo>
                      <a:pt x="162" y="539"/>
                      <a:pt x="139" y="530"/>
                      <a:pt x="126" y="559"/>
                    </a:cubicBezTo>
                    <a:cubicBezTo>
                      <a:pt x="113" y="588"/>
                      <a:pt x="95" y="656"/>
                      <a:pt x="112" y="684"/>
                    </a:cubicBezTo>
                    <a:cubicBezTo>
                      <a:pt x="129" y="712"/>
                      <a:pt x="181" y="708"/>
                      <a:pt x="227" y="725"/>
                    </a:cubicBezTo>
                    <a:cubicBezTo>
                      <a:pt x="273" y="742"/>
                      <a:pt x="347" y="759"/>
                      <a:pt x="391" y="785"/>
                    </a:cubicBezTo>
                    <a:cubicBezTo>
                      <a:pt x="436" y="811"/>
                      <a:pt x="465" y="822"/>
                      <a:pt x="492" y="880"/>
                    </a:cubicBezTo>
                    <a:cubicBezTo>
                      <a:pt x="520" y="937"/>
                      <a:pt x="547" y="1068"/>
                      <a:pt x="556" y="1129"/>
                    </a:cubicBezTo>
                    <a:cubicBezTo>
                      <a:pt x="564" y="1191"/>
                      <a:pt x="553" y="1219"/>
                      <a:pt x="543" y="12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006640" y="3220920"/>
                <a:ext cx="689400" cy="1598400"/>
              </a:xfrm>
              <a:custGeom>
                <a:avLst/>
                <a:gdLst/>
                <a:ahLst/>
                <a:rect l="l" t="t" r="r" b="b"/>
                <a:pathLst>
                  <a:path w="564" h="1248">
                    <a:moveTo>
                      <a:pt x="0" y="0"/>
                    </a:moveTo>
                    <a:cubicBezTo>
                      <a:pt x="31" y="10"/>
                      <a:pt x="131" y="10"/>
                      <a:pt x="184" y="48"/>
                    </a:cubicBezTo>
                    <a:cubicBezTo>
                      <a:pt x="237" y="86"/>
                      <a:pt x="298" y="170"/>
                      <a:pt x="316" y="227"/>
                    </a:cubicBezTo>
                    <a:cubicBezTo>
                      <a:pt x="334" y="284"/>
                      <a:pt x="311" y="345"/>
                      <a:pt x="290" y="393"/>
                    </a:cubicBezTo>
                    <a:cubicBezTo>
                      <a:pt x="269" y="440"/>
                      <a:pt x="217" y="484"/>
                      <a:pt x="189" y="512"/>
                    </a:cubicBezTo>
                    <a:cubicBezTo>
                      <a:pt x="162" y="539"/>
                      <a:pt x="139" y="530"/>
                      <a:pt x="126" y="559"/>
                    </a:cubicBezTo>
                    <a:cubicBezTo>
                      <a:pt x="113" y="588"/>
                      <a:pt x="95" y="656"/>
                      <a:pt x="112" y="684"/>
                    </a:cubicBezTo>
                    <a:cubicBezTo>
                      <a:pt x="129" y="712"/>
                      <a:pt x="181" y="708"/>
                      <a:pt x="227" y="725"/>
                    </a:cubicBezTo>
                    <a:cubicBezTo>
                      <a:pt x="273" y="742"/>
                      <a:pt x="347" y="759"/>
                      <a:pt x="391" y="785"/>
                    </a:cubicBezTo>
                    <a:cubicBezTo>
                      <a:pt x="436" y="811"/>
                      <a:pt x="465" y="822"/>
                      <a:pt x="492" y="880"/>
                    </a:cubicBezTo>
                    <a:cubicBezTo>
                      <a:pt x="520" y="937"/>
                      <a:pt x="547" y="1068"/>
                      <a:pt x="556" y="1129"/>
                    </a:cubicBezTo>
                    <a:cubicBezTo>
                      <a:pt x="564" y="1191"/>
                      <a:pt x="553" y="1219"/>
                      <a:pt x="543" y="12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22960" y="3497400"/>
                <a:ext cx="117360" cy="76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49880" y="3758760"/>
                <a:ext cx="293040" cy="79200"/>
              </a:xfrm>
              <a:custGeom>
                <a:avLst/>
                <a:gdLst/>
                <a:ahLst/>
                <a:rect l="l" t="t" r="r" b="b"/>
                <a:pathLst>
                  <a:path w="240" h="62">
                    <a:moveTo>
                      <a:pt x="0" y="12"/>
                    </a:moveTo>
                    <a:cubicBezTo>
                      <a:pt x="40" y="37"/>
                      <a:pt x="80" y="62"/>
                      <a:pt x="120" y="60"/>
                    </a:cubicBezTo>
                    <a:cubicBezTo>
                      <a:pt x="160" y="58"/>
                      <a:pt x="200" y="29"/>
                      <a:pt x="24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3480" bIns="3348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52480" y="3082680"/>
                <a:ext cx="102240" cy="368640"/>
              </a:xfrm>
              <a:custGeom>
                <a:avLst/>
                <a:gdLst/>
                <a:ahLst/>
                <a:rect l="l" t="t" r="r" b="b"/>
                <a:pathLst>
                  <a:path w="72" h="372">
                    <a:moveTo>
                      <a:pt x="72" y="0"/>
                    </a:moveTo>
                    <a:cubicBezTo>
                      <a:pt x="48" y="17"/>
                      <a:pt x="24" y="34"/>
                      <a:pt x="12" y="96"/>
                    </a:cubicBezTo>
                    <a:cubicBezTo>
                      <a:pt x="0" y="158"/>
                      <a:pt x="0" y="265"/>
                      <a:pt x="0" y="37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59080" y="3912480"/>
                <a:ext cx="674640" cy="207360"/>
              </a:xfrm>
              <a:custGeom>
                <a:avLst/>
                <a:gdLst/>
                <a:ahLst/>
                <a:rect l="l" t="t" r="r" b="b"/>
                <a:pathLst>
                  <a:path w="552" h="162">
                    <a:moveTo>
                      <a:pt x="0" y="36"/>
                    </a:moveTo>
                    <a:cubicBezTo>
                      <a:pt x="75" y="81"/>
                      <a:pt x="150" y="126"/>
                      <a:pt x="204" y="144"/>
                    </a:cubicBezTo>
                    <a:cubicBezTo>
                      <a:pt x="258" y="162"/>
                      <a:pt x="280" y="154"/>
                      <a:pt x="324" y="144"/>
                    </a:cubicBezTo>
                    <a:cubicBezTo>
                      <a:pt x="368" y="134"/>
                      <a:pt x="430" y="108"/>
                      <a:pt x="468" y="84"/>
                    </a:cubicBezTo>
                    <a:cubicBezTo>
                      <a:pt x="506" y="60"/>
                      <a:pt x="529" y="30"/>
                      <a:pt x="5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181160" y="1717560"/>
              <a:ext cx="18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012760" y="1743120"/>
            <a:ext cx="1363320" cy="3070800"/>
            <a:chOff x="2012760" y="1743120"/>
            <a:chExt cx="1363320" cy="3070800"/>
          </a:xfrm>
        </p:grpSpPr>
        <p:grpSp>
          <p:nvGrpSpPr>
            <p:cNvPr id="137" name=""/>
            <p:cNvGrpSpPr/>
            <p:nvPr/>
          </p:nvGrpSpPr>
          <p:grpSpPr>
            <a:xfrm>
              <a:off x="2012760" y="3077640"/>
              <a:ext cx="1363320" cy="1736280"/>
              <a:chOff x="2012760" y="3077640"/>
              <a:chExt cx="1363320" cy="1736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012760" y="3200400"/>
                <a:ext cx="1363320" cy="1613520"/>
                <a:chOff x="2012760" y="3200400"/>
                <a:chExt cx="1363320" cy="16135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87040" y="3200400"/>
                  <a:ext cx="689040" cy="1598400"/>
                </a:xfrm>
                <a:custGeom>
                  <a:avLst/>
                  <a:gdLst/>
                  <a:ahLst/>
                  <a:rect l="l" t="t" r="r" b="b"/>
                  <a:pathLst>
                    <a:path w="564" h="1248">
                      <a:moveTo>
                        <a:pt x="0" y="0"/>
                      </a:moveTo>
                      <a:cubicBezTo>
                        <a:pt x="31" y="10"/>
                        <a:pt x="131" y="10"/>
                        <a:pt x="184" y="48"/>
                      </a:cubicBezTo>
                      <a:cubicBezTo>
                        <a:pt x="237" y="86"/>
                        <a:pt x="298" y="170"/>
                        <a:pt x="316" y="227"/>
                      </a:cubicBezTo>
                      <a:cubicBezTo>
                        <a:pt x="334" y="284"/>
                        <a:pt x="311" y="345"/>
                        <a:pt x="290" y="393"/>
                      </a:cubicBezTo>
                      <a:cubicBezTo>
                        <a:pt x="269" y="440"/>
                        <a:pt x="217" y="484"/>
                        <a:pt x="189" y="512"/>
                      </a:cubicBezTo>
                      <a:cubicBezTo>
                        <a:pt x="162" y="539"/>
                        <a:pt x="139" y="530"/>
                        <a:pt x="126" y="559"/>
                      </a:cubicBezTo>
                      <a:cubicBezTo>
                        <a:pt x="113" y="588"/>
                        <a:pt x="95" y="656"/>
                        <a:pt x="112" y="684"/>
                      </a:cubicBezTo>
                      <a:cubicBezTo>
                        <a:pt x="129" y="712"/>
                        <a:pt x="181" y="708"/>
                        <a:pt x="227" y="725"/>
                      </a:cubicBezTo>
                      <a:cubicBezTo>
                        <a:pt x="273" y="742"/>
                        <a:pt x="347" y="759"/>
                        <a:pt x="391" y="785"/>
                      </a:cubicBezTo>
                      <a:cubicBezTo>
                        <a:pt x="436" y="811"/>
                        <a:pt x="465" y="822"/>
                        <a:pt x="492" y="880"/>
                      </a:cubicBezTo>
                      <a:cubicBezTo>
                        <a:pt x="520" y="937"/>
                        <a:pt x="547" y="1068"/>
                        <a:pt x="556" y="1129"/>
                      </a:cubicBezTo>
                      <a:cubicBezTo>
                        <a:pt x="564" y="1191"/>
                        <a:pt x="553" y="1219"/>
                        <a:pt x="543" y="124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2012400" y="3215520"/>
                  <a:ext cx="688680" cy="1598400"/>
                </a:xfrm>
                <a:custGeom>
                  <a:avLst/>
                  <a:gdLst/>
                  <a:ahLst/>
                  <a:rect l="l" t="t" r="r" b="b"/>
                  <a:pathLst>
                    <a:path w="564" h="1248">
                      <a:moveTo>
                        <a:pt x="0" y="0"/>
                      </a:moveTo>
                      <a:cubicBezTo>
                        <a:pt x="31" y="10"/>
                        <a:pt x="131" y="10"/>
                        <a:pt x="184" y="48"/>
                      </a:cubicBezTo>
                      <a:cubicBezTo>
                        <a:pt x="237" y="86"/>
                        <a:pt x="298" y="170"/>
                        <a:pt x="316" y="227"/>
                      </a:cubicBezTo>
                      <a:cubicBezTo>
                        <a:pt x="334" y="284"/>
                        <a:pt x="311" y="345"/>
                        <a:pt x="290" y="393"/>
                      </a:cubicBezTo>
                      <a:cubicBezTo>
                        <a:pt x="269" y="440"/>
                        <a:pt x="217" y="484"/>
                        <a:pt x="189" y="512"/>
                      </a:cubicBezTo>
                      <a:cubicBezTo>
                        <a:pt x="162" y="539"/>
                        <a:pt x="139" y="530"/>
                        <a:pt x="126" y="559"/>
                      </a:cubicBezTo>
                      <a:cubicBezTo>
                        <a:pt x="113" y="588"/>
                        <a:pt x="95" y="656"/>
                        <a:pt x="112" y="684"/>
                      </a:cubicBezTo>
                      <a:cubicBezTo>
                        <a:pt x="129" y="712"/>
                        <a:pt x="181" y="708"/>
                        <a:pt x="227" y="725"/>
                      </a:cubicBezTo>
                      <a:cubicBezTo>
                        <a:pt x="273" y="742"/>
                        <a:pt x="347" y="759"/>
                        <a:pt x="391" y="785"/>
                      </a:cubicBezTo>
                      <a:cubicBezTo>
                        <a:pt x="436" y="811"/>
                        <a:pt x="465" y="822"/>
                        <a:pt x="492" y="880"/>
                      </a:cubicBezTo>
                      <a:cubicBezTo>
                        <a:pt x="520" y="937"/>
                        <a:pt x="547" y="1068"/>
                        <a:pt x="556" y="1129"/>
                      </a:cubicBezTo>
                      <a:cubicBezTo>
                        <a:pt x="564" y="1191"/>
                        <a:pt x="553" y="1219"/>
                        <a:pt x="543" y="124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482200" y="3492360"/>
                  <a:ext cx="117000" cy="763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90000" y="3507840"/>
                  <a:ext cx="117000" cy="763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555280" y="3753360"/>
                  <a:ext cx="293040" cy="79560"/>
                </a:xfrm>
                <a:custGeom>
                  <a:avLst/>
                  <a:gdLst/>
                  <a:ahLst/>
                  <a:rect l="l" t="t" r="r" b="b"/>
                  <a:pathLst>
                    <a:path w="240" h="62">
                      <a:moveTo>
                        <a:pt x="0" y="12"/>
                      </a:moveTo>
                      <a:cubicBezTo>
                        <a:pt x="40" y="37"/>
                        <a:pt x="80" y="62"/>
                        <a:pt x="120" y="60"/>
                      </a:cubicBezTo>
                      <a:cubicBezTo>
                        <a:pt x="160" y="58"/>
                        <a:pt x="200" y="29"/>
                        <a:pt x="240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3840" bIns="3384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657880" y="3077640"/>
                <a:ext cx="102240" cy="368640"/>
              </a:xfrm>
              <a:custGeom>
                <a:avLst/>
                <a:gdLst/>
                <a:ahLst/>
                <a:rect l="l" t="t" r="r" b="b"/>
                <a:pathLst>
                  <a:path w="72" h="372">
                    <a:moveTo>
                      <a:pt x="72" y="0"/>
                    </a:moveTo>
                    <a:cubicBezTo>
                      <a:pt x="48" y="17"/>
                      <a:pt x="24" y="34"/>
                      <a:pt x="12" y="96"/>
                    </a:cubicBezTo>
                    <a:cubicBezTo>
                      <a:pt x="0" y="158"/>
                      <a:pt x="0" y="265"/>
                      <a:pt x="0" y="37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64840" y="3907440"/>
                <a:ext cx="674280" cy="207720"/>
              </a:xfrm>
              <a:custGeom>
                <a:avLst/>
                <a:gdLst/>
                <a:ahLst/>
                <a:rect l="l" t="t" r="r" b="b"/>
                <a:pathLst>
                  <a:path w="552" h="162">
                    <a:moveTo>
                      <a:pt x="0" y="36"/>
                    </a:moveTo>
                    <a:cubicBezTo>
                      <a:pt x="75" y="81"/>
                      <a:pt x="150" y="126"/>
                      <a:pt x="204" y="144"/>
                    </a:cubicBezTo>
                    <a:cubicBezTo>
                      <a:pt x="258" y="162"/>
                      <a:pt x="280" y="154"/>
                      <a:pt x="324" y="144"/>
                    </a:cubicBezTo>
                    <a:cubicBezTo>
                      <a:pt x="368" y="134"/>
                      <a:pt x="430" y="108"/>
                      <a:pt x="468" y="84"/>
                    </a:cubicBezTo>
                    <a:cubicBezTo>
                      <a:pt x="506" y="60"/>
                      <a:pt x="529" y="30"/>
                      <a:pt x="5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07520" y="1743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28840" y="2114640"/>
            <a:ext cx="2400120" cy="3085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0160" y="2076480"/>
            <a:ext cx="1238400" cy="3105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86080" y="2381400"/>
            <a:ext cx="2286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67000" y="4419720"/>
            <a:ext cx="2342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952720"/>
            <a:ext cx="299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753000"/>
            <a:ext cx="299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485640" y="2573280"/>
            <a:ext cx="8278920" cy="2086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901600" y="1039680"/>
            <a:ext cx="3656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Georgia"/>
              </a:rPr>
              <a:t>Stereoscopic  Pano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mmary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15160" y="1373040"/>
            <a:ext cx="30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60 x 360 Spherical Mosa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74120" y="198288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gular  and  Ster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352880" y="2567160"/>
            <a:ext cx="33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igh Resolution Slice Cam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114640" y="3981600"/>
            <a:ext cx="4876560" cy="571320"/>
            <a:chOff x="2114640" y="3981600"/>
            <a:chExt cx="4876560" cy="571320"/>
          </a:xfrm>
        </p:grpSpPr>
        <p:sp>
          <p:nvSpPr>
            <p:cNvPr id="712" name=""/>
            <p:cNvSpPr/>
            <p:nvPr/>
          </p:nvSpPr>
          <p:spPr>
            <a:xfrm>
              <a:off x="2171160" y="4103640"/>
              <a:ext cx="45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Catadioptrics:     Solid Angles to Image Are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14640" y="3981600"/>
              <a:ext cx="4876560" cy="571320"/>
            </a:xfrm>
            <a:prstGeom prst="rect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pherical  Mosaics  from  Strips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89040" y="99072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3880" y="1866960"/>
            <a:ext cx="163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nit  Sphe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53600" y="1841400"/>
            <a:ext cx="252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herical  Panoram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048120"/>
            <a:ext cx="2184480" cy="2095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63840" y="2577960"/>
            <a:ext cx="0" cy="1562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440" y="4152960"/>
            <a:ext cx="15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308240" y="4152960"/>
            <a:ext cx="1155600" cy="73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9200" y="481392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42080" y="397548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58720" y="2273760"/>
            <a:ext cx="2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46320" y="3067200"/>
            <a:ext cx="888840" cy="2031840"/>
          </a:xfrm>
          <a:prstGeom prst="ellipse">
            <a:avLst/>
          </a:prstGeom>
          <a:noFill/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31760" y="2679840"/>
            <a:ext cx="368280" cy="635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96720" y="2362320"/>
            <a:ext cx="575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tr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63840" y="3162240"/>
            <a:ext cx="25380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7640" y="3174840"/>
            <a:ext cx="0" cy="1308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63840" y="4140360"/>
            <a:ext cx="266760" cy="34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029040"/>
            <a:ext cx="3276720" cy="1847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7680" y="2438280"/>
            <a:ext cx="93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alf - Str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273720" y="2730600"/>
            <a:ext cx="457200" cy="66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17720" y="3092400"/>
            <a:ext cx="888840" cy="2019240"/>
          </a:xfrm>
          <a:prstGeom prst="ellipse">
            <a:avLst/>
          </a:prstGeom>
          <a:noFill/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35640" y="3048120"/>
            <a:ext cx="710640" cy="1802520"/>
            <a:chOff x="5435640" y="3048120"/>
            <a:chExt cx="710640" cy="1802520"/>
          </a:xfrm>
        </p:grpSpPr>
        <p:sp>
          <p:nvSpPr>
            <p:cNvPr id="175" name=""/>
            <p:cNvSpPr/>
            <p:nvPr/>
          </p:nvSpPr>
          <p:spPr>
            <a:xfrm>
              <a:off x="5435640" y="3897000"/>
              <a:ext cx="710640" cy="953640"/>
            </a:xfrm>
            <a:custGeom>
              <a:avLst/>
              <a:gdLst/>
              <a:ahLst/>
              <a:rect l="l" t="t" r="r" b="b"/>
              <a:pathLst>
                <a:path w="416" h="440">
                  <a:moveTo>
                    <a:pt x="0" y="440"/>
                  </a:moveTo>
                  <a:cubicBezTo>
                    <a:pt x="103" y="405"/>
                    <a:pt x="207" y="371"/>
                    <a:pt x="272" y="328"/>
                  </a:cubicBezTo>
                  <a:cubicBezTo>
                    <a:pt x="337" y="285"/>
                    <a:pt x="368" y="239"/>
                    <a:pt x="392" y="184"/>
                  </a:cubicBezTo>
                  <a:cubicBezTo>
                    <a:pt x="416" y="129"/>
                    <a:pt x="416" y="64"/>
                    <a:pt x="416" y="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35640" y="3048120"/>
              <a:ext cx="710640" cy="953280"/>
            </a:xfrm>
            <a:custGeom>
              <a:avLst/>
              <a:gdLst/>
              <a:ahLst/>
              <a:rect l="l" t="t" r="r" b="b"/>
              <a:pathLst>
                <a:path w="416" h="440">
                  <a:moveTo>
                    <a:pt x="0" y="440"/>
                  </a:moveTo>
                  <a:cubicBezTo>
                    <a:pt x="103" y="405"/>
                    <a:pt x="207" y="371"/>
                    <a:pt x="272" y="328"/>
                  </a:cubicBezTo>
                  <a:cubicBezTo>
                    <a:pt x="337" y="285"/>
                    <a:pt x="368" y="239"/>
                    <a:pt x="392" y="184"/>
                  </a:cubicBezTo>
                  <a:cubicBezTo>
                    <a:pt x="416" y="129"/>
                    <a:pt x="416" y="64"/>
                    <a:pt x="416" y="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56960" y="5614920"/>
            <a:ext cx="3431520" cy="803520"/>
            <a:chOff x="4656960" y="5614920"/>
            <a:chExt cx="3431520" cy="80352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6419880" y="6039000"/>
                  <a:ext cx="166860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4656960" y="5614920"/>
              <a:ext cx="291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Rotation from Correspondence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8942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6360" y="3048120"/>
            <a:ext cx="710640" cy="1802520"/>
            <a:chOff x="6426360" y="3048120"/>
            <a:chExt cx="710640" cy="1802520"/>
          </a:xfrm>
        </p:grpSpPr>
        <p:sp>
          <p:nvSpPr>
            <p:cNvPr id="182" name=""/>
            <p:cNvSpPr/>
            <p:nvPr/>
          </p:nvSpPr>
          <p:spPr>
            <a:xfrm flipH="1">
              <a:off x="6426360" y="3897000"/>
              <a:ext cx="710640" cy="953640"/>
            </a:xfrm>
            <a:custGeom>
              <a:avLst/>
              <a:gdLst/>
              <a:ahLst/>
              <a:rect l="l" t="t" r="r" b="b"/>
              <a:pathLst>
                <a:path w="416" h="440">
                  <a:moveTo>
                    <a:pt x="0" y="440"/>
                  </a:moveTo>
                  <a:cubicBezTo>
                    <a:pt x="103" y="405"/>
                    <a:pt x="207" y="371"/>
                    <a:pt x="272" y="328"/>
                  </a:cubicBezTo>
                  <a:cubicBezTo>
                    <a:pt x="337" y="285"/>
                    <a:pt x="368" y="239"/>
                    <a:pt x="392" y="184"/>
                  </a:cubicBezTo>
                  <a:cubicBezTo>
                    <a:pt x="416" y="129"/>
                    <a:pt x="416" y="64"/>
                    <a:pt x="416" y="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426360" y="3048120"/>
              <a:ext cx="710640" cy="953280"/>
            </a:xfrm>
            <a:custGeom>
              <a:avLst/>
              <a:gdLst/>
              <a:ahLst/>
              <a:rect l="l" t="t" r="r" b="b"/>
              <a:pathLst>
                <a:path w="416" h="440">
                  <a:moveTo>
                    <a:pt x="0" y="440"/>
                  </a:moveTo>
                  <a:cubicBezTo>
                    <a:pt x="103" y="405"/>
                    <a:pt x="207" y="371"/>
                    <a:pt x="272" y="328"/>
                  </a:cubicBezTo>
                  <a:cubicBezTo>
                    <a:pt x="337" y="285"/>
                    <a:pt x="368" y="239"/>
                    <a:pt x="392" y="184"/>
                  </a:cubicBezTo>
                  <a:cubicBezTo>
                    <a:pt x="416" y="129"/>
                    <a:pt x="416" y="64"/>
                    <a:pt x="416" y="0"/>
                  </a:cubicBezTo>
                </a:path>
              </a:pathLst>
            </a:custGeom>
            <a:noFill/>
            <a:ln w="2844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626080" y="3048120"/>
            <a:ext cx="1650600" cy="1802520"/>
            <a:chOff x="5626080" y="3048120"/>
            <a:chExt cx="1650600" cy="1802520"/>
          </a:xfrm>
        </p:grpSpPr>
        <p:grpSp>
          <p:nvGrpSpPr>
            <p:cNvPr id="185" name=""/>
            <p:cNvGrpSpPr/>
            <p:nvPr/>
          </p:nvGrpSpPr>
          <p:grpSpPr>
            <a:xfrm>
              <a:off x="6566040" y="3048120"/>
              <a:ext cx="710640" cy="1802520"/>
              <a:chOff x="6566040" y="3048120"/>
              <a:chExt cx="710640" cy="180252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6566040" y="3897000"/>
                <a:ext cx="710640" cy="953640"/>
              </a:xfrm>
              <a:custGeom>
                <a:avLst/>
                <a:gdLst/>
                <a:ahLst/>
                <a:rect l="l" t="t" r="r" b="b"/>
                <a:pathLst>
                  <a:path w="416" h="440">
                    <a:moveTo>
                      <a:pt x="0" y="440"/>
                    </a:moveTo>
                    <a:cubicBezTo>
                      <a:pt x="103" y="405"/>
                      <a:pt x="207" y="371"/>
                      <a:pt x="272" y="328"/>
                    </a:cubicBezTo>
                    <a:cubicBezTo>
                      <a:pt x="337" y="285"/>
                      <a:pt x="368" y="239"/>
                      <a:pt x="392" y="184"/>
                    </a:cubicBezTo>
                    <a:cubicBezTo>
                      <a:pt x="416" y="129"/>
                      <a:pt x="416" y="64"/>
                      <a:pt x="416" y="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6566040" y="3048120"/>
                <a:ext cx="710640" cy="953280"/>
              </a:xfrm>
              <a:custGeom>
                <a:avLst/>
                <a:gdLst/>
                <a:ahLst/>
                <a:rect l="l" t="t" r="r" b="b"/>
                <a:pathLst>
                  <a:path w="416" h="440">
                    <a:moveTo>
                      <a:pt x="0" y="440"/>
                    </a:moveTo>
                    <a:cubicBezTo>
                      <a:pt x="103" y="405"/>
                      <a:pt x="207" y="371"/>
                      <a:pt x="272" y="328"/>
                    </a:cubicBezTo>
                    <a:cubicBezTo>
                      <a:pt x="337" y="285"/>
                      <a:pt x="368" y="239"/>
                      <a:pt x="392" y="184"/>
                    </a:cubicBezTo>
                    <a:cubicBezTo>
                      <a:pt x="416" y="129"/>
                      <a:pt x="416" y="64"/>
                      <a:pt x="416" y="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626080" y="3048120"/>
              <a:ext cx="711000" cy="1802520"/>
              <a:chOff x="5626080" y="3048120"/>
              <a:chExt cx="711000" cy="1802520"/>
            </a:xfrm>
          </p:grpSpPr>
          <p:sp>
            <p:nvSpPr>
              <p:cNvPr id="189" name=""/>
              <p:cNvSpPr/>
              <p:nvPr/>
            </p:nvSpPr>
            <p:spPr>
              <a:xfrm>
                <a:off x="5626080" y="3897000"/>
                <a:ext cx="711000" cy="953640"/>
              </a:xfrm>
              <a:custGeom>
                <a:avLst/>
                <a:gdLst/>
                <a:ahLst/>
                <a:rect l="l" t="t" r="r" b="b"/>
                <a:pathLst>
                  <a:path w="416" h="440">
                    <a:moveTo>
                      <a:pt x="0" y="440"/>
                    </a:moveTo>
                    <a:cubicBezTo>
                      <a:pt x="103" y="405"/>
                      <a:pt x="207" y="371"/>
                      <a:pt x="272" y="328"/>
                    </a:cubicBezTo>
                    <a:cubicBezTo>
                      <a:pt x="337" y="285"/>
                      <a:pt x="368" y="239"/>
                      <a:pt x="392" y="184"/>
                    </a:cubicBezTo>
                    <a:cubicBezTo>
                      <a:pt x="416" y="129"/>
                      <a:pt x="416" y="64"/>
                      <a:pt x="416" y="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626080" y="3048120"/>
                <a:ext cx="711000" cy="953280"/>
              </a:xfrm>
              <a:custGeom>
                <a:avLst/>
                <a:gdLst/>
                <a:ahLst/>
                <a:rect l="l" t="t" r="r" b="b"/>
                <a:pathLst>
                  <a:path w="416" h="440">
                    <a:moveTo>
                      <a:pt x="0" y="440"/>
                    </a:moveTo>
                    <a:cubicBezTo>
                      <a:pt x="103" y="405"/>
                      <a:pt x="207" y="371"/>
                      <a:pt x="272" y="328"/>
                    </a:cubicBezTo>
                    <a:cubicBezTo>
                      <a:pt x="337" y="285"/>
                      <a:pt x="368" y="239"/>
                      <a:pt x="392" y="184"/>
                    </a:cubicBezTo>
                    <a:cubicBezTo>
                      <a:pt x="416" y="129"/>
                      <a:pt x="416" y="64"/>
                      <a:pt x="416" y="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540480" y="359424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Comic Sans MS"/>
                </a:rPr>
                <a:t>k+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29480" y="48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4040" y="29210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00080" y="488952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451240" y="3530520"/>
                <a:ext cx="155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616800" y="4886280"/>
                <a:ext cx="164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952880" y="3848040"/>
                <a:ext cx="165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4162320"/>
                <a:ext cx="164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pturing  360 Degree  Strips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447920"/>
            <a:ext cx="8013960" cy="4343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3840" y="1447920"/>
            <a:ext cx="0" cy="433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9600" y="1790640"/>
            <a:ext cx="26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Catadioptric  Imagin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2320" y="1752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Fish  Eye  Len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16200" y="3292560"/>
            <a:ext cx="731880" cy="42696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9720" y="3292560"/>
            <a:ext cx="133560" cy="457200"/>
          </a:xfrm>
          <a:prstGeom prst="flowChartDelay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446200" y="3475080"/>
            <a:ext cx="416160" cy="101520"/>
          </a:xfrm>
          <a:custGeom>
            <a:avLst/>
            <a:gdLst>
              <a:gd name="textAreaLeft" fmla="*/ 91440 w 416160"/>
              <a:gd name="textAreaRight" fmla="*/ 324720 w 416160"/>
              <a:gd name="textAreaTop" fmla="*/ 22320 h 101520"/>
              <a:gd name="textAreaBottom" fmla="*/ 79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54680" y="3286080"/>
            <a:ext cx="1099440" cy="380880"/>
            <a:chOff x="5854680" y="3286080"/>
            <a:chExt cx="1099440" cy="380880"/>
          </a:xfrm>
        </p:grpSpPr>
        <p:sp>
          <p:nvSpPr>
            <p:cNvPr id="208" name=""/>
            <p:cNvSpPr/>
            <p:nvPr/>
          </p:nvSpPr>
          <p:spPr>
            <a:xfrm>
              <a:off x="5854680" y="3286080"/>
              <a:ext cx="733320" cy="380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610680" y="3323520"/>
              <a:ext cx="380880" cy="30564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6960 h 305640"/>
                <a:gd name="textAreaBottom" fmla="*/ 238680 h 30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1240" y="3449160"/>
              <a:ext cx="60840" cy="5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358040" y="3187800"/>
            <a:ext cx="268200" cy="569880"/>
          </a:xfrm>
          <a:custGeom>
            <a:avLst/>
            <a:gdLst/>
            <a:ahLst/>
            <a:rect l="l" t="t" r="r" b="b"/>
            <a:pathLst>
              <a:path w="129" h="432">
                <a:moveTo>
                  <a:pt x="121" y="0"/>
                </a:moveTo>
                <a:cubicBezTo>
                  <a:pt x="60" y="80"/>
                  <a:pt x="0" y="160"/>
                  <a:pt x="1" y="232"/>
                </a:cubicBezTo>
                <a:cubicBezTo>
                  <a:pt x="2" y="304"/>
                  <a:pt x="108" y="399"/>
                  <a:pt x="129" y="43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51560" y="4856040"/>
            <a:ext cx="368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xamples:  Rees 70, Rosendahl 83, Charles 87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yar 88,  Yagi 90,   Hong 91, Powell 9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amazawa 95,  Bogner 95,  Nalwa 96, Nayar 97,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ahl &amp; Srinivasan 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6880" y="5002200"/>
            <a:ext cx="346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xamples:  Wood 1906, Miyamoto 64, Hall 87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Zimmerman 93 , Poelstra 96 , Kuban et al. 9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34280" y="3168720"/>
            <a:ext cx="272880" cy="598320"/>
          </a:xfrm>
          <a:custGeom>
            <a:avLst/>
            <a:gdLst/>
            <a:ahLst/>
            <a:rect l="l" t="t" r="r" b="b"/>
            <a:pathLst>
              <a:path w="129" h="432">
                <a:moveTo>
                  <a:pt x="121" y="0"/>
                </a:moveTo>
                <a:cubicBezTo>
                  <a:pt x="60" y="80"/>
                  <a:pt x="0" y="160"/>
                  <a:pt x="1" y="232"/>
                </a:cubicBezTo>
                <a:cubicBezTo>
                  <a:pt x="2" y="304"/>
                  <a:pt x="108" y="399"/>
                  <a:pt x="129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01040" y="3147840"/>
            <a:ext cx="81000" cy="638280"/>
          </a:xfrm>
          <a:prstGeom prst="rect">
            <a:avLst/>
          </a:prstGeom>
          <a:solidFill>
            <a:srgbClr val="1c1c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82360" y="2615760"/>
            <a:ext cx="241920" cy="685800"/>
            <a:chOff x="2682360" y="2615760"/>
            <a:chExt cx="241920" cy="685800"/>
          </a:xfrm>
        </p:grpSpPr>
        <p:sp>
          <p:nvSpPr>
            <p:cNvPr id="217" name=""/>
            <p:cNvSpPr/>
            <p:nvPr/>
          </p:nvSpPr>
          <p:spPr>
            <a:xfrm flipV="1">
              <a:off x="2792520" y="2615760"/>
              <a:ext cx="131760" cy="685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682360" y="2628720"/>
              <a:ext cx="71640" cy="647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682360" y="3746520"/>
            <a:ext cx="241920" cy="685800"/>
            <a:chOff x="2682360" y="3746520"/>
            <a:chExt cx="241920" cy="685800"/>
          </a:xfrm>
        </p:grpSpPr>
        <p:sp>
          <p:nvSpPr>
            <p:cNvPr id="220" name=""/>
            <p:cNvSpPr/>
            <p:nvPr/>
          </p:nvSpPr>
          <p:spPr>
            <a:xfrm>
              <a:off x="2792520" y="3746520"/>
              <a:ext cx="131760" cy="685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682360" y="3771720"/>
              <a:ext cx="71640" cy="647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299000" y="2603160"/>
            <a:ext cx="419400" cy="662040"/>
            <a:chOff x="7299000" y="2603160"/>
            <a:chExt cx="419400" cy="662040"/>
          </a:xfrm>
        </p:grpSpPr>
        <p:sp>
          <p:nvSpPr>
            <p:cNvPr id="223" name=""/>
            <p:cNvSpPr/>
            <p:nvPr/>
          </p:nvSpPr>
          <p:spPr>
            <a:xfrm flipV="1">
              <a:off x="7566120" y="2615760"/>
              <a:ext cx="152280" cy="560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299000" y="2603160"/>
              <a:ext cx="152280" cy="6620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24200" y="3683160"/>
            <a:ext cx="419400" cy="661680"/>
            <a:chOff x="7324200" y="3683160"/>
            <a:chExt cx="419400" cy="661680"/>
          </a:xfrm>
        </p:grpSpPr>
        <p:sp>
          <p:nvSpPr>
            <p:cNvPr id="226" name=""/>
            <p:cNvSpPr/>
            <p:nvPr/>
          </p:nvSpPr>
          <p:spPr>
            <a:xfrm>
              <a:off x="7591320" y="3772440"/>
              <a:ext cx="152280" cy="560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4200" y="3683160"/>
              <a:ext cx="152280" cy="6616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olution  of  a  Catadioptric  System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95440" y="9874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( Baker  &amp;  Nayar  98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007960" y="2908440"/>
            <a:ext cx="3990600" cy="1955520"/>
            <a:chOff x="5007960" y="2908440"/>
            <a:chExt cx="3990600" cy="1955520"/>
          </a:xfrm>
        </p:grpSpPr>
        <p:grpSp>
          <p:nvGrpSpPr>
            <p:cNvPr id="232" name=""/>
            <p:cNvGrpSpPr/>
            <p:nvPr/>
          </p:nvGrpSpPr>
          <p:grpSpPr>
            <a:xfrm>
              <a:off x="5632560" y="2908440"/>
              <a:ext cx="2778120" cy="829440"/>
              <a:chOff x="5632560" y="2908440"/>
              <a:chExt cx="2778120" cy="829440"/>
            </a:xfrm>
          </p:grpSpPr>
          <p:sp>
            <p:nvSpPr>
              <p:cNvPr id="233" name=""/>
              <p:cNvSpPr/>
              <p:nvPr/>
            </p:nvSpPr>
            <p:spPr>
              <a:xfrm>
                <a:off x="5632560" y="2908440"/>
                <a:ext cx="2778120" cy="829440"/>
              </a:xfrm>
              <a:prstGeom prst="rect">
                <a:avLst/>
              </a:prstGeom>
              <a:noFill/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46040" y="3031560"/>
                <a:ext cx="2359440" cy="5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"/>
            <p:cNvSpPr/>
            <p:nvPr/>
          </p:nvSpPr>
          <p:spPr>
            <a:xfrm>
              <a:off x="5007960" y="4283280"/>
              <a:ext cx="184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olution of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Complete Syst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01520" y="4259520"/>
              <a:ext cx="169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olution of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Camera + Le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862240" y="3590280"/>
              <a:ext cx="16092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8020440" y="3602520"/>
              <a:ext cx="185760" cy="68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960" y="1765440"/>
            <a:ext cx="4493880" cy="4241520"/>
            <a:chOff x="273960" y="1765440"/>
            <a:chExt cx="4493880" cy="4241520"/>
          </a:xfrm>
        </p:grpSpPr>
        <p:sp>
          <p:nvSpPr>
            <p:cNvPr id="240" name=""/>
            <p:cNvSpPr/>
            <p:nvPr/>
          </p:nvSpPr>
          <p:spPr>
            <a:xfrm>
              <a:off x="2112840" y="1765440"/>
              <a:ext cx="0" cy="4241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4560" y="2335320"/>
              <a:ext cx="2500200" cy="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07120" y="20001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image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60" y="19335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6480" y="3571920"/>
              <a:ext cx="248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520" y="5643720"/>
              <a:ext cx="3552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5640" y="4608360"/>
              <a:ext cx="443160" cy="131760"/>
            </a:xfrm>
            <a:custGeom>
              <a:avLst/>
              <a:gdLst/>
              <a:ahLst/>
              <a:rect l="l" t="t" r="r" b="b"/>
              <a:pathLst>
                <a:path w="352" h="176">
                  <a:moveTo>
                    <a:pt x="0" y="0"/>
                  </a:moveTo>
                  <a:cubicBezTo>
                    <a:pt x="74" y="17"/>
                    <a:pt x="149" y="35"/>
                    <a:pt x="208" y="64"/>
                  </a:cubicBezTo>
                  <a:cubicBezTo>
                    <a:pt x="267" y="93"/>
                    <a:pt x="309" y="134"/>
                    <a:pt x="352" y="176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116080" y="3627000"/>
              <a:ext cx="2595600" cy="201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116080" y="2965320"/>
              <a:ext cx="1862280" cy="267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255320" y="2338200"/>
              <a:ext cx="1582920" cy="226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941040" y="2338560"/>
              <a:ext cx="2327400" cy="241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52560" y="232740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671800">
              <a:off x="3839760" y="3198960"/>
              <a:ext cx="1003320" cy="19512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1008000" y="2014560"/>
              <a:ext cx="28116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2620800" y="3679920"/>
              <a:ext cx="3146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4435560" y="3019320"/>
              <a:ext cx="31428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 flipH="1">
              <a:off x="2523960" y="3890880"/>
              <a:ext cx="1749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6960" y="2117880"/>
              <a:ext cx="37296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54760" y="4819680"/>
              <a:ext cx="98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rror 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Comic Sans MS"/>
                </a:rPr>
                <a:t>z (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29040" y="530208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viewpoi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5587920"/>
              <a:ext cx="11448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1800" y="3527280"/>
              <a:ext cx="8892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0360" y="4379760"/>
              <a:ext cx="27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-1092240" y="-177840"/>
            <a:ext cx="10236240" cy="729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422360" y="228600"/>
            <a:ext cx="6350040" cy="635004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422360" y="203040"/>
            <a:ext cx="6850800" cy="6464160"/>
            <a:chOff x="1422360" y="203040"/>
            <a:chExt cx="6850800" cy="6464160"/>
          </a:xfrm>
        </p:grpSpPr>
        <p:grpSp>
          <p:nvGrpSpPr>
            <p:cNvPr id="266" name=""/>
            <p:cNvGrpSpPr/>
            <p:nvPr/>
          </p:nvGrpSpPr>
          <p:grpSpPr>
            <a:xfrm>
              <a:off x="1422360" y="203040"/>
              <a:ext cx="6413400" cy="6464160"/>
              <a:chOff x="1422360" y="203040"/>
              <a:chExt cx="6413400" cy="646416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422360" y="203040"/>
                <a:ext cx="6413400" cy="6464160"/>
                <a:chOff x="1422360" y="203040"/>
                <a:chExt cx="6413400" cy="6464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22360" y="203040"/>
                  <a:ext cx="6413400" cy="6413760"/>
                </a:xfrm>
                <a:prstGeom prst="blockArc">
                  <a:avLst>
                    <a:gd name="adj1" fmla="val 10753502"/>
                    <a:gd name="adj2" fmla="val 46498"/>
                    <a:gd name="adj3" fmla="val 619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1422360" y="253080"/>
                  <a:ext cx="6413400" cy="6413400"/>
                </a:xfrm>
                <a:prstGeom prst="blockArc">
                  <a:avLst>
                    <a:gd name="adj1" fmla="val 10753502"/>
                    <a:gd name="adj2" fmla="val 46498"/>
                    <a:gd name="adj3" fmla="val 619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2717640" y="1473120"/>
                <a:ext cx="3886200" cy="387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562720" y="4330800"/>
              <a:ext cx="419040" cy="46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27880" y="5524560"/>
              <a:ext cx="36828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72000" y="6045120"/>
              <a:ext cx="190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Minimum  Com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pherical Mosaic From Strips 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141720" y="1155600"/>
            <a:ext cx="2870280" cy="23241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1219320" y="4260960"/>
            <a:ext cx="6729120" cy="2422440"/>
            <a:chOff x="1219320" y="4260960"/>
            <a:chExt cx="6729120" cy="242244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1219320" y="4260960"/>
              <a:ext cx="323028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>
              <a:lum contrast="-18000"/>
            </a:blip>
            <a:stretch/>
          </p:blipFill>
          <p:spPr>
            <a:xfrm>
              <a:off x="4822920" y="4265640"/>
              <a:ext cx="3125520" cy="24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326160" y="647640"/>
            <a:ext cx="8925120" cy="3756240"/>
            <a:chOff x="326160" y="647640"/>
            <a:chExt cx="8925120" cy="375624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rcRect l="0" t="0" r="0" b="8497"/>
            <a:stretch/>
          </p:blipFill>
          <p:spPr>
            <a:xfrm>
              <a:off x="733320" y="765000"/>
              <a:ext cx="7715520" cy="33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482680" y="1955880"/>
              <a:ext cx="59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700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ixe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27600" y="2590920"/>
              <a:ext cx="82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(8 pixe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er deg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1600" y="4102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6160" y="6476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76400" y="412740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3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pherical  Mosaics  from  Slices</a:t>
            </a:r>
            <a:endParaRPr b="0" lang="en-US" sz="2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89040" y="99072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880" y="1866960"/>
            <a:ext cx="163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nit  Sphe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53600" y="1841400"/>
            <a:ext cx="252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herical  Panoram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3048120"/>
            <a:ext cx="2184480" cy="2095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63840" y="2577960"/>
            <a:ext cx="0" cy="1562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76440" y="4152960"/>
            <a:ext cx="15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08240" y="4152960"/>
            <a:ext cx="1155600" cy="73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69200" y="481392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42080" y="397548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58720" y="2273760"/>
            <a:ext cx="2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44800" y="3067200"/>
            <a:ext cx="927000" cy="2095200"/>
          </a:xfrm>
          <a:prstGeom prst="ellipse">
            <a:avLst/>
          </a:prstGeom>
          <a:noFill/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31760" y="2679840"/>
            <a:ext cx="368280" cy="635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63600" y="2362320"/>
            <a:ext cx="55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463840" y="3162240"/>
            <a:ext cx="25380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17640" y="3174840"/>
            <a:ext cx="0" cy="1308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63840" y="4140360"/>
            <a:ext cx="266760" cy="34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3029040"/>
            <a:ext cx="3276720" cy="1847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21440" y="3022560"/>
            <a:ext cx="0" cy="184140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9640" y="2413080"/>
            <a:ext cx="104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alf - S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121080" y="2730600"/>
            <a:ext cx="609480" cy="74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29480" y="48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84040" y="29210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00080" y="488952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51240" y="3441600"/>
                <a:ext cx="155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616800" y="4886280"/>
                <a:ext cx="164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952880" y="3848040"/>
                <a:ext cx="165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362320" y="4162320"/>
                <a:ext cx="164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gh  Resolution  Slices </a:t>
            </a:r>
            <a:endParaRPr b="0" lang="en-US" sz="2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673200" y="800280"/>
            <a:ext cx="792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1638360"/>
            <a:ext cx="3213000" cy="212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6257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16257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6257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1460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7180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16257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16635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16635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1650960"/>
            <a:ext cx="0" cy="21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1638360"/>
            <a:ext cx="0" cy="21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778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1917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30400" y="21970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30400" y="23367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55600" y="24764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8560" y="2616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55600" y="2755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2895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30351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68560" y="31748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1160" y="3314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68560" y="34545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55600" y="35942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25760" y="1625760"/>
            <a:ext cx="2222280" cy="2146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19240" y="1994040"/>
            <a:ext cx="1447920" cy="1409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92440" y="262908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743200" y="1777680"/>
            <a:ext cx="533520" cy="90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743200" y="2425680"/>
            <a:ext cx="106668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04200" y="2298600"/>
            <a:ext cx="451080" cy="439920"/>
            <a:chOff x="2104200" y="2298600"/>
            <a:chExt cx="451080" cy="439920"/>
          </a:xfrm>
        </p:grpSpPr>
        <p:sp>
          <p:nvSpPr>
            <p:cNvPr id="357" name=""/>
            <p:cNvSpPr/>
            <p:nvPr/>
          </p:nvSpPr>
          <p:spPr>
            <a:xfrm>
              <a:off x="2104200" y="229860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7800" y="24620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09120" y="2882880"/>
            <a:ext cx="451080" cy="439920"/>
            <a:chOff x="2409120" y="2882880"/>
            <a:chExt cx="451080" cy="439920"/>
          </a:xfrm>
        </p:grpSpPr>
        <p:sp>
          <p:nvSpPr>
            <p:cNvPr id="360" name=""/>
            <p:cNvSpPr/>
            <p:nvPr/>
          </p:nvSpPr>
          <p:spPr>
            <a:xfrm>
              <a:off x="2409120" y="288288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2720" y="3046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H="1">
            <a:off x="1638000" y="267984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5800" y="2679840"/>
            <a:ext cx="0" cy="72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537160" y="1968480"/>
            <a:ext cx="0" cy="1473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37160" y="3441600"/>
            <a:ext cx="2578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60600" y="1854360"/>
            <a:ext cx="330480" cy="426960"/>
            <a:chOff x="5160600" y="1854360"/>
            <a:chExt cx="330480" cy="426960"/>
          </a:xfrm>
        </p:grpSpPr>
        <p:sp>
          <p:nvSpPr>
            <p:cNvPr id="367" name=""/>
            <p:cNvSpPr/>
            <p:nvPr/>
          </p:nvSpPr>
          <p:spPr>
            <a:xfrm>
              <a:off x="5160600" y="18543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70760" y="2004840"/>
              <a:ext cx="22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14880" y="1816200"/>
            <a:ext cx="4431960" cy="1612800"/>
            <a:chOff x="3314880" y="1816200"/>
            <a:chExt cx="4431960" cy="1612800"/>
          </a:xfrm>
        </p:grpSpPr>
        <p:sp>
          <p:nvSpPr>
            <p:cNvPr id="370" name=""/>
            <p:cNvSpPr/>
            <p:nvPr/>
          </p:nvSpPr>
          <p:spPr>
            <a:xfrm flipV="1">
              <a:off x="5879880" y="2577960"/>
              <a:ext cx="0" cy="851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65680" y="2895480"/>
              <a:ext cx="0" cy="53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035480" y="2399760"/>
              <a:ext cx="0" cy="1016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746840" y="3047760"/>
              <a:ext cx="0" cy="368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4880" y="1816200"/>
              <a:ext cx="7560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6800" y="1955880"/>
              <a:ext cx="7596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2082600"/>
              <a:ext cx="75600" cy="74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1720" y="2362320"/>
              <a:ext cx="7560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149640" y="1943280"/>
            <a:ext cx="4457520" cy="1497960"/>
            <a:chOff x="3149640" y="1943280"/>
            <a:chExt cx="4457520" cy="1497960"/>
          </a:xfrm>
        </p:grpSpPr>
        <p:sp>
          <p:nvSpPr>
            <p:cNvPr id="379" name=""/>
            <p:cNvSpPr/>
            <p:nvPr/>
          </p:nvSpPr>
          <p:spPr>
            <a:xfrm>
              <a:off x="3161880" y="1943280"/>
              <a:ext cx="75960" cy="7452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9640" y="209556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14520" y="2082600"/>
              <a:ext cx="75600" cy="7452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66800" y="222264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9080" y="237492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14520" y="2235240"/>
              <a:ext cx="7560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79400" y="237492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9080" y="223524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66800" y="2095560"/>
              <a:ext cx="7596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14520" y="1955880"/>
              <a:ext cx="75600" cy="74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625720" y="3009600"/>
              <a:ext cx="0" cy="41868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752800" y="2768400"/>
              <a:ext cx="0" cy="66024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968800" y="3009600"/>
              <a:ext cx="0" cy="41868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171840" y="3174840"/>
              <a:ext cx="0" cy="26640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375240" y="2933280"/>
              <a:ext cx="0" cy="49500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692760" y="3137040"/>
              <a:ext cx="0" cy="29160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70240" y="2793600"/>
              <a:ext cx="0" cy="63468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251480" y="2755440"/>
              <a:ext cx="0" cy="67284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403760" y="3098880"/>
              <a:ext cx="0" cy="32976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607160" y="3288960"/>
              <a:ext cx="0" cy="139320"/>
            </a:xfrm>
            <a:prstGeom prst="line">
              <a:avLst/>
            </a:prstGeom>
            <a:ln w="93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37160" y="2325600"/>
            <a:ext cx="2247840" cy="955800"/>
          </a:xfrm>
          <a:custGeom>
            <a:avLst/>
            <a:gdLst/>
            <a:ahLst/>
            <a:rect l="l" t="t" r="r" b="b"/>
            <a:pathLst>
              <a:path w="1416" h="602">
                <a:moveTo>
                  <a:pt x="0" y="511"/>
                </a:moveTo>
                <a:cubicBezTo>
                  <a:pt x="35" y="461"/>
                  <a:pt x="71" y="412"/>
                  <a:pt x="104" y="351"/>
                </a:cubicBezTo>
                <a:cubicBezTo>
                  <a:pt x="137" y="290"/>
                  <a:pt x="173" y="146"/>
                  <a:pt x="200" y="143"/>
                </a:cubicBezTo>
                <a:cubicBezTo>
                  <a:pt x="227" y="140"/>
                  <a:pt x="244" y="278"/>
                  <a:pt x="264" y="335"/>
                </a:cubicBezTo>
                <a:cubicBezTo>
                  <a:pt x="284" y="392"/>
                  <a:pt x="297" y="448"/>
                  <a:pt x="320" y="487"/>
                </a:cubicBezTo>
                <a:cubicBezTo>
                  <a:pt x="343" y="526"/>
                  <a:pt x="365" y="580"/>
                  <a:pt x="400" y="567"/>
                </a:cubicBezTo>
                <a:cubicBezTo>
                  <a:pt x="435" y="554"/>
                  <a:pt x="493" y="446"/>
                  <a:pt x="528" y="407"/>
                </a:cubicBezTo>
                <a:cubicBezTo>
                  <a:pt x="563" y="368"/>
                  <a:pt x="583" y="339"/>
                  <a:pt x="608" y="335"/>
                </a:cubicBezTo>
                <a:cubicBezTo>
                  <a:pt x="633" y="331"/>
                  <a:pt x="660" y="352"/>
                  <a:pt x="680" y="383"/>
                </a:cubicBezTo>
                <a:cubicBezTo>
                  <a:pt x="700" y="414"/>
                  <a:pt x="701" y="532"/>
                  <a:pt x="728" y="519"/>
                </a:cubicBezTo>
                <a:cubicBezTo>
                  <a:pt x="755" y="506"/>
                  <a:pt x="811" y="378"/>
                  <a:pt x="840" y="303"/>
                </a:cubicBezTo>
                <a:cubicBezTo>
                  <a:pt x="869" y="228"/>
                  <a:pt x="883" y="115"/>
                  <a:pt x="904" y="71"/>
                </a:cubicBezTo>
                <a:cubicBezTo>
                  <a:pt x="925" y="27"/>
                  <a:pt x="935" y="0"/>
                  <a:pt x="968" y="39"/>
                </a:cubicBezTo>
                <a:cubicBezTo>
                  <a:pt x="1001" y="78"/>
                  <a:pt x="1063" y="220"/>
                  <a:pt x="1104" y="303"/>
                </a:cubicBezTo>
                <a:cubicBezTo>
                  <a:pt x="1145" y="386"/>
                  <a:pt x="1179" y="488"/>
                  <a:pt x="1216" y="535"/>
                </a:cubicBezTo>
                <a:cubicBezTo>
                  <a:pt x="1253" y="582"/>
                  <a:pt x="1295" y="602"/>
                  <a:pt x="1328" y="583"/>
                </a:cubicBezTo>
                <a:cubicBezTo>
                  <a:pt x="1361" y="564"/>
                  <a:pt x="1401" y="450"/>
                  <a:pt x="1416" y="423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40680" y="3289320"/>
                <a:ext cx="243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68680" y="2457360"/>
                <a:ext cx="249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876400" y="1689120"/>
                <a:ext cx="270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5365800" y="4343400"/>
            <a:ext cx="3206160" cy="1905120"/>
            <a:chOff x="5365800" y="4343400"/>
            <a:chExt cx="3206160" cy="1905120"/>
          </a:xfrm>
        </p:grpSpPr>
        <p:sp>
          <p:nvSpPr>
            <p:cNvPr id="404" name=""/>
            <p:cNvSpPr/>
            <p:nvPr/>
          </p:nvSpPr>
          <p:spPr>
            <a:xfrm>
              <a:off x="5816160" y="4794840"/>
              <a:ext cx="185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Image: </a:t>
              </a:r>
              <a:r>
                <a:rPr b="0" lang="en-US" sz="1200" spc="-1" strike="noStrike">
                  <a:solidFill>
                    <a:srgbClr val="ff9933"/>
                  </a:solidFill>
                  <a:latin typeface="Comic Sans MS"/>
                </a:rPr>
                <a:t>500 x 500 pixe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70440" y="5137200"/>
              <a:ext cx="27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Samples On Outer Ring: </a:t>
              </a:r>
              <a:r>
                <a:rPr b="0" lang="en-US" sz="1200" spc="-1" strike="noStrike">
                  <a:solidFill>
                    <a:srgbClr val="ff9933"/>
                  </a:solidFill>
                  <a:latin typeface="Comic Sans MS"/>
                </a:rPr>
                <a:t>1500 Pixe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30920" y="5491080"/>
              <a:ext cx="27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Samples In 6-Pixel Disc: </a:t>
              </a:r>
              <a:r>
                <a:rPr b="0" lang="en-US" sz="1200" spc="-1" strike="noStrike">
                  <a:solidFill>
                    <a:srgbClr val="ff9933"/>
                  </a:solidFill>
                  <a:latin typeface="Comic Sans MS"/>
                </a:rPr>
                <a:t>4500 Pixels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2840" y="586980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Increase in Samples:  </a:t>
              </a:r>
              <a:r>
                <a:rPr b="0" lang="en-US" sz="1200" spc="-1" strike="noStrike">
                  <a:solidFill>
                    <a:srgbClr val="ff9933"/>
                  </a:solidFill>
                  <a:latin typeface="Comic Sans MS"/>
                </a:rPr>
                <a:t>3 : 1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44280" y="4428720"/>
              <a:ext cx="91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Example: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5800" y="4343400"/>
              <a:ext cx="3162600" cy="190512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171880" y="4286160"/>
            <a:ext cx="1143000" cy="2266920"/>
          </a:xfrm>
          <a:prstGeom prst="ellipse">
            <a:avLst/>
          </a:prstGeom>
          <a:solidFill>
            <a:srgbClr val="00ffcc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47840" y="4286160"/>
            <a:ext cx="1143000" cy="2266920"/>
          </a:xfrm>
          <a:prstGeom prst="ellipse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705040" y="5372280"/>
            <a:ext cx="95400" cy="114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67200" y="5410080"/>
            <a:ext cx="26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09920" y="5429160"/>
            <a:ext cx="2667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53760" y="502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41040" y="421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l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1400" y="11653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61520" y="11844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3:17:37Z</dcterms:created>
  <dc:creator>srahul</dc:creator>
  <dc:description/>
  <dc:language>en-US</dc:language>
  <cp:lastModifiedBy>Sujit</cp:lastModifiedBy>
  <dcterms:modified xsi:type="dcterms:W3CDTF">2007-05-24T04:47:59Z</dcterms:modified>
  <cp:revision>150</cp:revision>
  <dc:subject/>
  <dc:title>Omnidirectional  Vision</dc:title>
</cp:coreProperties>
</file>