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5.png" ContentType="image/png"/>
  <Override PartName="/ppt/media/image54.png" ContentType="image/png"/>
  <Override PartName="/ppt/media/image11.wmf" ContentType="image/x-wmf"/>
  <Override PartName="/ppt/media/image53.png" ContentType="image/png"/>
  <Override PartName="/ppt/media/image10.wmf" ContentType="image/x-wmf"/>
  <Override PartName="/ppt/media/image52.png" ContentType="image/png"/>
  <Override PartName="/ppt/media/image51.png" ContentType="image/png"/>
  <Override PartName="/ppt/media/image48.png" ContentType="image/png"/>
  <Override PartName="/ppt/media/image70.wmf" ContentType="image/x-wmf"/>
  <Override PartName="/ppt/media/image47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39.png" ContentType="image/png"/>
  <Override PartName="/ppt/media/image38.png" ContentType="image/png"/>
  <Override PartName="/ppt/media/image40.wmf" ContentType="image/x-wmf"/>
  <Override PartName="/ppt/media/image37.png" ContentType="image/png"/>
  <Override PartName="/ppt/media/image16.png" ContentType="image/png"/>
  <Override PartName="/ppt/media/image56.png" ContentType="image/png"/>
  <Override PartName="/ppt/media/image57.wmf" ContentType="image/x-wmf"/>
  <Override PartName="/ppt/media/image20.wmf" ContentType="image/x-wmf"/>
  <Override PartName="/ppt/media/image63.png" ContentType="image/png"/>
  <Override PartName="/ppt/media/image27.png" ContentType="image/png"/>
  <Override PartName="/ppt/media/image67.wmf" ContentType="image/x-wmf"/>
  <Override PartName="/ppt/media/image28.png" ContentType="image/png"/>
  <Override PartName="/ppt/media/image68.wmf" ContentType="image/x-wmf"/>
  <Override PartName="/ppt/media/image23.png" ContentType="image/png"/>
  <Override PartName="/ppt/media/image60.png" ContentType="image/png"/>
  <Override PartName="/ppt/media/image58.wmf" ContentType="image/x-wmf"/>
  <Override PartName="/ppt/media/image64.png" ContentType="image/png"/>
  <Override PartName="/ppt/media/image21.wmf" ContentType="image/x-wmf"/>
  <Override PartName="/ppt/media/image78.png" ContentType="image/png"/>
  <Override PartName="/ppt/media/image9.wmf" ContentType="image/x-wmf"/>
  <Override PartName="/ppt/media/image41.png" ContentType="image/png"/>
  <Override PartName="/ppt/media/image29.png" ContentType="image/png"/>
  <Override PartName="/ppt/media/image69.wmf" ContentType="image/x-wmf"/>
  <Override PartName="/ppt/media/image66.png" ContentType="image/png"/>
  <Override PartName="/ppt/media/image77.png" ContentType="image/png"/>
  <Override PartName="/ppt/media/image8.wmf" ContentType="image/x-wmf"/>
  <Override PartName="/ppt/media/image59.wmf" ContentType="image/x-wmf"/>
  <Override PartName="/ppt/media/image65.png" ContentType="image/png"/>
  <Override PartName="/ppt/media/image22.wmf" ContentType="image/x-wmf"/>
  <Override PartName="/ppt/media/image61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17.wmf" ContentType="image/x-wmf"/>
  <Override PartName="/ppt/media/image5.wmf" ContentType="image/x-wmf"/>
  <Override PartName="/ppt/media/image62.png" ContentType="image/png"/>
  <Override PartName="/ppt/media/image73.png" ContentType="image/png"/>
  <Override PartName="/ppt/media/image4.wmf" ContentType="image/x-wmf"/>
  <Override PartName="/ppt/media/image72.wmf" ContentType="image/x-wmf"/>
  <Override PartName="/ppt/media/image32.png" ContentType="image/png"/>
  <Override PartName="/ppt/media/image15.png" ContentType="image/png"/>
  <Override PartName="/ppt/media/image24.png" ContentType="image/png"/>
  <Override PartName="/ppt/media/image31.png" ContentType="image/png"/>
  <Override PartName="/ppt/media/image3.wmf" ContentType="image/x-wmf"/>
  <Override PartName="/ppt/media/image25.png" ContentType="image/png"/>
  <Override PartName="/ppt/media/image6.wmf" ContentType="image/x-wmf"/>
  <Override PartName="/ppt/media/image18.wmf" ContentType="image/x-wmf"/>
  <Override PartName="/ppt/media/image26.png" ContentType="image/png"/>
  <Override PartName="/ppt/media/image50.png" ContentType="image/png"/>
  <Override PartName="/ppt/media/image12.png" ContentType="image/png"/>
  <Override PartName="/ppt/media/image71.wmf" ContentType="image/x-wmf"/>
  <Override PartName="/ppt/media/image49.png" ContentType="image/png"/>
  <Override PartName="/ppt/media/image7.wmf" ContentType="image/x-wmf"/>
  <Override PartName="/ppt/media/image19.wmf" ContentType="image/x-wmf"/>
  <Override PartName="/ppt/media/image1.png" ContentType="image/png"/>
  <Override PartName="/ppt/media/image13.png" ContentType="image/png"/>
  <Override PartName="/ppt/media/image2.png" ContentType="image/png"/>
  <Override PartName="/ppt/media/image14.png" ContentType="image/png"/>
  <Override PartName="/ppt/media/image30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</a:rPr>
              <a:t>Click to move the slide</a:t>
            </a: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9727-74FD-4C0C-8029-7B585E2A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769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728520"/>
            <a:ext cx="7769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7908-7F8F-443D-B209-035055CF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791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143000"/>
            <a:ext cx="3791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28520"/>
            <a:ext cx="3791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3728520"/>
            <a:ext cx="3791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B9F6-8502-4960-95B8-0DC960FE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012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143000"/>
            <a:ext cx="25012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143000"/>
            <a:ext cx="25012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728520"/>
            <a:ext cx="25012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3728520"/>
            <a:ext cx="25012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3728520"/>
            <a:ext cx="25012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DBCC-4D20-4833-BDA4-0F2DB741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372A-DFDC-47F6-8171-2E327AF7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916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15A1-742A-481D-B8CE-50FE4049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769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6B14-1A43-4331-901E-5492A8A9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791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143000"/>
            <a:ext cx="3791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43B5-C3C2-49E4-A6E8-CC8E3ADB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3792-C4C4-407D-B8BC-C1B47FAF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76916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D970-7431-45BC-AEAE-13C98124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791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143000"/>
            <a:ext cx="3791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728520"/>
            <a:ext cx="3791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E30D-AFA6-4954-B6D1-E3A996EE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916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49FF-3DFB-4D71-9BEA-99FFA8E7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791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143000"/>
            <a:ext cx="3791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3728520"/>
            <a:ext cx="3791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4527-571D-43AD-BA0C-13276FFE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791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143000"/>
            <a:ext cx="3791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728520"/>
            <a:ext cx="7769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5DFE-973B-4457-B09E-951B07D7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769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728520"/>
            <a:ext cx="7769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0B1B-3942-4CD8-B8E0-7D74E860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791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143000"/>
            <a:ext cx="3791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728520"/>
            <a:ext cx="3791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3728520"/>
            <a:ext cx="3791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2691-8DA3-460E-A8A4-FD0F6877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012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143000"/>
            <a:ext cx="25012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143000"/>
            <a:ext cx="25012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728520"/>
            <a:ext cx="25012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3728520"/>
            <a:ext cx="25012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3728520"/>
            <a:ext cx="25012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8725-4182-4169-9F7E-775BF4B1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769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E77F-7214-4A31-921D-3C2B1D97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791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143000"/>
            <a:ext cx="3791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1F42-55BD-4FE8-9213-16CFF745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DFA2-2034-4BBF-B330-3B1B24AB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76916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CDC9-924C-4A6C-8980-232843DE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791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143000"/>
            <a:ext cx="3791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728520"/>
            <a:ext cx="3791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CE2C-176C-4A8C-8A06-4FFA6F7E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791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143000"/>
            <a:ext cx="3791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3728520"/>
            <a:ext cx="3791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4B06-D4C1-4EA7-99A7-4E8C5314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791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143000"/>
            <a:ext cx="3791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728520"/>
            <a:ext cx="7769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3C4-F096-48ED-A1B4-FBF6EC90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143000"/>
            <a:ext cx="7769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39800" indent="-282600">
              <a:spcBef>
                <a:spcPts val="601"/>
              </a:spcBef>
              <a:buClr>
                <a:srgbClr val="ffffff"/>
              </a:buClr>
              <a:buFont typeface="Palatino Linotyp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Palatino Linotyp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Palatino Linotyp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Palatino Linotyp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Palatino Linotyp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4B84B-7417-420A-8919-CEDEACA79B0B}" type="slidenum">
              <a:rPr b="0" lang="en-US" sz="1400" spc="-1" strike="noStrike">
                <a:solidFill>
                  <a:srgbClr val="000000"/>
                </a:solidFill>
                <a:latin typeface="Arial Unicode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143000"/>
            <a:ext cx="7769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39800" indent="-282600">
              <a:spcBef>
                <a:spcPts val="601"/>
              </a:spcBef>
              <a:buClr>
                <a:srgbClr val="ffffff"/>
              </a:buClr>
              <a:buFont typeface="Palatino Linotyp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Palatino Linotyp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Palatino Linotyp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Palatino Linotyp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Palatino Linotyp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Arial Unicode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Arial Unicode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Arial Unicode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37BCF-32E6-4721-8029-0CA4F2BDBFD5}" type="slidenum">
              <a:rPr b="0" lang="en-US" sz="1400" spc="-1" strike="noStrike">
                <a:solidFill>
                  <a:srgbClr val="ffffff"/>
                </a:solidFill>
                <a:latin typeface="Arial Unicode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wmf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320" y="419040"/>
            <a:ext cx="906768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Compressive Structured Light for Recovering </a:t>
            </a:r>
            <a:br>
              <a:rPr sz="3200"/>
            </a:b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Inhomogeneous Participating Media</a:t>
            </a: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98736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Jinwei Gu, Shree Nayar, Eitan Grinspun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Peter Belhumeur, and Ravi Ramamoorthi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Columbia University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685800" y="44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Temporal 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2057400" y="1143000"/>
            <a:ext cx="2057400" cy="1066680"/>
            <a:chOff x="2057400" y="1143000"/>
            <a:chExt cx="2057400" cy="1066680"/>
          </a:xfrm>
        </p:grpSpPr>
        <p:sp>
          <p:nvSpPr>
            <p:cNvPr id="597" name=""/>
            <p:cNvSpPr/>
            <p:nvPr/>
          </p:nvSpPr>
          <p:spPr>
            <a:xfrm>
              <a:off x="2057400" y="1143000"/>
              <a:ext cx="76320" cy="1066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4038480" y="1143000"/>
              <a:ext cx="76320" cy="1066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5106960" y="1143000"/>
            <a:ext cx="1370160" cy="1069200"/>
            <a:chOff x="5106960" y="1143000"/>
            <a:chExt cx="1370160" cy="1069200"/>
          </a:xfrm>
        </p:grpSpPr>
        <p:sp>
          <p:nvSpPr>
            <p:cNvPr id="600" name=""/>
            <p:cNvSpPr/>
            <p:nvPr/>
          </p:nvSpPr>
          <p:spPr>
            <a:xfrm>
              <a:off x="5106960" y="1295280"/>
              <a:ext cx="58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5400" spc="-1" strike="noStrike">
                  <a:solidFill>
                    <a:srgbClr val="ff9933"/>
                  </a:solidFill>
                  <a:latin typeface="Arial"/>
                  <a:ea typeface="宋体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867280" y="1143000"/>
              <a:ext cx="76320" cy="1066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6400800" y="1143000"/>
              <a:ext cx="76320" cy="1066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4419720" y="1143000"/>
            <a:ext cx="457200" cy="1371600"/>
            <a:chOff x="4419720" y="1143000"/>
            <a:chExt cx="457200" cy="1371600"/>
          </a:xfrm>
        </p:grpSpPr>
        <p:sp>
          <p:nvSpPr>
            <p:cNvPr id="604" name=""/>
            <p:cNvSpPr/>
            <p:nvPr/>
          </p:nvSpPr>
          <p:spPr>
            <a:xfrm flipH="1">
              <a:off x="4800600" y="1143000"/>
              <a:ext cx="76320" cy="137160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419720" y="1143000"/>
              <a:ext cx="75960" cy="13716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446360" y="156852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Palatino Linotype"/>
                  <a:ea typeface="宋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920560" y="135108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Palatino Linotype"/>
                <a:ea typeface="宋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928960" y="1413000"/>
            <a:ext cx="65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Palatino Linotype"/>
                <a:ea typeface="宋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6560" y="4257720"/>
            <a:ext cx="777240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Palatino Linotype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Efficient acquisition requires:    </a:t>
            </a:r>
            <a:r>
              <a:rPr b="0" i="1" lang="en-US" sz="3600" spc="-1" strike="noStrike">
                <a:solidFill>
                  <a:srgbClr val="ff9933"/>
                </a:solidFill>
                <a:latin typeface="Palatino Linotype"/>
                <a:ea typeface="宋体"/>
              </a:rPr>
              <a:t>m &lt; 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An </a:t>
            </a:r>
            <a:r>
              <a:rPr b="0" lang="en-US" sz="2400" spc="-1" strike="noStrike">
                <a:solidFill>
                  <a:srgbClr val="ff9933"/>
                </a:solidFill>
                <a:latin typeface="Palatino Linotype"/>
                <a:ea typeface="宋体"/>
              </a:rPr>
              <a:t>under-determined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 linear system, which can be solved according to certain prior knowledge of </a:t>
            </a:r>
            <a:r>
              <a:rPr b="0" lang="en-US" sz="3600" spc="-1" strike="noStrike">
                <a:solidFill>
                  <a:srgbClr val="ff9933"/>
                </a:solidFill>
                <a:latin typeface="Palatino Linotype"/>
                <a:ea typeface="宋体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47920" y="2906640"/>
            <a:ext cx="25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Coded Light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ff9933"/>
                </a:solidFill>
                <a:latin typeface="Palatino Linotype"/>
                <a:ea typeface="宋体"/>
              </a:rPr>
              <a:t>m</a:t>
            </a:r>
            <a:r>
              <a:rPr b="0" lang="en-US" sz="1800" spc="-1" strike="noStrike">
                <a:solidFill>
                  <a:srgbClr val="ff9933"/>
                </a:solidFill>
                <a:latin typeface="Arial"/>
                <a:ea typeface="宋体"/>
              </a:rPr>
              <a:t>×</a:t>
            </a:r>
            <a:r>
              <a:rPr b="0" i="1" lang="en-US" sz="2000" spc="-1" strike="noStrike">
                <a:solidFill>
                  <a:srgbClr val="ff9933"/>
                </a:solidFill>
                <a:latin typeface="Palatino Linotype"/>
                <a:ea typeface="宋体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217560" y="2905200"/>
            <a:ext cx="197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ff9933"/>
                </a:solidFill>
                <a:latin typeface="Palatino Linotype"/>
                <a:ea typeface="宋体"/>
              </a:rPr>
              <a:t>m</a:t>
            </a:r>
            <a:r>
              <a:rPr b="0" lang="en-US" sz="1800" spc="-1" strike="noStrike">
                <a:solidFill>
                  <a:srgbClr val="ff9933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ff9933"/>
                </a:solidFill>
                <a:latin typeface="Palatino Linotype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69760" y="2914560"/>
            <a:ext cx="209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Volume D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ff9933"/>
                </a:solidFill>
                <a:latin typeface="Palatino Linotype"/>
                <a:ea typeface="宋体"/>
              </a:rPr>
              <a:t>n</a:t>
            </a:r>
            <a:r>
              <a:rPr b="0" lang="en-US" sz="1800" spc="-1" strike="noStrike">
                <a:solidFill>
                  <a:srgbClr val="ff9933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ff9933"/>
                </a:solidFill>
                <a:latin typeface="Palatino Linotype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1706400" y="2412720"/>
            <a:ext cx="1168560" cy="485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6351480" y="2452680"/>
            <a:ext cx="790560" cy="479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4646520" y="2473200"/>
            <a:ext cx="1800" cy="387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dur="indefinite" fill="hold">
                      <p:stCondLst>
                        <p:cond delay="indefinite"/>
                      </p:stCondLst>
                      <p:childTnLst>
                        <p:par>
                          <p:cTn id="2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dur="indefinite" fill="hold">
                      <p:stCondLst>
                        <p:cond delay="indefinite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dur="indefinite" fill="hold">
                      <p:stCondLst>
                        <p:cond delay="indefinite"/>
                      </p:stCondLst>
                      <p:childTnLst>
                        <p:par>
                          <p:cTn id="2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dur="indefinite" fill="hold">
                      <p:stCondLst>
                        <p:cond delay="indefinite"/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dur="indefinite" fill="hold">
                      <p:stCondLst>
                        <p:cond delay="indefinite"/>
                      </p:stCondLst>
                      <p:childTnLst>
                        <p:par>
                          <p:cTn id="2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770040" y="4307040"/>
            <a:ext cx="7675560" cy="1565280"/>
          </a:xfrm>
          <a:prstGeom prst="rect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Solving Underdetermined System </a:t>
            </a:r>
            <a:r>
              <a:rPr b="1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Ax = b</a:t>
            </a: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Least Square (LS):    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Nonnegative Least Square (NLS):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3367080" y="1644480"/>
          <a:ext cx="227340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7080" y="1644480"/>
                    <a:ext cx="227340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2421000" y="3097080"/>
          <a:ext cx="4254480" cy="6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1000" y="3097080"/>
                    <a:ext cx="42544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"/>
          <p:cNvSpPr/>
          <p:nvPr/>
        </p:nvSpPr>
        <p:spPr>
          <a:xfrm>
            <a:off x="801720" y="4591080"/>
            <a:ext cx="7427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Palatino Linotype"/>
                <a:ea typeface="宋体"/>
              </a:rPr>
              <a:t>For underdetermined system,  they are equivalen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宋体"/>
              </a:rPr>
              <a:t>Minimum Norm Least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2038320" y="3033720"/>
          <a:ext cx="5391360" cy="64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38320" y="3033720"/>
                    <a:ext cx="539136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2798640" y="1692360"/>
          <a:ext cx="3409920" cy="649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98640" y="1692360"/>
                    <a:ext cx="340992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dur="indefinite" fill="hold">
                      <p:stCondLst>
                        <p:cond delay="indefinite"/>
                      </p:stCondLst>
                      <p:childTnLst>
                        <p:par>
                          <p:cTn id="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dur="indefinite" fill="hold">
                      <p:stCondLst>
                        <p:cond delay="indefinite"/>
                      </p:stCondLst>
                      <p:childTnLst>
                        <p:par>
                          <p:cTn id="2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 fill="hold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500" fill="hold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 fill="hold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 fill="hold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Solving Underdetermined System </a:t>
            </a:r>
            <a:r>
              <a:rPr b="1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Ax = b</a:t>
            </a: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Least Square (LS):    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Nonnegative Least Square (NLS):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2038320" y="3033720"/>
          <a:ext cx="539136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8320" y="3033720"/>
                    <a:ext cx="539136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2798640" y="1692360"/>
          <a:ext cx="340992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98640" y="1692360"/>
                    <a:ext cx="340992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"/>
          <p:cNvSpPr/>
          <p:nvPr/>
        </p:nvSpPr>
        <p:spPr>
          <a:xfrm>
            <a:off x="142200" y="5970600"/>
            <a:ext cx="29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Volume density of sm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[Hawkins et al. 0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663000" y="5970600"/>
            <a:ext cx="18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Least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(NRMSE=0.330)</a:t>
            </a: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841720" y="597060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Nonnegative Least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(NRMSE=0.177)</a:t>
            </a: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5"/>
          <a:stretch/>
        </p:blipFill>
        <p:spPr>
          <a:xfrm>
            <a:off x="433440" y="4113360"/>
            <a:ext cx="2413080" cy="180972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6"/>
          <a:stretch/>
        </p:blipFill>
        <p:spPr>
          <a:xfrm>
            <a:off x="3365640" y="4113360"/>
            <a:ext cx="2412720" cy="18097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7"/>
          <a:stretch/>
        </p:blipFill>
        <p:spPr>
          <a:xfrm>
            <a:off x="6183360" y="4113360"/>
            <a:ext cx="2413080" cy="180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dur="indefinite" fill="hold">
                      <p:stCondLst>
                        <p:cond delay="indefinite"/>
                      </p:stCondLst>
                      <p:childTnLst>
                        <p:par>
                          <p:cTn id="3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Solving Underdetermined System </a:t>
            </a:r>
            <a:r>
              <a:rPr b="1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Ax = b</a:t>
            </a: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8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Use the </a:t>
            </a:r>
            <a:r>
              <a:rPr b="0" lang="en-US" sz="2400" spc="-1" strike="noStrike">
                <a:solidFill>
                  <a:srgbClr val="ff9933"/>
                </a:solidFill>
                <a:latin typeface="Palatino Linotype"/>
                <a:ea typeface="宋体"/>
              </a:rPr>
              <a:t>sparsity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 of the signal for reconstruction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The sparsity of natural images has extensively been used before in computer vision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39800" indent="-282600"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Total-variation noise removal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39800" indent="-282600"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Sparse coding and compression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39800" indent="-282600"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3980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Recent renaissance of sparse signal reconstruction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39800" indent="-282600"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Sparse MRI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39800" indent="-282600"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Image sparse representation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39800" indent="-282600"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Light transpor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39800" indent="-282600"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2" name=""/>
          <p:cNvSpPr/>
          <p:nvPr/>
        </p:nvSpPr>
        <p:spPr>
          <a:xfrm>
            <a:off x="4831560" y="282888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Palatino Linotype"/>
                <a:ea typeface="宋体"/>
              </a:rPr>
              <a:t>[Rudin et al., 9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769120" y="4724280"/>
            <a:ext cx="17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Palatino Linotype"/>
                <a:ea typeface="宋体"/>
              </a:rPr>
              <a:t>[Lustig et al., 07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953240" y="3208320"/>
            <a:ext cx="217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Palatino Linotype"/>
                <a:ea typeface="宋体"/>
              </a:rPr>
              <a:t>[Olshausen et al., 9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847200" y="3209760"/>
            <a:ext cx="21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Palatino Linotype"/>
                <a:ea typeface="宋体"/>
              </a:rPr>
              <a:t>[Simoncelli et al., 97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145320" y="5486400"/>
            <a:ext cx="169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Palatino Linotype"/>
                <a:ea typeface="宋体"/>
              </a:rPr>
              <a:t>[Peers et al., 08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612320" y="510552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Palatino Linotype"/>
                <a:ea typeface="宋体"/>
              </a:rPr>
              <a:t>[Mairal et al., 08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644920" y="5921280"/>
            <a:ext cx="42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宋体"/>
              </a:rPr>
              <a:t>Compressive S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dur="indefinite" fill="hold">
                      <p:stCondLst>
                        <p:cond delay="indefinite"/>
                      </p:stCondLst>
                      <p:childTnLst>
                        <p:par>
                          <p:cTn id="3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dur="indefinite" fill="hold">
                      <p:stCondLst>
                        <p:cond delay="indefinite"/>
                      </p:stCondLst>
                      <p:childTnLst>
                        <p:par>
                          <p:cTn id="3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dur="indefinite" fill="hold">
                      <p:stCondLst>
                        <p:cond delay="indefinite"/>
                      </p:stCondLst>
                      <p:childTnLst>
                        <p:par>
                          <p:cTn id="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Compressive Sensing: A Brief Introduction</a:t>
            </a: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13600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Sparsity / Compressibility: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39800" indent="-282600"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Signals can be represented as a few non-zero coefficients in an appropriately-chosen basis, e.g., wavelet, gradient, PCA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51" name=""/>
          <p:cNvSpPr/>
          <p:nvPr/>
        </p:nvSpPr>
        <p:spPr>
          <a:xfrm>
            <a:off x="5467680" y="793800"/>
            <a:ext cx="327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Palatino Linotype"/>
                <a:ea typeface="宋体"/>
              </a:rPr>
              <a:t>[Candes et al., 06][Donoho, 06]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2925720" cy="292572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5151600" y="2666880"/>
            <a:ext cx="2925720" cy="292572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1782720" y="563868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Palatino Linotype"/>
                <a:ea typeface="宋体"/>
              </a:rPr>
              <a:t>Original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dddddd"/>
                </a:solidFill>
                <a:latin typeface="Palatino Linotype"/>
                <a:ea typeface="宋体"/>
              </a:rPr>
              <a:t>N</a:t>
            </a:r>
            <a:r>
              <a:rPr b="0" i="1" lang="en-US" sz="1800" spc="-1" strike="noStrike" baseline="30000">
                <a:solidFill>
                  <a:srgbClr val="dddddd"/>
                </a:solidFill>
                <a:latin typeface="Palatino Linotype"/>
                <a:ea typeface="宋体"/>
              </a:rPr>
              <a:t>2</a:t>
            </a:r>
            <a:r>
              <a:rPr b="0" lang="en-US" sz="1800" spc="-1" strike="noStrike">
                <a:solidFill>
                  <a:srgbClr val="dddddd"/>
                </a:solidFill>
                <a:latin typeface="Palatino Linotype"/>
                <a:ea typeface="宋体"/>
              </a:rPr>
              <a:t> 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922280" y="5638680"/>
            <a:ext cx="347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Palatino Linotype"/>
                <a:ea typeface="宋体"/>
              </a:rPr>
              <a:t>Wavelet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dddddd"/>
                </a:solidFill>
                <a:latin typeface="Palatino Linotype"/>
                <a:ea typeface="宋体"/>
              </a:rPr>
              <a:t>K </a:t>
            </a:r>
            <a:r>
              <a:rPr b="0" lang="en-US" sz="1800" spc="-1" strike="noStrike">
                <a:solidFill>
                  <a:srgbClr val="dddddd"/>
                </a:solidFill>
                <a:latin typeface="Palatino Linotype"/>
                <a:ea typeface="宋体"/>
              </a:rPr>
              <a:t>significantly non-zero coe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dddddd"/>
                </a:solidFill>
                <a:latin typeface="Palatino Linotype"/>
                <a:ea typeface="宋体"/>
              </a:rPr>
              <a:t>K </a:t>
            </a:r>
            <a:r>
              <a:rPr b="1" i="1" lang="en-US" sz="1800" spc="-1" strike="noStrike">
                <a:solidFill>
                  <a:srgbClr val="dddddd"/>
                </a:solidFill>
                <a:latin typeface="Palatino Linotype"/>
                <a:ea typeface="宋体"/>
              </a:rPr>
              <a:t>&lt; &lt;</a:t>
            </a:r>
            <a:r>
              <a:rPr b="0" i="1" lang="en-US" sz="1800" spc="-1" strike="noStrike">
                <a:solidFill>
                  <a:srgbClr val="dddddd"/>
                </a:solidFill>
                <a:latin typeface="Palatino Linotype"/>
                <a:ea typeface="宋体"/>
              </a:rPr>
              <a:t> N</a:t>
            </a:r>
            <a:r>
              <a:rPr b="0" i="1" lang="en-US" sz="1800" spc="-1" strike="noStrike" baseline="30000">
                <a:solidFill>
                  <a:srgbClr val="dddddd"/>
                </a:solidFill>
                <a:latin typeface="Palatino Linotype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Compressive Sensing: A Brief Introduction</a:t>
            </a: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1360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Sparsity / Compressibility: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39800" indent="-282600"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Signals can be represented as a few non-zero coefficients in an appropriately-chosen basis, e.g., wavelet, gradient, PCA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For sparse signals, acquire </a:t>
            </a:r>
            <a:r>
              <a:rPr b="0" lang="en-US" sz="2400" spc="-1" strike="noStrike">
                <a:solidFill>
                  <a:srgbClr val="ff9933"/>
                </a:solidFill>
                <a:latin typeface="Palatino Linotype"/>
                <a:ea typeface="宋体"/>
              </a:rPr>
              <a:t>measurements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 (condensed representations of the signals) with </a:t>
            </a:r>
            <a:r>
              <a:rPr b="0" lang="en-US" sz="2400" spc="-1" strike="noStrike">
                <a:solidFill>
                  <a:srgbClr val="ff9933"/>
                </a:solidFill>
                <a:latin typeface="Palatino Linotype"/>
                <a:ea typeface="宋体"/>
              </a:rPr>
              <a:t>random projections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58" name=""/>
          <p:cNvSpPr/>
          <p:nvPr/>
        </p:nvSpPr>
        <p:spPr>
          <a:xfrm>
            <a:off x="5467680" y="793800"/>
            <a:ext cx="327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Palatino Linotype"/>
                <a:ea typeface="宋体"/>
              </a:rPr>
              <a:t>[Candes et al., 06][Donoho, 06]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361200" y="4486320"/>
            <a:ext cx="3045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354720" y="411156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2398680" y="4118040"/>
            <a:ext cx="2057400" cy="1066680"/>
            <a:chOff x="2398680" y="4118040"/>
            <a:chExt cx="2057400" cy="1066680"/>
          </a:xfrm>
        </p:grpSpPr>
        <p:sp>
          <p:nvSpPr>
            <p:cNvPr id="662" name=""/>
            <p:cNvSpPr/>
            <p:nvPr/>
          </p:nvSpPr>
          <p:spPr>
            <a:xfrm>
              <a:off x="2398680" y="4118040"/>
              <a:ext cx="76320" cy="1066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4379760" y="4118040"/>
              <a:ext cx="76320" cy="1066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5448240" y="4118040"/>
            <a:ext cx="1370160" cy="1069200"/>
            <a:chOff x="5448240" y="4118040"/>
            <a:chExt cx="1370160" cy="1069200"/>
          </a:xfrm>
        </p:grpSpPr>
        <p:sp>
          <p:nvSpPr>
            <p:cNvPr id="665" name=""/>
            <p:cNvSpPr/>
            <p:nvPr/>
          </p:nvSpPr>
          <p:spPr>
            <a:xfrm>
              <a:off x="5448240" y="4270320"/>
              <a:ext cx="58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5400" spc="-1" strike="noStrike">
                  <a:solidFill>
                    <a:srgbClr val="ff9933"/>
                  </a:solidFill>
                  <a:latin typeface="Arial"/>
                  <a:ea typeface="宋体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208560" y="4118040"/>
              <a:ext cx="76320" cy="1066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6742080" y="4118040"/>
              <a:ext cx="76320" cy="1066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576520" y="4486320"/>
            <a:ext cx="1670040" cy="291960"/>
            <a:chOff x="2576520" y="4486320"/>
            <a:chExt cx="1670040" cy="291960"/>
          </a:xfrm>
        </p:grpSpPr>
        <p:sp>
          <p:nvSpPr>
            <p:cNvPr id="669" name=""/>
            <p:cNvSpPr/>
            <p:nvPr/>
          </p:nvSpPr>
          <p:spPr>
            <a:xfrm>
              <a:off x="2576520" y="4486320"/>
              <a:ext cx="33660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13120" y="4486320"/>
              <a:ext cx="33660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243240" y="4486320"/>
              <a:ext cx="336600" cy="291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579840" y="4486320"/>
              <a:ext cx="33660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09960" y="4486320"/>
              <a:ext cx="336600" cy="291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2576520" y="4111560"/>
            <a:ext cx="1670040" cy="292320"/>
            <a:chOff x="2576520" y="4111560"/>
            <a:chExt cx="1670040" cy="292320"/>
          </a:xfrm>
        </p:grpSpPr>
        <p:sp>
          <p:nvSpPr>
            <p:cNvPr id="675" name=""/>
            <p:cNvSpPr/>
            <p:nvPr/>
          </p:nvSpPr>
          <p:spPr>
            <a:xfrm>
              <a:off x="2576520" y="4111560"/>
              <a:ext cx="33660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913120" y="4111560"/>
              <a:ext cx="336600" cy="292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243240" y="4111560"/>
              <a:ext cx="33660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579840" y="4111560"/>
              <a:ext cx="336600" cy="292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09960" y="4111560"/>
              <a:ext cx="33660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4761000" y="4118040"/>
            <a:ext cx="457200" cy="1371600"/>
            <a:chOff x="4761000" y="4118040"/>
            <a:chExt cx="457200" cy="1371600"/>
          </a:xfrm>
        </p:grpSpPr>
        <p:sp>
          <p:nvSpPr>
            <p:cNvPr id="681" name=""/>
            <p:cNvSpPr/>
            <p:nvPr/>
          </p:nvSpPr>
          <p:spPr>
            <a:xfrm flipH="1">
              <a:off x="5141880" y="4118040"/>
              <a:ext cx="76320" cy="137160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761000" y="4118040"/>
              <a:ext cx="75960" cy="13716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787640" y="454356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Palatino Linotype"/>
                  <a:ea typeface="宋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6361200" y="48672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2576520" y="4867200"/>
            <a:ext cx="1670040" cy="292320"/>
            <a:chOff x="2576520" y="4867200"/>
            <a:chExt cx="1670040" cy="292320"/>
          </a:xfrm>
        </p:grpSpPr>
        <p:sp>
          <p:nvSpPr>
            <p:cNvPr id="686" name=""/>
            <p:cNvSpPr/>
            <p:nvPr/>
          </p:nvSpPr>
          <p:spPr>
            <a:xfrm>
              <a:off x="2576520" y="4867200"/>
              <a:ext cx="336600" cy="292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913120" y="4867200"/>
              <a:ext cx="33660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243240" y="4867200"/>
              <a:ext cx="336600" cy="292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579840" y="4867200"/>
              <a:ext cx="33660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909960" y="4867200"/>
              <a:ext cx="33660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990720" y="5400720"/>
            <a:ext cx="31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Measurement Ensem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ff9933"/>
                </a:solidFill>
                <a:latin typeface="Palatino Linotype"/>
                <a:ea typeface="宋体"/>
              </a:rPr>
              <a:t>m</a:t>
            </a:r>
            <a:r>
              <a:rPr b="0" lang="en-US" sz="1800" spc="-1" strike="noStrike">
                <a:solidFill>
                  <a:srgbClr val="ff9933"/>
                </a:solidFill>
                <a:latin typeface="Arial"/>
                <a:ea typeface="宋体"/>
              </a:rPr>
              <a:t>×</a:t>
            </a:r>
            <a:r>
              <a:rPr b="0" i="1" lang="en-US" sz="2000" spc="-1" strike="noStrike">
                <a:solidFill>
                  <a:srgbClr val="ff9933"/>
                </a:solidFill>
                <a:latin typeface="Palatino Linotype"/>
                <a:ea typeface="宋体"/>
              </a:rPr>
              <a:t>n,  </a:t>
            </a:r>
            <a:r>
              <a:rPr b="0" lang="en-US" sz="2000" spc="-1" strike="noStrike">
                <a:solidFill>
                  <a:srgbClr val="ff9933"/>
                </a:solidFill>
                <a:latin typeface="Palatino Linotype"/>
                <a:ea typeface="宋体"/>
              </a:rPr>
              <a:t>where</a:t>
            </a:r>
            <a:r>
              <a:rPr b="0" i="1" lang="en-US" sz="2000" spc="-1" strike="noStrike">
                <a:solidFill>
                  <a:srgbClr val="ff9933"/>
                </a:solidFill>
                <a:latin typeface="Palatino Linotype"/>
                <a:ea typeface="宋体"/>
              </a:rPr>
              <a:t> m&lt;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689080" y="5400720"/>
            <a:ext cx="197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ff9933"/>
                </a:solidFill>
                <a:latin typeface="Palatino Linotype"/>
                <a:ea typeface="宋体"/>
              </a:rPr>
              <a:t>m</a:t>
            </a:r>
            <a:r>
              <a:rPr b="0" lang="en-US" sz="1800" spc="-1" strike="noStrike">
                <a:solidFill>
                  <a:srgbClr val="ff9933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ff9933"/>
                </a:solidFill>
                <a:latin typeface="Palatino Linotype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513680" y="5400720"/>
            <a:ext cx="9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ff9933"/>
                </a:solidFill>
                <a:latin typeface="Palatino Linotype"/>
                <a:ea typeface="宋体"/>
              </a:rPr>
              <a:t>n</a:t>
            </a:r>
            <a:r>
              <a:rPr b="0" lang="en-US" sz="1800" spc="-1" strike="noStrike">
                <a:solidFill>
                  <a:srgbClr val="ff9933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ff9933"/>
                </a:solidFill>
                <a:latin typeface="Palatino Linotype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850800" y="431172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Palatino Linotype"/>
                <a:ea typeface="宋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658880" y="4295880"/>
            <a:ext cx="65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Palatino Linotype"/>
                <a:ea typeface="宋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Compressive Sensing: A Brief Introduction</a:t>
            </a: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1360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Sparsity / Compressibility: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39800" indent="-282600"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Signals can be represented as a few non-zero coefficients in an appropriately-chosen basis, e.g., wavelet, gradient, PCA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For sparse signals, acquire </a:t>
            </a:r>
            <a:r>
              <a:rPr b="0" lang="en-US" sz="2400" spc="-1" strike="noStrike">
                <a:solidFill>
                  <a:srgbClr val="ff9933"/>
                </a:solidFill>
                <a:latin typeface="Palatino Linotype"/>
                <a:ea typeface="宋体"/>
              </a:rPr>
              <a:t>measurements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 (condensed representations of the signals) with </a:t>
            </a:r>
            <a:r>
              <a:rPr b="0" lang="en-US" sz="2400" spc="-1" strike="noStrike">
                <a:solidFill>
                  <a:srgbClr val="ff9933"/>
                </a:solidFill>
                <a:latin typeface="Palatino Linotype"/>
                <a:ea typeface="宋体"/>
              </a:rPr>
              <a:t>random projections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Reconstruct signals via </a:t>
            </a:r>
            <a:r>
              <a:rPr b="0" lang="en-US" sz="2400" spc="-1" strike="noStrike">
                <a:solidFill>
                  <a:srgbClr val="ff9933"/>
                </a:solidFill>
                <a:latin typeface="Palatino Linotype"/>
                <a:ea typeface="宋体"/>
              </a:rPr>
              <a:t>L1-norm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 optimization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39800" indent="-282600">
              <a:spcBef>
                <a:spcPts val="601"/>
              </a:spcBef>
              <a:buClr>
                <a:srgbClr val="ffffff"/>
              </a:buClr>
              <a:buFont typeface="Palatino Linotype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Theoretical guarantees of accuracy, even with noise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98" name=""/>
          <p:cNvSpPr/>
          <p:nvPr/>
        </p:nvSpPr>
        <p:spPr>
          <a:xfrm>
            <a:off x="5467680" y="793800"/>
            <a:ext cx="327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Palatino Linotype"/>
                <a:ea typeface="宋体"/>
              </a:rPr>
              <a:t>[Candes et al., 06][Donoho, 06]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9" name=""/>
          <p:cNvGraphicFramePr/>
          <p:nvPr/>
        </p:nvGraphicFramePr>
        <p:xfrm>
          <a:off x="2597040" y="5014800"/>
          <a:ext cx="357372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7040" y="5014800"/>
                    <a:ext cx="357372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Compressive Sensing: A Brief Introduction</a:t>
            </a: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149120"/>
            <a:ext cx="813600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L-1 norm is known to give sparse solution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alatino Linotype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An example:  </a:t>
            </a: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x = [x</a:t>
            </a:r>
            <a:r>
              <a:rPr b="0" lang="en-US" sz="1800" spc="-1" strike="noStrike" baseline="-25000">
                <a:solidFill>
                  <a:srgbClr val="ff9933"/>
                </a:solidFill>
                <a:latin typeface="Palatino Linotype"/>
                <a:ea typeface="宋体"/>
              </a:rPr>
              <a:t>1</a:t>
            </a: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, x</a:t>
            </a:r>
            <a:r>
              <a:rPr b="0" lang="en-US" sz="1800" spc="-1" strike="noStrike" baseline="-25000">
                <a:solidFill>
                  <a:srgbClr val="ff9933"/>
                </a:solidFill>
                <a:latin typeface="Palatino Linotype"/>
                <a:ea typeface="宋体"/>
              </a:rPr>
              <a:t>2</a:t>
            </a: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alatino Linotype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Sparse solutions should be points on the two axes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alatino Linotype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Suppose we only have one measurement: </a:t>
            </a: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a</a:t>
            </a:r>
            <a:r>
              <a:rPr b="0" lang="en-US" sz="1800" spc="-1" strike="noStrike" baseline="-25000">
                <a:solidFill>
                  <a:srgbClr val="ff9933"/>
                </a:solidFill>
                <a:latin typeface="Palatino Linotype"/>
                <a:ea typeface="宋体"/>
              </a:rPr>
              <a:t>1</a:t>
            </a: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x</a:t>
            </a:r>
            <a:r>
              <a:rPr b="0" lang="en-US" sz="1800" spc="-1" strike="noStrike" baseline="-25000">
                <a:solidFill>
                  <a:srgbClr val="ff9933"/>
                </a:solidFill>
                <a:latin typeface="Palatino Linotype"/>
                <a:ea typeface="宋体"/>
              </a:rPr>
              <a:t>1</a:t>
            </a: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+a</a:t>
            </a:r>
            <a:r>
              <a:rPr b="0" lang="en-US" sz="1800" spc="-1" strike="noStrike" baseline="-25000">
                <a:solidFill>
                  <a:srgbClr val="ff9933"/>
                </a:solidFill>
                <a:latin typeface="Palatino Linotype"/>
                <a:ea typeface="宋体"/>
              </a:rPr>
              <a:t>2</a:t>
            </a: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x</a:t>
            </a:r>
            <a:r>
              <a:rPr b="0" lang="en-US" sz="1800" spc="-1" strike="noStrike" baseline="-25000">
                <a:solidFill>
                  <a:srgbClr val="ff9933"/>
                </a:solidFill>
                <a:latin typeface="Palatino Linotype"/>
                <a:ea typeface="宋体"/>
              </a:rPr>
              <a:t>2</a:t>
            </a: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=b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1295280" y="2743200"/>
            <a:ext cx="2516400" cy="2235240"/>
            <a:chOff x="1295280" y="2743200"/>
            <a:chExt cx="2516400" cy="2235240"/>
          </a:xfrm>
        </p:grpSpPr>
        <p:sp>
          <p:nvSpPr>
            <p:cNvPr id="704" name=""/>
            <p:cNvSpPr/>
            <p:nvPr/>
          </p:nvSpPr>
          <p:spPr>
            <a:xfrm>
              <a:off x="1295280" y="3987720"/>
              <a:ext cx="2138400" cy="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2311560" y="2833560"/>
              <a:ext cx="1440" cy="2144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423960" y="3830760"/>
              <a:ext cx="387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alatino Linotype"/>
                  <a:ea typeface="宋体"/>
                </a:rPr>
                <a:t>x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Palatino Linotype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992240" y="2743200"/>
              <a:ext cx="387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alatino Linotype"/>
                  <a:ea typeface="宋体"/>
                </a:rPr>
                <a:t>x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Palatino Linotype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1795320" y="3032280"/>
            <a:ext cx="1980360" cy="1190520"/>
            <a:chOff x="1795320" y="3032280"/>
            <a:chExt cx="1980360" cy="1190520"/>
          </a:xfrm>
        </p:grpSpPr>
        <p:sp>
          <p:nvSpPr>
            <p:cNvPr id="709" name=""/>
            <p:cNvSpPr/>
            <p:nvPr/>
          </p:nvSpPr>
          <p:spPr>
            <a:xfrm>
              <a:off x="1795320" y="3032280"/>
              <a:ext cx="1630440" cy="119052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20200" y="3147840"/>
              <a:ext cx="145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ff9933"/>
                  </a:solidFill>
                  <a:latin typeface="Palatino Linotype"/>
                  <a:ea typeface="宋体"/>
                </a:rPr>
                <a:t>a</a:t>
              </a:r>
              <a:r>
                <a:rPr b="0" lang="en-US" sz="1800" spc="-1" strike="noStrike" baseline="-25000">
                  <a:solidFill>
                    <a:srgbClr val="ff9933"/>
                  </a:solidFill>
                  <a:latin typeface="Palatino Linotype"/>
                  <a:ea typeface="宋体"/>
                </a:rPr>
                <a:t>1</a:t>
              </a:r>
              <a:r>
                <a:rPr b="0" lang="en-US" sz="1800" spc="-1" strike="noStrike">
                  <a:solidFill>
                    <a:srgbClr val="ff9933"/>
                  </a:solidFill>
                  <a:latin typeface="Palatino Linotype"/>
                  <a:ea typeface="宋体"/>
                </a:rPr>
                <a:t>x</a:t>
              </a:r>
              <a:r>
                <a:rPr b="0" lang="en-US" sz="1800" spc="-1" strike="noStrike" baseline="-25000">
                  <a:solidFill>
                    <a:srgbClr val="ff9933"/>
                  </a:solidFill>
                  <a:latin typeface="Palatino Linotype"/>
                  <a:ea typeface="宋体"/>
                </a:rPr>
                <a:t>1</a:t>
              </a:r>
              <a:r>
                <a:rPr b="0" lang="en-US" sz="1800" spc="-1" strike="noStrike">
                  <a:solidFill>
                    <a:srgbClr val="ff9933"/>
                  </a:solidFill>
                  <a:latin typeface="Palatino Linotype"/>
                  <a:ea typeface="宋体"/>
                </a:rPr>
                <a:t>+ a</a:t>
              </a:r>
              <a:r>
                <a:rPr b="0" lang="en-US" sz="1800" spc="-1" strike="noStrike" baseline="-25000">
                  <a:solidFill>
                    <a:srgbClr val="ff9933"/>
                  </a:solidFill>
                  <a:latin typeface="Palatino Linotype"/>
                  <a:ea typeface="宋体"/>
                </a:rPr>
                <a:t>2</a:t>
              </a:r>
              <a:r>
                <a:rPr b="0" lang="en-US" sz="1800" spc="-1" strike="noStrike">
                  <a:solidFill>
                    <a:srgbClr val="ff9933"/>
                  </a:solidFill>
                  <a:latin typeface="Palatino Linotype"/>
                  <a:ea typeface="宋体"/>
                </a:rPr>
                <a:t>x</a:t>
              </a:r>
              <a:r>
                <a:rPr b="0" lang="en-US" sz="1800" spc="-1" strike="noStrike" baseline="-25000">
                  <a:solidFill>
                    <a:srgbClr val="ff9933"/>
                  </a:solidFill>
                  <a:latin typeface="Palatino Linotype"/>
                  <a:ea typeface="宋体"/>
                </a:rPr>
                <a:t>2</a:t>
              </a:r>
              <a:r>
                <a:rPr b="0" lang="en-US" sz="1800" spc="-1" strike="noStrike">
                  <a:solidFill>
                    <a:srgbClr val="ff9933"/>
                  </a:solidFill>
                  <a:latin typeface="Palatino Linotype"/>
                  <a:ea typeface="宋体"/>
                </a:rPr>
                <a:t>=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"/>
          <p:cNvSpPr/>
          <p:nvPr/>
        </p:nvSpPr>
        <p:spPr>
          <a:xfrm rot="2700000">
            <a:off x="1907640" y="3578040"/>
            <a:ext cx="822240" cy="822600"/>
          </a:xfrm>
          <a:prstGeom prst="rect">
            <a:avLst/>
          </a:prstGeom>
          <a:solidFill>
            <a:srgbClr val="00cc99">
              <a:alpha val="50000"/>
            </a:srgbClr>
          </a:solidFill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4803840" y="2744640"/>
            <a:ext cx="2516400" cy="2237040"/>
            <a:chOff x="4803840" y="2744640"/>
            <a:chExt cx="2516400" cy="2237040"/>
          </a:xfrm>
        </p:grpSpPr>
        <p:sp>
          <p:nvSpPr>
            <p:cNvPr id="713" name=""/>
            <p:cNvSpPr/>
            <p:nvPr/>
          </p:nvSpPr>
          <p:spPr>
            <a:xfrm>
              <a:off x="4803840" y="3989520"/>
              <a:ext cx="213840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5819760" y="2836800"/>
              <a:ext cx="1440" cy="2144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932520" y="3832200"/>
              <a:ext cx="387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alatino Linotype"/>
                  <a:ea typeface="宋体"/>
                </a:rPr>
                <a:t>x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Palatino Linotype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500440" y="2744640"/>
              <a:ext cx="387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alatino Linotype"/>
                  <a:ea typeface="宋体"/>
                </a:rPr>
                <a:t>x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Palatino Linotype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5303880" y="3033720"/>
            <a:ext cx="1980360" cy="1190520"/>
            <a:chOff x="5303880" y="3033720"/>
            <a:chExt cx="1980360" cy="1190520"/>
          </a:xfrm>
        </p:grpSpPr>
        <p:sp>
          <p:nvSpPr>
            <p:cNvPr id="718" name=""/>
            <p:cNvSpPr/>
            <p:nvPr/>
          </p:nvSpPr>
          <p:spPr>
            <a:xfrm>
              <a:off x="5303880" y="3033720"/>
              <a:ext cx="1630440" cy="119052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828760" y="3149640"/>
              <a:ext cx="145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ff9933"/>
                  </a:solidFill>
                  <a:latin typeface="Palatino Linotype"/>
                  <a:ea typeface="宋体"/>
                </a:rPr>
                <a:t>a</a:t>
              </a:r>
              <a:r>
                <a:rPr b="0" lang="en-US" sz="1800" spc="-1" strike="noStrike" baseline="-25000">
                  <a:solidFill>
                    <a:srgbClr val="ff9933"/>
                  </a:solidFill>
                  <a:latin typeface="Palatino Linotype"/>
                  <a:ea typeface="宋体"/>
                </a:rPr>
                <a:t>1</a:t>
              </a:r>
              <a:r>
                <a:rPr b="0" lang="en-US" sz="1800" spc="-1" strike="noStrike">
                  <a:solidFill>
                    <a:srgbClr val="ff9933"/>
                  </a:solidFill>
                  <a:latin typeface="Palatino Linotype"/>
                  <a:ea typeface="宋体"/>
                </a:rPr>
                <a:t>x</a:t>
              </a:r>
              <a:r>
                <a:rPr b="0" lang="en-US" sz="1800" spc="-1" strike="noStrike" baseline="-25000">
                  <a:solidFill>
                    <a:srgbClr val="ff9933"/>
                  </a:solidFill>
                  <a:latin typeface="Palatino Linotype"/>
                  <a:ea typeface="宋体"/>
                </a:rPr>
                <a:t>1</a:t>
              </a:r>
              <a:r>
                <a:rPr b="0" lang="en-US" sz="1800" spc="-1" strike="noStrike">
                  <a:solidFill>
                    <a:srgbClr val="ff9933"/>
                  </a:solidFill>
                  <a:latin typeface="Palatino Linotype"/>
                  <a:ea typeface="宋体"/>
                </a:rPr>
                <a:t>+ a</a:t>
              </a:r>
              <a:r>
                <a:rPr b="0" lang="en-US" sz="1800" spc="-1" strike="noStrike" baseline="-25000">
                  <a:solidFill>
                    <a:srgbClr val="ff9933"/>
                  </a:solidFill>
                  <a:latin typeface="Palatino Linotype"/>
                  <a:ea typeface="宋体"/>
                </a:rPr>
                <a:t>2</a:t>
              </a:r>
              <a:r>
                <a:rPr b="0" lang="en-US" sz="1800" spc="-1" strike="noStrike">
                  <a:solidFill>
                    <a:srgbClr val="ff9933"/>
                  </a:solidFill>
                  <a:latin typeface="Palatino Linotype"/>
                  <a:ea typeface="宋体"/>
                </a:rPr>
                <a:t>x</a:t>
              </a:r>
              <a:r>
                <a:rPr b="0" lang="en-US" sz="1800" spc="-1" strike="noStrike" baseline="-25000">
                  <a:solidFill>
                    <a:srgbClr val="ff9933"/>
                  </a:solidFill>
                  <a:latin typeface="Palatino Linotype"/>
                  <a:ea typeface="宋体"/>
                </a:rPr>
                <a:t>2</a:t>
              </a:r>
              <a:r>
                <a:rPr b="0" lang="en-US" sz="1800" spc="-1" strike="noStrike">
                  <a:solidFill>
                    <a:srgbClr val="ff9933"/>
                  </a:solidFill>
                  <a:latin typeface="Palatino Linotype"/>
                  <a:ea typeface="宋体"/>
                </a:rPr>
                <a:t>=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5370480" y="3521160"/>
            <a:ext cx="878040" cy="877680"/>
          </a:xfrm>
          <a:prstGeom prst="ellipse">
            <a:avLst/>
          </a:prstGeom>
          <a:solidFill>
            <a:srgbClr val="00cc99">
              <a:alpha val="50000"/>
            </a:srgbClr>
          </a:solidFill>
          <a:ln cap="rnd" w="255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268360" y="3375000"/>
            <a:ext cx="8892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041880" y="3559320"/>
            <a:ext cx="8892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525760" y="457524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L-1 N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999400" y="457524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L-2 N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525400" y="259092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 Linotype"/>
                <a:ea typeface="宋体"/>
              </a:rPr>
              <a:t>Spars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334200" y="2590920"/>
            <a:ext cx="26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 Linotype"/>
                <a:ea typeface="宋体"/>
              </a:rPr>
              <a:t>Non-spars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79880" y="5943600"/>
            <a:ext cx="769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Palatino Linotype"/>
                <a:ea typeface="宋体"/>
              </a:rPr>
              <a:t>More information about compressive sensing can be found at</a:t>
            </a:r>
            <a:r>
              <a:rPr b="0" lang="en-US" sz="2000" spc="-1" strike="noStrike">
                <a:solidFill>
                  <a:srgbClr val="ffff00"/>
                </a:solidFill>
                <a:latin typeface="Palatino Linotype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Comic Sans MS"/>
                <a:ea typeface="宋体"/>
              </a:rPr>
              <a:t>http://www.dsp.ece.rice.edu/c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1905120" y="5065560"/>
          <a:ext cx="230652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5065560"/>
                    <a:ext cx="230652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"/>
          <p:cNvGraphicFramePr/>
          <p:nvPr/>
        </p:nvGraphicFramePr>
        <p:xfrm>
          <a:off x="5303880" y="4952880"/>
          <a:ext cx="246852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03880" y="4952880"/>
                    <a:ext cx="24685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dur="indefinite" fill="hold">
                      <p:stCondLst>
                        <p:cond delay="indefinite"/>
                      </p:stCondLst>
                      <p:childTnLst>
                        <p:par>
                          <p:cTn id="3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dur="indefinite" fill="hold">
                      <p:stCondLst>
                        <p:cond delay="indefinite"/>
                      </p:stCondLst>
                      <p:childTnLst>
                        <p:par>
                          <p:cTn id="3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dur="indefinite" fill="hold">
                      <p:stCondLst>
                        <p:cond delay="indefinite"/>
                      </p:stCondLst>
                      <p:childTnLst>
                        <p:par>
                          <p:cTn id="3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 fill="hold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dur="indefinite" fill="hold">
                      <p:stCondLst>
                        <p:cond delay="indefinite"/>
                      </p:stCondLst>
                      <p:childTnLst>
                        <p:par>
                          <p:cTn id="4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dur="indefinite" fill="hold">
                      <p:stCondLst>
                        <p:cond delay="indefinite"/>
                      </p:stCondLst>
                      <p:childTnLst>
                        <p:par>
                          <p:cTn id="4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 fill="hold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dur="indefinite" fill="hold">
                      <p:stCondLst>
                        <p:cond delay="indefinite"/>
                      </p:stCondLst>
                      <p:childTnLst>
                        <p:par>
                          <p:cTn id="4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Reconstruction via Compressive Sensing</a:t>
            </a: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CS-Value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CS-Gradient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CS-Both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2154240" y="1676520"/>
          <a:ext cx="532764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4240" y="1676520"/>
                    <a:ext cx="532764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6" name=""/>
          <p:cNvGraphicFramePr/>
          <p:nvPr/>
        </p:nvGraphicFramePr>
        <p:xfrm>
          <a:off x="2181240" y="3008160"/>
          <a:ext cx="5424480" cy="6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81240" y="3008160"/>
                    <a:ext cx="54244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8" name=""/>
          <p:cNvGraphicFramePr/>
          <p:nvPr/>
        </p:nvGraphicFramePr>
        <p:xfrm>
          <a:off x="1752480" y="4379760"/>
          <a:ext cx="6334200" cy="64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379760"/>
                    <a:ext cx="633420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Reconstruction via Compressive Sensing</a:t>
            </a: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2413080" cy="180972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3429000" y="1371600"/>
            <a:ext cx="2413080" cy="180972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3"/>
          <a:stretch/>
        </p:blipFill>
        <p:spPr>
          <a:xfrm>
            <a:off x="6197760" y="1371600"/>
            <a:ext cx="2412720" cy="180972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2273760" y="5987880"/>
            <a:ext cx="18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Least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(NRMSE=0.330)</a:t>
            </a: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452840" y="598788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Nonnegative Least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(NRMSE=0.177)</a:t>
            </a: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4"/>
          <a:stretch/>
        </p:blipFill>
        <p:spPr>
          <a:xfrm>
            <a:off x="1976400" y="4130640"/>
            <a:ext cx="2413080" cy="180972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5"/>
          <a:stretch/>
        </p:blipFill>
        <p:spPr>
          <a:xfrm>
            <a:off x="4794120" y="4130640"/>
            <a:ext cx="2413080" cy="180972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975240" y="3244680"/>
            <a:ext cx="18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CS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(NRMSE=0.026)</a:t>
            </a: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794760" y="3244680"/>
            <a:ext cx="18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CS-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(NRMSE=0.007)</a:t>
            </a: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569640" y="3244680"/>
            <a:ext cx="18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CS-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(NRMSE=0.001)</a:t>
            </a: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dur="indefinite" fill="hold">
                      <p:stCondLst>
                        <p:cond delay="indefinite"/>
                      </p:stCondLst>
                      <p:childTnLst>
                        <p:par>
                          <p:cTn id="4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5008680" y="3218040"/>
            <a:ext cx="1669320" cy="740880"/>
            <a:chOff x="5008680" y="3218040"/>
            <a:chExt cx="1669320" cy="740880"/>
          </a:xfrm>
        </p:grpSpPr>
        <p:sp>
          <p:nvSpPr>
            <p:cNvPr id="89" name=""/>
            <p:cNvSpPr/>
            <p:nvPr/>
          </p:nvSpPr>
          <p:spPr>
            <a:xfrm flipV="1">
              <a:off x="5008680" y="3396960"/>
              <a:ext cx="784080" cy="5619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98240" y="3218040"/>
              <a:ext cx="779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Palatino Linotype"/>
                  <a:ea typeface="宋体"/>
                </a:rPr>
                <a:t>Im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Palatino Linotype"/>
                  <a:ea typeface="宋体"/>
                </a:rPr>
                <a:t>Pla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Structured Light Methods</a:t>
            </a: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50382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One common assumption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39800" indent="-282600">
              <a:spcBef>
                <a:spcPts val="601"/>
              </a:spcBef>
              <a:buClr>
                <a:srgbClr val="ffffff"/>
              </a:buClr>
              <a:buFont typeface="Palatino Linotype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Each pixel receives light from a </a:t>
            </a:r>
            <a:r>
              <a:rPr b="0" lang="en-US" sz="2400" spc="-1" strike="noStrike">
                <a:solidFill>
                  <a:srgbClr val="ff9933"/>
                </a:solidFill>
                <a:latin typeface="Palatino Linotype"/>
                <a:ea typeface="宋体"/>
              </a:rPr>
              <a:t>single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 surface point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"/>
          <p:cNvSpPr/>
          <p:nvPr/>
        </p:nvSpPr>
        <p:spPr>
          <a:xfrm>
            <a:off x="2387520" y="1065240"/>
            <a:ext cx="3586320" cy="1274760"/>
          </a:xfrm>
          <a:custGeom>
            <a:avLst/>
            <a:gdLst/>
            <a:ahLst/>
            <a:rect l="l" t="t" r="r" b="b"/>
            <a:pathLst>
              <a:path w="2671" h="803">
                <a:moveTo>
                  <a:pt x="0" y="167"/>
                </a:moveTo>
                <a:cubicBezTo>
                  <a:pt x="136" y="263"/>
                  <a:pt x="272" y="360"/>
                  <a:pt x="392" y="434"/>
                </a:cubicBezTo>
                <a:cubicBezTo>
                  <a:pt x="512" y="508"/>
                  <a:pt x="576" y="617"/>
                  <a:pt x="718" y="609"/>
                </a:cubicBezTo>
                <a:cubicBezTo>
                  <a:pt x="860" y="601"/>
                  <a:pt x="1109" y="353"/>
                  <a:pt x="1244" y="384"/>
                </a:cubicBezTo>
                <a:cubicBezTo>
                  <a:pt x="1379" y="415"/>
                  <a:pt x="1414" y="783"/>
                  <a:pt x="1528" y="793"/>
                </a:cubicBezTo>
                <a:cubicBezTo>
                  <a:pt x="1642" y="803"/>
                  <a:pt x="1790" y="502"/>
                  <a:pt x="1928" y="442"/>
                </a:cubicBezTo>
                <a:cubicBezTo>
                  <a:pt x="2066" y="382"/>
                  <a:pt x="2230" y="508"/>
                  <a:pt x="2354" y="434"/>
                </a:cubicBezTo>
                <a:cubicBezTo>
                  <a:pt x="2478" y="360"/>
                  <a:pt x="2574" y="180"/>
                  <a:pt x="2671" y="0"/>
                </a:cubicBezTo>
              </a:path>
            </a:pathLst>
          </a:custGeom>
          <a:noFill/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2760" y="4184640"/>
            <a:ext cx="9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218200" y="3622680"/>
            <a:ext cx="633600" cy="573480"/>
            <a:chOff x="5218200" y="3622680"/>
            <a:chExt cx="633600" cy="573480"/>
          </a:xfrm>
        </p:grpSpPr>
        <p:sp>
          <p:nvSpPr>
            <p:cNvPr id="96" name=""/>
            <p:cNvSpPr/>
            <p:nvPr/>
          </p:nvSpPr>
          <p:spPr>
            <a:xfrm rot="8640000">
              <a:off x="5324400" y="3901320"/>
              <a:ext cx="53352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 rot="8640000">
              <a:off x="5208480" y="3775680"/>
              <a:ext cx="571680" cy="152640"/>
            </a:xfrm>
            <a:custGeom>
              <a:avLst/>
              <a:gdLst>
                <a:gd name="textAreaLeft" fmla="*/ 125640 w 571680"/>
                <a:gd name="textAreaRight" fmla="*/ 446040 w 571680"/>
                <a:gd name="textAreaTop" fmla="*/ 33480 h 152640"/>
                <a:gd name="textAreaBottom" fmla="*/ 11916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442600" y="3614040"/>
            <a:ext cx="620280" cy="601560"/>
            <a:chOff x="2442600" y="3614040"/>
            <a:chExt cx="620280" cy="601560"/>
          </a:xfrm>
        </p:grpSpPr>
        <p:sp>
          <p:nvSpPr>
            <p:cNvPr id="99" name=""/>
            <p:cNvSpPr/>
            <p:nvPr/>
          </p:nvSpPr>
          <p:spPr>
            <a:xfrm rot="13200000">
              <a:off x="2428920" y="3909600"/>
              <a:ext cx="533520" cy="1522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 rot="13200000">
              <a:off x="2509200" y="3779640"/>
              <a:ext cx="571320" cy="152280"/>
            </a:xfrm>
            <a:custGeom>
              <a:avLst/>
              <a:gdLst>
                <a:gd name="textAreaLeft" fmla="*/ 125640 w 571320"/>
                <a:gd name="textAreaRight" fmla="*/ 445680 w 571320"/>
                <a:gd name="textAreaTop" fmla="*/ 33480 h 152280"/>
                <a:gd name="textAreaBottom" fmla="*/ 11880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2225880" y="415296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Proj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819520" y="1361880"/>
            <a:ext cx="2646360" cy="2439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4090680" y="1819440"/>
            <a:ext cx="1382760" cy="1976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020000">
            <a:off x="2699280" y="2982600"/>
            <a:ext cx="11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0101001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093280" y="2992320"/>
            <a:ext cx="1143720" cy="727200"/>
            <a:chOff x="5093280" y="2992320"/>
            <a:chExt cx="1143720" cy="727200"/>
          </a:xfrm>
        </p:grpSpPr>
        <p:sp>
          <p:nvSpPr>
            <p:cNvPr id="106" name=""/>
            <p:cNvSpPr/>
            <p:nvPr/>
          </p:nvSpPr>
          <p:spPr>
            <a:xfrm>
              <a:off x="5337000" y="3630600"/>
              <a:ext cx="88920" cy="88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93280" y="2992320"/>
              <a:ext cx="11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Palatino Linotype"/>
                  <a:ea typeface="宋体"/>
                </a:rPr>
                <a:t>0101001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4386240" y="2279520"/>
            <a:ext cx="88920" cy="88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02560" y="1125360"/>
            <a:ext cx="171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Opaque Su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More 1D Results</a:t>
            </a: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752" name=""/>
          <p:cNvSpPr/>
          <p:nvPr/>
        </p:nvSpPr>
        <p:spPr>
          <a:xfrm>
            <a:off x="2273760" y="5987880"/>
            <a:ext cx="18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Least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(NRMSE=0.272)</a:t>
            </a: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452840" y="598788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Nonnegative Least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(NRMSE=0.076)</a:t>
            </a: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975240" y="3244680"/>
            <a:ext cx="18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CS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(NRMSE=0.052)</a:t>
            </a: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794760" y="3244680"/>
            <a:ext cx="18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CS-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(NRMSE=0.014)</a:t>
            </a: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569640" y="3244680"/>
            <a:ext cx="18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CS-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(NRMSE=0.005)</a:t>
            </a: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1973160" y="4130640"/>
            <a:ext cx="2413080" cy="180972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2"/>
          <a:stretch/>
        </p:blipFill>
        <p:spPr>
          <a:xfrm>
            <a:off x="4789440" y="4130640"/>
            <a:ext cx="2413080" cy="180972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3"/>
          <a:stretch/>
        </p:blipFill>
        <p:spPr>
          <a:xfrm>
            <a:off x="611280" y="1370160"/>
            <a:ext cx="2413080" cy="180972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4"/>
          <a:stretch/>
        </p:blipFill>
        <p:spPr>
          <a:xfrm>
            <a:off x="3427560" y="1370160"/>
            <a:ext cx="2412720" cy="180972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5"/>
          <a:stretch/>
        </p:blipFill>
        <p:spPr>
          <a:xfrm>
            <a:off x="6197760" y="1370160"/>
            <a:ext cx="241272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More 1D Results</a:t>
            </a: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763" name=""/>
          <p:cNvSpPr/>
          <p:nvPr/>
        </p:nvSpPr>
        <p:spPr>
          <a:xfrm>
            <a:off x="2273760" y="5987880"/>
            <a:ext cx="18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Least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(NRMSE=0.266)</a:t>
            </a: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452840" y="598788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Nonnegative Least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(NRMSE=0.146)</a:t>
            </a: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975240" y="3244680"/>
            <a:ext cx="18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CS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(NRMSE=0.053)</a:t>
            </a: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794760" y="3244680"/>
            <a:ext cx="18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CS-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(NRMSE=0.024)</a:t>
            </a: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569640" y="3244680"/>
            <a:ext cx="18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CS-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(NRMSE=0.021)</a:t>
            </a:r>
            <a:r>
              <a:rPr b="0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1973160" y="4130640"/>
            <a:ext cx="2413080" cy="181296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4789440" y="4130640"/>
            <a:ext cx="2413080" cy="181296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3"/>
          <a:stretch/>
        </p:blipFill>
        <p:spPr>
          <a:xfrm>
            <a:off x="611280" y="1370160"/>
            <a:ext cx="2413080" cy="18126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4"/>
          <a:stretch/>
        </p:blipFill>
        <p:spPr>
          <a:xfrm>
            <a:off x="3427560" y="1370160"/>
            <a:ext cx="2412720" cy="181260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5"/>
          <a:stretch/>
        </p:blipFill>
        <p:spPr>
          <a:xfrm>
            <a:off x="6197760" y="1370160"/>
            <a:ext cx="2412720" cy="181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Simulation</a:t>
            </a: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Ground truth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39800" indent="-282600"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128×128×128 voxel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39800" indent="-282600"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For voxels inside the mesh,  the density is linear to the distance from the voxel to the center of the mesh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39800" indent="-282600"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For voxels outside of the mesh, the density is 0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1295280" y="31590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5257800" y="3159000"/>
            <a:ext cx="2860560" cy="286092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5334120" y="5867280"/>
            <a:ext cx="2743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Slices of the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914400" y="5867280"/>
            <a:ext cx="3657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Volume (128×128×128)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fill="hold">
          <p:childTnLst>
            <p:seq>
              <p:cTn id="439" dur="indefinite" nodeType="mainSeq">
                <p:childTnLst>
                  <p:par>
                    <p:cTn id="440" dur="indefinite" fill="hold">
                      <p:stCondLst>
                        <p:cond delay="indefinite"/>
                      </p:stCondLst>
                      <p:childTnLst>
                        <p:par>
                          <p:cTn id="4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Simulation</a:t>
            </a: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610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Temporal coding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39800" indent="-282600"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32 binary light patterns and 32 corresponding measured image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39800" indent="-282600"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The 128 vertical stripes are assigned 0/1 randomly with prob. of 0.5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1" name=""/>
          <p:cNvSpPr/>
          <p:nvPr/>
        </p:nvSpPr>
        <p:spPr>
          <a:xfrm>
            <a:off x="5181480" y="5410080"/>
            <a:ext cx="2743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32 Measured Images (128×128)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914400" y="5410080"/>
            <a:ext cx="3657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32 Light Pattern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(128×128)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1447920" y="28954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5257800" y="28954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6" dur="indefinite" restart="never" fill="hold">
          <p:childTnLst>
            <p:seq>
              <p:cTn id="447" dur="indefinite" nodeType="mainSeq">
                <p:childTnLst>
                  <p:par>
                    <p:cTn id="448" dur="indefinite" fill="hold">
                      <p:stCondLst>
                        <p:cond delay="indefinite"/>
                      </p:stCondLst>
                      <p:childTnLst>
                        <p:par>
                          <p:cTn id="4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71680" y="17784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Palatino Linotype"/>
                <a:ea typeface="宋体"/>
              </a:rPr>
              <a:t>Simulation Results</a:t>
            </a: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786" name=""/>
          <p:cNvSpPr/>
          <p:nvPr/>
        </p:nvSpPr>
        <p:spPr>
          <a:xfrm>
            <a:off x="228600" y="1676520"/>
            <a:ext cx="8458200" cy="144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981080" y="990720"/>
            <a:ext cx="1800" cy="541008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228600" y="990720"/>
          <a:ext cx="1677960" cy="61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167796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403920" y="20001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Palatino Linotype"/>
                <a:ea typeface="宋体"/>
              </a:rPr>
              <a:t>Least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94200" y="27874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Palatino Linotype"/>
                <a:ea typeface="宋体"/>
              </a:rPr>
              <a:t>Non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Palatino Linotype"/>
                <a:ea typeface="宋体"/>
              </a:rPr>
              <a:t>Least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98480" y="388620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Palatino Linotype"/>
                <a:ea typeface="宋体"/>
              </a:rPr>
              <a:t>CS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71600" y="480060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Palatino Linotype"/>
                <a:ea typeface="宋体"/>
              </a:rPr>
              <a:t>CS-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915480" y="563868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Palatino Linotype"/>
                <a:ea typeface="宋体"/>
              </a:rPr>
              <a:t>CS-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466000" y="114300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Palatino Linotype"/>
                <a:ea typeface="宋体"/>
              </a:rPr>
              <a:t>1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3"/>
          <a:stretch/>
        </p:blipFill>
        <p:spPr>
          <a:xfrm>
            <a:off x="2209680" y="1752480"/>
            <a:ext cx="1143000" cy="462276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3815280" y="11430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Palatino Linotype"/>
                <a:ea typeface="宋体"/>
              </a:rPr>
              <a:t>1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4"/>
          <a:stretch/>
        </p:blipFill>
        <p:spPr>
          <a:xfrm>
            <a:off x="3495600" y="1752480"/>
            <a:ext cx="1143000" cy="462600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5102640" y="11430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Palatino Linotype"/>
                <a:ea typeface="宋体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5"/>
          <a:stretch/>
        </p:blipFill>
        <p:spPr>
          <a:xfrm>
            <a:off x="4781520" y="1752480"/>
            <a:ext cx="1143000" cy="46260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6388560" y="11430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Palatino Linotype"/>
                <a:ea typeface="宋体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6"/>
          <a:stretch/>
        </p:blipFill>
        <p:spPr>
          <a:xfrm>
            <a:off x="6067440" y="1752480"/>
            <a:ext cx="1143000" cy="462600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7771320" y="1143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Palatino Linotype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7"/>
          <a:stretch/>
        </p:blipFill>
        <p:spPr>
          <a:xfrm>
            <a:off x="7353360" y="1752480"/>
            <a:ext cx="1143000" cy="462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4" dur="indefinite" restart="never" fill="remove">
          <p:childTnLst>
            <p:seq>
              <p:cTn id="455" dur="indefinite" nodeType="mainSeq">
                <p:childTnLst>
                  <p:par>
                    <p:cTn id="456" dur="indefinite" fill="hold">
                      <p:stCondLst>
                        <p:cond delay="indefinite"/>
                      </p:stCondLst>
                      <p:childTnLst>
                        <p:par>
                          <p:cTn id="4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dur="indefinite" fill="hold">
                      <p:stCondLst>
                        <p:cond delay="indefinite"/>
                      </p:stCondLst>
                      <p:childTnLst>
                        <p:par>
                          <p:cTn id="4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dur="indefinite" fill="hold">
                      <p:stCondLst>
                        <p:cond delay="indefinite"/>
                      </p:stCondLst>
                      <p:childTnLst>
                        <p:par>
                          <p:cTn id="4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dur="indefinite" fill="hold">
                      <p:stCondLst>
                        <p:cond delay="indefinite"/>
                      </p:stCondLst>
                      <p:childTnLst>
                        <p:par>
                          <p:cTn id="4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dur="indefinite" fill="hold">
                      <p:stCondLst>
                        <p:cond delay="indefinite"/>
                      </p:stCondLst>
                      <p:childTnLst>
                        <p:par>
                          <p:cTn id="4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71680" y="17784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Palatino Linotype"/>
                <a:ea typeface="宋体"/>
              </a:rPr>
              <a:t>Simulation Results</a:t>
            </a: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806" name=""/>
          <p:cNvSpPr/>
          <p:nvPr/>
        </p:nvSpPr>
        <p:spPr>
          <a:xfrm>
            <a:off x="228600" y="1676520"/>
            <a:ext cx="8458200" cy="144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981080" y="990720"/>
            <a:ext cx="1800" cy="541008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228600" y="990720"/>
          <a:ext cx="1677960" cy="61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167796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0" name=""/>
          <p:cNvSpPr/>
          <p:nvPr/>
        </p:nvSpPr>
        <p:spPr>
          <a:xfrm>
            <a:off x="403920" y="20001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Palatino Linotype"/>
                <a:ea typeface="宋体"/>
              </a:rPr>
              <a:t>Least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94200" y="27874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Palatino Linotype"/>
                <a:ea typeface="宋体"/>
              </a:rPr>
              <a:t>Non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Palatino Linotype"/>
                <a:ea typeface="宋体"/>
              </a:rPr>
              <a:t>Least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98480" y="388620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Palatino Linotype"/>
                <a:ea typeface="宋体"/>
              </a:rPr>
              <a:t>CS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71600" y="480060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Palatino Linotype"/>
                <a:ea typeface="宋体"/>
              </a:rPr>
              <a:t>CS-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915480" y="563868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Palatino Linotype"/>
                <a:ea typeface="宋体"/>
              </a:rPr>
              <a:t>CS-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466000" y="114300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Palatino Linotype"/>
                <a:ea typeface="宋体"/>
              </a:rPr>
              <a:t>1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3"/>
          <a:stretch/>
        </p:blipFill>
        <p:spPr>
          <a:xfrm>
            <a:off x="2209680" y="1752480"/>
            <a:ext cx="1143000" cy="462276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3815280" y="11430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Palatino Linotype"/>
                <a:ea typeface="宋体"/>
              </a:rPr>
              <a:t>1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4"/>
          <a:stretch/>
        </p:blipFill>
        <p:spPr>
          <a:xfrm>
            <a:off x="3495600" y="1752480"/>
            <a:ext cx="1143000" cy="462600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/>
          <p:nvPr/>
        </p:nvSpPr>
        <p:spPr>
          <a:xfrm>
            <a:off x="5102640" y="11430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Palatino Linotype"/>
                <a:ea typeface="宋体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5"/>
          <a:stretch/>
        </p:blipFill>
        <p:spPr>
          <a:xfrm>
            <a:off x="4781520" y="1752480"/>
            <a:ext cx="1143000" cy="462600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6388560" y="11430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Palatino Linotype"/>
                <a:ea typeface="宋体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6"/>
          <a:stretch/>
        </p:blipFill>
        <p:spPr>
          <a:xfrm>
            <a:off x="6067440" y="1752480"/>
            <a:ext cx="1143000" cy="462600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7771320" y="1143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Palatino Linotype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" descr=""/>
          <p:cNvPicPr/>
          <p:nvPr/>
        </p:nvPicPr>
        <p:blipFill>
          <a:blip r:embed="rId7"/>
          <a:stretch/>
        </p:blipFill>
        <p:spPr>
          <a:xfrm>
            <a:off x="7353360" y="1752480"/>
            <a:ext cx="1143000" cy="462600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>
            <a:off x="4572000" y="5334120"/>
            <a:ext cx="1523880" cy="114300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/>
          </p:nvPr>
        </p:nvSpPr>
        <p:spPr>
          <a:xfrm>
            <a:off x="609480" y="1218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99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Projector: DLP, 1024x768, 360 fp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-339840">
              <a:spcBef>
                <a:spcPts val="499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Camera: Dragonfly Express 8bit, 320x140 at 360 fp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-339840">
              <a:spcBef>
                <a:spcPts val="499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24 measurements per time instance, and thus recover dynamic volumes up to 360/24 = 15 fps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2438280" y="3013200"/>
            <a:ext cx="4262400" cy="3539880"/>
            <a:chOff x="2438280" y="3013200"/>
            <a:chExt cx="4262400" cy="3539880"/>
          </a:xfrm>
        </p:grpSpPr>
        <p:pic>
          <p:nvPicPr>
            <p:cNvPr id="828" name="" descr=""/>
            <p:cNvPicPr/>
            <p:nvPr/>
          </p:nvPicPr>
          <p:blipFill>
            <a:blip r:embed="rId1"/>
            <a:stretch/>
          </p:blipFill>
          <p:spPr>
            <a:xfrm>
              <a:off x="2438280" y="3013200"/>
              <a:ext cx="4262400" cy="35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>
              <a:off x="4556160" y="3884760"/>
              <a:ext cx="11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alatino Linotype"/>
                  <a:ea typeface="宋体"/>
                </a:rPr>
                <a:t>Proj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235840" y="5048280"/>
              <a:ext cx="102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alatino Linotype"/>
                  <a:ea typeface="宋体"/>
                </a:rPr>
                <a:t>Cam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751840" y="5548320"/>
              <a:ext cx="138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alatino Linotype"/>
                  <a:ea typeface="宋体"/>
                </a:rPr>
                <a:t>Milk Dr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2" name="PlaceHolder 2"/>
          <p:cNvSpPr>
            <a:spLocks noGrp="1"/>
          </p:cNvSpPr>
          <p:nvPr>
            <p:ph type="title"/>
          </p:nvPr>
        </p:nvSpPr>
        <p:spPr>
          <a:xfrm>
            <a:off x="571680" y="17784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Palatino Linotype"/>
                <a:ea typeface="宋体"/>
              </a:rPr>
              <a:t>Experimental Setup</a:t>
            </a: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71680" y="17784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Palatino Linotype"/>
                <a:ea typeface="宋体"/>
              </a:rPr>
              <a:t>Static Volume: A 3D Point Cloud Face</a:t>
            </a:r>
            <a:endParaRPr b="0" lang="en-US" sz="2800" spc="-1" strike="noStrike">
              <a:solidFill>
                <a:srgbClr val="ff9933"/>
              </a:solidFill>
              <a:latin typeface="Palatino Linotype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2225520" cy="3200400"/>
          </a:xfrm>
          <a:prstGeom prst="rect">
            <a:avLst/>
          </a:prstGeom>
          <a:ln w="0">
            <a:noFill/>
          </a:ln>
        </p:spPr>
      </p:pic>
      <p:sp>
        <p:nvSpPr>
          <p:cNvPr id="835" name=""/>
          <p:cNvSpPr/>
          <p:nvPr/>
        </p:nvSpPr>
        <p:spPr>
          <a:xfrm>
            <a:off x="491400" y="5562720"/>
            <a:ext cx="159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Photo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2"/>
          <a:stretch/>
        </p:blipFill>
        <p:spPr>
          <a:xfrm>
            <a:off x="3008160" y="2133720"/>
            <a:ext cx="2021040" cy="320184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2282760" y="5546880"/>
            <a:ext cx="345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(24 images of size 128x180)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80880" y="1066680"/>
            <a:ext cx="8610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A 3D point cloud of a face etched in a glass c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791320" y="556272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Reconstructed Volu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(128x128x180)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3"/>
          <a:stretch/>
        </p:blipFill>
        <p:spPr>
          <a:xfrm>
            <a:off x="5792760" y="2133720"/>
            <a:ext cx="3198960" cy="319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6" dur="indefinite" restart="never" fill="remove">
          <p:childTnLst>
            <p:seq>
              <p:cTn id="487" dur="indefinite" nodeType="mainSeq">
                <p:childTnLst>
                  <p:par>
                    <p:cTn id="488" dur="indefinite" fill="hold">
                      <p:stCondLst>
                        <p:cond delay="indefinite"/>
                      </p:stCondLst>
                      <p:childTnLst>
                        <p:par>
                          <p:cTn id="4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dur="indefinite" fill="hold">
                      <p:stCondLst>
                        <p:cond delay="indefinite"/>
                      </p:stCondLst>
                      <p:childTnLst>
                        <p:par>
                          <p:cTn id="4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Milk Dissolving: One Instance at time</a:t>
            </a: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842" name=""/>
          <p:cNvSpPr/>
          <p:nvPr/>
        </p:nvSpPr>
        <p:spPr>
          <a:xfrm>
            <a:off x="685800" y="541008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Photo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582480" y="2133720"/>
            <a:ext cx="1971720" cy="3227400"/>
          </a:xfrm>
          <a:prstGeom prst="rect">
            <a:avLst/>
          </a:prstGeom>
          <a:ln w="0">
            <a:noFill/>
          </a:ln>
        </p:spPr>
      </p:pic>
      <p:sp>
        <p:nvSpPr>
          <p:cNvPr id="844" name=""/>
          <p:cNvSpPr/>
          <p:nvPr/>
        </p:nvSpPr>
        <p:spPr>
          <a:xfrm>
            <a:off x="380880" y="106668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Milk drops dissolving in a water ta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2"/>
          <a:stretch/>
        </p:blipFill>
        <p:spPr>
          <a:xfrm>
            <a:off x="5638680" y="213372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3"/>
          <a:stretch/>
        </p:blipFill>
        <p:spPr>
          <a:xfrm>
            <a:off x="3048120" y="2133720"/>
            <a:ext cx="2057400" cy="320040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2438280" y="5334120"/>
            <a:ext cx="3353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Measurement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(24 images of size 128x250)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791320" y="5334120"/>
            <a:ext cx="3047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Reconstructed Volum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(128x128x250)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0" dur="indefinite" restart="never" fill="hold">
          <p:childTnLst>
            <p:seq>
              <p:cTn id="501" dur="indefinite" nodeType="mainSeq">
                <p:childTnLst>
                  <p:par>
                    <p:cTn id="502" dur="indefinite" fill="hold">
                      <p:stCondLst>
                        <p:cond delay="indefinite"/>
                      </p:stCondLst>
                      <p:childTnLst>
                        <p:par>
                          <p:cTn id="5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dur="indefinite" fill="hold">
                      <p:stCondLst>
                        <p:cond delay="indefinite"/>
                      </p:stCondLst>
                      <p:childTnLst>
                        <p:par>
                          <p:cTn id="5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571680" y="17784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Palatino Linotype"/>
                <a:ea typeface="宋体"/>
              </a:rPr>
              <a:t>Milk Dissolving: Time-varying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1"/>
          <a:stretch/>
        </p:blipFill>
        <p:spPr>
          <a:xfrm>
            <a:off x="990720" y="1979640"/>
            <a:ext cx="7267320" cy="3795840"/>
          </a:xfrm>
          <a:prstGeom prst="rect">
            <a:avLst/>
          </a:prstGeom>
          <a:ln w="0">
            <a:noFill/>
          </a:ln>
        </p:spPr>
      </p:pic>
      <p:sp>
        <p:nvSpPr>
          <p:cNvPr id="851" name=""/>
          <p:cNvSpPr/>
          <p:nvPr/>
        </p:nvSpPr>
        <p:spPr>
          <a:xfrm>
            <a:off x="1485720" y="585144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Video (15fps)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29200" y="585144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Reconstructed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(128x128x250)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80880" y="106668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Milk drops dissolving in a water ta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Inhomogeneous Participating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2280" y="1139760"/>
            <a:ext cx="853128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Volume densities rather than boundary surfaces.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Efficiency in acquisition is critical, especially for time-varying participating media.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2" name=""/>
          <p:cNvSpPr/>
          <p:nvPr/>
        </p:nvSpPr>
        <p:spPr>
          <a:xfrm>
            <a:off x="1311840" y="5570640"/>
            <a:ext cx="26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Drifting Smoke of Inc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(532fps Camera)</a:t>
            </a: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46560" y="5570640"/>
            <a:ext cx="333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Mixing a Pink Drink with Wa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(1000fps Camera)</a:t>
            </a: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27960" y="6327720"/>
            <a:ext cx="53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Palatino Linotype"/>
                <a:ea typeface="宋体"/>
              </a:rPr>
              <a:t>Video clips are from http://www.lucidmovemen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4040" y="271764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915080" y="2717640"/>
            <a:ext cx="3500280" cy="286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571680" y="17784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Palatino Linotype"/>
                <a:ea typeface="宋体"/>
              </a:rPr>
              <a:t>Milk Dissolving: Time-varying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1"/>
          <a:stretch/>
        </p:blipFill>
        <p:spPr>
          <a:xfrm>
            <a:off x="990720" y="1965240"/>
            <a:ext cx="7267320" cy="3795840"/>
          </a:xfrm>
          <a:prstGeom prst="rect">
            <a:avLst/>
          </a:prstGeom>
          <a:ln w="0">
            <a:noFill/>
          </a:ln>
        </p:spPr>
      </p:pic>
      <p:sp>
        <p:nvSpPr>
          <p:cNvPr id="856" name=""/>
          <p:cNvSpPr/>
          <p:nvPr/>
        </p:nvSpPr>
        <p:spPr>
          <a:xfrm>
            <a:off x="1485720" y="585144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Video (15fps)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029200" y="585144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Reconstructed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(128x128x250)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80880" y="106668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Milk drops dissolving in a water ta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Discussion &amp; Future Work </a:t>
            </a: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Iterative algorithm to correct for  attenuation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1973160" cy="197316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1973160" cy="197316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1676520" y="33526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  <a:ea typeface="宋体"/>
              </a:rPr>
              <a:t>No Attenuation Cor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267080" y="33526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  <a:ea typeface="宋体"/>
              </a:rPr>
              <a:t>With Attenuation Cor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819520" y="1752480"/>
            <a:ext cx="457200" cy="99720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85800" y="38098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Spatial Coding of Compressive Structured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Reconstruction from a single high resolution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High requirement of calib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85800" y="5181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Multiple Scat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638680" y="1746360"/>
            <a:ext cx="457200" cy="99684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85800" y="58672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Compressive Sensing for acquisition in other domains </a:t>
            </a: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(Peers et al: Compressive Light Transport Sensing)</a:t>
            </a: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dur="indefinite" fill="hold">
                      <p:stCondLst>
                        <p:cond delay="indefinite"/>
                      </p:stCondLst>
                      <p:childTnLst>
                        <p:par>
                          <p:cTn id="5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dur="indefinite" fill="hold">
                      <p:stCondLst>
                        <p:cond delay="indefinite"/>
                      </p:stCondLst>
                      <p:childTnLst>
                        <p:par>
                          <p:cTn id="5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dur="indefinite" fill="hold">
                      <p:stCondLst>
                        <p:cond delay="indefinite"/>
                      </p:stCondLst>
                      <p:childTnLst>
                        <p:par>
                          <p:cTn id="5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dur="indefinite" fill="hold">
                      <p:stCondLst>
                        <p:cond delay="indefinite"/>
                      </p:stCondLst>
                      <p:childTnLst>
                        <p:par>
                          <p:cTn id="5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Acknowledgement</a:t>
            </a: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Tim Hawkins: measured smoke volume data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Sujit Kuthirummal, Neeraj Kumar, Dhruv Mahajan, Bo Sun, Gurunandan Krishnan for useful discussion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Anonymous reviewers for valuable comments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NSF, Sloan Fellowship, ONR for funding support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Thank you!</a:t>
            </a: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The End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165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-10080" y="4803840"/>
            <a:ext cx="69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Under single scattering and orthographic projection,  we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85800" y="44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Image Form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438280" y="1136520"/>
            <a:ext cx="2667240" cy="2336760"/>
          </a:xfrm>
          <a:custGeom>
            <a:avLst/>
            <a:gdLst/>
            <a:ahLst/>
            <a:rect l="l" t="t" r="r" b="b"/>
            <a:pathLst>
              <a:path w="1680" h="1472">
                <a:moveTo>
                  <a:pt x="632" y="16"/>
                </a:moveTo>
                <a:cubicBezTo>
                  <a:pt x="680" y="32"/>
                  <a:pt x="672" y="200"/>
                  <a:pt x="728" y="256"/>
                </a:cubicBezTo>
                <a:cubicBezTo>
                  <a:pt x="784" y="312"/>
                  <a:pt x="840" y="320"/>
                  <a:pt x="968" y="352"/>
                </a:cubicBezTo>
                <a:cubicBezTo>
                  <a:pt x="1096" y="384"/>
                  <a:pt x="1432" y="392"/>
                  <a:pt x="1496" y="448"/>
                </a:cubicBezTo>
                <a:cubicBezTo>
                  <a:pt x="1560" y="504"/>
                  <a:pt x="1368" y="624"/>
                  <a:pt x="1352" y="688"/>
                </a:cubicBezTo>
                <a:cubicBezTo>
                  <a:pt x="1336" y="752"/>
                  <a:pt x="1352" y="800"/>
                  <a:pt x="1400" y="832"/>
                </a:cubicBezTo>
                <a:cubicBezTo>
                  <a:pt x="1448" y="864"/>
                  <a:pt x="1600" y="848"/>
                  <a:pt x="1640" y="880"/>
                </a:cubicBezTo>
                <a:cubicBezTo>
                  <a:pt x="1680" y="912"/>
                  <a:pt x="1680" y="992"/>
                  <a:pt x="1640" y="1024"/>
                </a:cubicBezTo>
                <a:cubicBezTo>
                  <a:pt x="1600" y="1056"/>
                  <a:pt x="1480" y="1000"/>
                  <a:pt x="1400" y="1072"/>
                </a:cubicBezTo>
                <a:cubicBezTo>
                  <a:pt x="1320" y="1144"/>
                  <a:pt x="1280" y="1440"/>
                  <a:pt x="1160" y="1456"/>
                </a:cubicBezTo>
                <a:cubicBezTo>
                  <a:pt x="1040" y="1472"/>
                  <a:pt x="864" y="1192"/>
                  <a:pt x="680" y="1168"/>
                </a:cubicBezTo>
                <a:cubicBezTo>
                  <a:pt x="496" y="1144"/>
                  <a:pt x="112" y="1376"/>
                  <a:pt x="56" y="1312"/>
                </a:cubicBezTo>
                <a:cubicBezTo>
                  <a:pt x="0" y="1248"/>
                  <a:pt x="304" y="920"/>
                  <a:pt x="344" y="784"/>
                </a:cubicBezTo>
                <a:cubicBezTo>
                  <a:pt x="384" y="648"/>
                  <a:pt x="264" y="576"/>
                  <a:pt x="296" y="496"/>
                </a:cubicBezTo>
                <a:cubicBezTo>
                  <a:pt x="328" y="416"/>
                  <a:pt x="512" y="360"/>
                  <a:pt x="536" y="304"/>
                </a:cubicBezTo>
                <a:cubicBezTo>
                  <a:pt x="560" y="248"/>
                  <a:pt x="424" y="208"/>
                  <a:pt x="440" y="160"/>
                </a:cubicBezTo>
                <a:cubicBezTo>
                  <a:pt x="456" y="112"/>
                  <a:pt x="584" y="0"/>
                  <a:pt x="632" y="16"/>
                </a:cubicBez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3719520" y="1185840"/>
            <a:ext cx="138240" cy="2243160"/>
            <a:chOff x="3719520" y="1185840"/>
            <a:chExt cx="138240" cy="2243160"/>
          </a:xfrm>
        </p:grpSpPr>
        <p:sp>
          <p:nvSpPr>
            <p:cNvPr id="880" name=""/>
            <p:cNvSpPr/>
            <p:nvPr/>
          </p:nvSpPr>
          <p:spPr>
            <a:xfrm>
              <a:off x="3719520" y="174636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719520" y="188748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719520" y="202716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719520" y="216864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719520" y="230832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719520" y="244944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719520" y="258912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719520" y="273060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719520" y="287028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719520" y="301140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719520" y="3151080"/>
              <a:ext cx="138240" cy="1368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719520" y="132552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719520" y="146520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719520" y="160668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719520" y="118584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719520" y="329256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"/>
          <p:cNvSpPr/>
          <p:nvPr/>
        </p:nvSpPr>
        <p:spPr>
          <a:xfrm flipH="1">
            <a:off x="3854520" y="2382840"/>
            <a:ext cx="1758960" cy="144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786120" y="2438280"/>
            <a:ext cx="1800" cy="1219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874120" y="24415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Proj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073680" y="3873600"/>
            <a:ext cx="145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Camera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0" name=""/>
          <p:cNvGraphicFramePr/>
          <p:nvPr/>
        </p:nvGraphicFramePr>
        <p:xfrm>
          <a:off x="6008760" y="2111400"/>
          <a:ext cx="749160" cy="3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8760" y="2111400"/>
                    <a:ext cx="74916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"/>
          <p:cNvGraphicFramePr/>
          <p:nvPr/>
        </p:nvGraphicFramePr>
        <p:xfrm>
          <a:off x="4006800" y="3610080"/>
          <a:ext cx="708120" cy="32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06800" y="3610080"/>
                    <a:ext cx="70812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4" name=""/>
          <p:cNvSpPr/>
          <p:nvPr/>
        </p:nvSpPr>
        <p:spPr>
          <a:xfrm>
            <a:off x="3719520" y="3678120"/>
            <a:ext cx="138240" cy="136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1600200" y="930240"/>
            <a:ext cx="2243160" cy="1509840"/>
            <a:chOff x="1600200" y="930240"/>
            <a:chExt cx="2243160" cy="1509840"/>
          </a:xfrm>
        </p:grpSpPr>
        <p:sp>
          <p:nvSpPr>
            <p:cNvPr id="906" name=""/>
            <p:cNvSpPr/>
            <p:nvPr/>
          </p:nvSpPr>
          <p:spPr>
            <a:xfrm>
              <a:off x="3733920" y="2330280"/>
              <a:ext cx="109440" cy="109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717200" y="930240"/>
              <a:ext cx="72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Palatino Linotype"/>
                  <a:ea typeface="宋体"/>
                </a:rPr>
                <a:t>Vox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08" name=""/>
            <p:cNvGraphicFramePr/>
            <p:nvPr/>
          </p:nvGraphicFramePr>
          <p:xfrm>
            <a:off x="1600200" y="1187280"/>
            <a:ext cx="971640" cy="324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0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00200" y="1187280"/>
                      <a:ext cx="971640" cy="3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0" name=""/>
            <p:cNvSpPr/>
            <p:nvPr/>
          </p:nvSpPr>
          <p:spPr>
            <a:xfrm>
              <a:off x="2590920" y="1492200"/>
              <a:ext cx="114300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11" name=""/>
          <p:cNvGraphicFramePr/>
          <p:nvPr/>
        </p:nvGraphicFramePr>
        <p:xfrm>
          <a:off x="1447920" y="5589720"/>
          <a:ext cx="5886360" cy="60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5589720"/>
                    <a:ext cx="58863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3" name=""/>
          <p:cNvSpPr/>
          <p:nvPr/>
        </p:nvSpPr>
        <p:spPr>
          <a:xfrm>
            <a:off x="3809880" y="2101680"/>
            <a:ext cx="1828800" cy="18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3124080" y="2403000"/>
            <a:ext cx="1800" cy="12258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5" name=""/>
          <p:cNvGraphicFramePr/>
          <p:nvPr/>
        </p:nvGraphicFramePr>
        <p:xfrm>
          <a:off x="4876920" y="1797120"/>
          <a:ext cx="222120" cy="365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1797120"/>
                    <a:ext cx="22212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7" name=""/>
          <p:cNvGraphicFramePr/>
          <p:nvPr/>
        </p:nvGraphicFramePr>
        <p:xfrm>
          <a:off x="3166920" y="2940120"/>
          <a:ext cx="262080" cy="365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1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66920" y="2940120"/>
                    <a:ext cx="26208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9" name=""/>
          <p:cNvSpPr/>
          <p:nvPr/>
        </p:nvSpPr>
        <p:spPr>
          <a:xfrm flipH="1">
            <a:off x="1520640" y="4387680"/>
            <a:ext cx="5492520" cy="1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7010280" y="726840"/>
            <a:ext cx="1800" cy="3663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295280" y="408312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081920" y="546120"/>
            <a:ext cx="2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7086600" y="415908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438280" y="5665680"/>
            <a:ext cx="762120" cy="30492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200400" y="5665680"/>
            <a:ext cx="914400" cy="30492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114800" y="5665680"/>
            <a:ext cx="1981080" cy="30492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095880" y="5665680"/>
            <a:ext cx="966960" cy="30492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332080" y="5602320"/>
            <a:ext cx="183960" cy="5634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7040520" y="5634000"/>
            <a:ext cx="254160" cy="56376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006000" y="5918040"/>
            <a:ext cx="13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Palatino Linotype"/>
                <a:ea typeface="宋体"/>
              </a:rPr>
              <a:t>Atten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401720" y="5918040"/>
            <a:ext cx="115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Palatino Linotype"/>
                <a:ea typeface="宋体"/>
              </a:rPr>
              <a:t>Scatt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954040" y="5918040"/>
            <a:ext cx="13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Palatino Linotype"/>
                <a:ea typeface="宋体"/>
              </a:rPr>
              <a:t>Atten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5634000" y="1185840"/>
            <a:ext cx="138240" cy="2243160"/>
            <a:chOff x="5634000" y="1185840"/>
            <a:chExt cx="138240" cy="2243160"/>
          </a:xfrm>
        </p:grpSpPr>
        <p:sp>
          <p:nvSpPr>
            <p:cNvPr id="934" name=""/>
            <p:cNvSpPr/>
            <p:nvPr/>
          </p:nvSpPr>
          <p:spPr>
            <a:xfrm>
              <a:off x="5634000" y="174636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634000" y="188748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634000" y="202716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634000" y="216864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634000" y="230832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634000" y="244944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634000" y="258912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634000" y="273060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634000" y="287028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634000" y="301140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634000" y="3151080"/>
              <a:ext cx="138240" cy="1368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634000" y="132552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634000" y="146520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634000" y="160668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634000" y="118584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634000" y="329256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5638680" y="2309760"/>
            <a:ext cx="138240" cy="13644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3425760" y="2082600"/>
            <a:ext cx="563760" cy="584280"/>
            <a:chOff x="3425760" y="2082600"/>
            <a:chExt cx="563760" cy="584280"/>
          </a:xfrm>
        </p:grpSpPr>
        <p:grpSp>
          <p:nvGrpSpPr>
            <p:cNvPr id="952" name=""/>
            <p:cNvGrpSpPr/>
            <p:nvPr/>
          </p:nvGrpSpPr>
          <p:grpSpPr>
            <a:xfrm>
              <a:off x="3425760" y="2082600"/>
              <a:ext cx="563760" cy="579600"/>
              <a:chOff x="3425760" y="2082600"/>
              <a:chExt cx="563760" cy="579600"/>
            </a:xfrm>
          </p:grpSpPr>
          <p:sp>
            <p:nvSpPr>
              <p:cNvPr id="953" name=""/>
              <p:cNvSpPr/>
              <p:nvPr/>
            </p:nvSpPr>
            <p:spPr>
              <a:xfrm flipH="1">
                <a:off x="3478320" y="2405160"/>
                <a:ext cx="272880" cy="180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H="1" flipV="1">
                <a:off x="3684600" y="2082600"/>
                <a:ext cx="101520" cy="2473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816360" y="2421000"/>
                <a:ext cx="173160" cy="2412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H="1" flipV="1">
                <a:off x="3425760" y="2263680"/>
                <a:ext cx="308160" cy="921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V="1">
                <a:off x="3816360" y="2212560"/>
                <a:ext cx="103320" cy="1270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3794040" y="2438280"/>
              <a:ext cx="1800" cy="22860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dur="indefinite" fill="hold">
                      <p:stCondLst>
                        <p:cond delay="indefinite"/>
                      </p:stCondLst>
                      <p:childTnLst>
                        <p:par>
                          <p:cTn id="5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dur="indefinite" fill="hold">
                      <p:stCondLst>
                        <p:cond delay="indefinite"/>
                      </p:stCondLst>
                      <p:childTnLst>
                        <p:par>
                          <p:cTn id="5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dur="indefinite" fill="hold">
                      <p:stCondLst>
                        <p:cond delay="indefinite"/>
                      </p:stCondLst>
                      <p:childTnLst>
                        <p:par>
                          <p:cTn id="5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dur="indefinite" fill="hold">
                      <p:stCondLst>
                        <p:cond delay="indefinite"/>
                      </p:stCondLst>
                      <p:childTnLst>
                        <p:par>
                          <p:cTn id="5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500" fill="hold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dur="indefinite" fill="hold">
                      <p:stCondLst>
                        <p:cond delay="indefinite"/>
                      </p:stCondLst>
                      <p:childTnLst>
                        <p:par>
                          <p:cTn id="5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 fill="hold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dur="indefinite" fill="hold">
                      <p:stCondLst>
                        <p:cond delay="indefinite"/>
                      </p:stCondLst>
                      <p:childTnLst>
                        <p:par>
                          <p:cTn id="5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 fill="hold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dur="indefinite" fill="hold">
                      <p:stCondLst>
                        <p:cond delay="indefinite"/>
                      </p:stCondLst>
                      <p:childTnLst>
                        <p:par>
                          <p:cTn id="6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685800" y="44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Image Form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438280" y="1136520"/>
            <a:ext cx="2667240" cy="2336760"/>
          </a:xfrm>
          <a:custGeom>
            <a:avLst/>
            <a:gdLst/>
            <a:ahLst/>
            <a:rect l="l" t="t" r="r" b="b"/>
            <a:pathLst>
              <a:path w="1680" h="1472">
                <a:moveTo>
                  <a:pt x="632" y="16"/>
                </a:moveTo>
                <a:cubicBezTo>
                  <a:pt x="680" y="32"/>
                  <a:pt x="672" y="200"/>
                  <a:pt x="728" y="256"/>
                </a:cubicBezTo>
                <a:cubicBezTo>
                  <a:pt x="784" y="312"/>
                  <a:pt x="840" y="320"/>
                  <a:pt x="968" y="352"/>
                </a:cubicBezTo>
                <a:cubicBezTo>
                  <a:pt x="1096" y="384"/>
                  <a:pt x="1432" y="392"/>
                  <a:pt x="1496" y="448"/>
                </a:cubicBezTo>
                <a:cubicBezTo>
                  <a:pt x="1560" y="504"/>
                  <a:pt x="1368" y="624"/>
                  <a:pt x="1352" y="688"/>
                </a:cubicBezTo>
                <a:cubicBezTo>
                  <a:pt x="1336" y="752"/>
                  <a:pt x="1352" y="800"/>
                  <a:pt x="1400" y="832"/>
                </a:cubicBezTo>
                <a:cubicBezTo>
                  <a:pt x="1448" y="864"/>
                  <a:pt x="1600" y="848"/>
                  <a:pt x="1640" y="880"/>
                </a:cubicBezTo>
                <a:cubicBezTo>
                  <a:pt x="1680" y="912"/>
                  <a:pt x="1680" y="992"/>
                  <a:pt x="1640" y="1024"/>
                </a:cubicBezTo>
                <a:cubicBezTo>
                  <a:pt x="1600" y="1056"/>
                  <a:pt x="1480" y="1000"/>
                  <a:pt x="1400" y="1072"/>
                </a:cubicBezTo>
                <a:cubicBezTo>
                  <a:pt x="1320" y="1144"/>
                  <a:pt x="1280" y="1440"/>
                  <a:pt x="1160" y="1456"/>
                </a:cubicBezTo>
                <a:cubicBezTo>
                  <a:pt x="1040" y="1472"/>
                  <a:pt x="864" y="1192"/>
                  <a:pt x="680" y="1168"/>
                </a:cubicBezTo>
                <a:cubicBezTo>
                  <a:pt x="496" y="1144"/>
                  <a:pt x="112" y="1376"/>
                  <a:pt x="56" y="1312"/>
                </a:cubicBezTo>
                <a:cubicBezTo>
                  <a:pt x="0" y="1248"/>
                  <a:pt x="304" y="920"/>
                  <a:pt x="344" y="784"/>
                </a:cubicBezTo>
                <a:cubicBezTo>
                  <a:pt x="384" y="648"/>
                  <a:pt x="264" y="576"/>
                  <a:pt x="296" y="496"/>
                </a:cubicBezTo>
                <a:cubicBezTo>
                  <a:pt x="328" y="416"/>
                  <a:pt x="512" y="360"/>
                  <a:pt x="536" y="304"/>
                </a:cubicBezTo>
                <a:cubicBezTo>
                  <a:pt x="560" y="248"/>
                  <a:pt x="424" y="208"/>
                  <a:pt x="440" y="160"/>
                </a:cubicBezTo>
                <a:cubicBezTo>
                  <a:pt x="456" y="112"/>
                  <a:pt x="584" y="0"/>
                  <a:pt x="632" y="16"/>
                </a:cubicBez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3854520" y="2382840"/>
            <a:ext cx="1758960" cy="144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786120" y="2438280"/>
            <a:ext cx="1800" cy="1219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874120" y="24415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Proj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073680" y="3873600"/>
            <a:ext cx="145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Camera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5" name=""/>
          <p:cNvGraphicFramePr/>
          <p:nvPr/>
        </p:nvGraphicFramePr>
        <p:xfrm>
          <a:off x="6008760" y="2111400"/>
          <a:ext cx="749160" cy="3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8760" y="2111400"/>
                    <a:ext cx="74916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7" name=""/>
          <p:cNvGraphicFramePr/>
          <p:nvPr/>
        </p:nvGraphicFramePr>
        <p:xfrm>
          <a:off x="4006800" y="3610080"/>
          <a:ext cx="708120" cy="32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06800" y="3610080"/>
                    <a:ext cx="70812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9" name=""/>
          <p:cNvSpPr/>
          <p:nvPr/>
        </p:nvSpPr>
        <p:spPr>
          <a:xfrm>
            <a:off x="3719520" y="3678120"/>
            <a:ext cx="138240" cy="136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1600200" y="930240"/>
            <a:ext cx="2243160" cy="1509840"/>
            <a:chOff x="1600200" y="930240"/>
            <a:chExt cx="2243160" cy="1509840"/>
          </a:xfrm>
        </p:grpSpPr>
        <p:sp>
          <p:nvSpPr>
            <p:cNvPr id="971" name=""/>
            <p:cNvSpPr/>
            <p:nvPr/>
          </p:nvSpPr>
          <p:spPr>
            <a:xfrm>
              <a:off x="3733920" y="2330280"/>
              <a:ext cx="109440" cy="109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717200" y="930240"/>
              <a:ext cx="72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Palatino Linotype"/>
                  <a:ea typeface="宋体"/>
                </a:rPr>
                <a:t>Vox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73" name=""/>
            <p:cNvGraphicFramePr/>
            <p:nvPr/>
          </p:nvGraphicFramePr>
          <p:xfrm>
            <a:off x="1600200" y="1187280"/>
            <a:ext cx="971640" cy="324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00200" y="1187280"/>
                      <a:ext cx="971640" cy="3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5" name=""/>
            <p:cNvSpPr/>
            <p:nvPr/>
          </p:nvSpPr>
          <p:spPr>
            <a:xfrm>
              <a:off x="2590920" y="1492200"/>
              <a:ext cx="114300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76" name=""/>
          <p:cNvGraphicFramePr/>
          <p:nvPr/>
        </p:nvGraphicFramePr>
        <p:xfrm>
          <a:off x="1442880" y="5584680"/>
          <a:ext cx="5886720" cy="60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2880" y="5584680"/>
                    <a:ext cx="5886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8" name=""/>
          <p:cNvSpPr/>
          <p:nvPr/>
        </p:nvSpPr>
        <p:spPr>
          <a:xfrm>
            <a:off x="3809880" y="2101680"/>
            <a:ext cx="1828800" cy="18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V="1">
            <a:off x="3124080" y="2403000"/>
            <a:ext cx="1800" cy="12258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0" name=""/>
          <p:cNvGraphicFramePr/>
          <p:nvPr/>
        </p:nvGraphicFramePr>
        <p:xfrm>
          <a:off x="4876920" y="1797120"/>
          <a:ext cx="222120" cy="365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1797120"/>
                    <a:ext cx="22212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2" name=""/>
          <p:cNvGraphicFramePr/>
          <p:nvPr/>
        </p:nvGraphicFramePr>
        <p:xfrm>
          <a:off x="3166920" y="2940120"/>
          <a:ext cx="262080" cy="365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66920" y="2940120"/>
                    <a:ext cx="26208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4" name=""/>
          <p:cNvSpPr/>
          <p:nvPr/>
        </p:nvSpPr>
        <p:spPr>
          <a:xfrm flipH="1">
            <a:off x="1520640" y="4387680"/>
            <a:ext cx="5492520" cy="1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7010280" y="726840"/>
            <a:ext cx="1800" cy="3663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295280" y="408312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7081920" y="546120"/>
            <a:ext cx="2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7086600" y="415908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5320" y="4803840"/>
            <a:ext cx="43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With negligible attenuation,  we ha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0" name=""/>
          <p:cNvGraphicFramePr/>
          <p:nvPr/>
        </p:nvGraphicFramePr>
        <p:xfrm>
          <a:off x="4219560" y="4829040"/>
          <a:ext cx="1882800" cy="365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19560" y="4829040"/>
                    <a:ext cx="188280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92" name=""/>
          <p:cNvGrpSpPr/>
          <p:nvPr/>
        </p:nvGrpSpPr>
        <p:grpSpPr>
          <a:xfrm>
            <a:off x="3906360" y="5249880"/>
            <a:ext cx="2437920" cy="743040"/>
            <a:chOff x="3906360" y="5249880"/>
            <a:chExt cx="2437920" cy="743040"/>
          </a:xfrm>
        </p:grpSpPr>
        <p:sp>
          <p:nvSpPr>
            <p:cNvPr id="993" name=""/>
            <p:cNvSpPr/>
            <p:nvPr/>
          </p:nvSpPr>
          <p:spPr>
            <a:xfrm>
              <a:off x="4218120" y="5646600"/>
              <a:ext cx="258480" cy="346320"/>
            </a:xfrm>
            <a:prstGeom prst="rect">
              <a:avLst/>
            </a:prstGeom>
            <a:solidFill>
              <a:srgbClr val="ff9933">
                <a:alpha val="20000"/>
              </a:srgbClr>
            </a:solidFill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578560" y="5646600"/>
              <a:ext cx="525240" cy="346320"/>
            </a:xfrm>
            <a:prstGeom prst="rect">
              <a:avLst/>
            </a:prstGeom>
            <a:solidFill>
              <a:srgbClr val="ff9933">
                <a:alpha val="20000"/>
              </a:srgbClr>
            </a:solidFill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906360" y="5249880"/>
              <a:ext cx="24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ff9933"/>
                  </a:solidFill>
                  <a:latin typeface="Palatino Linotype"/>
                  <a:ea typeface="宋体"/>
                </a:rPr>
                <a:t>Constant from all y,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3268800" y="5624640"/>
            <a:ext cx="3776400" cy="377640"/>
            <a:chOff x="3268800" y="5624640"/>
            <a:chExt cx="3776400" cy="377640"/>
          </a:xfrm>
        </p:grpSpPr>
        <p:sp>
          <p:nvSpPr>
            <p:cNvPr id="997" name=""/>
            <p:cNvSpPr/>
            <p:nvPr/>
          </p:nvSpPr>
          <p:spPr>
            <a:xfrm>
              <a:off x="3268800" y="5624640"/>
              <a:ext cx="846000" cy="371520"/>
            </a:xfrm>
            <a:prstGeom prst="rect">
              <a:avLst/>
            </a:prstGeom>
            <a:solidFill>
              <a:srgbClr val="ff9933">
                <a:alpha val="20000"/>
              </a:srgbClr>
            </a:solidFill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199200" y="5630760"/>
              <a:ext cx="846000" cy="371520"/>
            </a:xfrm>
            <a:prstGeom prst="rect">
              <a:avLst/>
            </a:prstGeom>
            <a:solidFill>
              <a:srgbClr val="ff9933">
                <a:alpha val="20000"/>
              </a:srgbClr>
            </a:solidFill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3006000" y="5918040"/>
            <a:ext cx="13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Palatino Linotype"/>
                <a:ea typeface="宋体"/>
              </a:rPr>
              <a:t>Atten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4401720" y="5918040"/>
            <a:ext cx="115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Palatino Linotype"/>
                <a:ea typeface="宋体"/>
              </a:rPr>
              <a:t>Scatt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954040" y="5918040"/>
            <a:ext cx="13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Palatino Linotype"/>
                <a:ea typeface="宋体"/>
              </a:rPr>
              <a:t>Atten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3719520" y="1185840"/>
            <a:ext cx="138240" cy="2243160"/>
            <a:chOff x="3719520" y="1185840"/>
            <a:chExt cx="138240" cy="2243160"/>
          </a:xfrm>
        </p:grpSpPr>
        <p:sp>
          <p:nvSpPr>
            <p:cNvPr id="1003" name=""/>
            <p:cNvSpPr/>
            <p:nvPr/>
          </p:nvSpPr>
          <p:spPr>
            <a:xfrm>
              <a:off x="3719520" y="174636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719520" y="188748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719520" y="202716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719520" y="216864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719520" y="230832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719520" y="244944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719520" y="258912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719520" y="273060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719520" y="287028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719520" y="301140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719520" y="3151080"/>
              <a:ext cx="138240" cy="1368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719520" y="132552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719520" y="146520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719520" y="160668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719520" y="118584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719520" y="329256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5634000" y="1185840"/>
            <a:ext cx="138240" cy="2243160"/>
            <a:chOff x="5634000" y="1185840"/>
            <a:chExt cx="138240" cy="2243160"/>
          </a:xfrm>
        </p:grpSpPr>
        <p:sp>
          <p:nvSpPr>
            <p:cNvPr id="1020" name=""/>
            <p:cNvSpPr/>
            <p:nvPr/>
          </p:nvSpPr>
          <p:spPr>
            <a:xfrm>
              <a:off x="5634000" y="174636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634000" y="188748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634000" y="202716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634000" y="216864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634000" y="230832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634000" y="244944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634000" y="258912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634000" y="273060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634000" y="287028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634000" y="301140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634000" y="3151080"/>
              <a:ext cx="138240" cy="1368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634000" y="132552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634000" y="146520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634000" y="160668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634000" y="118584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634000" y="329256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5638680" y="2309760"/>
            <a:ext cx="138240" cy="13644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65920" y="465948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Palatino Linotype"/>
                <a:ea typeface="宋体"/>
              </a:rPr>
              <a:t>[Hawkins et al., 0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968800" y="492120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Palatino Linotype"/>
                <a:ea typeface="宋体"/>
              </a:rPr>
              <a:t>[Fuchs et al., 07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3425760" y="2082600"/>
            <a:ext cx="563760" cy="584280"/>
            <a:chOff x="3425760" y="2082600"/>
            <a:chExt cx="563760" cy="584280"/>
          </a:xfrm>
        </p:grpSpPr>
        <p:grpSp>
          <p:nvGrpSpPr>
            <p:cNvPr id="1040" name=""/>
            <p:cNvGrpSpPr/>
            <p:nvPr/>
          </p:nvGrpSpPr>
          <p:grpSpPr>
            <a:xfrm>
              <a:off x="3425760" y="2082600"/>
              <a:ext cx="563760" cy="579600"/>
              <a:chOff x="3425760" y="2082600"/>
              <a:chExt cx="563760" cy="579600"/>
            </a:xfrm>
          </p:grpSpPr>
          <p:sp>
            <p:nvSpPr>
              <p:cNvPr id="1041" name=""/>
              <p:cNvSpPr/>
              <p:nvPr/>
            </p:nvSpPr>
            <p:spPr>
              <a:xfrm flipH="1">
                <a:off x="3478320" y="2405160"/>
                <a:ext cx="272880" cy="180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 flipV="1">
                <a:off x="3684600" y="2082600"/>
                <a:ext cx="101520" cy="2473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816360" y="2421000"/>
                <a:ext cx="173160" cy="2412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 flipV="1">
                <a:off x="3425760" y="2263680"/>
                <a:ext cx="308160" cy="921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V="1">
                <a:off x="3816360" y="2212560"/>
                <a:ext cx="103320" cy="1270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6" name=""/>
            <p:cNvSpPr/>
            <p:nvPr/>
          </p:nvSpPr>
          <p:spPr>
            <a:xfrm>
              <a:off x="3794040" y="2438280"/>
              <a:ext cx="1800" cy="22860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dur="indefinite" fill="hold">
                      <p:stCondLst>
                        <p:cond delay="indefinite"/>
                      </p:stCondLst>
                      <p:childTnLst>
                        <p:par>
                          <p:cTn id="6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dur="indefinite" fill="hold">
                      <p:stCondLst>
                        <p:cond delay="indefinite"/>
                      </p:stCondLst>
                      <p:childTnLst>
                        <p:par>
                          <p:cTn id="6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6275520" y="481176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Thu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685800" y="44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Image Form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438280" y="1136520"/>
            <a:ext cx="2667240" cy="2336760"/>
          </a:xfrm>
          <a:custGeom>
            <a:avLst/>
            <a:gdLst/>
            <a:ahLst/>
            <a:rect l="l" t="t" r="r" b="b"/>
            <a:pathLst>
              <a:path w="1680" h="1472">
                <a:moveTo>
                  <a:pt x="632" y="16"/>
                </a:moveTo>
                <a:cubicBezTo>
                  <a:pt x="680" y="32"/>
                  <a:pt x="672" y="200"/>
                  <a:pt x="728" y="256"/>
                </a:cubicBezTo>
                <a:cubicBezTo>
                  <a:pt x="784" y="312"/>
                  <a:pt x="840" y="320"/>
                  <a:pt x="968" y="352"/>
                </a:cubicBezTo>
                <a:cubicBezTo>
                  <a:pt x="1096" y="384"/>
                  <a:pt x="1432" y="392"/>
                  <a:pt x="1496" y="448"/>
                </a:cubicBezTo>
                <a:cubicBezTo>
                  <a:pt x="1560" y="504"/>
                  <a:pt x="1368" y="624"/>
                  <a:pt x="1352" y="688"/>
                </a:cubicBezTo>
                <a:cubicBezTo>
                  <a:pt x="1336" y="752"/>
                  <a:pt x="1352" y="800"/>
                  <a:pt x="1400" y="832"/>
                </a:cubicBezTo>
                <a:cubicBezTo>
                  <a:pt x="1448" y="864"/>
                  <a:pt x="1600" y="848"/>
                  <a:pt x="1640" y="880"/>
                </a:cubicBezTo>
                <a:cubicBezTo>
                  <a:pt x="1680" y="912"/>
                  <a:pt x="1680" y="992"/>
                  <a:pt x="1640" y="1024"/>
                </a:cubicBezTo>
                <a:cubicBezTo>
                  <a:pt x="1600" y="1056"/>
                  <a:pt x="1480" y="1000"/>
                  <a:pt x="1400" y="1072"/>
                </a:cubicBezTo>
                <a:cubicBezTo>
                  <a:pt x="1320" y="1144"/>
                  <a:pt x="1280" y="1440"/>
                  <a:pt x="1160" y="1456"/>
                </a:cubicBezTo>
                <a:cubicBezTo>
                  <a:pt x="1040" y="1472"/>
                  <a:pt x="864" y="1192"/>
                  <a:pt x="680" y="1168"/>
                </a:cubicBezTo>
                <a:cubicBezTo>
                  <a:pt x="496" y="1144"/>
                  <a:pt x="112" y="1376"/>
                  <a:pt x="56" y="1312"/>
                </a:cubicBezTo>
                <a:cubicBezTo>
                  <a:pt x="0" y="1248"/>
                  <a:pt x="304" y="920"/>
                  <a:pt x="344" y="784"/>
                </a:cubicBezTo>
                <a:cubicBezTo>
                  <a:pt x="384" y="648"/>
                  <a:pt x="264" y="576"/>
                  <a:pt x="296" y="496"/>
                </a:cubicBezTo>
                <a:cubicBezTo>
                  <a:pt x="328" y="416"/>
                  <a:pt x="512" y="360"/>
                  <a:pt x="536" y="304"/>
                </a:cubicBezTo>
                <a:cubicBezTo>
                  <a:pt x="560" y="248"/>
                  <a:pt x="424" y="208"/>
                  <a:pt x="440" y="160"/>
                </a:cubicBezTo>
                <a:cubicBezTo>
                  <a:pt x="456" y="112"/>
                  <a:pt x="584" y="0"/>
                  <a:pt x="632" y="16"/>
                </a:cubicBez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3854520" y="2382840"/>
            <a:ext cx="1758960" cy="144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786120" y="2438280"/>
            <a:ext cx="1800" cy="1219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874120" y="24415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Proj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073680" y="3873600"/>
            <a:ext cx="145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Camera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"/>
          <p:cNvGraphicFramePr/>
          <p:nvPr/>
        </p:nvGraphicFramePr>
        <p:xfrm>
          <a:off x="6008760" y="2111400"/>
          <a:ext cx="749160" cy="3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8760" y="2111400"/>
                    <a:ext cx="74916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6" name=""/>
          <p:cNvGraphicFramePr/>
          <p:nvPr/>
        </p:nvGraphicFramePr>
        <p:xfrm>
          <a:off x="4006800" y="3610080"/>
          <a:ext cx="708120" cy="32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06800" y="3610080"/>
                    <a:ext cx="70812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8" name=""/>
          <p:cNvSpPr/>
          <p:nvPr/>
        </p:nvSpPr>
        <p:spPr>
          <a:xfrm>
            <a:off x="3719520" y="3678120"/>
            <a:ext cx="138240" cy="136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1600200" y="930240"/>
            <a:ext cx="2243160" cy="1509840"/>
            <a:chOff x="1600200" y="930240"/>
            <a:chExt cx="2243160" cy="1509840"/>
          </a:xfrm>
        </p:grpSpPr>
        <p:sp>
          <p:nvSpPr>
            <p:cNvPr id="1060" name=""/>
            <p:cNvSpPr/>
            <p:nvPr/>
          </p:nvSpPr>
          <p:spPr>
            <a:xfrm>
              <a:off x="3733920" y="2330280"/>
              <a:ext cx="109440" cy="109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717200" y="930240"/>
              <a:ext cx="72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Palatino Linotype"/>
                  <a:ea typeface="宋体"/>
                </a:rPr>
                <a:t>Vox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62" name=""/>
            <p:cNvGraphicFramePr/>
            <p:nvPr/>
          </p:nvGraphicFramePr>
          <p:xfrm>
            <a:off x="1600200" y="1187280"/>
            <a:ext cx="971640" cy="324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00200" y="1187280"/>
                      <a:ext cx="971640" cy="3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4" name=""/>
            <p:cNvSpPr/>
            <p:nvPr/>
          </p:nvSpPr>
          <p:spPr>
            <a:xfrm>
              <a:off x="2590920" y="1492200"/>
              <a:ext cx="114300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"/>
          <p:cNvSpPr/>
          <p:nvPr/>
        </p:nvSpPr>
        <p:spPr>
          <a:xfrm>
            <a:off x="3809880" y="2101680"/>
            <a:ext cx="1828800" cy="18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3124080" y="2403000"/>
            <a:ext cx="1800" cy="12258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7" name=""/>
          <p:cNvGraphicFramePr/>
          <p:nvPr/>
        </p:nvGraphicFramePr>
        <p:xfrm>
          <a:off x="4876920" y="1797120"/>
          <a:ext cx="222120" cy="365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1797120"/>
                    <a:ext cx="22212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9" name=""/>
          <p:cNvGraphicFramePr/>
          <p:nvPr/>
        </p:nvGraphicFramePr>
        <p:xfrm>
          <a:off x="3166920" y="2940120"/>
          <a:ext cx="262080" cy="365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66920" y="2940120"/>
                    <a:ext cx="26208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1" name=""/>
          <p:cNvSpPr/>
          <p:nvPr/>
        </p:nvSpPr>
        <p:spPr>
          <a:xfrm flipH="1">
            <a:off x="1520640" y="4387680"/>
            <a:ext cx="5492520" cy="1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V="1">
            <a:off x="7010280" y="726840"/>
            <a:ext cx="1800" cy="3663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295280" y="408312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7081920" y="546120"/>
            <a:ext cx="2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7086600" y="415908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6" name=""/>
          <p:cNvGraphicFramePr/>
          <p:nvPr/>
        </p:nvGraphicFramePr>
        <p:xfrm>
          <a:off x="2425680" y="5584680"/>
          <a:ext cx="3035160" cy="608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25680" y="5584680"/>
                    <a:ext cx="30351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8" name=""/>
          <p:cNvSpPr/>
          <p:nvPr/>
        </p:nvSpPr>
        <p:spPr>
          <a:xfrm>
            <a:off x="85320" y="4803840"/>
            <a:ext cx="43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With negligible attenuation,  we ha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9" name=""/>
          <p:cNvGraphicFramePr/>
          <p:nvPr/>
        </p:nvGraphicFramePr>
        <p:xfrm>
          <a:off x="4219560" y="4829040"/>
          <a:ext cx="1882800" cy="365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8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19560" y="4829040"/>
                    <a:ext cx="188280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1" name=""/>
          <p:cNvSpPr/>
          <p:nvPr/>
        </p:nvSpPr>
        <p:spPr>
          <a:xfrm>
            <a:off x="2173320" y="5425920"/>
            <a:ext cx="3614760" cy="82872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3719520" y="1185840"/>
            <a:ext cx="138240" cy="2243160"/>
            <a:chOff x="3719520" y="1185840"/>
            <a:chExt cx="138240" cy="2243160"/>
          </a:xfrm>
        </p:grpSpPr>
        <p:sp>
          <p:nvSpPr>
            <p:cNvPr id="1083" name=""/>
            <p:cNvSpPr/>
            <p:nvPr/>
          </p:nvSpPr>
          <p:spPr>
            <a:xfrm>
              <a:off x="3719520" y="174636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719520" y="188748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719520" y="202716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719520" y="216864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719520" y="230832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719520" y="244944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719520" y="258912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719520" y="273060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719520" y="287028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719520" y="301140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719520" y="3151080"/>
              <a:ext cx="138240" cy="1368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719520" y="132552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719520" y="146520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719520" y="160668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719520" y="118584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719520" y="329256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5634000" y="1185840"/>
            <a:ext cx="138240" cy="2243160"/>
            <a:chOff x="5634000" y="1185840"/>
            <a:chExt cx="138240" cy="2243160"/>
          </a:xfrm>
        </p:grpSpPr>
        <p:sp>
          <p:nvSpPr>
            <p:cNvPr id="1100" name=""/>
            <p:cNvSpPr/>
            <p:nvPr/>
          </p:nvSpPr>
          <p:spPr>
            <a:xfrm>
              <a:off x="5634000" y="174636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634000" y="188748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634000" y="202716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634000" y="216864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634000" y="230832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634000" y="244944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634000" y="258912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634000" y="273060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634000" y="287028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634000" y="301140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634000" y="3151080"/>
              <a:ext cx="138240" cy="1368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634000" y="132552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634000" y="146520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634000" y="160668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634000" y="118584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634000" y="329256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"/>
          <p:cNvSpPr/>
          <p:nvPr/>
        </p:nvSpPr>
        <p:spPr>
          <a:xfrm>
            <a:off x="5638680" y="2309760"/>
            <a:ext cx="138240" cy="13644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3807360" y="822240"/>
            <a:ext cx="2435760" cy="3310200"/>
            <a:chOff x="3807360" y="822240"/>
            <a:chExt cx="2435760" cy="3310200"/>
          </a:xfrm>
        </p:grpSpPr>
        <p:sp>
          <p:nvSpPr>
            <p:cNvPr id="1118" name=""/>
            <p:cNvSpPr/>
            <p:nvPr/>
          </p:nvSpPr>
          <p:spPr>
            <a:xfrm>
              <a:off x="3807360" y="82224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4000" spc="-1" strike="noStrike">
                  <a:solidFill>
                    <a:srgbClr val="ff9933"/>
                  </a:solidFill>
                  <a:latin typeface="Palatino Linotype"/>
                  <a:ea typeface="宋体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700880" y="3429000"/>
              <a:ext cx="46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4000" spc="-1" strike="noStrike">
                  <a:solidFill>
                    <a:srgbClr val="ff9933"/>
                  </a:solidFill>
                  <a:latin typeface="Palatino Linotype"/>
                  <a:ea typeface="宋体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777280" y="838080"/>
              <a:ext cx="46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4000" spc="-1" strike="noStrike">
                  <a:solidFill>
                    <a:srgbClr val="ff9933"/>
                  </a:solidFill>
                  <a:latin typeface="Palatino Linotype"/>
                  <a:ea typeface="宋体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3425760" y="2082600"/>
            <a:ext cx="563760" cy="584280"/>
            <a:chOff x="3425760" y="2082600"/>
            <a:chExt cx="563760" cy="584280"/>
          </a:xfrm>
        </p:grpSpPr>
        <p:grpSp>
          <p:nvGrpSpPr>
            <p:cNvPr id="1122" name=""/>
            <p:cNvGrpSpPr/>
            <p:nvPr/>
          </p:nvGrpSpPr>
          <p:grpSpPr>
            <a:xfrm>
              <a:off x="3425760" y="2082600"/>
              <a:ext cx="563760" cy="579600"/>
              <a:chOff x="3425760" y="2082600"/>
              <a:chExt cx="563760" cy="579600"/>
            </a:xfrm>
          </p:grpSpPr>
          <p:sp>
            <p:nvSpPr>
              <p:cNvPr id="1123" name=""/>
              <p:cNvSpPr/>
              <p:nvPr/>
            </p:nvSpPr>
            <p:spPr>
              <a:xfrm flipH="1">
                <a:off x="3478320" y="2405160"/>
                <a:ext cx="272880" cy="180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H="1" flipV="1">
                <a:off x="3684600" y="2082600"/>
                <a:ext cx="101520" cy="2473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3816360" y="2421000"/>
                <a:ext cx="173160" cy="2412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H="1" flipV="1">
                <a:off x="3425760" y="2263680"/>
                <a:ext cx="308160" cy="921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3816360" y="2212560"/>
                <a:ext cx="103320" cy="1270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8" name=""/>
            <p:cNvSpPr/>
            <p:nvPr/>
          </p:nvSpPr>
          <p:spPr>
            <a:xfrm>
              <a:off x="3794040" y="2438280"/>
              <a:ext cx="1800" cy="22860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dur="indefinite" fill="hold">
                      <p:stCondLst>
                        <p:cond delay="indefinite"/>
                      </p:stCondLst>
                      <p:childTnLst>
                        <p:par>
                          <p:cTn id="6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6275520" y="481176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Thu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685800" y="44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Image Form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438280" y="1136520"/>
            <a:ext cx="2667240" cy="2336760"/>
          </a:xfrm>
          <a:custGeom>
            <a:avLst/>
            <a:gdLst/>
            <a:ahLst/>
            <a:rect l="l" t="t" r="r" b="b"/>
            <a:pathLst>
              <a:path w="1680" h="1472">
                <a:moveTo>
                  <a:pt x="632" y="16"/>
                </a:moveTo>
                <a:cubicBezTo>
                  <a:pt x="680" y="32"/>
                  <a:pt x="672" y="200"/>
                  <a:pt x="728" y="256"/>
                </a:cubicBezTo>
                <a:cubicBezTo>
                  <a:pt x="784" y="312"/>
                  <a:pt x="840" y="320"/>
                  <a:pt x="968" y="352"/>
                </a:cubicBezTo>
                <a:cubicBezTo>
                  <a:pt x="1096" y="384"/>
                  <a:pt x="1432" y="392"/>
                  <a:pt x="1496" y="448"/>
                </a:cubicBezTo>
                <a:cubicBezTo>
                  <a:pt x="1560" y="504"/>
                  <a:pt x="1368" y="624"/>
                  <a:pt x="1352" y="688"/>
                </a:cubicBezTo>
                <a:cubicBezTo>
                  <a:pt x="1336" y="752"/>
                  <a:pt x="1352" y="800"/>
                  <a:pt x="1400" y="832"/>
                </a:cubicBezTo>
                <a:cubicBezTo>
                  <a:pt x="1448" y="864"/>
                  <a:pt x="1600" y="848"/>
                  <a:pt x="1640" y="880"/>
                </a:cubicBezTo>
                <a:cubicBezTo>
                  <a:pt x="1680" y="912"/>
                  <a:pt x="1680" y="992"/>
                  <a:pt x="1640" y="1024"/>
                </a:cubicBezTo>
                <a:cubicBezTo>
                  <a:pt x="1600" y="1056"/>
                  <a:pt x="1480" y="1000"/>
                  <a:pt x="1400" y="1072"/>
                </a:cubicBezTo>
                <a:cubicBezTo>
                  <a:pt x="1320" y="1144"/>
                  <a:pt x="1280" y="1440"/>
                  <a:pt x="1160" y="1456"/>
                </a:cubicBezTo>
                <a:cubicBezTo>
                  <a:pt x="1040" y="1472"/>
                  <a:pt x="864" y="1192"/>
                  <a:pt x="680" y="1168"/>
                </a:cubicBezTo>
                <a:cubicBezTo>
                  <a:pt x="496" y="1144"/>
                  <a:pt x="112" y="1376"/>
                  <a:pt x="56" y="1312"/>
                </a:cubicBezTo>
                <a:cubicBezTo>
                  <a:pt x="0" y="1248"/>
                  <a:pt x="304" y="920"/>
                  <a:pt x="344" y="784"/>
                </a:cubicBezTo>
                <a:cubicBezTo>
                  <a:pt x="384" y="648"/>
                  <a:pt x="264" y="576"/>
                  <a:pt x="296" y="496"/>
                </a:cubicBezTo>
                <a:cubicBezTo>
                  <a:pt x="328" y="416"/>
                  <a:pt x="512" y="360"/>
                  <a:pt x="536" y="304"/>
                </a:cubicBezTo>
                <a:cubicBezTo>
                  <a:pt x="560" y="248"/>
                  <a:pt x="424" y="208"/>
                  <a:pt x="440" y="160"/>
                </a:cubicBezTo>
                <a:cubicBezTo>
                  <a:pt x="456" y="112"/>
                  <a:pt x="584" y="0"/>
                  <a:pt x="632" y="16"/>
                </a:cubicBez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3854520" y="2382840"/>
            <a:ext cx="1758960" cy="144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786120" y="2438280"/>
            <a:ext cx="1800" cy="1219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874120" y="24415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Proj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073680" y="3873600"/>
            <a:ext cx="145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Camera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6" name=""/>
          <p:cNvGraphicFramePr/>
          <p:nvPr/>
        </p:nvGraphicFramePr>
        <p:xfrm>
          <a:off x="6008760" y="2111400"/>
          <a:ext cx="749160" cy="3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8760" y="2111400"/>
                    <a:ext cx="74916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8" name=""/>
          <p:cNvGraphicFramePr/>
          <p:nvPr/>
        </p:nvGraphicFramePr>
        <p:xfrm>
          <a:off x="4006800" y="3610080"/>
          <a:ext cx="708120" cy="32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06800" y="3610080"/>
                    <a:ext cx="70812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0" name=""/>
          <p:cNvSpPr/>
          <p:nvPr/>
        </p:nvSpPr>
        <p:spPr>
          <a:xfrm>
            <a:off x="3719520" y="3678120"/>
            <a:ext cx="138240" cy="136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1600200" y="930240"/>
            <a:ext cx="2243160" cy="1509840"/>
            <a:chOff x="1600200" y="930240"/>
            <a:chExt cx="2243160" cy="1509840"/>
          </a:xfrm>
        </p:grpSpPr>
        <p:sp>
          <p:nvSpPr>
            <p:cNvPr id="1142" name=""/>
            <p:cNvSpPr/>
            <p:nvPr/>
          </p:nvSpPr>
          <p:spPr>
            <a:xfrm>
              <a:off x="3733920" y="2330280"/>
              <a:ext cx="109440" cy="109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717200" y="930240"/>
              <a:ext cx="72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Palatino Linotype"/>
                  <a:ea typeface="宋体"/>
                </a:rPr>
                <a:t>Vox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44" name=""/>
            <p:cNvGraphicFramePr/>
            <p:nvPr/>
          </p:nvGraphicFramePr>
          <p:xfrm>
            <a:off x="1600200" y="1187280"/>
            <a:ext cx="971640" cy="324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00200" y="1187280"/>
                      <a:ext cx="971640" cy="3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6" name=""/>
            <p:cNvSpPr/>
            <p:nvPr/>
          </p:nvSpPr>
          <p:spPr>
            <a:xfrm>
              <a:off x="2590920" y="1492200"/>
              <a:ext cx="114300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7" name=""/>
          <p:cNvSpPr/>
          <p:nvPr/>
        </p:nvSpPr>
        <p:spPr>
          <a:xfrm>
            <a:off x="3809880" y="2101680"/>
            <a:ext cx="1828800" cy="18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3124080" y="2403000"/>
            <a:ext cx="1800" cy="12258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9" name=""/>
          <p:cNvGraphicFramePr/>
          <p:nvPr/>
        </p:nvGraphicFramePr>
        <p:xfrm>
          <a:off x="4876920" y="1797120"/>
          <a:ext cx="222120" cy="365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1797120"/>
                    <a:ext cx="22212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1" name=""/>
          <p:cNvGraphicFramePr/>
          <p:nvPr/>
        </p:nvGraphicFramePr>
        <p:xfrm>
          <a:off x="3166920" y="2940120"/>
          <a:ext cx="262080" cy="365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66920" y="2940120"/>
                    <a:ext cx="26208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3" name=""/>
          <p:cNvSpPr/>
          <p:nvPr/>
        </p:nvSpPr>
        <p:spPr>
          <a:xfrm flipH="1">
            <a:off x="1520640" y="4387680"/>
            <a:ext cx="5492520" cy="1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7010280" y="726840"/>
            <a:ext cx="1800" cy="3663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295280" y="408312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7081920" y="546120"/>
            <a:ext cx="2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7086600" y="415908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85320" y="4803840"/>
            <a:ext cx="43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With negligible attenuation,  we ha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9" name=""/>
          <p:cNvGraphicFramePr/>
          <p:nvPr/>
        </p:nvGraphicFramePr>
        <p:xfrm>
          <a:off x="4219560" y="4829040"/>
          <a:ext cx="1882800" cy="36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9560" y="4829040"/>
                    <a:ext cx="188280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1" name=""/>
          <p:cNvSpPr/>
          <p:nvPr/>
        </p:nvSpPr>
        <p:spPr>
          <a:xfrm>
            <a:off x="2173320" y="5425920"/>
            <a:ext cx="3614760" cy="82872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3719520" y="1185840"/>
            <a:ext cx="138240" cy="2243160"/>
            <a:chOff x="3719520" y="1185840"/>
            <a:chExt cx="138240" cy="2243160"/>
          </a:xfrm>
        </p:grpSpPr>
        <p:sp>
          <p:nvSpPr>
            <p:cNvPr id="1163" name=""/>
            <p:cNvSpPr/>
            <p:nvPr/>
          </p:nvSpPr>
          <p:spPr>
            <a:xfrm>
              <a:off x="3719520" y="174636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719520" y="188748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719520" y="202716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719520" y="216864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719520" y="230832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719520" y="244944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719520" y="258912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719520" y="273060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719520" y="287028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719520" y="301140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719520" y="3151080"/>
              <a:ext cx="138240" cy="1368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719520" y="132552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719520" y="146520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719520" y="160668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719520" y="118584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719520" y="3292560"/>
              <a:ext cx="138240" cy="136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5634000" y="1185840"/>
            <a:ext cx="138240" cy="2243160"/>
            <a:chOff x="5634000" y="1185840"/>
            <a:chExt cx="138240" cy="2243160"/>
          </a:xfrm>
        </p:grpSpPr>
        <p:sp>
          <p:nvSpPr>
            <p:cNvPr id="1180" name=""/>
            <p:cNvSpPr/>
            <p:nvPr/>
          </p:nvSpPr>
          <p:spPr>
            <a:xfrm>
              <a:off x="5634000" y="174636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634000" y="188748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634000" y="202716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634000" y="216864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634000" y="230832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634000" y="244944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634000" y="258912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634000" y="273060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634000" y="287028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634000" y="301140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634000" y="3151080"/>
              <a:ext cx="138240" cy="1368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634000" y="132552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634000" y="146520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634000" y="160668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634000" y="118584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634000" y="329256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6" name=""/>
          <p:cNvSpPr/>
          <p:nvPr/>
        </p:nvSpPr>
        <p:spPr>
          <a:xfrm>
            <a:off x="5638680" y="2309760"/>
            <a:ext cx="138240" cy="13644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7" name=""/>
          <p:cNvGrpSpPr/>
          <p:nvPr/>
        </p:nvGrpSpPr>
        <p:grpSpPr>
          <a:xfrm>
            <a:off x="3807360" y="822240"/>
            <a:ext cx="2435760" cy="3310200"/>
            <a:chOff x="3807360" y="822240"/>
            <a:chExt cx="2435760" cy="3310200"/>
          </a:xfrm>
        </p:grpSpPr>
        <p:sp>
          <p:nvSpPr>
            <p:cNvPr id="1198" name=""/>
            <p:cNvSpPr/>
            <p:nvPr/>
          </p:nvSpPr>
          <p:spPr>
            <a:xfrm>
              <a:off x="3807360" y="82224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4000" spc="-1" strike="noStrike">
                  <a:solidFill>
                    <a:srgbClr val="ff9933"/>
                  </a:solidFill>
                  <a:latin typeface="Palatino Linotype"/>
                  <a:ea typeface="宋体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700880" y="3429000"/>
              <a:ext cx="46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4000" spc="-1" strike="noStrike">
                  <a:solidFill>
                    <a:srgbClr val="ff9933"/>
                  </a:solidFill>
                  <a:latin typeface="Palatino Linotype"/>
                  <a:ea typeface="宋体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777280" y="838080"/>
              <a:ext cx="46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4000" spc="-1" strike="noStrike">
                  <a:solidFill>
                    <a:srgbClr val="ff9933"/>
                  </a:solidFill>
                  <a:latin typeface="Palatino Linotype"/>
                  <a:ea typeface="宋体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1" name=""/>
          <p:cNvSpPr/>
          <p:nvPr/>
        </p:nvSpPr>
        <p:spPr>
          <a:xfrm>
            <a:off x="2772000" y="5424480"/>
            <a:ext cx="255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Palatino Linotype"/>
                <a:ea typeface="宋体"/>
              </a:rPr>
              <a:t>b</a:t>
            </a:r>
            <a:r>
              <a:rPr b="0" lang="en-US" sz="4800" spc="-1" strike="noStrike">
                <a:solidFill>
                  <a:srgbClr val="ffffff"/>
                </a:solidFill>
                <a:latin typeface="Palatino Linotype"/>
                <a:ea typeface="宋体"/>
              </a:rPr>
              <a:t>  =  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Palatino Linotype"/>
                <a:ea typeface="宋体"/>
              </a:rPr>
              <a:t>T</a:t>
            </a:r>
            <a:r>
              <a:rPr b="0" lang="en-US" sz="4800" spc="-1" strike="noStrike" baseline="30000">
                <a:solidFill>
                  <a:srgbClr val="ffffff"/>
                </a:solidFill>
                <a:latin typeface="Palatino Linotype"/>
                <a:ea typeface="宋体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Palatino Linotype"/>
                <a:ea typeface="宋体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3425760" y="2082600"/>
            <a:ext cx="563760" cy="584280"/>
            <a:chOff x="3425760" y="2082600"/>
            <a:chExt cx="563760" cy="584280"/>
          </a:xfrm>
        </p:grpSpPr>
        <p:grpSp>
          <p:nvGrpSpPr>
            <p:cNvPr id="1203" name=""/>
            <p:cNvGrpSpPr/>
            <p:nvPr/>
          </p:nvGrpSpPr>
          <p:grpSpPr>
            <a:xfrm>
              <a:off x="3425760" y="2082600"/>
              <a:ext cx="563760" cy="579600"/>
              <a:chOff x="3425760" y="2082600"/>
              <a:chExt cx="563760" cy="579600"/>
            </a:xfrm>
          </p:grpSpPr>
          <p:sp>
            <p:nvSpPr>
              <p:cNvPr id="1204" name=""/>
              <p:cNvSpPr/>
              <p:nvPr/>
            </p:nvSpPr>
            <p:spPr>
              <a:xfrm flipH="1">
                <a:off x="3478320" y="2405160"/>
                <a:ext cx="272880" cy="180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 flipV="1">
                <a:off x="3684600" y="2082600"/>
                <a:ext cx="101520" cy="2473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816360" y="2421000"/>
                <a:ext cx="173160" cy="2412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H="1" flipV="1">
                <a:off x="3425760" y="2263680"/>
                <a:ext cx="308160" cy="921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V="1">
                <a:off x="3816360" y="2212560"/>
                <a:ext cx="103320" cy="1270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9" name=""/>
            <p:cNvSpPr/>
            <p:nvPr/>
          </p:nvSpPr>
          <p:spPr>
            <a:xfrm>
              <a:off x="3794040" y="2438280"/>
              <a:ext cx="1800" cy="22860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Simulation: 1D Case</a:t>
            </a: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Smoke volume data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39800" indent="-282600"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120 volumes measured at different times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39800" indent="-282600"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Each volume is of size 240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×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240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×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62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12" name=""/>
          <p:cNvSpPr/>
          <p:nvPr/>
        </p:nvSpPr>
        <p:spPr>
          <a:xfrm>
            <a:off x="3528000" y="114300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Palatino Linotype"/>
                <a:ea typeface="宋体"/>
              </a:rPr>
              <a:t>[Hawkins, et al., 0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3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7010280" cy="37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Related Work</a:t>
            </a: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118" name=""/>
          <p:cNvSpPr/>
          <p:nvPr/>
        </p:nvSpPr>
        <p:spPr>
          <a:xfrm>
            <a:off x="1114200" y="5911920"/>
            <a:ext cx="3818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Laser Sheet Scan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Palatino Linotype"/>
                <a:ea typeface="宋体"/>
              </a:rPr>
              <a:t>[Hawkins, et al., 05][Deusch, et al., 0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89240" y="5911920"/>
            <a:ext cx="31341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Laser Line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Palatino Linotype"/>
                <a:ea typeface="宋体"/>
              </a:rPr>
              <a:t>[Fuchs, et al. 07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rot="5400000">
            <a:off x="1352520" y="4698360"/>
            <a:ext cx="1719000" cy="455760"/>
          </a:xfrm>
          <a:prstGeom prst="parallelogram">
            <a:avLst>
              <a:gd name="adj" fmla="val 110009"/>
            </a:avLst>
          </a:prstGeom>
          <a:solidFill>
            <a:srgbClr val="b2b2b2">
              <a:alpha val="50000"/>
            </a:srgbClr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648400" y="4048200"/>
            <a:ext cx="1679400" cy="1760400"/>
            <a:chOff x="5648400" y="4048200"/>
            <a:chExt cx="1679400" cy="1760400"/>
          </a:xfrm>
        </p:grpSpPr>
        <p:grpSp>
          <p:nvGrpSpPr>
            <p:cNvPr id="122" name=""/>
            <p:cNvGrpSpPr/>
            <p:nvPr/>
          </p:nvGrpSpPr>
          <p:grpSpPr>
            <a:xfrm>
              <a:off x="5648400" y="4048200"/>
              <a:ext cx="1676160" cy="1737720"/>
              <a:chOff x="5648400" y="4048200"/>
              <a:chExt cx="1676160" cy="1737720"/>
            </a:xfrm>
          </p:grpSpPr>
          <p:sp>
            <p:nvSpPr>
              <p:cNvPr id="123" name=""/>
              <p:cNvSpPr/>
              <p:nvPr/>
            </p:nvSpPr>
            <p:spPr>
              <a:xfrm>
                <a:off x="6137280" y="5272200"/>
                <a:ext cx="118728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5648400" y="5268600"/>
                <a:ext cx="488880" cy="517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6137280" y="4048200"/>
                <a:ext cx="1440" cy="1247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5648400" y="5805360"/>
              <a:ext cx="118728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48400" y="4564080"/>
              <a:ext cx="118728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37280" y="4052880"/>
              <a:ext cx="118908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648400" y="4560840"/>
              <a:ext cx="1440" cy="12477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6835680" y="4560840"/>
              <a:ext cx="1800" cy="12477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7326360" y="4049640"/>
              <a:ext cx="1440" cy="12477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835680" y="4049640"/>
              <a:ext cx="490680" cy="517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648400" y="4049640"/>
              <a:ext cx="488880" cy="517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837480" y="5290920"/>
              <a:ext cx="488880" cy="517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800680" y="4201920"/>
            <a:ext cx="1295280" cy="1508400"/>
            <a:chOff x="5800680" y="4201920"/>
            <a:chExt cx="1295280" cy="1508400"/>
          </a:xfrm>
        </p:grpSpPr>
        <p:sp>
          <p:nvSpPr>
            <p:cNvPr id="136" name=""/>
            <p:cNvSpPr/>
            <p:nvPr/>
          </p:nvSpPr>
          <p:spPr>
            <a:xfrm flipV="1">
              <a:off x="5800680" y="4201920"/>
              <a:ext cx="490680" cy="5173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6105600" y="4278240"/>
              <a:ext cx="490320" cy="5176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377040" y="4452840"/>
              <a:ext cx="490320" cy="5176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029280" y="4605120"/>
              <a:ext cx="490680" cy="5173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453360" y="4735440"/>
              <a:ext cx="490320" cy="5176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605640" y="4910040"/>
              <a:ext cx="490320" cy="5176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877000" y="5192640"/>
              <a:ext cx="490320" cy="5176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905120" y="4035240"/>
            <a:ext cx="1703160" cy="1758960"/>
            <a:chOff x="1905120" y="4035240"/>
            <a:chExt cx="1703160" cy="1758960"/>
          </a:xfrm>
        </p:grpSpPr>
        <p:sp>
          <p:nvSpPr>
            <p:cNvPr id="144" name=""/>
            <p:cNvSpPr/>
            <p:nvPr/>
          </p:nvSpPr>
          <p:spPr>
            <a:xfrm>
              <a:off x="1905120" y="5791320"/>
              <a:ext cx="118728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05120" y="4549680"/>
              <a:ext cx="118728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94000" y="4038480"/>
              <a:ext cx="118908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905120" y="4546440"/>
              <a:ext cx="1440" cy="12477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092400" y="4546440"/>
              <a:ext cx="1800" cy="12477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583080" y="4035600"/>
              <a:ext cx="1440" cy="12477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3092400" y="4035240"/>
              <a:ext cx="490680" cy="517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1905120" y="4035240"/>
              <a:ext cx="488880" cy="517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094200" y="5276520"/>
              <a:ext cx="488880" cy="517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932120" y="4040280"/>
              <a:ext cx="1676160" cy="1737720"/>
              <a:chOff x="1932120" y="4040280"/>
              <a:chExt cx="1676160" cy="1737720"/>
            </a:xfrm>
          </p:grpSpPr>
          <p:sp>
            <p:nvSpPr>
              <p:cNvPr id="154" name=""/>
              <p:cNvSpPr/>
              <p:nvPr/>
            </p:nvSpPr>
            <p:spPr>
              <a:xfrm>
                <a:off x="2421000" y="5264280"/>
                <a:ext cx="118728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1932120" y="5260680"/>
                <a:ext cx="488880" cy="517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2421000" y="4040280"/>
                <a:ext cx="1440" cy="1247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3055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Structured light for opaque objects immersed in a participating medium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1905120"/>
            <a:ext cx="830556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Multi-view volume re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Flame sheet” from 2 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Tomographic reconstruction from 8~360 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33560" y="1346040"/>
            <a:ext cx="23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Palatino Linotype"/>
                <a:ea typeface="宋体"/>
              </a:rPr>
              <a:t>[Narasimhan et al., 0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36760" y="2363760"/>
            <a:ext cx="199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Palatino Linotype"/>
                <a:ea typeface="宋体"/>
              </a:rPr>
              <a:t>[Hasinoff et al., 03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70120" y="2590920"/>
            <a:ext cx="20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Palatino Linotype"/>
                <a:ea typeface="宋体"/>
              </a:rPr>
              <a:t>[Ihrke et al., 04, 06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78760" y="286380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Palatino Linotype"/>
                <a:ea typeface="宋体"/>
              </a:rPr>
              <a:t>[Trifonov et al., 06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33526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Single view and controllable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path" presetID="63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 -6 L 2.22222 -6 L 0.10555 -0.00185 E">
                                      <p:cBhvr>
                                        <p:cTn id="71" dur="1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Experiment 1: Two-plane Volume</a:t>
            </a: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1215" name=""/>
          <p:cNvSpPr/>
          <p:nvPr/>
        </p:nvSpPr>
        <p:spPr>
          <a:xfrm>
            <a:off x="1600200" y="5715000"/>
            <a:ext cx="2286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Photo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6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2133720" cy="2971800"/>
          </a:xfrm>
          <a:prstGeom prst="rect">
            <a:avLst/>
          </a:prstGeom>
          <a:ln w="0">
            <a:noFill/>
          </a:ln>
        </p:spPr>
      </p:pic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610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Two glass planes covered with powder.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39800" indent="-282600"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The letters “EC” are drawn on one plane and “CV” on the other plane by removing the powder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3980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218" name="" descr=""/>
          <p:cNvPicPr/>
          <p:nvPr/>
        </p:nvPicPr>
        <p:blipFill>
          <a:blip r:embed="rId2"/>
          <a:stretch/>
        </p:blipFill>
        <p:spPr>
          <a:xfrm>
            <a:off x="5562720" y="2666880"/>
            <a:ext cx="2212920" cy="2971800"/>
          </a:xfrm>
          <a:prstGeom prst="rect">
            <a:avLst/>
          </a:prstGeom>
          <a:ln w="0">
            <a:noFill/>
          </a:ln>
        </p:spPr>
      </p:pic>
      <p:sp>
        <p:nvSpPr>
          <p:cNvPr id="1219" name=""/>
          <p:cNvSpPr/>
          <p:nvPr/>
        </p:nvSpPr>
        <p:spPr>
          <a:xfrm>
            <a:off x="5638680" y="5715000"/>
            <a:ext cx="228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Measurement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(24 images)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6" dur="indefinite" restart="never" fill="hold">
          <p:childTnLst>
            <p:seq>
              <p:cTn id="627" dur="indefinite" nodeType="mainSeq">
                <p:childTnLst>
                  <p:par>
                    <p:cTn id="628" dur="indefinite" fill="hold">
                      <p:stCondLst>
                        <p:cond delay="indefinite"/>
                      </p:stCondLst>
                      <p:childTnLst>
                        <p:par>
                          <p:cTn id="6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Experiment 1: Two-plane Volume</a:t>
            </a: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1221" name=""/>
          <p:cNvSpPr/>
          <p:nvPr/>
        </p:nvSpPr>
        <p:spPr>
          <a:xfrm>
            <a:off x="1371600" y="563868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No Attenuation 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610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Two glass planes covered with powder.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39800" indent="-282600"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The letters “EC” are drawn on one plane and “CV” on the other plane by removing the powder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3980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223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3436920" cy="3436920"/>
          </a:xfrm>
          <a:prstGeom prst="rect">
            <a:avLst/>
          </a:prstGeom>
          <a:ln w="0">
            <a:noFill/>
          </a:ln>
        </p:spPr>
      </p:pic>
      <p:pic>
        <p:nvPicPr>
          <p:cNvPr id="1224" name="" descr=""/>
          <p:cNvPicPr/>
          <p:nvPr/>
        </p:nvPicPr>
        <p:blipFill>
          <a:blip r:embed="rId2"/>
          <a:stretch/>
        </p:blipFill>
        <p:spPr>
          <a:xfrm>
            <a:off x="4954680" y="2286000"/>
            <a:ext cx="3427200" cy="3427560"/>
          </a:xfrm>
          <a:prstGeom prst="rect">
            <a:avLst/>
          </a:prstGeom>
          <a:ln w="0">
            <a:noFill/>
          </a:ln>
        </p:spPr>
      </p:pic>
      <p:sp>
        <p:nvSpPr>
          <p:cNvPr id="1225" name=""/>
          <p:cNvSpPr/>
          <p:nvPr/>
        </p:nvSpPr>
        <p:spPr>
          <a:xfrm>
            <a:off x="5181480" y="56386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With Attenuation 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2514600" y="6308640"/>
            <a:ext cx="457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Reconstructed Volume (128x128x180)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fill="hold">
          <p:childTnLst>
            <p:seq>
              <p:cTn id="635" dur="indefinite" nodeType="mainSeq">
                <p:childTnLst>
                  <p:par>
                    <p:cTn id="636" dur="indefinite" fill="hold">
                      <p:stCondLst>
                        <p:cond delay="0"/>
                      </p:stCondLst>
                      <p:childTnLst>
                        <p:par>
                          <p:cTn id="6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Experiment 1: Two-plane Volume</a:t>
            </a: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1228" name=""/>
          <p:cNvSpPr/>
          <p:nvPr/>
        </p:nvSpPr>
        <p:spPr>
          <a:xfrm>
            <a:off x="1371600" y="563868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No Attenuation 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610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Two glass planes covered with powder.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39800" indent="-282600"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The letters “EC” are drawn on one plane and “CV” on the other plane by removing the powder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3980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30" name=""/>
          <p:cNvSpPr/>
          <p:nvPr/>
        </p:nvSpPr>
        <p:spPr>
          <a:xfrm>
            <a:off x="5181480" y="56386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With Attenuation 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2514600" y="6308640"/>
            <a:ext cx="457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Reconstructed Volume (128x128x180)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2" name="" descr=""/>
          <p:cNvPicPr/>
          <p:nvPr/>
        </p:nvPicPr>
        <p:blipFill>
          <a:blip r:embed="rId1"/>
          <a:stretch/>
        </p:blipFill>
        <p:spPr>
          <a:xfrm>
            <a:off x="985680" y="2284560"/>
            <a:ext cx="3427560" cy="3427200"/>
          </a:xfrm>
          <a:prstGeom prst="rect">
            <a:avLst/>
          </a:prstGeom>
          <a:ln w="0">
            <a:noFill/>
          </a:ln>
        </p:spPr>
      </p:pic>
      <p:pic>
        <p:nvPicPr>
          <p:cNvPr id="1233" name="" descr=""/>
          <p:cNvPicPr/>
          <p:nvPr/>
        </p:nvPicPr>
        <p:blipFill>
          <a:blip r:embed="rId2"/>
          <a:stretch/>
        </p:blipFill>
        <p:spPr>
          <a:xfrm>
            <a:off x="4952880" y="2284560"/>
            <a:ext cx="3427560" cy="3427200"/>
          </a:xfrm>
          <a:prstGeom prst="rect">
            <a:avLst/>
          </a:prstGeom>
          <a:ln w="0">
            <a:noFill/>
          </a:ln>
        </p:spPr>
      </p:pic>
      <p:sp>
        <p:nvSpPr>
          <p:cNvPr id="1234" name=""/>
          <p:cNvSpPr/>
          <p:nvPr/>
        </p:nvSpPr>
        <p:spPr>
          <a:xfrm>
            <a:off x="2514600" y="3809880"/>
            <a:ext cx="1219320" cy="137160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477120" y="3809880"/>
            <a:ext cx="1218960" cy="137160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dur="indefinite" fill="hold">
                      <p:stCondLst>
                        <p:cond delay="0"/>
                      </p:stCondLst>
                      <p:childTnLst>
                        <p:par>
                          <p:cTn id="6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Iterative Attenuation Correction</a:t>
            </a: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sp>
        <p:nvSpPr>
          <p:cNvPr id="1237" name=""/>
          <p:cNvSpPr/>
          <p:nvPr/>
        </p:nvSpPr>
        <p:spPr>
          <a:xfrm>
            <a:off x="203760" y="1150920"/>
            <a:ext cx="44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1. Assume no attenuation, solv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349200" y="1981080"/>
            <a:ext cx="528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2. Compute the attenuated light for each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349200" y="5262480"/>
            <a:ext cx="51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3. Solve the linear equation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0" name=""/>
          <p:cNvGraphicFramePr/>
          <p:nvPr/>
        </p:nvGraphicFramePr>
        <p:xfrm>
          <a:off x="4486320" y="1066680"/>
          <a:ext cx="538200" cy="4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6320" y="1066680"/>
                    <a:ext cx="53820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2" name=""/>
          <p:cNvGraphicFramePr/>
          <p:nvPr/>
        </p:nvGraphicFramePr>
        <p:xfrm>
          <a:off x="1600200" y="2730600"/>
          <a:ext cx="519264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730600"/>
                    <a:ext cx="51926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4" name=""/>
          <p:cNvGraphicFramePr/>
          <p:nvPr/>
        </p:nvGraphicFramePr>
        <p:xfrm>
          <a:off x="4114800" y="5181480"/>
          <a:ext cx="563400" cy="46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5181480"/>
                    <a:ext cx="56340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6" name=""/>
          <p:cNvGraphicFramePr/>
          <p:nvPr/>
        </p:nvGraphicFramePr>
        <p:xfrm>
          <a:off x="3581280" y="5702400"/>
          <a:ext cx="1589040" cy="46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5702400"/>
                    <a:ext cx="15890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8" name=""/>
          <p:cNvGrpSpPr/>
          <p:nvPr/>
        </p:nvGrpSpPr>
        <p:grpSpPr>
          <a:xfrm>
            <a:off x="581040" y="3367080"/>
            <a:ext cx="6388200" cy="1285920"/>
            <a:chOff x="581040" y="3367080"/>
            <a:chExt cx="6388200" cy="1285920"/>
          </a:xfrm>
        </p:grpSpPr>
        <p:graphicFrame>
          <p:nvGraphicFramePr>
            <p:cNvPr id="1249" name=""/>
            <p:cNvGraphicFramePr/>
            <p:nvPr/>
          </p:nvGraphicFramePr>
          <p:xfrm>
            <a:off x="1676520" y="3886200"/>
            <a:ext cx="2422440" cy="766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5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76520" y="3886200"/>
                      <a:ext cx="2422440" cy="76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51" name=""/>
            <p:cNvGraphicFramePr/>
            <p:nvPr/>
          </p:nvGraphicFramePr>
          <p:xfrm>
            <a:off x="4446720" y="3886200"/>
            <a:ext cx="2522520" cy="766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5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446720" y="3886200"/>
                      <a:ext cx="2522520" cy="76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3" name=""/>
            <p:cNvSpPr/>
            <p:nvPr/>
          </p:nvSpPr>
          <p:spPr>
            <a:xfrm>
              <a:off x="4115880" y="3976560"/>
              <a:ext cx="2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alatino Linotype"/>
                  <a:ea typeface="宋体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81040" y="3367080"/>
              <a:ext cx="87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alatino Linotype"/>
                  <a:ea typeface="宋体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6705720" y="762120"/>
            <a:ext cx="2477520" cy="1707840"/>
            <a:chOff x="6705720" y="762120"/>
            <a:chExt cx="2477520" cy="1707840"/>
          </a:xfrm>
        </p:grpSpPr>
        <p:sp>
          <p:nvSpPr>
            <p:cNvPr id="1256" name=""/>
            <p:cNvSpPr/>
            <p:nvPr/>
          </p:nvSpPr>
          <p:spPr>
            <a:xfrm>
              <a:off x="6858000" y="1000080"/>
              <a:ext cx="914400" cy="812880"/>
            </a:xfrm>
            <a:custGeom>
              <a:avLst/>
              <a:gdLst/>
              <a:ahLst/>
              <a:rect l="l" t="t" r="r" b="b"/>
              <a:pathLst>
                <a:path w="1680" h="1472">
                  <a:moveTo>
                    <a:pt x="632" y="16"/>
                  </a:moveTo>
                  <a:cubicBezTo>
                    <a:pt x="680" y="32"/>
                    <a:pt x="672" y="200"/>
                    <a:pt x="728" y="256"/>
                  </a:cubicBezTo>
                  <a:cubicBezTo>
                    <a:pt x="784" y="312"/>
                    <a:pt x="840" y="320"/>
                    <a:pt x="968" y="352"/>
                  </a:cubicBezTo>
                  <a:cubicBezTo>
                    <a:pt x="1096" y="384"/>
                    <a:pt x="1432" y="392"/>
                    <a:pt x="1496" y="448"/>
                  </a:cubicBezTo>
                  <a:cubicBezTo>
                    <a:pt x="1560" y="504"/>
                    <a:pt x="1368" y="624"/>
                    <a:pt x="1352" y="688"/>
                  </a:cubicBezTo>
                  <a:cubicBezTo>
                    <a:pt x="1336" y="752"/>
                    <a:pt x="1352" y="800"/>
                    <a:pt x="1400" y="832"/>
                  </a:cubicBezTo>
                  <a:cubicBezTo>
                    <a:pt x="1448" y="864"/>
                    <a:pt x="1600" y="848"/>
                    <a:pt x="1640" y="880"/>
                  </a:cubicBezTo>
                  <a:cubicBezTo>
                    <a:pt x="1680" y="912"/>
                    <a:pt x="1680" y="992"/>
                    <a:pt x="1640" y="1024"/>
                  </a:cubicBezTo>
                  <a:cubicBezTo>
                    <a:pt x="1600" y="1056"/>
                    <a:pt x="1480" y="1000"/>
                    <a:pt x="1400" y="1072"/>
                  </a:cubicBezTo>
                  <a:cubicBezTo>
                    <a:pt x="1320" y="1144"/>
                    <a:pt x="1280" y="1440"/>
                    <a:pt x="1160" y="1456"/>
                  </a:cubicBezTo>
                  <a:cubicBezTo>
                    <a:pt x="1040" y="1472"/>
                    <a:pt x="864" y="1192"/>
                    <a:pt x="680" y="1168"/>
                  </a:cubicBezTo>
                  <a:cubicBezTo>
                    <a:pt x="496" y="1144"/>
                    <a:pt x="112" y="1376"/>
                    <a:pt x="56" y="1312"/>
                  </a:cubicBezTo>
                  <a:cubicBezTo>
                    <a:pt x="0" y="1248"/>
                    <a:pt x="304" y="920"/>
                    <a:pt x="344" y="784"/>
                  </a:cubicBezTo>
                  <a:cubicBezTo>
                    <a:pt x="384" y="648"/>
                    <a:pt x="264" y="576"/>
                    <a:pt x="296" y="496"/>
                  </a:cubicBezTo>
                  <a:cubicBezTo>
                    <a:pt x="328" y="416"/>
                    <a:pt x="512" y="360"/>
                    <a:pt x="536" y="304"/>
                  </a:cubicBezTo>
                  <a:cubicBezTo>
                    <a:pt x="560" y="248"/>
                    <a:pt x="424" y="208"/>
                    <a:pt x="440" y="160"/>
                  </a:cubicBezTo>
                  <a:cubicBezTo>
                    <a:pt x="456" y="112"/>
                    <a:pt x="584" y="0"/>
                    <a:pt x="632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238880" y="13557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7388280" y="1432080"/>
              <a:ext cx="768240" cy="144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8114040" y="1155600"/>
              <a:ext cx="1069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Palatino Linotype"/>
                  <a:ea typeface="宋体"/>
                </a:rPr>
                <a:t>L(x,y)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Palatino Linotype"/>
                  <a:ea typeface="宋体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Palatino Linotype"/>
                  <a:ea typeface="宋体"/>
                </a:rPr>
                <a:t>Projec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315200" y="1508040"/>
              <a:ext cx="1440" cy="60984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345800" y="1889280"/>
              <a:ext cx="930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Palatino Linotype"/>
                  <a:ea typeface="宋体"/>
                </a:rPr>
                <a:t>I(y,z)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Palatino Linotype"/>
                  <a:ea typeface="宋体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Palatino Linotype"/>
                  <a:ea typeface="宋体"/>
                </a:rPr>
                <a:t>Came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391520" y="1127160"/>
              <a:ext cx="76176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7086600" y="1428840"/>
              <a:ext cx="1440" cy="691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64" name=""/>
            <p:cNvGraphicFramePr/>
            <p:nvPr/>
          </p:nvGraphicFramePr>
          <p:xfrm>
            <a:off x="7696080" y="762120"/>
            <a:ext cx="222480" cy="365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6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696080" y="762120"/>
                      <a:ext cx="22248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6" name=""/>
            <p:cNvGraphicFramePr/>
            <p:nvPr/>
          </p:nvGraphicFramePr>
          <p:xfrm>
            <a:off x="6705720" y="1584360"/>
            <a:ext cx="261720" cy="3650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6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705720" y="1584360"/>
                      <a:ext cx="26172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dur="indefinite" fill="hold">
                      <p:stCondLst>
                        <p:cond delay="indefinite"/>
                      </p:stCondLst>
                      <p:childTnLst>
                        <p:par>
                          <p:cTn id="6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dur="indefinite" fill="hold">
                      <p:stCondLst>
                        <p:cond delay="indefinite"/>
                      </p:stCondLst>
                      <p:childTnLst>
                        <p:par>
                          <p:cTn id="6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dur="indefinite" fill="hold">
                      <p:stCondLst>
                        <p:cond delay="indefinite"/>
                      </p:stCondLst>
                      <p:childTnLst>
                        <p:par>
                          <p:cTn id="6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dur="indefinite" fill="hold">
                      <p:stCondLst>
                        <p:cond delay="indefinite"/>
                      </p:stCondLst>
                      <p:childTnLst>
                        <p:par>
                          <p:cTn id="6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Iterative Attenuation Correction</a:t>
            </a:r>
            <a:endParaRPr b="0" lang="en-US" sz="3200" spc="-1" strike="noStrike">
              <a:solidFill>
                <a:srgbClr val="ff9933"/>
              </a:solidFill>
              <a:latin typeface="Palatino Linotype"/>
            </a:endParaRPr>
          </a:p>
        </p:txBody>
      </p:sp>
      <p:graphicFrame>
        <p:nvGraphicFramePr>
          <p:cNvPr id="1269" name=""/>
          <p:cNvGraphicFramePr/>
          <p:nvPr/>
        </p:nvGraphicFramePr>
        <p:xfrm>
          <a:off x="533520" y="1676520"/>
          <a:ext cx="373356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373356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1" name=""/>
          <p:cNvSpPr/>
          <p:nvPr/>
        </p:nvSpPr>
        <p:spPr>
          <a:xfrm>
            <a:off x="4505760" y="3022560"/>
            <a:ext cx="14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Ground tr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4639320" y="492120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Iteratio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5898240" y="492120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Iteratio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7117200" y="492120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Iteratio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5" name="" descr=""/>
          <p:cNvPicPr/>
          <p:nvPr/>
        </p:nvPicPr>
        <p:blipFill>
          <a:blip r:embed="rId3"/>
          <a:stretch/>
        </p:blipFill>
        <p:spPr>
          <a:xfrm>
            <a:off x="8344080" y="3429000"/>
            <a:ext cx="257040" cy="1371600"/>
          </a:xfrm>
          <a:prstGeom prst="rect">
            <a:avLst/>
          </a:prstGeom>
          <a:ln w="0">
            <a:noFill/>
          </a:ln>
        </p:spPr>
      </p:pic>
      <p:sp>
        <p:nvSpPr>
          <p:cNvPr id="1276" name=""/>
          <p:cNvSpPr/>
          <p:nvPr/>
        </p:nvSpPr>
        <p:spPr>
          <a:xfrm>
            <a:off x="8559000" y="464832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  <a:ea typeface="宋体"/>
              </a:rPr>
              <a:t>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8559000" y="410040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  <a:ea typeface="宋体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8559000" y="327672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  <a:ea typeface="宋体"/>
              </a:rPr>
              <a:t>0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9" name="" descr=""/>
          <p:cNvPicPr/>
          <p:nvPr/>
        </p:nvPicPr>
        <p:blipFill>
          <a:blip r:embed="rId4"/>
          <a:stretch/>
        </p:blipFill>
        <p:spPr>
          <a:xfrm>
            <a:off x="4689360" y="1676520"/>
            <a:ext cx="1087560" cy="1388880"/>
          </a:xfrm>
          <a:prstGeom prst="rect">
            <a:avLst/>
          </a:prstGeom>
          <a:ln w="0">
            <a:noFill/>
          </a:ln>
        </p:spPr>
      </p:pic>
      <p:sp>
        <p:nvSpPr>
          <p:cNvPr id="1280" name=""/>
          <p:cNvSpPr/>
          <p:nvPr/>
        </p:nvSpPr>
        <p:spPr>
          <a:xfrm>
            <a:off x="2209680" y="4800600"/>
            <a:ext cx="6858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533520" y="3048120"/>
            <a:ext cx="759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1852560" y="489096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It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 rot="16200000">
            <a:off x="-53280" y="307116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5484600" y="5530680"/>
            <a:ext cx="222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Reconstruction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8559000" y="382572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  <a:ea typeface="宋体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8559000" y="355140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  <a:ea typeface="宋体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8559000" y="437508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  <a:ea typeface="宋体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" descr=""/>
          <p:cNvPicPr/>
          <p:nvPr/>
        </p:nvPicPr>
        <p:blipFill>
          <a:blip r:embed="rId5"/>
          <a:stretch/>
        </p:blipFill>
        <p:spPr>
          <a:xfrm>
            <a:off x="4705200" y="3429000"/>
            <a:ext cx="1086120" cy="1371600"/>
          </a:xfrm>
          <a:prstGeom prst="rect">
            <a:avLst/>
          </a:prstGeom>
          <a:ln w="0">
            <a:noFill/>
          </a:ln>
        </p:spPr>
      </p:pic>
      <p:pic>
        <p:nvPicPr>
          <p:cNvPr id="1289" name="" descr=""/>
          <p:cNvPicPr/>
          <p:nvPr/>
        </p:nvPicPr>
        <p:blipFill>
          <a:blip r:embed="rId6"/>
          <a:stretch/>
        </p:blipFill>
        <p:spPr>
          <a:xfrm>
            <a:off x="5924520" y="3429000"/>
            <a:ext cx="1085760" cy="1371600"/>
          </a:xfrm>
          <a:prstGeom prst="rect">
            <a:avLst/>
          </a:prstGeom>
          <a:ln w="0">
            <a:noFill/>
          </a:ln>
        </p:spPr>
      </p:pic>
      <p:pic>
        <p:nvPicPr>
          <p:cNvPr id="1290" name="" descr=""/>
          <p:cNvPicPr/>
          <p:nvPr/>
        </p:nvPicPr>
        <p:blipFill>
          <a:blip r:embed="rId7"/>
          <a:stretch/>
        </p:blipFill>
        <p:spPr>
          <a:xfrm>
            <a:off x="7143840" y="3429000"/>
            <a:ext cx="10857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 flipV="1">
            <a:off x="3195720" y="4122720"/>
            <a:ext cx="1436760" cy="1301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4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Compressive Structured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79640" y="6324480"/>
            <a:ext cx="3048120" cy="18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36840" y="3733920"/>
            <a:ext cx="25909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03520" y="2666880"/>
            <a:ext cx="25909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436840" y="3730680"/>
            <a:ext cx="1440" cy="2597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027760" y="3349800"/>
            <a:ext cx="1440" cy="2977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094440" y="2664000"/>
            <a:ext cx="1440" cy="2597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256360" y="3502080"/>
            <a:ext cx="1440" cy="2597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027760" y="2664000"/>
            <a:ext cx="1066680" cy="1072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027760" y="4949640"/>
            <a:ext cx="1371600" cy="1377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027760" y="3044520"/>
            <a:ext cx="1066680" cy="107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027760" y="3425400"/>
            <a:ext cx="1066680" cy="107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027760" y="3882600"/>
            <a:ext cx="1066680" cy="107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027760" y="4339800"/>
            <a:ext cx="1066680" cy="107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027760" y="4797000"/>
            <a:ext cx="1066680" cy="107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436840" y="2664000"/>
            <a:ext cx="1066680" cy="1072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484960" y="3273480"/>
            <a:ext cx="1440" cy="2597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713560" y="3044880"/>
            <a:ext cx="1440" cy="2597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899320" y="2849040"/>
            <a:ext cx="1440" cy="2597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84520" y="3894120"/>
            <a:ext cx="758880" cy="1725480"/>
          </a:xfrm>
          <a:prstGeom prst="cloudCallout">
            <a:avLst>
              <a:gd name="adj1" fmla="val -48115"/>
              <a:gd name="adj2" fmla="val 75388"/>
            </a:avLst>
          </a:prstGeom>
          <a:gradFill rotWithShape="0">
            <a:gsLst>
              <a:gs pos="0">
                <a:srgbClr val="585858"/>
              </a:gs>
              <a:gs pos="100000">
                <a:srgbClr val="c0c0c0">
                  <a:alpha val="8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389720" y="3657600"/>
            <a:ext cx="316080" cy="571680"/>
            <a:chOff x="7389720" y="3657600"/>
            <a:chExt cx="316080" cy="571680"/>
          </a:xfrm>
        </p:grpSpPr>
        <p:sp>
          <p:nvSpPr>
            <p:cNvPr id="186" name=""/>
            <p:cNvSpPr/>
            <p:nvPr/>
          </p:nvSpPr>
          <p:spPr>
            <a:xfrm rot="5400000">
              <a:off x="7362720" y="3863880"/>
              <a:ext cx="53352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5400000">
              <a:off x="7180200" y="3867120"/>
              <a:ext cx="571680" cy="152640"/>
            </a:xfrm>
            <a:custGeom>
              <a:avLst/>
              <a:gdLst>
                <a:gd name="textAreaLeft" fmla="*/ 125640 w 571680"/>
                <a:gd name="textAreaRight" fmla="*/ 446040 w 571680"/>
                <a:gd name="textAreaTop" fmla="*/ 33480 h 152640"/>
                <a:gd name="textAreaBottom" fmla="*/ 11916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742440" y="444348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Proj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972480" y="3705120"/>
            <a:ext cx="318960" cy="459000"/>
            <a:chOff x="6972480" y="3705120"/>
            <a:chExt cx="318960" cy="459000"/>
          </a:xfrm>
        </p:grpSpPr>
        <p:sp>
          <p:nvSpPr>
            <p:cNvPr id="190" name=""/>
            <p:cNvSpPr/>
            <p:nvPr/>
          </p:nvSpPr>
          <p:spPr>
            <a:xfrm>
              <a:off x="6973920" y="3705120"/>
              <a:ext cx="314280" cy="18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77160" y="3857760"/>
              <a:ext cx="314280" cy="14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77160" y="4010040"/>
              <a:ext cx="314280" cy="14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72480" y="4162320"/>
              <a:ext cx="314280" cy="18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318360" y="4998960"/>
            <a:ext cx="2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03760" y="324648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79400" y="597060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63680" y="2844720"/>
            <a:ext cx="148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Participa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Med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60520" y="3200400"/>
            <a:ext cx="121932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813040" y="5298840"/>
            <a:ext cx="600120" cy="506520"/>
            <a:chOff x="2813040" y="5298840"/>
            <a:chExt cx="600120" cy="506520"/>
          </a:xfrm>
        </p:grpSpPr>
        <p:sp>
          <p:nvSpPr>
            <p:cNvPr id="200" name=""/>
            <p:cNvSpPr/>
            <p:nvPr/>
          </p:nvSpPr>
          <p:spPr>
            <a:xfrm>
              <a:off x="2879640" y="5302080"/>
              <a:ext cx="533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13040" y="5454720"/>
              <a:ext cx="449280" cy="350640"/>
            </a:xfrm>
            <a:prstGeom prst="cube">
              <a:avLst>
                <a:gd name="adj" fmla="val 39819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260880" y="5298840"/>
              <a:ext cx="152280" cy="158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63760" y="5678640"/>
              <a:ext cx="149400" cy="80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2881440" y="5302080"/>
              <a:ext cx="7272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52320" y="5788080"/>
            <a:ext cx="11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Ca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240" y="4905360"/>
            <a:ext cx="8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(y, z)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7880" y="865080"/>
            <a:ext cx="873612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914400"/>
            <a:ext cx="8763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Target low density media and assume single scatte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Assume volume density, gradients are </a:t>
            </a:r>
            <a:r>
              <a:rPr b="0" lang="en-US" sz="2400" spc="-1" strike="noStrike">
                <a:solidFill>
                  <a:srgbClr val="ff9933"/>
                </a:solidFill>
                <a:latin typeface="Palatino Linotype"/>
                <a:ea typeface="宋体"/>
              </a:rPr>
              <a:t>sp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Each pixel is a </a:t>
            </a:r>
            <a:r>
              <a:rPr b="0" lang="en-US" sz="2400" spc="-1" strike="noStrike">
                <a:solidFill>
                  <a:srgbClr val="ff9933"/>
                </a:solidFill>
                <a:latin typeface="Palatino Linotype"/>
                <a:ea typeface="宋体"/>
              </a:rPr>
              <a:t>line integral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宋体"/>
              </a:rPr>
              <a:t> measurement of volume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97320" y="515304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94080" y="3886200"/>
            <a:ext cx="3581280" cy="1049400"/>
          </a:xfrm>
          <a:prstGeom prst="parallelogram">
            <a:avLst>
              <a:gd name="adj" fmla="val 99695"/>
            </a:avLst>
          </a:prstGeom>
          <a:solidFill>
            <a:srgbClr val="ff9933">
              <a:alpha val="50000"/>
            </a:srgbClr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-67680" y="4803840"/>
            <a:ext cx="633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Under </a:t>
            </a:r>
            <a:r>
              <a:rPr b="1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single scattering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 and </a:t>
            </a:r>
            <a:r>
              <a:rPr b="1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orthographic projection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44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Image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38280" y="1136520"/>
            <a:ext cx="2667240" cy="2336760"/>
          </a:xfrm>
          <a:custGeom>
            <a:avLst/>
            <a:gdLst/>
            <a:ahLst/>
            <a:rect l="l" t="t" r="r" b="b"/>
            <a:pathLst>
              <a:path w="1680" h="1472">
                <a:moveTo>
                  <a:pt x="632" y="16"/>
                </a:moveTo>
                <a:cubicBezTo>
                  <a:pt x="680" y="32"/>
                  <a:pt x="672" y="200"/>
                  <a:pt x="728" y="256"/>
                </a:cubicBezTo>
                <a:cubicBezTo>
                  <a:pt x="784" y="312"/>
                  <a:pt x="840" y="320"/>
                  <a:pt x="968" y="352"/>
                </a:cubicBezTo>
                <a:cubicBezTo>
                  <a:pt x="1096" y="384"/>
                  <a:pt x="1432" y="392"/>
                  <a:pt x="1496" y="448"/>
                </a:cubicBezTo>
                <a:cubicBezTo>
                  <a:pt x="1560" y="504"/>
                  <a:pt x="1368" y="624"/>
                  <a:pt x="1352" y="688"/>
                </a:cubicBezTo>
                <a:cubicBezTo>
                  <a:pt x="1336" y="752"/>
                  <a:pt x="1352" y="800"/>
                  <a:pt x="1400" y="832"/>
                </a:cubicBezTo>
                <a:cubicBezTo>
                  <a:pt x="1448" y="864"/>
                  <a:pt x="1600" y="848"/>
                  <a:pt x="1640" y="880"/>
                </a:cubicBezTo>
                <a:cubicBezTo>
                  <a:pt x="1680" y="912"/>
                  <a:pt x="1680" y="992"/>
                  <a:pt x="1640" y="1024"/>
                </a:cubicBezTo>
                <a:cubicBezTo>
                  <a:pt x="1600" y="1056"/>
                  <a:pt x="1480" y="1000"/>
                  <a:pt x="1400" y="1072"/>
                </a:cubicBezTo>
                <a:cubicBezTo>
                  <a:pt x="1320" y="1144"/>
                  <a:pt x="1280" y="1440"/>
                  <a:pt x="1160" y="1456"/>
                </a:cubicBezTo>
                <a:cubicBezTo>
                  <a:pt x="1040" y="1472"/>
                  <a:pt x="864" y="1192"/>
                  <a:pt x="680" y="1168"/>
                </a:cubicBezTo>
                <a:cubicBezTo>
                  <a:pt x="496" y="1144"/>
                  <a:pt x="112" y="1376"/>
                  <a:pt x="56" y="1312"/>
                </a:cubicBezTo>
                <a:cubicBezTo>
                  <a:pt x="0" y="1248"/>
                  <a:pt x="304" y="920"/>
                  <a:pt x="344" y="784"/>
                </a:cubicBezTo>
                <a:cubicBezTo>
                  <a:pt x="384" y="648"/>
                  <a:pt x="264" y="576"/>
                  <a:pt x="296" y="496"/>
                </a:cubicBezTo>
                <a:cubicBezTo>
                  <a:pt x="328" y="416"/>
                  <a:pt x="512" y="360"/>
                  <a:pt x="536" y="304"/>
                </a:cubicBezTo>
                <a:cubicBezTo>
                  <a:pt x="560" y="248"/>
                  <a:pt x="424" y="208"/>
                  <a:pt x="440" y="160"/>
                </a:cubicBezTo>
                <a:cubicBezTo>
                  <a:pt x="456" y="112"/>
                  <a:pt x="584" y="0"/>
                  <a:pt x="632" y="16"/>
                </a:cubicBez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719520" y="1185840"/>
            <a:ext cx="138240" cy="2243160"/>
            <a:chOff x="3719520" y="1185840"/>
            <a:chExt cx="138240" cy="2243160"/>
          </a:xfrm>
        </p:grpSpPr>
        <p:sp>
          <p:nvSpPr>
            <p:cNvPr id="215" name=""/>
            <p:cNvSpPr/>
            <p:nvPr/>
          </p:nvSpPr>
          <p:spPr>
            <a:xfrm>
              <a:off x="3719520" y="1746360"/>
              <a:ext cx="138240" cy="136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19520" y="1887480"/>
              <a:ext cx="138240" cy="136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19520" y="2027160"/>
              <a:ext cx="138240" cy="136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19520" y="2168640"/>
              <a:ext cx="138240" cy="136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19520" y="2308320"/>
              <a:ext cx="138240" cy="136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19520" y="2449440"/>
              <a:ext cx="138240" cy="136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19520" y="2589120"/>
              <a:ext cx="138240" cy="136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19520" y="2730600"/>
              <a:ext cx="138240" cy="136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19520" y="2870280"/>
              <a:ext cx="138240" cy="136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19520" y="3011400"/>
              <a:ext cx="138240" cy="136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19520" y="3151080"/>
              <a:ext cx="138240" cy="136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19520" y="1325520"/>
              <a:ext cx="138240" cy="136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9520" y="1465200"/>
              <a:ext cx="138240" cy="136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719520" y="1606680"/>
              <a:ext cx="138240" cy="136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19520" y="1185840"/>
              <a:ext cx="138240" cy="136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19520" y="3292560"/>
              <a:ext cx="138240" cy="136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 flipH="1">
            <a:off x="3854520" y="2382840"/>
            <a:ext cx="1758960" cy="144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86120" y="2438280"/>
            <a:ext cx="1800" cy="1219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74120" y="24415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Proj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73680" y="3873600"/>
            <a:ext cx="145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Camera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008760" y="2111400"/>
          <a:ext cx="749160" cy="3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8760" y="2111400"/>
                    <a:ext cx="74916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4006800" y="3610080"/>
          <a:ext cx="708120" cy="32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06800" y="3610080"/>
                    <a:ext cx="70812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3719520" y="3678120"/>
            <a:ext cx="138240" cy="136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600200" y="930240"/>
            <a:ext cx="2243160" cy="1509840"/>
            <a:chOff x="1600200" y="930240"/>
            <a:chExt cx="2243160" cy="1509840"/>
          </a:xfrm>
        </p:grpSpPr>
        <p:sp>
          <p:nvSpPr>
            <p:cNvPr id="241" name=""/>
            <p:cNvSpPr/>
            <p:nvPr/>
          </p:nvSpPr>
          <p:spPr>
            <a:xfrm>
              <a:off x="3733920" y="2330280"/>
              <a:ext cx="109440" cy="109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17200" y="930240"/>
              <a:ext cx="72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Palatino Linotype"/>
                  <a:ea typeface="宋体"/>
                </a:rPr>
                <a:t>Vox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3" name=""/>
            <p:cNvGraphicFramePr/>
            <p:nvPr/>
          </p:nvGraphicFramePr>
          <p:xfrm>
            <a:off x="1600200" y="1187280"/>
            <a:ext cx="971640" cy="324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00200" y="1187280"/>
                      <a:ext cx="971640" cy="3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5" name=""/>
            <p:cNvSpPr/>
            <p:nvPr/>
          </p:nvSpPr>
          <p:spPr>
            <a:xfrm>
              <a:off x="2590920" y="1492200"/>
              <a:ext cx="114300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809880" y="2101680"/>
            <a:ext cx="1828800" cy="18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124080" y="2403000"/>
            <a:ext cx="1800" cy="12258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876920" y="1797120"/>
          <a:ext cx="222120" cy="365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1797120"/>
                    <a:ext cx="22212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3166920" y="2940120"/>
          <a:ext cx="262080" cy="365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66920" y="2940120"/>
                    <a:ext cx="26208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 flipH="1">
            <a:off x="1520640" y="4387680"/>
            <a:ext cx="5492520" cy="1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7010280" y="726840"/>
            <a:ext cx="1800" cy="3663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95280" y="408312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81920" y="546120"/>
            <a:ext cx="2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086600" y="415908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634000" y="1185840"/>
            <a:ext cx="138240" cy="2243160"/>
            <a:chOff x="5634000" y="1185840"/>
            <a:chExt cx="138240" cy="2243160"/>
          </a:xfrm>
        </p:grpSpPr>
        <p:sp>
          <p:nvSpPr>
            <p:cNvPr id="258" name=""/>
            <p:cNvSpPr/>
            <p:nvPr/>
          </p:nvSpPr>
          <p:spPr>
            <a:xfrm>
              <a:off x="5634000" y="174636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34000" y="188748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634000" y="202716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34000" y="216864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34000" y="230832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34000" y="244944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34000" y="258912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34000" y="273060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634000" y="287028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634000" y="301140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34000" y="3151080"/>
              <a:ext cx="138240" cy="1368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34000" y="132552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634000" y="146520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634000" y="160668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34000" y="118584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34000" y="3292560"/>
              <a:ext cx="138240" cy="136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5638680" y="2309760"/>
            <a:ext cx="138240" cy="13644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425760" y="2082600"/>
            <a:ext cx="563760" cy="584280"/>
            <a:chOff x="3425760" y="2082600"/>
            <a:chExt cx="563760" cy="584280"/>
          </a:xfrm>
        </p:grpSpPr>
        <p:grpSp>
          <p:nvGrpSpPr>
            <p:cNvPr id="276" name=""/>
            <p:cNvGrpSpPr/>
            <p:nvPr/>
          </p:nvGrpSpPr>
          <p:grpSpPr>
            <a:xfrm>
              <a:off x="3425760" y="2082600"/>
              <a:ext cx="563760" cy="579600"/>
              <a:chOff x="3425760" y="2082600"/>
              <a:chExt cx="563760" cy="579600"/>
            </a:xfrm>
          </p:grpSpPr>
          <p:sp>
            <p:nvSpPr>
              <p:cNvPr id="277" name=""/>
              <p:cNvSpPr/>
              <p:nvPr/>
            </p:nvSpPr>
            <p:spPr>
              <a:xfrm flipH="1">
                <a:off x="3478320" y="2405160"/>
                <a:ext cx="272880" cy="180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flipV="1">
                <a:off x="3684600" y="2082600"/>
                <a:ext cx="101520" cy="2473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816360" y="2421000"/>
                <a:ext cx="173160" cy="2412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flipV="1">
                <a:off x="3425760" y="2263680"/>
                <a:ext cx="308160" cy="921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3816360" y="2212560"/>
                <a:ext cx="103320" cy="1270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3794040" y="2438280"/>
              <a:ext cx="1800" cy="22860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173320" y="5425920"/>
            <a:ext cx="3614760" cy="82872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807360" y="822240"/>
            <a:ext cx="2435760" cy="3310200"/>
            <a:chOff x="3807360" y="822240"/>
            <a:chExt cx="2435760" cy="3310200"/>
          </a:xfrm>
        </p:grpSpPr>
        <p:sp>
          <p:nvSpPr>
            <p:cNvPr id="285" name=""/>
            <p:cNvSpPr/>
            <p:nvPr/>
          </p:nvSpPr>
          <p:spPr>
            <a:xfrm>
              <a:off x="3807360" y="82224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4000" spc="-1" strike="noStrike">
                  <a:solidFill>
                    <a:srgbClr val="ff9933"/>
                  </a:solidFill>
                  <a:latin typeface="Palatino Linotype"/>
                  <a:ea typeface="宋体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00880" y="3429000"/>
              <a:ext cx="46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4000" spc="-1" strike="noStrike">
                  <a:solidFill>
                    <a:srgbClr val="ff9933"/>
                  </a:solidFill>
                  <a:latin typeface="Palatino Linotype"/>
                  <a:ea typeface="宋体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77280" y="838080"/>
              <a:ext cx="46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4000" spc="-1" strike="noStrike">
                  <a:solidFill>
                    <a:srgbClr val="ff9933"/>
                  </a:solidFill>
                  <a:latin typeface="Palatino Linotype"/>
                  <a:ea typeface="宋体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2772000" y="5424480"/>
            <a:ext cx="255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Palatino Linotype"/>
                <a:ea typeface="宋体"/>
              </a:rPr>
              <a:t>b</a:t>
            </a:r>
            <a:r>
              <a:rPr b="0" lang="en-US" sz="4800" spc="-1" strike="noStrike">
                <a:solidFill>
                  <a:srgbClr val="ffffff"/>
                </a:solidFill>
                <a:latin typeface="Palatino Linotype"/>
                <a:ea typeface="宋体"/>
              </a:rPr>
              <a:t>  =  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Palatino Linotype"/>
                <a:ea typeface="宋体"/>
              </a:rPr>
              <a:t>T</a:t>
            </a:r>
            <a:r>
              <a:rPr b="0" lang="en-US" sz="4800" spc="-1" strike="noStrike" baseline="30000">
                <a:solidFill>
                  <a:srgbClr val="ffffff"/>
                </a:solidFill>
                <a:latin typeface="Palatino Linotype"/>
                <a:ea typeface="宋体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Palatino Linotype"/>
                <a:ea typeface="宋体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80800" y="4797360"/>
            <a:ext cx="28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assume </a:t>
            </a:r>
            <a:r>
              <a:rPr b="1" lang="en-US" sz="1800" spc="-1" strike="noStrike">
                <a:solidFill>
                  <a:srgbClr val="ff9933"/>
                </a:solidFill>
                <a:latin typeface="Palatino Linotype"/>
                <a:ea typeface="宋体"/>
              </a:rPr>
              <a:t>no attenuation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842080" y="6391440"/>
            <a:ext cx="30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宋体"/>
              </a:rPr>
              <a:t>(See paper for deriv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6809040" y="5138640"/>
            <a:ext cx="2026440" cy="599400"/>
            <a:chOff x="6809040" y="5138640"/>
            <a:chExt cx="2026440" cy="599400"/>
          </a:xfrm>
        </p:grpSpPr>
        <p:sp>
          <p:nvSpPr>
            <p:cNvPr id="292" name=""/>
            <p:cNvSpPr/>
            <p:nvPr/>
          </p:nvSpPr>
          <p:spPr>
            <a:xfrm>
              <a:off x="6809040" y="5138640"/>
              <a:ext cx="202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Palatino Linotype"/>
                  <a:ea typeface="宋体"/>
                </a:rPr>
                <a:t>[Hawkins et al., 05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811920" y="5400720"/>
              <a:ext cx="173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Palatino Linotype"/>
                  <a:ea typeface="宋体"/>
                </a:rPr>
                <a:t>[Fuchs et al., 07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 fill="hold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flipV="1">
            <a:off x="3195720" y="4503600"/>
            <a:ext cx="1436760" cy="1301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44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Temporal 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79640" y="6705720"/>
            <a:ext cx="3048120" cy="14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436840" y="4114800"/>
            <a:ext cx="25909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05320" y="3048120"/>
            <a:ext cx="259056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436840" y="4111560"/>
            <a:ext cx="1440" cy="2597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027760" y="3730680"/>
            <a:ext cx="1440" cy="2977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6094440" y="3044880"/>
            <a:ext cx="1440" cy="2597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6360" y="3882960"/>
            <a:ext cx="1440" cy="2597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027760" y="3044520"/>
            <a:ext cx="1066680" cy="107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027760" y="5330520"/>
            <a:ext cx="1371600" cy="1377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027760" y="3425400"/>
            <a:ext cx="1066680" cy="107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027760" y="3807000"/>
            <a:ext cx="1066680" cy="1072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027760" y="4264200"/>
            <a:ext cx="1066680" cy="1072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027760" y="4721400"/>
            <a:ext cx="1066680" cy="1072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027760" y="5178600"/>
            <a:ext cx="1066680" cy="1072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436840" y="3044520"/>
            <a:ext cx="1066680" cy="107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484960" y="3654360"/>
            <a:ext cx="1440" cy="2597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713560" y="3425760"/>
            <a:ext cx="1440" cy="2597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5899320" y="3230640"/>
            <a:ext cx="1440" cy="2597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584520" y="4275000"/>
            <a:ext cx="758880" cy="1725840"/>
          </a:xfrm>
          <a:prstGeom prst="cloudCallout">
            <a:avLst>
              <a:gd name="adj1" fmla="val -48115"/>
              <a:gd name="adj2" fmla="val 75388"/>
            </a:avLst>
          </a:prstGeom>
          <a:gradFill rotWithShape="0">
            <a:gsLst>
              <a:gs pos="0">
                <a:srgbClr val="585858"/>
              </a:gs>
              <a:gs pos="100000">
                <a:srgbClr val="c0c0c0">
                  <a:alpha val="8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7389720" y="4038480"/>
            <a:ext cx="316080" cy="571680"/>
            <a:chOff x="7389720" y="4038480"/>
            <a:chExt cx="316080" cy="571680"/>
          </a:xfrm>
        </p:grpSpPr>
        <p:sp>
          <p:nvSpPr>
            <p:cNvPr id="316" name=""/>
            <p:cNvSpPr/>
            <p:nvPr/>
          </p:nvSpPr>
          <p:spPr>
            <a:xfrm rot="5400000">
              <a:off x="7362720" y="4244760"/>
              <a:ext cx="53352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 rot="5400000">
              <a:off x="7180200" y="4248000"/>
              <a:ext cx="571680" cy="152640"/>
            </a:xfrm>
            <a:custGeom>
              <a:avLst/>
              <a:gdLst>
                <a:gd name="textAreaLeft" fmla="*/ 125640 w 571680"/>
                <a:gd name="textAreaRight" fmla="*/ 446040 w 571680"/>
                <a:gd name="textAreaTop" fmla="*/ 33480 h 152640"/>
                <a:gd name="textAreaBottom" fmla="*/ 11916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6742440" y="482436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Proj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972480" y="4086360"/>
            <a:ext cx="318960" cy="458640"/>
            <a:chOff x="6972480" y="4086360"/>
            <a:chExt cx="318960" cy="458640"/>
          </a:xfrm>
        </p:grpSpPr>
        <p:sp>
          <p:nvSpPr>
            <p:cNvPr id="320" name=""/>
            <p:cNvSpPr/>
            <p:nvPr/>
          </p:nvSpPr>
          <p:spPr>
            <a:xfrm>
              <a:off x="6973920" y="4086360"/>
              <a:ext cx="314280" cy="14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977160" y="4238640"/>
              <a:ext cx="314280" cy="14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977160" y="4390920"/>
              <a:ext cx="314280" cy="18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972480" y="4543560"/>
              <a:ext cx="314280" cy="14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318360" y="5380200"/>
            <a:ext cx="2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03760" y="362736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79400" y="635148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363680" y="3225960"/>
            <a:ext cx="148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Participa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Med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360520" y="3581280"/>
            <a:ext cx="121932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52320" y="6168960"/>
            <a:ext cx="11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Ca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397320" y="55339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792160" y="5095800"/>
            <a:ext cx="8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(y, z)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813040" y="5679720"/>
            <a:ext cx="600120" cy="506880"/>
            <a:chOff x="2813040" y="5679720"/>
            <a:chExt cx="600120" cy="506880"/>
          </a:xfrm>
        </p:grpSpPr>
        <p:sp>
          <p:nvSpPr>
            <p:cNvPr id="333" name=""/>
            <p:cNvSpPr/>
            <p:nvPr/>
          </p:nvSpPr>
          <p:spPr>
            <a:xfrm>
              <a:off x="2879640" y="5683320"/>
              <a:ext cx="533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13040" y="5835600"/>
              <a:ext cx="449280" cy="351000"/>
            </a:xfrm>
            <a:prstGeom prst="cube">
              <a:avLst>
                <a:gd name="adj" fmla="val 39819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3260880" y="5679720"/>
              <a:ext cx="152280" cy="158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63760" y="6059520"/>
              <a:ext cx="149400" cy="81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2881440" y="5682960"/>
              <a:ext cx="727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5746320" y="6121440"/>
            <a:ext cx="14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Tim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473280" y="3027240"/>
            <a:ext cx="1465560" cy="1506600"/>
            <a:chOff x="3473280" y="3027240"/>
            <a:chExt cx="1465560" cy="1506600"/>
          </a:xfrm>
        </p:grpSpPr>
        <p:sp>
          <p:nvSpPr>
            <p:cNvPr id="340" name=""/>
            <p:cNvSpPr/>
            <p:nvPr/>
          </p:nvSpPr>
          <p:spPr>
            <a:xfrm>
              <a:off x="3473280" y="4152960"/>
              <a:ext cx="304920" cy="380880"/>
            </a:xfrm>
            <a:prstGeom prst="rect">
              <a:avLst/>
            </a:prstGeom>
            <a:noFill/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3505320" y="3027240"/>
              <a:ext cx="1433520" cy="1498320"/>
              <a:chOff x="3505320" y="3027240"/>
              <a:chExt cx="1433520" cy="149832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3505320" y="3048120"/>
                <a:ext cx="1371600" cy="1066680"/>
                <a:chOff x="3505320" y="3048120"/>
                <a:chExt cx="1371600" cy="106668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3540960" y="3159000"/>
                  <a:ext cx="4442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US" sz="3600" spc="-1" strike="noStrike">
                      <a:solidFill>
                        <a:srgbClr val="ff9933"/>
                      </a:solidFill>
                      <a:latin typeface="Palatino Linotype"/>
                      <a:ea typeface="宋体"/>
                    </a:rPr>
                    <a:t>x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4" name=""/>
                <p:cNvGrpSpPr/>
                <p:nvPr/>
              </p:nvGrpSpPr>
              <p:grpSpPr>
                <a:xfrm>
                  <a:off x="3505320" y="3048120"/>
                  <a:ext cx="1371600" cy="1066680"/>
                  <a:chOff x="3505320" y="3048120"/>
                  <a:chExt cx="1371600" cy="106668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3505320" y="3048120"/>
                    <a:ext cx="1371600" cy="1066680"/>
                  </a:xfrm>
                  <a:prstGeom prst="parallelogram">
                    <a:avLst>
                      <a:gd name="adj" fmla="val 102541"/>
                    </a:avLst>
                  </a:prstGeom>
                  <a:noFill/>
                  <a:ln w="63360">
                    <a:solidFill>
                      <a:srgbClr val="ff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3757680" y="3859200"/>
                    <a:ext cx="293760" cy="1440"/>
                  </a:xfrm>
                  <a:prstGeom prst="line">
                    <a:avLst/>
                  </a:prstGeom>
                  <a:ln w="63360">
                    <a:solidFill>
                      <a:srgbClr val="ff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4021200" y="3616200"/>
                    <a:ext cx="293760" cy="1800"/>
                  </a:xfrm>
                  <a:prstGeom prst="line">
                    <a:avLst/>
                  </a:prstGeom>
                  <a:ln w="63360">
                    <a:solidFill>
                      <a:srgbClr val="ff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4262400" y="3382920"/>
                    <a:ext cx="293760" cy="1800"/>
                  </a:xfrm>
                  <a:prstGeom prst="line">
                    <a:avLst/>
                  </a:prstGeom>
                  <a:ln w="63360">
                    <a:solidFill>
                      <a:srgbClr val="ff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416480" y="3208320"/>
                    <a:ext cx="293760" cy="1440"/>
                  </a:xfrm>
                  <a:prstGeom prst="line">
                    <a:avLst/>
                  </a:prstGeom>
                  <a:ln w="63360">
                    <a:solidFill>
                      <a:srgbClr val="ff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50" name=""/>
              <p:cNvSpPr/>
              <p:nvPr/>
            </p:nvSpPr>
            <p:spPr>
              <a:xfrm flipV="1">
                <a:off x="3795840" y="3376080"/>
                <a:ext cx="1143000" cy="1149480"/>
              </a:xfrm>
              <a:prstGeom prst="line">
                <a:avLst/>
              </a:prstGeom>
              <a:ln w="63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929120" y="3027240"/>
                <a:ext cx="1800" cy="381240"/>
              </a:xfrm>
              <a:prstGeom prst="line">
                <a:avLst/>
              </a:prstGeom>
              <a:ln w="63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24280" y="3216240"/>
                <a:ext cx="1800" cy="380880"/>
              </a:xfrm>
              <a:prstGeom prst="line">
                <a:avLst/>
              </a:prstGeom>
              <a:ln w="63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527720" y="3405240"/>
                <a:ext cx="1440" cy="380880"/>
              </a:xfrm>
              <a:prstGeom prst="line">
                <a:avLst/>
              </a:prstGeom>
              <a:ln w="63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282920" y="3641760"/>
                <a:ext cx="1800" cy="380880"/>
              </a:xfrm>
              <a:prstGeom prst="line">
                <a:avLst/>
              </a:prstGeom>
              <a:ln w="63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046400" y="3870360"/>
                <a:ext cx="1800" cy="380880"/>
              </a:xfrm>
              <a:prstGeom prst="line">
                <a:avLst/>
              </a:prstGeom>
              <a:ln w="63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6" name=""/>
          <p:cNvSpPr/>
          <p:nvPr/>
        </p:nvSpPr>
        <p:spPr>
          <a:xfrm>
            <a:off x="6013440" y="113652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2057400" y="1143000"/>
            <a:ext cx="2057400" cy="1066680"/>
            <a:chOff x="2057400" y="1143000"/>
            <a:chExt cx="2057400" cy="1066680"/>
          </a:xfrm>
        </p:grpSpPr>
        <p:sp>
          <p:nvSpPr>
            <p:cNvPr id="358" name=""/>
            <p:cNvSpPr/>
            <p:nvPr/>
          </p:nvSpPr>
          <p:spPr>
            <a:xfrm>
              <a:off x="2057400" y="1143000"/>
              <a:ext cx="76320" cy="1066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4038480" y="1143000"/>
              <a:ext cx="76320" cy="1066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106960" y="1143000"/>
            <a:ext cx="1370160" cy="1069200"/>
            <a:chOff x="5106960" y="1143000"/>
            <a:chExt cx="1370160" cy="1069200"/>
          </a:xfrm>
        </p:grpSpPr>
        <p:sp>
          <p:nvSpPr>
            <p:cNvPr id="361" name=""/>
            <p:cNvSpPr/>
            <p:nvPr/>
          </p:nvSpPr>
          <p:spPr>
            <a:xfrm>
              <a:off x="5106960" y="1295280"/>
              <a:ext cx="58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5400" spc="-1" strike="noStrike">
                  <a:solidFill>
                    <a:srgbClr val="ff9933"/>
                  </a:solidFill>
                  <a:latin typeface="Arial"/>
                  <a:ea typeface="宋体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67280" y="1143000"/>
              <a:ext cx="76320" cy="1066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6400800" y="1143000"/>
              <a:ext cx="76320" cy="1066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769840" y="4073400"/>
            <a:ext cx="54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b</a:t>
            </a:r>
            <a:r>
              <a:rPr b="0" lang="en-US" sz="3200" spc="-1" strike="noStrike" baseline="-25000">
                <a:solidFill>
                  <a:srgbClr val="ff9933"/>
                </a:solidFill>
                <a:latin typeface="Palatino Linotype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505320" y="4184640"/>
            <a:ext cx="250560" cy="317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235240" y="1136520"/>
            <a:ext cx="1670040" cy="292320"/>
            <a:chOff x="2235240" y="1136520"/>
            <a:chExt cx="1670040" cy="292320"/>
          </a:xfrm>
        </p:grpSpPr>
        <p:sp>
          <p:nvSpPr>
            <p:cNvPr id="367" name=""/>
            <p:cNvSpPr/>
            <p:nvPr/>
          </p:nvSpPr>
          <p:spPr>
            <a:xfrm>
              <a:off x="2235240" y="1136520"/>
              <a:ext cx="33660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571840" y="1136520"/>
              <a:ext cx="336600" cy="292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01960" y="1136520"/>
              <a:ext cx="33660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238560" y="1136520"/>
              <a:ext cx="336600" cy="292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68680" y="1136520"/>
              <a:ext cx="33660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4419720" y="1143000"/>
            <a:ext cx="457200" cy="1371600"/>
            <a:chOff x="4419720" y="1143000"/>
            <a:chExt cx="457200" cy="1371600"/>
          </a:xfrm>
        </p:grpSpPr>
        <p:sp>
          <p:nvSpPr>
            <p:cNvPr id="373" name=""/>
            <p:cNvSpPr/>
            <p:nvPr/>
          </p:nvSpPr>
          <p:spPr>
            <a:xfrm flipH="1">
              <a:off x="4800600" y="1143000"/>
              <a:ext cx="76320" cy="137160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19720" y="1143000"/>
              <a:ext cx="75960" cy="13716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46360" y="156852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Palatino Linotype"/>
                  <a:ea typeface="宋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032440" y="3029040"/>
            <a:ext cx="1077840" cy="3674880"/>
            <a:chOff x="5032440" y="3029040"/>
            <a:chExt cx="1077840" cy="3674880"/>
          </a:xfrm>
        </p:grpSpPr>
        <p:sp>
          <p:nvSpPr>
            <p:cNvPr id="377" name=""/>
            <p:cNvSpPr/>
            <p:nvPr/>
          </p:nvSpPr>
          <p:spPr>
            <a:xfrm flipH="1" rot="5400000">
              <a:off x="3741840" y="5180040"/>
              <a:ext cx="2814480" cy="233280"/>
            </a:xfrm>
            <a:prstGeom prst="parallelogram">
              <a:avLst>
                <a:gd name="adj" fmla="val 10512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rot="5400000">
              <a:off x="4194360" y="4727520"/>
              <a:ext cx="2814480" cy="233280"/>
            </a:xfrm>
            <a:prstGeom prst="parallelogram">
              <a:avLst>
                <a:gd name="adj" fmla="val 10512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rot="5400000">
              <a:off x="4591080" y="4324320"/>
              <a:ext cx="2814480" cy="223920"/>
            </a:xfrm>
            <a:prstGeom prst="parallelogram">
              <a:avLst>
                <a:gd name="adj" fmla="val 10951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6177240" y="2867040"/>
            <a:ext cx="54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a</a:t>
            </a:r>
            <a:r>
              <a:rPr b="0" lang="en-US" sz="3200" spc="-1" strike="noStrike" baseline="-25000">
                <a:solidFill>
                  <a:srgbClr val="ff9933"/>
                </a:solidFill>
                <a:latin typeface="Palatino Linotype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003640" y="3044520"/>
            <a:ext cx="1111320" cy="1451160"/>
            <a:chOff x="5003640" y="3044520"/>
            <a:chExt cx="1111320" cy="1451160"/>
          </a:xfrm>
        </p:grpSpPr>
        <p:sp>
          <p:nvSpPr>
            <p:cNvPr id="382" name=""/>
            <p:cNvSpPr/>
            <p:nvPr/>
          </p:nvSpPr>
          <p:spPr>
            <a:xfrm flipV="1">
              <a:off x="5003640" y="3044520"/>
              <a:ext cx="1105200" cy="110484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5022720" y="3419280"/>
              <a:ext cx="1092240" cy="107316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35680" y="4114800"/>
              <a:ext cx="1440" cy="38088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95880" y="3048120"/>
              <a:ext cx="1800" cy="38088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6563880" y="968400"/>
            <a:ext cx="54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b</a:t>
            </a:r>
            <a:r>
              <a:rPr b="0" lang="en-US" sz="3200" spc="-1" strike="noStrike" baseline="-25000">
                <a:solidFill>
                  <a:srgbClr val="ff9933"/>
                </a:solidFill>
                <a:latin typeface="Palatino Linotype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97520" y="952560"/>
            <a:ext cx="54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a</a:t>
            </a:r>
            <a:r>
              <a:rPr b="0" lang="en-US" sz="3200" spc="-1" strike="noStrike" baseline="-25000">
                <a:solidFill>
                  <a:srgbClr val="ff9933"/>
                </a:solidFill>
                <a:latin typeface="Palatino Linotype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dur="indefinite" fill="hold">
                      <p:stCondLst>
                        <p:cond delay="0"/>
                      </p:stCondLst>
                      <p:childTnLst>
                        <p:par>
                          <p:cTn id="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dur="indefinite" fill="hold">
                      <p:stCondLst>
                        <p:cond delay="indefinite"/>
                      </p:stCondLst>
                      <p:childTnLst>
                        <p:par>
                          <p:cTn id="1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 fill="hold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 flipV="1">
            <a:off x="3195720" y="4503600"/>
            <a:ext cx="1436760" cy="1301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" y="44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Temporal 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979640" y="6705720"/>
            <a:ext cx="3048120" cy="14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436840" y="4114800"/>
            <a:ext cx="25909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505320" y="3048120"/>
            <a:ext cx="259056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2436840" y="4111560"/>
            <a:ext cx="1440" cy="2597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027760" y="3730680"/>
            <a:ext cx="1440" cy="2977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094440" y="3044880"/>
            <a:ext cx="1440" cy="2597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256360" y="3882960"/>
            <a:ext cx="1440" cy="2597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027760" y="3044520"/>
            <a:ext cx="1066680" cy="107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027760" y="5330520"/>
            <a:ext cx="1371600" cy="1377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027760" y="3425400"/>
            <a:ext cx="1066680" cy="107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027760" y="3807000"/>
            <a:ext cx="1066680" cy="1072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027760" y="4264200"/>
            <a:ext cx="1066680" cy="1072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5027760" y="4721400"/>
            <a:ext cx="1066680" cy="1072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5027760" y="5178600"/>
            <a:ext cx="1066680" cy="1072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436840" y="3044520"/>
            <a:ext cx="1066680" cy="107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5484960" y="3654360"/>
            <a:ext cx="1440" cy="2597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713560" y="3425760"/>
            <a:ext cx="1440" cy="2597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899320" y="3230640"/>
            <a:ext cx="1440" cy="2597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584520" y="4275000"/>
            <a:ext cx="758880" cy="1725840"/>
          </a:xfrm>
          <a:prstGeom prst="cloudCallout">
            <a:avLst>
              <a:gd name="adj1" fmla="val -48115"/>
              <a:gd name="adj2" fmla="val 75388"/>
            </a:avLst>
          </a:prstGeom>
          <a:gradFill rotWithShape="0">
            <a:gsLst>
              <a:gs pos="0">
                <a:srgbClr val="585858"/>
              </a:gs>
              <a:gs pos="100000">
                <a:srgbClr val="c0c0c0">
                  <a:alpha val="8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7389720" y="4038480"/>
            <a:ext cx="316080" cy="571680"/>
            <a:chOff x="7389720" y="4038480"/>
            <a:chExt cx="316080" cy="571680"/>
          </a:xfrm>
        </p:grpSpPr>
        <p:sp>
          <p:nvSpPr>
            <p:cNvPr id="410" name=""/>
            <p:cNvSpPr/>
            <p:nvPr/>
          </p:nvSpPr>
          <p:spPr>
            <a:xfrm rot="5400000">
              <a:off x="7362720" y="4244760"/>
              <a:ext cx="53352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 rot="5400000">
              <a:off x="7180200" y="4248000"/>
              <a:ext cx="571680" cy="152640"/>
            </a:xfrm>
            <a:custGeom>
              <a:avLst/>
              <a:gdLst>
                <a:gd name="textAreaLeft" fmla="*/ 125640 w 571680"/>
                <a:gd name="textAreaRight" fmla="*/ 446040 w 571680"/>
                <a:gd name="textAreaTop" fmla="*/ 33480 h 152640"/>
                <a:gd name="textAreaBottom" fmla="*/ 11916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6742440" y="482436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Proj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6972480" y="4086360"/>
            <a:ext cx="318960" cy="458640"/>
            <a:chOff x="6972480" y="4086360"/>
            <a:chExt cx="318960" cy="458640"/>
          </a:xfrm>
        </p:grpSpPr>
        <p:sp>
          <p:nvSpPr>
            <p:cNvPr id="414" name=""/>
            <p:cNvSpPr/>
            <p:nvPr/>
          </p:nvSpPr>
          <p:spPr>
            <a:xfrm>
              <a:off x="6973920" y="4086360"/>
              <a:ext cx="314280" cy="14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77160" y="4238640"/>
              <a:ext cx="314280" cy="14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77160" y="4390920"/>
              <a:ext cx="314280" cy="18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72480" y="4543560"/>
              <a:ext cx="314280" cy="14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6318360" y="5380200"/>
            <a:ext cx="2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703760" y="362736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679400" y="635148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63680" y="3225960"/>
            <a:ext cx="148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Participa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Med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360520" y="3581280"/>
            <a:ext cx="121932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52320" y="6168960"/>
            <a:ext cx="11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Ca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397320" y="55339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792160" y="5095800"/>
            <a:ext cx="8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(y, z)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2813040" y="5679720"/>
            <a:ext cx="600120" cy="506880"/>
            <a:chOff x="2813040" y="5679720"/>
            <a:chExt cx="600120" cy="506880"/>
          </a:xfrm>
        </p:grpSpPr>
        <p:sp>
          <p:nvSpPr>
            <p:cNvPr id="427" name=""/>
            <p:cNvSpPr/>
            <p:nvPr/>
          </p:nvSpPr>
          <p:spPr>
            <a:xfrm>
              <a:off x="2879640" y="5683320"/>
              <a:ext cx="533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13040" y="5835600"/>
              <a:ext cx="449280" cy="351000"/>
            </a:xfrm>
            <a:prstGeom prst="cube">
              <a:avLst>
                <a:gd name="adj" fmla="val 39819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3260880" y="5679720"/>
              <a:ext cx="152280" cy="158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63760" y="6059520"/>
              <a:ext cx="149400" cy="81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2881440" y="5682960"/>
              <a:ext cx="727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3473280" y="3027240"/>
            <a:ext cx="1465560" cy="1506600"/>
            <a:chOff x="3473280" y="3027240"/>
            <a:chExt cx="1465560" cy="1506600"/>
          </a:xfrm>
        </p:grpSpPr>
        <p:sp>
          <p:nvSpPr>
            <p:cNvPr id="433" name=""/>
            <p:cNvSpPr/>
            <p:nvPr/>
          </p:nvSpPr>
          <p:spPr>
            <a:xfrm>
              <a:off x="3473280" y="4152960"/>
              <a:ext cx="304920" cy="380880"/>
            </a:xfrm>
            <a:prstGeom prst="rect">
              <a:avLst/>
            </a:prstGeom>
            <a:noFill/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3505320" y="3027240"/>
              <a:ext cx="1433520" cy="1498320"/>
              <a:chOff x="3505320" y="3027240"/>
              <a:chExt cx="1433520" cy="1498320"/>
            </a:xfrm>
          </p:grpSpPr>
          <p:grpSp>
            <p:nvGrpSpPr>
              <p:cNvPr id="435" name=""/>
              <p:cNvGrpSpPr/>
              <p:nvPr/>
            </p:nvGrpSpPr>
            <p:grpSpPr>
              <a:xfrm>
                <a:off x="3505320" y="3048120"/>
                <a:ext cx="1371600" cy="1066680"/>
                <a:chOff x="3505320" y="3048120"/>
                <a:chExt cx="1371600" cy="106668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3540960" y="3159000"/>
                  <a:ext cx="4442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US" sz="3600" spc="-1" strike="noStrike">
                      <a:solidFill>
                        <a:srgbClr val="ff9933"/>
                      </a:solidFill>
                      <a:latin typeface="Palatino Linotype"/>
                      <a:ea typeface="宋体"/>
                    </a:rPr>
                    <a:t>x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7" name=""/>
                <p:cNvGrpSpPr/>
                <p:nvPr/>
              </p:nvGrpSpPr>
              <p:grpSpPr>
                <a:xfrm>
                  <a:off x="3505320" y="3048120"/>
                  <a:ext cx="1371600" cy="1066680"/>
                  <a:chOff x="3505320" y="3048120"/>
                  <a:chExt cx="1371600" cy="106668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>
                    <a:off x="3505320" y="3048120"/>
                    <a:ext cx="1371600" cy="1066680"/>
                  </a:xfrm>
                  <a:prstGeom prst="parallelogram">
                    <a:avLst>
                      <a:gd name="adj" fmla="val 102541"/>
                    </a:avLst>
                  </a:prstGeom>
                  <a:noFill/>
                  <a:ln w="63360">
                    <a:solidFill>
                      <a:srgbClr val="ff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3757680" y="3859200"/>
                    <a:ext cx="293760" cy="1440"/>
                  </a:xfrm>
                  <a:prstGeom prst="line">
                    <a:avLst/>
                  </a:prstGeom>
                  <a:ln w="63360">
                    <a:solidFill>
                      <a:srgbClr val="ff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4021200" y="3616200"/>
                    <a:ext cx="293760" cy="1800"/>
                  </a:xfrm>
                  <a:prstGeom prst="line">
                    <a:avLst/>
                  </a:prstGeom>
                  <a:ln w="63360">
                    <a:solidFill>
                      <a:srgbClr val="ff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4262400" y="3382920"/>
                    <a:ext cx="293760" cy="1800"/>
                  </a:xfrm>
                  <a:prstGeom prst="line">
                    <a:avLst/>
                  </a:prstGeom>
                  <a:ln w="63360">
                    <a:solidFill>
                      <a:srgbClr val="ff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4416480" y="3208320"/>
                    <a:ext cx="293760" cy="1440"/>
                  </a:xfrm>
                  <a:prstGeom prst="line">
                    <a:avLst/>
                  </a:prstGeom>
                  <a:ln w="63360">
                    <a:solidFill>
                      <a:srgbClr val="ff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3" name=""/>
              <p:cNvSpPr/>
              <p:nvPr/>
            </p:nvSpPr>
            <p:spPr>
              <a:xfrm flipV="1">
                <a:off x="3795840" y="3376080"/>
                <a:ext cx="1143000" cy="1149480"/>
              </a:xfrm>
              <a:prstGeom prst="line">
                <a:avLst/>
              </a:prstGeom>
              <a:ln w="63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929120" y="3027240"/>
                <a:ext cx="1800" cy="381240"/>
              </a:xfrm>
              <a:prstGeom prst="line">
                <a:avLst/>
              </a:prstGeom>
              <a:ln w="63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24280" y="3216240"/>
                <a:ext cx="1800" cy="380880"/>
              </a:xfrm>
              <a:prstGeom prst="line">
                <a:avLst/>
              </a:prstGeom>
              <a:ln w="63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527720" y="3405240"/>
                <a:ext cx="1440" cy="380880"/>
              </a:xfrm>
              <a:prstGeom prst="line">
                <a:avLst/>
              </a:prstGeom>
              <a:ln w="63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282920" y="3641760"/>
                <a:ext cx="1800" cy="380880"/>
              </a:xfrm>
              <a:prstGeom prst="line">
                <a:avLst/>
              </a:prstGeom>
              <a:ln w="63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046400" y="3870360"/>
                <a:ext cx="1800" cy="380880"/>
              </a:xfrm>
              <a:prstGeom prst="line">
                <a:avLst/>
              </a:prstGeom>
              <a:ln w="63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6019920" y="1511280"/>
            <a:ext cx="3045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13440" y="113652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2057400" y="1143000"/>
            <a:ext cx="2057400" cy="1066680"/>
            <a:chOff x="2057400" y="1143000"/>
            <a:chExt cx="2057400" cy="1066680"/>
          </a:xfrm>
        </p:grpSpPr>
        <p:sp>
          <p:nvSpPr>
            <p:cNvPr id="452" name=""/>
            <p:cNvSpPr/>
            <p:nvPr/>
          </p:nvSpPr>
          <p:spPr>
            <a:xfrm>
              <a:off x="2057400" y="1143000"/>
              <a:ext cx="76320" cy="1066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4038480" y="1143000"/>
              <a:ext cx="76320" cy="1066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5106960" y="1143000"/>
            <a:ext cx="1370160" cy="1069200"/>
            <a:chOff x="5106960" y="1143000"/>
            <a:chExt cx="1370160" cy="1069200"/>
          </a:xfrm>
        </p:grpSpPr>
        <p:sp>
          <p:nvSpPr>
            <p:cNvPr id="455" name=""/>
            <p:cNvSpPr/>
            <p:nvPr/>
          </p:nvSpPr>
          <p:spPr>
            <a:xfrm>
              <a:off x="5106960" y="1295280"/>
              <a:ext cx="58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5400" spc="-1" strike="noStrike">
                  <a:solidFill>
                    <a:srgbClr val="ff9933"/>
                  </a:solidFill>
                  <a:latin typeface="Arial"/>
                  <a:ea typeface="宋体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867280" y="1143000"/>
              <a:ext cx="76320" cy="1066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6400800" y="1143000"/>
              <a:ext cx="76320" cy="1066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2769840" y="4073400"/>
            <a:ext cx="54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b</a:t>
            </a:r>
            <a:r>
              <a:rPr b="0" lang="en-US" sz="3200" spc="-1" strike="noStrike" baseline="-25000">
                <a:solidFill>
                  <a:srgbClr val="ff9933"/>
                </a:solidFill>
                <a:latin typeface="Palatino Linotype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505320" y="4184640"/>
            <a:ext cx="250560" cy="3175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235240" y="1511280"/>
            <a:ext cx="1670040" cy="291960"/>
            <a:chOff x="2235240" y="1511280"/>
            <a:chExt cx="1670040" cy="291960"/>
          </a:xfrm>
        </p:grpSpPr>
        <p:sp>
          <p:nvSpPr>
            <p:cNvPr id="461" name=""/>
            <p:cNvSpPr/>
            <p:nvPr/>
          </p:nvSpPr>
          <p:spPr>
            <a:xfrm>
              <a:off x="2235240" y="1511280"/>
              <a:ext cx="33660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71840" y="1511280"/>
              <a:ext cx="33660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901960" y="1511280"/>
              <a:ext cx="336600" cy="291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238560" y="1511280"/>
              <a:ext cx="33660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68680" y="1511280"/>
              <a:ext cx="336600" cy="291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235240" y="1136520"/>
            <a:ext cx="1670040" cy="292320"/>
            <a:chOff x="2235240" y="1136520"/>
            <a:chExt cx="1670040" cy="292320"/>
          </a:xfrm>
        </p:grpSpPr>
        <p:sp>
          <p:nvSpPr>
            <p:cNvPr id="467" name=""/>
            <p:cNvSpPr/>
            <p:nvPr/>
          </p:nvSpPr>
          <p:spPr>
            <a:xfrm>
              <a:off x="2235240" y="1136520"/>
              <a:ext cx="33660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71840" y="1136520"/>
              <a:ext cx="336600" cy="292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901960" y="1136520"/>
              <a:ext cx="33660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38560" y="1136520"/>
              <a:ext cx="336600" cy="292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68680" y="1136520"/>
              <a:ext cx="33660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419720" y="1143000"/>
            <a:ext cx="457200" cy="1371600"/>
            <a:chOff x="4419720" y="1143000"/>
            <a:chExt cx="457200" cy="1371600"/>
          </a:xfrm>
        </p:grpSpPr>
        <p:sp>
          <p:nvSpPr>
            <p:cNvPr id="473" name=""/>
            <p:cNvSpPr/>
            <p:nvPr/>
          </p:nvSpPr>
          <p:spPr>
            <a:xfrm flipH="1">
              <a:off x="4800600" y="1143000"/>
              <a:ext cx="76320" cy="137160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19720" y="1143000"/>
              <a:ext cx="75960" cy="13716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446360" y="156852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Palatino Linotype"/>
                  <a:ea typeface="宋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6177240" y="2867040"/>
            <a:ext cx="54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a</a:t>
            </a:r>
            <a:r>
              <a:rPr b="0" lang="en-US" sz="3200" spc="-1" strike="noStrike" baseline="-25000">
                <a:solidFill>
                  <a:srgbClr val="ff9933"/>
                </a:solidFill>
                <a:latin typeface="Palatino Linotype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563880" y="1359000"/>
            <a:ext cx="54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b</a:t>
            </a:r>
            <a:r>
              <a:rPr b="0" lang="en-US" sz="3200" spc="-1" strike="noStrike" baseline="-25000">
                <a:solidFill>
                  <a:srgbClr val="ff9933"/>
                </a:solidFill>
                <a:latin typeface="Palatino Linotype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397520" y="1343160"/>
            <a:ext cx="54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a</a:t>
            </a:r>
            <a:r>
              <a:rPr b="0" lang="en-US" sz="3200" spc="-1" strike="noStrike" baseline="-25000">
                <a:solidFill>
                  <a:srgbClr val="ff9933"/>
                </a:solidFill>
                <a:latin typeface="Palatino Linotype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032440" y="3238560"/>
            <a:ext cx="876240" cy="3462120"/>
            <a:chOff x="5032440" y="3238560"/>
            <a:chExt cx="876240" cy="3462120"/>
          </a:xfrm>
        </p:grpSpPr>
        <p:sp>
          <p:nvSpPr>
            <p:cNvPr id="480" name=""/>
            <p:cNvSpPr/>
            <p:nvPr/>
          </p:nvSpPr>
          <p:spPr>
            <a:xfrm flipH="1" rot="5400000">
              <a:off x="3737880" y="4956840"/>
              <a:ext cx="3038400" cy="449280"/>
            </a:xfrm>
            <a:prstGeom prst="parallelogram">
              <a:avLst>
                <a:gd name="adj" fmla="val 10347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rot="5400000">
              <a:off x="4384800" y="4529160"/>
              <a:ext cx="2814480" cy="233280"/>
            </a:xfrm>
            <a:prstGeom prst="parallelogram">
              <a:avLst>
                <a:gd name="adj" fmla="val 10512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003640" y="3044520"/>
            <a:ext cx="1111320" cy="1451160"/>
            <a:chOff x="5003640" y="3044520"/>
            <a:chExt cx="1111320" cy="1451160"/>
          </a:xfrm>
        </p:grpSpPr>
        <p:sp>
          <p:nvSpPr>
            <p:cNvPr id="483" name=""/>
            <p:cNvSpPr/>
            <p:nvPr/>
          </p:nvSpPr>
          <p:spPr>
            <a:xfrm flipV="1">
              <a:off x="5003640" y="3044520"/>
              <a:ext cx="1105200" cy="110484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5022720" y="3419280"/>
              <a:ext cx="1092240" cy="107316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35680" y="4114800"/>
              <a:ext cx="1440" cy="38088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095880" y="3048120"/>
              <a:ext cx="1800" cy="38088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5746320" y="6121440"/>
            <a:ext cx="14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Tim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dur="indefinite" fill="hold">
                      <p:stCondLst>
                        <p:cond delay="indefinite"/>
                      </p:stCondLst>
                      <p:childTnLst>
                        <p:par>
                          <p:cTn id="2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 fill="hold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 flipV="1">
            <a:off x="3195720" y="4503600"/>
            <a:ext cx="1436760" cy="1301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44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Temporal 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979640" y="6705720"/>
            <a:ext cx="3048120" cy="14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436840" y="4114800"/>
            <a:ext cx="25909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05320" y="3048120"/>
            <a:ext cx="259056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2436840" y="4111560"/>
            <a:ext cx="1440" cy="2597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5027760" y="3730680"/>
            <a:ext cx="1440" cy="2977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6094440" y="3044880"/>
            <a:ext cx="1440" cy="2597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256360" y="3882960"/>
            <a:ext cx="1440" cy="2597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5027760" y="3044520"/>
            <a:ext cx="1066680" cy="107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5027760" y="5330520"/>
            <a:ext cx="1371600" cy="1377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027760" y="3425400"/>
            <a:ext cx="1066680" cy="107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027760" y="3807000"/>
            <a:ext cx="1066680" cy="1072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027760" y="4264200"/>
            <a:ext cx="1066680" cy="1072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5027760" y="4721400"/>
            <a:ext cx="1066680" cy="1072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027760" y="5178600"/>
            <a:ext cx="1066680" cy="1072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2436840" y="3044520"/>
            <a:ext cx="1066680" cy="107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484960" y="3654360"/>
            <a:ext cx="1440" cy="2597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5713560" y="3425760"/>
            <a:ext cx="1440" cy="2597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5899320" y="3230640"/>
            <a:ext cx="1440" cy="2597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584520" y="4275000"/>
            <a:ext cx="758880" cy="1725840"/>
          </a:xfrm>
          <a:prstGeom prst="cloudCallout">
            <a:avLst>
              <a:gd name="adj1" fmla="val -48115"/>
              <a:gd name="adj2" fmla="val 75388"/>
            </a:avLst>
          </a:prstGeom>
          <a:gradFill rotWithShape="0">
            <a:gsLst>
              <a:gs pos="0">
                <a:srgbClr val="585858"/>
              </a:gs>
              <a:gs pos="100000">
                <a:srgbClr val="c0c0c0">
                  <a:alpha val="8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7389720" y="4038480"/>
            <a:ext cx="316080" cy="571680"/>
            <a:chOff x="7389720" y="4038480"/>
            <a:chExt cx="316080" cy="571680"/>
          </a:xfrm>
        </p:grpSpPr>
        <p:sp>
          <p:nvSpPr>
            <p:cNvPr id="510" name=""/>
            <p:cNvSpPr/>
            <p:nvPr/>
          </p:nvSpPr>
          <p:spPr>
            <a:xfrm rot="5400000">
              <a:off x="7362720" y="4244760"/>
              <a:ext cx="53352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 rot="5400000">
              <a:off x="7180200" y="4248000"/>
              <a:ext cx="571680" cy="152640"/>
            </a:xfrm>
            <a:custGeom>
              <a:avLst/>
              <a:gdLst>
                <a:gd name="textAreaLeft" fmla="*/ 125640 w 571680"/>
                <a:gd name="textAreaRight" fmla="*/ 446040 w 571680"/>
                <a:gd name="textAreaTop" fmla="*/ 33480 h 152640"/>
                <a:gd name="textAreaBottom" fmla="*/ 11916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6742440" y="482436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Proj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972480" y="4086360"/>
            <a:ext cx="318960" cy="458640"/>
            <a:chOff x="6972480" y="4086360"/>
            <a:chExt cx="318960" cy="458640"/>
          </a:xfrm>
        </p:grpSpPr>
        <p:sp>
          <p:nvSpPr>
            <p:cNvPr id="514" name=""/>
            <p:cNvSpPr/>
            <p:nvPr/>
          </p:nvSpPr>
          <p:spPr>
            <a:xfrm>
              <a:off x="6973920" y="4086360"/>
              <a:ext cx="314280" cy="14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77160" y="4238640"/>
              <a:ext cx="314280" cy="14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77160" y="4390920"/>
              <a:ext cx="314280" cy="18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972480" y="4543560"/>
              <a:ext cx="314280" cy="14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6318360" y="5380200"/>
            <a:ext cx="2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703760" y="362736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79400" y="635148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363680" y="3225960"/>
            <a:ext cx="148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Participa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宋体"/>
              </a:rPr>
              <a:t>Med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60520" y="3581280"/>
            <a:ext cx="121932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52320" y="6168960"/>
            <a:ext cx="11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Ca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97320" y="55339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792160" y="5095800"/>
            <a:ext cx="8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(y, z)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宋体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813040" y="5679720"/>
            <a:ext cx="600120" cy="506880"/>
            <a:chOff x="2813040" y="5679720"/>
            <a:chExt cx="600120" cy="506880"/>
          </a:xfrm>
        </p:grpSpPr>
        <p:sp>
          <p:nvSpPr>
            <p:cNvPr id="527" name=""/>
            <p:cNvSpPr/>
            <p:nvPr/>
          </p:nvSpPr>
          <p:spPr>
            <a:xfrm>
              <a:off x="2879640" y="5683320"/>
              <a:ext cx="533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13040" y="5835600"/>
              <a:ext cx="449280" cy="351000"/>
            </a:xfrm>
            <a:prstGeom prst="cube">
              <a:avLst>
                <a:gd name="adj" fmla="val 39819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3260880" y="5679720"/>
              <a:ext cx="152280" cy="158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263760" y="6059520"/>
              <a:ext cx="149400" cy="81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 flipV="1">
              <a:off x="2881440" y="5682960"/>
              <a:ext cx="727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3473280" y="3027240"/>
            <a:ext cx="1465560" cy="1506600"/>
            <a:chOff x="3473280" y="3027240"/>
            <a:chExt cx="1465560" cy="1506600"/>
          </a:xfrm>
        </p:grpSpPr>
        <p:sp>
          <p:nvSpPr>
            <p:cNvPr id="533" name=""/>
            <p:cNvSpPr/>
            <p:nvPr/>
          </p:nvSpPr>
          <p:spPr>
            <a:xfrm>
              <a:off x="3473280" y="4152960"/>
              <a:ext cx="304920" cy="380880"/>
            </a:xfrm>
            <a:prstGeom prst="rect">
              <a:avLst/>
            </a:prstGeom>
            <a:noFill/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3505320" y="3027240"/>
              <a:ext cx="1433520" cy="1498320"/>
              <a:chOff x="3505320" y="3027240"/>
              <a:chExt cx="1433520" cy="1498320"/>
            </a:xfrm>
          </p:grpSpPr>
          <p:grpSp>
            <p:nvGrpSpPr>
              <p:cNvPr id="535" name=""/>
              <p:cNvGrpSpPr/>
              <p:nvPr/>
            </p:nvGrpSpPr>
            <p:grpSpPr>
              <a:xfrm>
                <a:off x="3505320" y="3048120"/>
                <a:ext cx="1371600" cy="1066680"/>
                <a:chOff x="3505320" y="3048120"/>
                <a:chExt cx="1371600" cy="10666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3540960" y="3159000"/>
                  <a:ext cx="4442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US" sz="3600" spc="-1" strike="noStrike">
                      <a:solidFill>
                        <a:srgbClr val="ff9933"/>
                      </a:solidFill>
                      <a:latin typeface="Palatino Linotype"/>
                      <a:ea typeface="宋体"/>
                    </a:rPr>
                    <a:t>x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"/>
                <p:cNvGrpSpPr/>
                <p:nvPr/>
              </p:nvGrpSpPr>
              <p:grpSpPr>
                <a:xfrm>
                  <a:off x="3505320" y="3048120"/>
                  <a:ext cx="1371600" cy="1066680"/>
                  <a:chOff x="3505320" y="3048120"/>
                  <a:chExt cx="1371600" cy="106668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>
                    <a:off x="3505320" y="3048120"/>
                    <a:ext cx="1371600" cy="1066680"/>
                  </a:xfrm>
                  <a:prstGeom prst="parallelogram">
                    <a:avLst>
                      <a:gd name="adj" fmla="val 102541"/>
                    </a:avLst>
                  </a:prstGeom>
                  <a:noFill/>
                  <a:ln w="63360">
                    <a:solidFill>
                      <a:srgbClr val="ff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3757680" y="3859200"/>
                    <a:ext cx="293760" cy="1440"/>
                  </a:xfrm>
                  <a:prstGeom prst="line">
                    <a:avLst/>
                  </a:prstGeom>
                  <a:ln w="63360">
                    <a:solidFill>
                      <a:srgbClr val="ff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4021200" y="3616200"/>
                    <a:ext cx="293760" cy="1800"/>
                  </a:xfrm>
                  <a:prstGeom prst="line">
                    <a:avLst/>
                  </a:prstGeom>
                  <a:ln w="63360">
                    <a:solidFill>
                      <a:srgbClr val="ff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4262400" y="3382920"/>
                    <a:ext cx="293760" cy="1800"/>
                  </a:xfrm>
                  <a:prstGeom prst="line">
                    <a:avLst/>
                  </a:prstGeom>
                  <a:ln w="63360">
                    <a:solidFill>
                      <a:srgbClr val="ff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4416480" y="3208320"/>
                    <a:ext cx="293760" cy="1440"/>
                  </a:xfrm>
                  <a:prstGeom prst="line">
                    <a:avLst/>
                  </a:prstGeom>
                  <a:ln w="63360">
                    <a:solidFill>
                      <a:srgbClr val="ff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3" name=""/>
              <p:cNvSpPr/>
              <p:nvPr/>
            </p:nvSpPr>
            <p:spPr>
              <a:xfrm flipV="1">
                <a:off x="3795840" y="3376080"/>
                <a:ext cx="1143000" cy="1149480"/>
              </a:xfrm>
              <a:prstGeom prst="line">
                <a:avLst/>
              </a:prstGeom>
              <a:ln w="63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929120" y="3027240"/>
                <a:ext cx="1800" cy="381240"/>
              </a:xfrm>
              <a:prstGeom prst="line">
                <a:avLst/>
              </a:prstGeom>
              <a:ln w="63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724280" y="3216240"/>
                <a:ext cx="1800" cy="380880"/>
              </a:xfrm>
              <a:prstGeom prst="line">
                <a:avLst/>
              </a:prstGeom>
              <a:ln w="63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527720" y="3405240"/>
                <a:ext cx="1440" cy="380880"/>
              </a:xfrm>
              <a:prstGeom prst="line">
                <a:avLst/>
              </a:prstGeom>
              <a:ln w="63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282920" y="3641760"/>
                <a:ext cx="1800" cy="380880"/>
              </a:xfrm>
              <a:prstGeom prst="line">
                <a:avLst/>
              </a:prstGeom>
              <a:ln w="63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046400" y="3870360"/>
                <a:ext cx="1800" cy="380880"/>
              </a:xfrm>
              <a:prstGeom prst="line">
                <a:avLst/>
              </a:prstGeom>
              <a:ln w="63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"/>
          <p:cNvSpPr/>
          <p:nvPr/>
        </p:nvSpPr>
        <p:spPr>
          <a:xfrm>
            <a:off x="6019920" y="1511280"/>
            <a:ext cx="3045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013440" y="113652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057400" y="1143000"/>
            <a:ext cx="2057400" cy="1066680"/>
            <a:chOff x="2057400" y="1143000"/>
            <a:chExt cx="2057400" cy="1066680"/>
          </a:xfrm>
        </p:grpSpPr>
        <p:sp>
          <p:nvSpPr>
            <p:cNvPr id="552" name=""/>
            <p:cNvSpPr/>
            <p:nvPr/>
          </p:nvSpPr>
          <p:spPr>
            <a:xfrm>
              <a:off x="2057400" y="1143000"/>
              <a:ext cx="76320" cy="1066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4038480" y="1143000"/>
              <a:ext cx="76320" cy="1066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5106960" y="1143000"/>
            <a:ext cx="1370160" cy="1069200"/>
            <a:chOff x="5106960" y="1143000"/>
            <a:chExt cx="1370160" cy="1069200"/>
          </a:xfrm>
        </p:grpSpPr>
        <p:sp>
          <p:nvSpPr>
            <p:cNvPr id="555" name=""/>
            <p:cNvSpPr/>
            <p:nvPr/>
          </p:nvSpPr>
          <p:spPr>
            <a:xfrm>
              <a:off x="5106960" y="1295280"/>
              <a:ext cx="58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5400" spc="-1" strike="noStrike">
                  <a:solidFill>
                    <a:srgbClr val="ff9933"/>
                  </a:solidFill>
                  <a:latin typeface="Arial"/>
                  <a:ea typeface="宋体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867280" y="1143000"/>
              <a:ext cx="76320" cy="1066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400800" y="1143000"/>
              <a:ext cx="76320" cy="1066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2769840" y="4073400"/>
            <a:ext cx="54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b</a:t>
            </a:r>
            <a:r>
              <a:rPr b="0" lang="en-US" sz="3200" spc="-1" strike="noStrike" baseline="-25000">
                <a:solidFill>
                  <a:srgbClr val="ff9933"/>
                </a:solidFill>
                <a:latin typeface="Palatino Linotype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505320" y="4184640"/>
            <a:ext cx="25056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2235240" y="1511280"/>
            <a:ext cx="1670040" cy="291960"/>
            <a:chOff x="2235240" y="1511280"/>
            <a:chExt cx="1670040" cy="291960"/>
          </a:xfrm>
        </p:grpSpPr>
        <p:sp>
          <p:nvSpPr>
            <p:cNvPr id="561" name=""/>
            <p:cNvSpPr/>
            <p:nvPr/>
          </p:nvSpPr>
          <p:spPr>
            <a:xfrm>
              <a:off x="2235240" y="1511280"/>
              <a:ext cx="33660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571840" y="1511280"/>
              <a:ext cx="33660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901960" y="1511280"/>
              <a:ext cx="336600" cy="291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238560" y="1511280"/>
              <a:ext cx="33660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568680" y="1511280"/>
              <a:ext cx="336600" cy="291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2235240" y="1136520"/>
            <a:ext cx="1670040" cy="292320"/>
            <a:chOff x="2235240" y="1136520"/>
            <a:chExt cx="1670040" cy="292320"/>
          </a:xfrm>
        </p:grpSpPr>
        <p:sp>
          <p:nvSpPr>
            <p:cNvPr id="567" name=""/>
            <p:cNvSpPr/>
            <p:nvPr/>
          </p:nvSpPr>
          <p:spPr>
            <a:xfrm>
              <a:off x="2235240" y="1136520"/>
              <a:ext cx="33660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571840" y="1136520"/>
              <a:ext cx="336600" cy="292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901960" y="1136520"/>
              <a:ext cx="33660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238560" y="1136520"/>
              <a:ext cx="336600" cy="292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68680" y="1136520"/>
              <a:ext cx="33660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4419720" y="1143000"/>
            <a:ext cx="457200" cy="1371600"/>
            <a:chOff x="4419720" y="1143000"/>
            <a:chExt cx="457200" cy="1371600"/>
          </a:xfrm>
        </p:grpSpPr>
        <p:sp>
          <p:nvSpPr>
            <p:cNvPr id="573" name=""/>
            <p:cNvSpPr/>
            <p:nvPr/>
          </p:nvSpPr>
          <p:spPr>
            <a:xfrm flipH="1">
              <a:off x="4800600" y="1143000"/>
              <a:ext cx="76320" cy="137160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419720" y="1143000"/>
              <a:ext cx="75960" cy="13716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46360" y="156852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Palatino Linotype"/>
                  <a:ea typeface="宋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6177240" y="2867040"/>
            <a:ext cx="54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a</a:t>
            </a:r>
            <a:r>
              <a:rPr b="0" lang="en-US" sz="3200" spc="-1" strike="noStrike" baseline="-25000">
                <a:solidFill>
                  <a:srgbClr val="ff9933"/>
                </a:solidFill>
                <a:latin typeface="Palatino Linotype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563880" y="1711440"/>
            <a:ext cx="54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b</a:t>
            </a:r>
            <a:r>
              <a:rPr b="0" lang="en-US" sz="3200" spc="-1" strike="noStrike" baseline="-25000">
                <a:solidFill>
                  <a:srgbClr val="ff9933"/>
                </a:solidFill>
                <a:latin typeface="Palatino Linotype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397520" y="1695600"/>
            <a:ext cx="54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a</a:t>
            </a:r>
            <a:r>
              <a:rPr b="0" lang="en-US" sz="3200" spc="-1" strike="noStrike" baseline="-25000">
                <a:solidFill>
                  <a:srgbClr val="ff9933"/>
                </a:solidFill>
                <a:latin typeface="Palatino Linotype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019920" y="189216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2235240" y="1892160"/>
            <a:ext cx="1670040" cy="292320"/>
            <a:chOff x="2235240" y="1892160"/>
            <a:chExt cx="1670040" cy="292320"/>
          </a:xfrm>
        </p:grpSpPr>
        <p:sp>
          <p:nvSpPr>
            <p:cNvPr id="581" name=""/>
            <p:cNvSpPr/>
            <p:nvPr/>
          </p:nvSpPr>
          <p:spPr>
            <a:xfrm>
              <a:off x="2235240" y="1892160"/>
              <a:ext cx="336600" cy="292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571840" y="1892160"/>
              <a:ext cx="33660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901960" y="1892160"/>
              <a:ext cx="336600" cy="292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238560" y="1892160"/>
              <a:ext cx="33660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68680" y="1892160"/>
              <a:ext cx="33660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252760" y="3051000"/>
            <a:ext cx="866880" cy="3406680"/>
            <a:chOff x="5252760" y="3051000"/>
            <a:chExt cx="866880" cy="3406680"/>
          </a:xfrm>
        </p:grpSpPr>
        <p:sp>
          <p:nvSpPr>
            <p:cNvPr id="587" name=""/>
            <p:cNvSpPr/>
            <p:nvPr/>
          </p:nvSpPr>
          <p:spPr>
            <a:xfrm flipH="1" rot="5400000">
              <a:off x="4422600" y="4334040"/>
              <a:ext cx="2980080" cy="414000"/>
            </a:xfrm>
            <a:prstGeom prst="parallelogram">
              <a:avLst>
                <a:gd name="adj" fmla="val 9920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rot="5400000">
              <a:off x="3974400" y="4920840"/>
              <a:ext cx="2814840" cy="258840"/>
            </a:xfrm>
            <a:prstGeom prst="parallelogram">
              <a:avLst>
                <a:gd name="adj" fmla="val 9475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5003640" y="3044520"/>
            <a:ext cx="1111320" cy="1451160"/>
            <a:chOff x="5003640" y="3044520"/>
            <a:chExt cx="1111320" cy="1451160"/>
          </a:xfrm>
        </p:grpSpPr>
        <p:sp>
          <p:nvSpPr>
            <p:cNvPr id="590" name=""/>
            <p:cNvSpPr/>
            <p:nvPr/>
          </p:nvSpPr>
          <p:spPr>
            <a:xfrm flipV="1">
              <a:off x="5003640" y="3044520"/>
              <a:ext cx="1105200" cy="110484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5022720" y="3419280"/>
              <a:ext cx="1092240" cy="107316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35680" y="4114800"/>
              <a:ext cx="1440" cy="38088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095880" y="3048120"/>
              <a:ext cx="1800" cy="38088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5746320" y="6121440"/>
            <a:ext cx="14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Palatino Linotype"/>
                <a:ea typeface="宋体"/>
              </a:rPr>
              <a:t>Tim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dur="indefinite" fill="hold">
                      <p:stCondLst>
                        <p:cond delay="indefinite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 fill="hold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yar</dc:creator>
  <dc:description/>
  <dc:language>en-US</dc:language>
  <cp:lastModifiedBy>cave</cp:lastModifiedBy>
  <cp:revision>0</cp:revision>
  <dc:subject/>
  <dc:title>Slide 1</dc:title>
</cp:coreProperties>
</file>